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C637-3727-4E1B-8013-AF2F21D6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ED9-B869-4B69-AD56-4CA389B0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1B95-DBD6-45BD-AE5E-375F2C02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B648-469F-4D69-B18A-4F6E9FE5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EA52-F126-4327-8E20-E293DDB9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4B4F-CB2D-4CCB-853A-123BED52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7881-81CB-4C4B-BB4E-FBC6112C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E86B-0070-4812-8A63-34D60E7F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730520"/>
            <a:ext cx="9623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8E9-ABFF-4AE0-B375-B505DCD8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4F26-C05A-4D2D-B339-9A465280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21AC-1162-4BF8-9138-1B7DD364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2A80-61AF-44BF-81C7-61AB338D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79000"/>
          </a:bodyPr>
          <a:p>
            <a:pPr marL="911520" indent="-9115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976400" indent="-75996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3041280" indent="-60804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4257720" indent="-6080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40044600"/>
            <a:ext cx="338760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55717DB9-6571-43B8-8A3E-3BD4D8B8D780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-1440" y="18794520"/>
            <a:ext cx="10693080" cy="24414120"/>
          </a:xfrm>
          <a:prstGeom prst="rect">
            <a:avLst/>
          </a:prstGeom>
          <a:ln w="0">
            <a:noFill/>
          </a:ln>
        </p:spPr>
      </p:pic>
      <p:grpSp>
        <p:nvGrpSpPr>
          <p:cNvPr id="42" name="グループ化 8"/>
          <p:cNvGrpSpPr/>
          <p:nvPr/>
        </p:nvGrpSpPr>
        <p:grpSpPr>
          <a:xfrm>
            <a:off x="-1565280" y="8720280"/>
            <a:ext cx="10380600" cy="9669240"/>
            <a:chOff x="-1565280" y="8720280"/>
            <a:chExt cx="10380600" cy="9669240"/>
          </a:xfrm>
        </p:grpSpPr>
        <p:sp>
          <p:nvSpPr>
            <p:cNvPr id="43" name="Freeform 5"/>
            <p:cNvSpPr/>
            <p:nvPr/>
          </p:nvSpPr>
          <p:spPr>
            <a:xfrm>
              <a:off x="-1565280" y="8720280"/>
              <a:ext cx="10380600" cy="9669240"/>
            </a:xfrm>
            <a:custGeom>
              <a:avLst/>
              <a:gdLst>
                <a:gd name="textAreaLeft" fmla="*/ 0 w 10380600"/>
                <a:gd name="textAreaRight" fmla="*/ 10380600 w 10380600"/>
                <a:gd name="textAreaTop" fmla="*/ 0 h 9669240"/>
                <a:gd name="textAreaBottom" fmla="*/ 9669600 h 9669240"/>
              </a:gdLst>
              <a:ahLst/>
              <a:rect l="textAreaLeft" t="textAreaTop" r="textAreaRight" b="textAreaBottom"/>
              <a:pathLst>
                <a:path w="6539" h="6091">
                  <a:moveTo>
                    <a:pt x="6491" y="6091"/>
                  </a:moveTo>
                  <a:lnTo>
                    <a:pt x="6491" y="6091"/>
                  </a:lnTo>
                  <a:lnTo>
                    <a:pt x="6423" y="6043"/>
                  </a:lnTo>
                  <a:lnTo>
                    <a:pt x="6353" y="5997"/>
                  </a:lnTo>
                  <a:lnTo>
                    <a:pt x="6277" y="5955"/>
                  </a:lnTo>
                  <a:lnTo>
                    <a:pt x="6197" y="5915"/>
                  </a:lnTo>
                  <a:lnTo>
                    <a:pt x="6113" y="5877"/>
                  </a:lnTo>
                  <a:lnTo>
                    <a:pt x="6025" y="5841"/>
                  </a:lnTo>
                  <a:lnTo>
                    <a:pt x="5933" y="5805"/>
                  </a:lnTo>
                  <a:lnTo>
                    <a:pt x="5839" y="5773"/>
                  </a:lnTo>
                  <a:lnTo>
                    <a:pt x="5739" y="5743"/>
                  </a:lnTo>
                  <a:lnTo>
                    <a:pt x="5639" y="5713"/>
                  </a:lnTo>
                  <a:lnTo>
                    <a:pt x="5533" y="5687"/>
                  </a:lnTo>
                  <a:lnTo>
                    <a:pt x="5427" y="5661"/>
                  </a:lnTo>
                  <a:lnTo>
                    <a:pt x="5317" y="5635"/>
                  </a:lnTo>
                  <a:lnTo>
                    <a:pt x="5205" y="5611"/>
                  </a:lnTo>
                  <a:lnTo>
                    <a:pt x="5089" y="5589"/>
                  </a:lnTo>
                  <a:lnTo>
                    <a:pt x="4973" y="5567"/>
                  </a:lnTo>
                  <a:lnTo>
                    <a:pt x="4733" y="5527"/>
                  </a:lnTo>
                  <a:lnTo>
                    <a:pt x="4487" y="5489"/>
                  </a:lnTo>
                  <a:lnTo>
                    <a:pt x="4235" y="5453"/>
                  </a:lnTo>
                  <a:lnTo>
                    <a:pt x="3978" y="5417"/>
                  </a:lnTo>
                  <a:lnTo>
                    <a:pt x="3460" y="5345"/>
                  </a:lnTo>
                  <a:lnTo>
                    <a:pt x="3200" y="5307"/>
                  </a:lnTo>
                  <a:lnTo>
                    <a:pt x="2942" y="5267"/>
                  </a:lnTo>
                  <a:lnTo>
                    <a:pt x="2686" y="5223"/>
                  </a:lnTo>
                  <a:lnTo>
                    <a:pt x="2558" y="5199"/>
                  </a:lnTo>
                  <a:lnTo>
                    <a:pt x="2434" y="5175"/>
                  </a:lnTo>
                  <a:lnTo>
                    <a:pt x="2310" y="5149"/>
                  </a:lnTo>
                  <a:lnTo>
                    <a:pt x="2186" y="5121"/>
                  </a:lnTo>
                  <a:lnTo>
                    <a:pt x="2066" y="5093"/>
                  </a:lnTo>
                  <a:lnTo>
                    <a:pt x="1946" y="5061"/>
                  </a:lnTo>
                  <a:lnTo>
                    <a:pt x="1830" y="5029"/>
                  </a:lnTo>
                  <a:lnTo>
                    <a:pt x="1714" y="4995"/>
                  </a:lnTo>
                  <a:lnTo>
                    <a:pt x="1602" y="4959"/>
                  </a:lnTo>
                  <a:lnTo>
                    <a:pt x="1492" y="4921"/>
                  </a:lnTo>
                  <a:lnTo>
                    <a:pt x="1384" y="4881"/>
                  </a:lnTo>
                  <a:lnTo>
                    <a:pt x="1280" y="4839"/>
                  </a:lnTo>
                  <a:lnTo>
                    <a:pt x="1178" y="4795"/>
                  </a:lnTo>
                  <a:lnTo>
                    <a:pt x="1080" y="4747"/>
                  </a:lnTo>
                  <a:lnTo>
                    <a:pt x="984" y="4696"/>
                  </a:lnTo>
                  <a:lnTo>
                    <a:pt x="892" y="4644"/>
                  </a:lnTo>
                  <a:lnTo>
                    <a:pt x="804" y="4590"/>
                  </a:lnTo>
                  <a:lnTo>
                    <a:pt x="720" y="4532"/>
                  </a:lnTo>
                  <a:lnTo>
                    <a:pt x="680" y="4502"/>
                  </a:lnTo>
                  <a:lnTo>
                    <a:pt x="640" y="4470"/>
                  </a:lnTo>
                  <a:lnTo>
                    <a:pt x="602" y="4438"/>
                  </a:lnTo>
                  <a:lnTo>
                    <a:pt x="564" y="4406"/>
                  </a:lnTo>
                  <a:lnTo>
                    <a:pt x="528" y="4372"/>
                  </a:lnTo>
                  <a:lnTo>
                    <a:pt x="492" y="4338"/>
                  </a:lnTo>
                  <a:lnTo>
                    <a:pt x="458" y="4304"/>
                  </a:lnTo>
                  <a:lnTo>
                    <a:pt x="424" y="4268"/>
                  </a:lnTo>
                  <a:lnTo>
                    <a:pt x="392" y="4232"/>
                  </a:lnTo>
                  <a:lnTo>
                    <a:pt x="362" y="4194"/>
                  </a:lnTo>
                  <a:lnTo>
                    <a:pt x="332" y="4156"/>
                  </a:lnTo>
                  <a:lnTo>
                    <a:pt x="304" y="4116"/>
                  </a:lnTo>
                  <a:lnTo>
                    <a:pt x="276" y="4076"/>
                  </a:lnTo>
                  <a:lnTo>
                    <a:pt x="252" y="4036"/>
                  </a:lnTo>
                  <a:lnTo>
                    <a:pt x="226" y="3994"/>
                  </a:lnTo>
                  <a:lnTo>
                    <a:pt x="204" y="3950"/>
                  </a:lnTo>
                  <a:lnTo>
                    <a:pt x="182" y="3906"/>
                  </a:lnTo>
                  <a:lnTo>
                    <a:pt x="160" y="3862"/>
                  </a:lnTo>
                  <a:lnTo>
                    <a:pt x="142" y="3816"/>
                  </a:lnTo>
                  <a:lnTo>
                    <a:pt x="124" y="3768"/>
                  </a:lnTo>
                  <a:lnTo>
                    <a:pt x="108" y="3720"/>
                  </a:lnTo>
                  <a:lnTo>
                    <a:pt x="92" y="3672"/>
                  </a:lnTo>
                  <a:lnTo>
                    <a:pt x="80" y="3622"/>
                  </a:lnTo>
                  <a:lnTo>
                    <a:pt x="68" y="3570"/>
                  </a:lnTo>
                  <a:lnTo>
                    <a:pt x="68" y="3570"/>
                  </a:lnTo>
                  <a:lnTo>
                    <a:pt x="46" y="3468"/>
                  </a:lnTo>
                  <a:lnTo>
                    <a:pt x="30" y="3370"/>
                  </a:lnTo>
                  <a:lnTo>
                    <a:pt x="16" y="3276"/>
                  </a:lnTo>
                  <a:lnTo>
                    <a:pt x="8" y="3188"/>
                  </a:lnTo>
                  <a:lnTo>
                    <a:pt x="2" y="3102"/>
                  </a:lnTo>
                  <a:lnTo>
                    <a:pt x="0" y="3022"/>
                  </a:lnTo>
                  <a:lnTo>
                    <a:pt x="2" y="2946"/>
                  </a:lnTo>
                  <a:lnTo>
                    <a:pt x="8" y="2874"/>
                  </a:lnTo>
                  <a:lnTo>
                    <a:pt x="16" y="2806"/>
                  </a:lnTo>
                  <a:lnTo>
                    <a:pt x="28" y="2740"/>
                  </a:lnTo>
                  <a:lnTo>
                    <a:pt x="44" y="2680"/>
                  </a:lnTo>
                  <a:lnTo>
                    <a:pt x="62" y="2624"/>
                  </a:lnTo>
                  <a:lnTo>
                    <a:pt x="84" y="2570"/>
                  </a:lnTo>
                  <a:lnTo>
                    <a:pt x="108" y="2520"/>
                  </a:lnTo>
                  <a:lnTo>
                    <a:pt x="136" y="2474"/>
                  </a:lnTo>
                  <a:lnTo>
                    <a:pt x="164" y="2432"/>
                  </a:lnTo>
                  <a:lnTo>
                    <a:pt x="198" y="2392"/>
                  </a:lnTo>
                  <a:lnTo>
                    <a:pt x="232" y="2356"/>
                  </a:lnTo>
                  <a:lnTo>
                    <a:pt x="270" y="2324"/>
                  </a:lnTo>
                  <a:lnTo>
                    <a:pt x="310" y="2294"/>
                  </a:lnTo>
                  <a:lnTo>
                    <a:pt x="352" y="2268"/>
                  </a:lnTo>
                  <a:lnTo>
                    <a:pt x="396" y="2244"/>
                  </a:lnTo>
                  <a:lnTo>
                    <a:pt x="442" y="2224"/>
                  </a:lnTo>
                  <a:lnTo>
                    <a:pt x="490" y="2206"/>
                  </a:lnTo>
                  <a:lnTo>
                    <a:pt x="540" y="2190"/>
                  </a:lnTo>
                  <a:lnTo>
                    <a:pt x="592" y="2178"/>
                  </a:lnTo>
                  <a:lnTo>
                    <a:pt x="646" y="2168"/>
                  </a:lnTo>
                  <a:lnTo>
                    <a:pt x="702" y="2160"/>
                  </a:lnTo>
                  <a:lnTo>
                    <a:pt x="758" y="2156"/>
                  </a:lnTo>
                  <a:lnTo>
                    <a:pt x="816" y="2152"/>
                  </a:lnTo>
                  <a:lnTo>
                    <a:pt x="876" y="2152"/>
                  </a:lnTo>
                  <a:lnTo>
                    <a:pt x="936" y="2154"/>
                  </a:lnTo>
                  <a:lnTo>
                    <a:pt x="998" y="2158"/>
                  </a:lnTo>
                  <a:lnTo>
                    <a:pt x="1060" y="2164"/>
                  </a:lnTo>
                  <a:lnTo>
                    <a:pt x="1124" y="2172"/>
                  </a:lnTo>
                  <a:lnTo>
                    <a:pt x="1190" y="2180"/>
                  </a:lnTo>
                  <a:lnTo>
                    <a:pt x="1254" y="2192"/>
                  </a:lnTo>
                  <a:lnTo>
                    <a:pt x="1320" y="2206"/>
                  </a:lnTo>
                  <a:lnTo>
                    <a:pt x="1388" y="2220"/>
                  </a:lnTo>
                  <a:lnTo>
                    <a:pt x="1454" y="2236"/>
                  </a:lnTo>
                  <a:lnTo>
                    <a:pt x="1522" y="2254"/>
                  </a:lnTo>
                  <a:lnTo>
                    <a:pt x="1590" y="2272"/>
                  </a:lnTo>
                  <a:lnTo>
                    <a:pt x="1726" y="2314"/>
                  </a:lnTo>
                  <a:lnTo>
                    <a:pt x="1862" y="2362"/>
                  </a:lnTo>
                  <a:lnTo>
                    <a:pt x="1996" y="2412"/>
                  </a:lnTo>
                  <a:lnTo>
                    <a:pt x="2130" y="2466"/>
                  </a:lnTo>
                  <a:lnTo>
                    <a:pt x="2262" y="2522"/>
                  </a:lnTo>
                  <a:lnTo>
                    <a:pt x="2390" y="2580"/>
                  </a:lnTo>
                  <a:lnTo>
                    <a:pt x="2516" y="2640"/>
                  </a:lnTo>
                  <a:lnTo>
                    <a:pt x="2636" y="2702"/>
                  </a:lnTo>
                  <a:lnTo>
                    <a:pt x="2752" y="2762"/>
                  </a:lnTo>
                  <a:lnTo>
                    <a:pt x="2860" y="2822"/>
                  </a:lnTo>
                  <a:lnTo>
                    <a:pt x="2964" y="2882"/>
                  </a:lnTo>
                  <a:lnTo>
                    <a:pt x="2964" y="2882"/>
                  </a:lnTo>
                  <a:lnTo>
                    <a:pt x="2916" y="2830"/>
                  </a:lnTo>
                  <a:lnTo>
                    <a:pt x="2868" y="2774"/>
                  </a:lnTo>
                  <a:lnTo>
                    <a:pt x="2822" y="2718"/>
                  </a:lnTo>
                  <a:lnTo>
                    <a:pt x="2776" y="2660"/>
                  </a:lnTo>
                  <a:lnTo>
                    <a:pt x="2732" y="2600"/>
                  </a:lnTo>
                  <a:lnTo>
                    <a:pt x="2688" y="2538"/>
                  </a:lnTo>
                  <a:lnTo>
                    <a:pt x="2646" y="2474"/>
                  </a:lnTo>
                  <a:lnTo>
                    <a:pt x="2606" y="2408"/>
                  </a:lnTo>
                  <a:lnTo>
                    <a:pt x="2566" y="2342"/>
                  </a:lnTo>
                  <a:lnTo>
                    <a:pt x="2528" y="2274"/>
                  </a:lnTo>
                  <a:lnTo>
                    <a:pt x="2492" y="2206"/>
                  </a:lnTo>
                  <a:lnTo>
                    <a:pt x="2456" y="2136"/>
                  </a:lnTo>
                  <a:lnTo>
                    <a:pt x="2422" y="2066"/>
                  </a:lnTo>
                  <a:lnTo>
                    <a:pt x="2388" y="1994"/>
                  </a:lnTo>
                  <a:lnTo>
                    <a:pt x="2358" y="1922"/>
                  </a:lnTo>
                  <a:lnTo>
                    <a:pt x="2328" y="1850"/>
                  </a:lnTo>
                  <a:lnTo>
                    <a:pt x="2300" y="1778"/>
                  </a:lnTo>
                  <a:lnTo>
                    <a:pt x="2274" y="1706"/>
                  </a:lnTo>
                  <a:lnTo>
                    <a:pt x="2250" y="1632"/>
                  </a:lnTo>
                  <a:lnTo>
                    <a:pt x="2228" y="1560"/>
                  </a:lnTo>
                  <a:lnTo>
                    <a:pt x="2208" y="1488"/>
                  </a:lnTo>
                  <a:lnTo>
                    <a:pt x="2188" y="1414"/>
                  </a:lnTo>
                  <a:lnTo>
                    <a:pt x="2172" y="1344"/>
                  </a:lnTo>
                  <a:lnTo>
                    <a:pt x="2156" y="1272"/>
                  </a:lnTo>
                  <a:lnTo>
                    <a:pt x="2144" y="1202"/>
                  </a:lnTo>
                  <a:lnTo>
                    <a:pt x="2134" y="1132"/>
                  </a:lnTo>
                  <a:lnTo>
                    <a:pt x="2126" y="1062"/>
                  </a:lnTo>
                  <a:lnTo>
                    <a:pt x="2120" y="994"/>
                  </a:lnTo>
                  <a:lnTo>
                    <a:pt x="2116" y="928"/>
                  </a:lnTo>
                  <a:lnTo>
                    <a:pt x="2114" y="862"/>
                  </a:lnTo>
                  <a:lnTo>
                    <a:pt x="2114" y="798"/>
                  </a:lnTo>
                  <a:lnTo>
                    <a:pt x="2118" y="736"/>
                  </a:lnTo>
                  <a:lnTo>
                    <a:pt x="2124" y="674"/>
                  </a:lnTo>
                  <a:lnTo>
                    <a:pt x="2132" y="616"/>
                  </a:lnTo>
                  <a:lnTo>
                    <a:pt x="2142" y="558"/>
                  </a:lnTo>
                  <a:lnTo>
                    <a:pt x="2156" y="504"/>
                  </a:lnTo>
                  <a:lnTo>
                    <a:pt x="2172" y="450"/>
                  </a:lnTo>
                  <a:lnTo>
                    <a:pt x="2192" y="400"/>
                  </a:lnTo>
                  <a:lnTo>
                    <a:pt x="2212" y="352"/>
                  </a:lnTo>
                  <a:lnTo>
                    <a:pt x="2238" y="306"/>
                  </a:lnTo>
                  <a:lnTo>
                    <a:pt x="2264" y="264"/>
                  </a:lnTo>
                  <a:lnTo>
                    <a:pt x="2294" y="224"/>
                  </a:lnTo>
                  <a:lnTo>
                    <a:pt x="2328" y="186"/>
                  </a:lnTo>
                  <a:lnTo>
                    <a:pt x="2364" y="152"/>
                  </a:lnTo>
                  <a:lnTo>
                    <a:pt x="2404" y="120"/>
                  </a:lnTo>
                  <a:lnTo>
                    <a:pt x="2446" y="92"/>
                  </a:lnTo>
                  <a:lnTo>
                    <a:pt x="2492" y="68"/>
                  </a:lnTo>
                  <a:lnTo>
                    <a:pt x="2542" y="48"/>
                  </a:lnTo>
                  <a:lnTo>
                    <a:pt x="2594" y="30"/>
                  </a:lnTo>
                  <a:lnTo>
                    <a:pt x="2650" y="16"/>
                  </a:lnTo>
                  <a:lnTo>
                    <a:pt x="2708" y="6"/>
                  </a:lnTo>
                  <a:lnTo>
                    <a:pt x="2772" y="2"/>
                  </a:lnTo>
                  <a:lnTo>
                    <a:pt x="2838" y="0"/>
                  </a:lnTo>
                  <a:lnTo>
                    <a:pt x="2908" y="4"/>
                  </a:lnTo>
                  <a:lnTo>
                    <a:pt x="2980" y="10"/>
                  </a:lnTo>
                  <a:lnTo>
                    <a:pt x="3058" y="22"/>
                  </a:lnTo>
                  <a:lnTo>
                    <a:pt x="3138" y="38"/>
                  </a:lnTo>
                  <a:lnTo>
                    <a:pt x="3222" y="60"/>
                  </a:lnTo>
                  <a:lnTo>
                    <a:pt x="3310" y="86"/>
                  </a:lnTo>
                  <a:lnTo>
                    <a:pt x="3402" y="118"/>
                  </a:lnTo>
                  <a:lnTo>
                    <a:pt x="3498" y="154"/>
                  </a:lnTo>
                  <a:lnTo>
                    <a:pt x="3598" y="196"/>
                  </a:lnTo>
                  <a:lnTo>
                    <a:pt x="3702" y="242"/>
                  </a:lnTo>
                  <a:lnTo>
                    <a:pt x="3810" y="296"/>
                  </a:lnTo>
                  <a:lnTo>
                    <a:pt x="3810" y="296"/>
                  </a:lnTo>
                  <a:lnTo>
                    <a:pt x="3864" y="322"/>
                  </a:lnTo>
                  <a:lnTo>
                    <a:pt x="3914" y="350"/>
                  </a:lnTo>
                  <a:lnTo>
                    <a:pt x="3964" y="378"/>
                  </a:lnTo>
                  <a:lnTo>
                    <a:pt x="4014" y="408"/>
                  </a:lnTo>
                  <a:lnTo>
                    <a:pt x="4063" y="438"/>
                  </a:lnTo>
                  <a:lnTo>
                    <a:pt x="4109" y="470"/>
                  </a:lnTo>
                  <a:lnTo>
                    <a:pt x="4155" y="500"/>
                  </a:lnTo>
                  <a:lnTo>
                    <a:pt x="4199" y="532"/>
                  </a:lnTo>
                  <a:lnTo>
                    <a:pt x="4241" y="566"/>
                  </a:lnTo>
                  <a:lnTo>
                    <a:pt x="4283" y="598"/>
                  </a:lnTo>
                  <a:lnTo>
                    <a:pt x="4363" y="668"/>
                  </a:lnTo>
                  <a:lnTo>
                    <a:pt x="4439" y="738"/>
                  </a:lnTo>
                  <a:lnTo>
                    <a:pt x="4511" y="812"/>
                  </a:lnTo>
                  <a:lnTo>
                    <a:pt x="4579" y="888"/>
                  </a:lnTo>
                  <a:lnTo>
                    <a:pt x="4643" y="966"/>
                  </a:lnTo>
                  <a:lnTo>
                    <a:pt x="4703" y="1046"/>
                  </a:lnTo>
                  <a:lnTo>
                    <a:pt x="4761" y="1128"/>
                  </a:lnTo>
                  <a:lnTo>
                    <a:pt x="4813" y="1212"/>
                  </a:lnTo>
                  <a:lnTo>
                    <a:pt x="4863" y="1298"/>
                  </a:lnTo>
                  <a:lnTo>
                    <a:pt x="4911" y="1386"/>
                  </a:lnTo>
                  <a:lnTo>
                    <a:pt x="4955" y="1476"/>
                  </a:lnTo>
                  <a:lnTo>
                    <a:pt x="4997" y="1566"/>
                  </a:lnTo>
                  <a:lnTo>
                    <a:pt x="5035" y="1658"/>
                  </a:lnTo>
                  <a:lnTo>
                    <a:pt x="5071" y="1752"/>
                  </a:lnTo>
                  <a:lnTo>
                    <a:pt x="5105" y="1848"/>
                  </a:lnTo>
                  <a:lnTo>
                    <a:pt x="5137" y="1944"/>
                  </a:lnTo>
                  <a:lnTo>
                    <a:pt x="5165" y="2042"/>
                  </a:lnTo>
                  <a:lnTo>
                    <a:pt x="5193" y="2140"/>
                  </a:lnTo>
                  <a:lnTo>
                    <a:pt x="5219" y="2240"/>
                  </a:lnTo>
                  <a:lnTo>
                    <a:pt x="5243" y="2340"/>
                  </a:lnTo>
                  <a:lnTo>
                    <a:pt x="5267" y="2442"/>
                  </a:lnTo>
                  <a:lnTo>
                    <a:pt x="5287" y="2544"/>
                  </a:lnTo>
                  <a:lnTo>
                    <a:pt x="5309" y="2646"/>
                  </a:lnTo>
                  <a:lnTo>
                    <a:pt x="5347" y="2852"/>
                  </a:lnTo>
                  <a:lnTo>
                    <a:pt x="5381" y="3060"/>
                  </a:lnTo>
                  <a:lnTo>
                    <a:pt x="5447" y="3480"/>
                  </a:lnTo>
                  <a:lnTo>
                    <a:pt x="5481" y="3688"/>
                  </a:lnTo>
                  <a:lnTo>
                    <a:pt x="5517" y="3894"/>
                  </a:lnTo>
                  <a:lnTo>
                    <a:pt x="5557" y="4100"/>
                  </a:lnTo>
                  <a:lnTo>
                    <a:pt x="5577" y="4202"/>
                  </a:lnTo>
                  <a:lnTo>
                    <a:pt x="5599" y="4302"/>
                  </a:lnTo>
                  <a:lnTo>
                    <a:pt x="5623" y="4402"/>
                  </a:lnTo>
                  <a:lnTo>
                    <a:pt x="5649" y="4502"/>
                  </a:lnTo>
                  <a:lnTo>
                    <a:pt x="5675" y="4600"/>
                  </a:lnTo>
                  <a:lnTo>
                    <a:pt x="5705" y="4696"/>
                  </a:lnTo>
                  <a:lnTo>
                    <a:pt x="5735" y="4793"/>
                  </a:lnTo>
                  <a:lnTo>
                    <a:pt x="5769" y="4887"/>
                  </a:lnTo>
                  <a:lnTo>
                    <a:pt x="5803" y="4981"/>
                  </a:lnTo>
                  <a:lnTo>
                    <a:pt x="5841" y="5073"/>
                  </a:lnTo>
                  <a:lnTo>
                    <a:pt x="5881" y="5163"/>
                  </a:lnTo>
                  <a:lnTo>
                    <a:pt x="5925" y="5251"/>
                  </a:lnTo>
                  <a:lnTo>
                    <a:pt x="5971" y="5337"/>
                  </a:lnTo>
                  <a:lnTo>
                    <a:pt x="6019" y="5423"/>
                  </a:lnTo>
                  <a:lnTo>
                    <a:pt x="6071" y="5505"/>
                  </a:lnTo>
                  <a:lnTo>
                    <a:pt x="6127" y="5587"/>
                  </a:lnTo>
                  <a:lnTo>
                    <a:pt x="6187" y="5665"/>
                  </a:lnTo>
                  <a:lnTo>
                    <a:pt x="6249" y="5743"/>
                  </a:lnTo>
                  <a:lnTo>
                    <a:pt x="6315" y="5817"/>
                  </a:lnTo>
                  <a:lnTo>
                    <a:pt x="6387" y="5889"/>
                  </a:lnTo>
                  <a:lnTo>
                    <a:pt x="6461" y="5959"/>
                  </a:lnTo>
                  <a:lnTo>
                    <a:pt x="6539" y="6027"/>
                  </a:lnTo>
                  <a:lnTo>
                    <a:pt x="6491" y="6091"/>
                  </a:lnTo>
                  <a:close/>
                </a:path>
              </a:pathLst>
            </a:custGeom>
            <a:solidFill>
              <a:srgbClr val="f9d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>
              <a:off x="-1565280" y="8720280"/>
              <a:ext cx="10380600" cy="9669240"/>
            </a:xfrm>
            <a:custGeom>
              <a:avLst/>
              <a:gdLst>
                <a:gd name="textAreaLeft" fmla="*/ 0 w 10380600"/>
                <a:gd name="textAreaRight" fmla="*/ 10380600 w 10380600"/>
                <a:gd name="textAreaTop" fmla="*/ 0 h 9669240"/>
                <a:gd name="textAreaBottom" fmla="*/ 9669600 h 9669240"/>
              </a:gdLst>
              <a:ahLst/>
              <a:rect l="textAreaLeft" t="textAreaTop" r="textAreaRight" b="textAreaBottom"/>
              <a:pathLst>
                <a:path w="6539" h="6091">
                  <a:moveTo>
                    <a:pt x="6491" y="6091"/>
                  </a:moveTo>
                  <a:lnTo>
                    <a:pt x="6491" y="6091"/>
                  </a:lnTo>
                  <a:lnTo>
                    <a:pt x="6423" y="6043"/>
                  </a:lnTo>
                  <a:lnTo>
                    <a:pt x="6353" y="5997"/>
                  </a:lnTo>
                  <a:lnTo>
                    <a:pt x="6277" y="5955"/>
                  </a:lnTo>
                  <a:lnTo>
                    <a:pt x="6197" y="5915"/>
                  </a:lnTo>
                  <a:lnTo>
                    <a:pt x="6113" y="5877"/>
                  </a:lnTo>
                  <a:lnTo>
                    <a:pt x="6025" y="5841"/>
                  </a:lnTo>
                  <a:lnTo>
                    <a:pt x="5933" y="5805"/>
                  </a:lnTo>
                  <a:lnTo>
                    <a:pt x="5839" y="5773"/>
                  </a:lnTo>
                  <a:lnTo>
                    <a:pt x="5739" y="5743"/>
                  </a:lnTo>
                  <a:lnTo>
                    <a:pt x="5639" y="5713"/>
                  </a:lnTo>
                  <a:lnTo>
                    <a:pt x="5533" y="5687"/>
                  </a:lnTo>
                  <a:lnTo>
                    <a:pt x="5427" y="5661"/>
                  </a:lnTo>
                  <a:lnTo>
                    <a:pt x="5317" y="5635"/>
                  </a:lnTo>
                  <a:lnTo>
                    <a:pt x="5205" y="5611"/>
                  </a:lnTo>
                  <a:lnTo>
                    <a:pt x="5089" y="5589"/>
                  </a:lnTo>
                  <a:lnTo>
                    <a:pt x="4973" y="5567"/>
                  </a:lnTo>
                  <a:lnTo>
                    <a:pt x="4733" y="5527"/>
                  </a:lnTo>
                  <a:lnTo>
                    <a:pt x="4487" y="5489"/>
                  </a:lnTo>
                  <a:lnTo>
                    <a:pt x="4235" y="5453"/>
                  </a:lnTo>
                  <a:lnTo>
                    <a:pt x="3978" y="5417"/>
                  </a:lnTo>
                  <a:lnTo>
                    <a:pt x="3460" y="5345"/>
                  </a:lnTo>
                  <a:lnTo>
                    <a:pt x="3200" y="5307"/>
                  </a:lnTo>
                  <a:lnTo>
                    <a:pt x="2942" y="5267"/>
                  </a:lnTo>
                  <a:lnTo>
                    <a:pt x="2686" y="5223"/>
                  </a:lnTo>
                  <a:lnTo>
                    <a:pt x="2558" y="5199"/>
                  </a:lnTo>
                  <a:lnTo>
                    <a:pt x="2434" y="5175"/>
                  </a:lnTo>
                  <a:lnTo>
                    <a:pt x="2310" y="5149"/>
                  </a:lnTo>
                  <a:lnTo>
                    <a:pt x="2186" y="5121"/>
                  </a:lnTo>
                  <a:lnTo>
                    <a:pt x="2066" y="5093"/>
                  </a:lnTo>
                  <a:lnTo>
                    <a:pt x="1946" y="5061"/>
                  </a:lnTo>
                  <a:lnTo>
                    <a:pt x="1830" y="5029"/>
                  </a:lnTo>
                  <a:lnTo>
                    <a:pt x="1714" y="4995"/>
                  </a:lnTo>
                  <a:lnTo>
                    <a:pt x="1602" y="4959"/>
                  </a:lnTo>
                  <a:lnTo>
                    <a:pt x="1492" y="4921"/>
                  </a:lnTo>
                  <a:lnTo>
                    <a:pt x="1384" y="4881"/>
                  </a:lnTo>
                  <a:lnTo>
                    <a:pt x="1280" y="4839"/>
                  </a:lnTo>
                  <a:lnTo>
                    <a:pt x="1178" y="4795"/>
                  </a:lnTo>
                  <a:lnTo>
                    <a:pt x="1080" y="4747"/>
                  </a:lnTo>
                  <a:lnTo>
                    <a:pt x="984" y="4696"/>
                  </a:lnTo>
                  <a:lnTo>
                    <a:pt x="892" y="4644"/>
                  </a:lnTo>
                  <a:lnTo>
                    <a:pt x="804" y="4590"/>
                  </a:lnTo>
                  <a:lnTo>
                    <a:pt x="720" y="4532"/>
                  </a:lnTo>
                  <a:lnTo>
                    <a:pt x="680" y="4502"/>
                  </a:lnTo>
                  <a:lnTo>
                    <a:pt x="640" y="4470"/>
                  </a:lnTo>
                  <a:lnTo>
                    <a:pt x="602" y="4438"/>
                  </a:lnTo>
                  <a:lnTo>
                    <a:pt x="564" y="4406"/>
                  </a:lnTo>
                  <a:lnTo>
                    <a:pt x="528" y="4372"/>
                  </a:lnTo>
                  <a:lnTo>
                    <a:pt x="492" y="4338"/>
                  </a:lnTo>
                  <a:lnTo>
                    <a:pt x="458" y="4304"/>
                  </a:lnTo>
                  <a:lnTo>
                    <a:pt x="424" y="4268"/>
                  </a:lnTo>
                  <a:lnTo>
                    <a:pt x="392" y="4232"/>
                  </a:lnTo>
                  <a:lnTo>
                    <a:pt x="362" y="4194"/>
                  </a:lnTo>
                  <a:lnTo>
                    <a:pt x="332" y="4156"/>
                  </a:lnTo>
                  <a:lnTo>
                    <a:pt x="304" y="4116"/>
                  </a:lnTo>
                  <a:lnTo>
                    <a:pt x="276" y="4076"/>
                  </a:lnTo>
                  <a:lnTo>
                    <a:pt x="252" y="4036"/>
                  </a:lnTo>
                  <a:lnTo>
                    <a:pt x="226" y="3994"/>
                  </a:lnTo>
                  <a:lnTo>
                    <a:pt x="204" y="3950"/>
                  </a:lnTo>
                  <a:lnTo>
                    <a:pt x="182" y="3906"/>
                  </a:lnTo>
                  <a:lnTo>
                    <a:pt x="160" y="3862"/>
                  </a:lnTo>
                  <a:lnTo>
                    <a:pt x="142" y="3816"/>
                  </a:lnTo>
                  <a:lnTo>
                    <a:pt x="124" y="3768"/>
                  </a:lnTo>
                  <a:lnTo>
                    <a:pt x="108" y="3720"/>
                  </a:lnTo>
                  <a:lnTo>
                    <a:pt x="92" y="3672"/>
                  </a:lnTo>
                  <a:lnTo>
                    <a:pt x="80" y="3622"/>
                  </a:lnTo>
                  <a:lnTo>
                    <a:pt x="68" y="3570"/>
                  </a:lnTo>
                  <a:lnTo>
                    <a:pt x="68" y="3570"/>
                  </a:lnTo>
                  <a:lnTo>
                    <a:pt x="46" y="3468"/>
                  </a:lnTo>
                  <a:lnTo>
                    <a:pt x="30" y="3370"/>
                  </a:lnTo>
                  <a:lnTo>
                    <a:pt x="16" y="3276"/>
                  </a:lnTo>
                  <a:lnTo>
                    <a:pt x="8" y="3188"/>
                  </a:lnTo>
                  <a:lnTo>
                    <a:pt x="2" y="3102"/>
                  </a:lnTo>
                  <a:lnTo>
                    <a:pt x="0" y="3022"/>
                  </a:lnTo>
                  <a:lnTo>
                    <a:pt x="2" y="2946"/>
                  </a:lnTo>
                  <a:lnTo>
                    <a:pt x="8" y="2874"/>
                  </a:lnTo>
                  <a:lnTo>
                    <a:pt x="16" y="2806"/>
                  </a:lnTo>
                  <a:lnTo>
                    <a:pt x="28" y="2740"/>
                  </a:lnTo>
                  <a:lnTo>
                    <a:pt x="44" y="2680"/>
                  </a:lnTo>
                  <a:lnTo>
                    <a:pt x="62" y="2624"/>
                  </a:lnTo>
                  <a:lnTo>
                    <a:pt x="84" y="2570"/>
                  </a:lnTo>
                  <a:lnTo>
                    <a:pt x="108" y="2520"/>
                  </a:lnTo>
                  <a:lnTo>
                    <a:pt x="136" y="2474"/>
                  </a:lnTo>
                  <a:lnTo>
                    <a:pt x="164" y="2432"/>
                  </a:lnTo>
                  <a:lnTo>
                    <a:pt x="198" y="2392"/>
                  </a:lnTo>
                  <a:lnTo>
                    <a:pt x="232" y="2356"/>
                  </a:lnTo>
                  <a:lnTo>
                    <a:pt x="270" y="2324"/>
                  </a:lnTo>
                  <a:lnTo>
                    <a:pt x="310" y="2294"/>
                  </a:lnTo>
                  <a:lnTo>
                    <a:pt x="352" y="2268"/>
                  </a:lnTo>
                  <a:lnTo>
                    <a:pt x="396" y="2244"/>
                  </a:lnTo>
                  <a:lnTo>
                    <a:pt x="442" y="2224"/>
                  </a:lnTo>
                  <a:lnTo>
                    <a:pt x="490" y="2206"/>
                  </a:lnTo>
                  <a:lnTo>
                    <a:pt x="540" y="2190"/>
                  </a:lnTo>
                  <a:lnTo>
                    <a:pt x="592" y="2178"/>
                  </a:lnTo>
                  <a:lnTo>
                    <a:pt x="646" y="2168"/>
                  </a:lnTo>
                  <a:lnTo>
                    <a:pt x="702" y="2160"/>
                  </a:lnTo>
                  <a:lnTo>
                    <a:pt x="758" y="2156"/>
                  </a:lnTo>
                  <a:lnTo>
                    <a:pt x="816" y="2152"/>
                  </a:lnTo>
                  <a:lnTo>
                    <a:pt x="876" y="2152"/>
                  </a:lnTo>
                  <a:lnTo>
                    <a:pt x="936" y="2154"/>
                  </a:lnTo>
                  <a:lnTo>
                    <a:pt x="998" y="2158"/>
                  </a:lnTo>
                  <a:lnTo>
                    <a:pt x="1060" y="2164"/>
                  </a:lnTo>
                  <a:lnTo>
                    <a:pt x="1124" y="2172"/>
                  </a:lnTo>
                  <a:lnTo>
                    <a:pt x="1190" y="2180"/>
                  </a:lnTo>
                  <a:lnTo>
                    <a:pt x="1254" y="2192"/>
                  </a:lnTo>
                  <a:lnTo>
                    <a:pt x="1320" y="2206"/>
                  </a:lnTo>
                  <a:lnTo>
                    <a:pt x="1388" y="2220"/>
                  </a:lnTo>
                  <a:lnTo>
                    <a:pt x="1454" y="2236"/>
                  </a:lnTo>
                  <a:lnTo>
                    <a:pt x="1522" y="2254"/>
                  </a:lnTo>
                  <a:lnTo>
                    <a:pt x="1590" y="2272"/>
                  </a:lnTo>
                  <a:lnTo>
                    <a:pt x="1726" y="2314"/>
                  </a:lnTo>
                  <a:lnTo>
                    <a:pt x="1862" y="2362"/>
                  </a:lnTo>
                  <a:lnTo>
                    <a:pt x="1996" y="2412"/>
                  </a:lnTo>
                  <a:lnTo>
                    <a:pt x="2130" y="2466"/>
                  </a:lnTo>
                  <a:lnTo>
                    <a:pt x="2262" y="2522"/>
                  </a:lnTo>
                  <a:lnTo>
                    <a:pt x="2390" y="2580"/>
                  </a:lnTo>
                  <a:lnTo>
                    <a:pt x="2516" y="2640"/>
                  </a:lnTo>
                  <a:lnTo>
                    <a:pt x="2636" y="2702"/>
                  </a:lnTo>
                  <a:lnTo>
                    <a:pt x="2752" y="2762"/>
                  </a:lnTo>
                  <a:lnTo>
                    <a:pt x="2860" y="2822"/>
                  </a:lnTo>
                  <a:lnTo>
                    <a:pt x="2964" y="2882"/>
                  </a:lnTo>
                  <a:lnTo>
                    <a:pt x="2964" y="2882"/>
                  </a:lnTo>
                  <a:lnTo>
                    <a:pt x="2916" y="2830"/>
                  </a:lnTo>
                  <a:lnTo>
                    <a:pt x="2868" y="2774"/>
                  </a:lnTo>
                  <a:lnTo>
                    <a:pt x="2822" y="2718"/>
                  </a:lnTo>
                  <a:lnTo>
                    <a:pt x="2776" y="2660"/>
                  </a:lnTo>
                  <a:lnTo>
                    <a:pt x="2732" y="2600"/>
                  </a:lnTo>
                  <a:lnTo>
                    <a:pt x="2688" y="2538"/>
                  </a:lnTo>
                  <a:lnTo>
                    <a:pt x="2646" y="2474"/>
                  </a:lnTo>
                  <a:lnTo>
                    <a:pt x="2606" y="2408"/>
                  </a:lnTo>
                  <a:lnTo>
                    <a:pt x="2566" y="2342"/>
                  </a:lnTo>
                  <a:lnTo>
                    <a:pt x="2528" y="2274"/>
                  </a:lnTo>
                  <a:lnTo>
                    <a:pt x="2492" y="2206"/>
                  </a:lnTo>
                  <a:lnTo>
                    <a:pt x="2456" y="2136"/>
                  </a:lnTo>
                  <a:lnTo>
                    <a:pt x="2422" y="2066"/>
                  </a:lnTo>
                  <a:lnTo>
                    <a:pt x="2388" y="1994"/>
                  </a:lnTo>
                  <a:lnTo>
                    <a:pt x="2358" y="1922"/>
                  </a:lnTo>
                  <a:lnTo>
                    <a:pt x="2328" y="1850"/>
                  </a:lnTo>
                  <a:lnTo>
                    <a:pt x="2300" y="1778"/>
                  </a:lnTo>
                  <a:lnTo>
                    <a:pt x="2274" y="1706"/>
                  </a:lnTo>
                  <a:lnTo>
                    <a:pt x="2250" y="1632"/>
                  </a:lnTo>
                  <a:lnTo>
                    <a:pt x="2228" y="1560"/>
                  </a:lnTo>
                  <a:lnTo>
                    <a:pt x="2208" y="1488"/>
                  </a:lnTo>
                  <a:lnTo>
                    <a:pt x="2188" y="1414"/>
                  </a:lnTo>
                  <a:lnTo>
                    <a:pt x="2172" y="1344"/>
                  </a:lnTo>
                  <a:lnTo>
                    <a:pt x="2156" y="1272"/>
                  </a:lnTo>
                  <a:lnTo>
                    <a:pt x="2144" y="1202"/>
                  </a:lnTo>
                  <a:lnTo>
                    <a:pt x="2134" y="1132"/>
                  </a:lnTo>
                  <a:lnTo>
                    <a:pt x="2126" y="1062"/>
                  </a:lnTo>
                  <a:lnTo>
                    <a:pt x="2120" y="994"/>
                  </a:lnTo>
                  <a:lnTo>
                    <a:pt x="2116" y="928"/>
                  </a:lnTo>
                  <a:lnTo>
                    <a:pt x="2114" y="862"/>
                  </a:lnTo>
                  <a:lnTo>
                    <a:pt x="2114" y="798"/>
                  </a:lnTo>
                  <a:lnTo>
                    <a:pt x="2118" y="736"/>
                  </a:lnTo>
                  <a:lnTo>
                    <a:pt x="2124" y="674"/>
                  </a:lnTo>
                  <a:lnTo>
                    <a:pt x="2132" y="616"/>
                  </a:lnTo>
                  <a:lnTo>
                    <a:pt x="2142" y="558"/>
                  </a:lnTo>
                  <a:lnTo>
                    <a:pt x="2156" y="504"/>
                  </a:lnTo>
                  <a:lnTo>
                    <a:pt x="2172" y="450"/>
                  </a:lnTo>
                  <a:lnTo>
                    <a:pt x="2192" y="400"/>
                  </a:lnTo>
                  <a:lnTo>
                    <a:pt x="2212" y="352"/>
                  </a:lnTo>
                  <a:lnTo>
                    <a:pt x="2238" y="306"/>
                  </a:lnTo>
                  <a:lnTo>
                    <a:pt x="2264" y="264"/>
                  </a:lnTo>
                  <a:lnTo>
                    <a:pt x="2294" y="224"/>
                  </a:lnTo>
                  <a:lnTo>
                    <a:pt x="2328" y="186"/>
                  </a:lnTo>
                  <a:lnTo>
                    <a:pt x="2364" y="152"/>
                  </a:lnTo>
                  <a:lnTo>
                    <a:pt x="2404" y="120"/>
                  </a:lnTo>
                  <a:lnTo>
                    <a:pt x="2446" y="92"/>
                  </a:lnTo>
                  <a:lnTo>
                    <a:pt x="2492" y="68"/>
                  </a:lnTo>
                  <a:lnTo>
                    <a:pt x="2542" y="48"/>
                  </a:lnTo>
                  <a:lnTo>
                    <a:pt x="2594" y="30"/>
                  </a:lnTo>
                  <a:lnTo>
                    <a:pt x="2650" y="16"/>
                  </a:lnTo>
                  <a:lnTo>
                    <a:pt x="2708" y="6"/>
                  </a:lnTo>
                  <a:lnTo>
                    <a:pt x="2772" y="2"/>
                  </a:lnTo>
                  <a:lnTo>
                    <a:pt x="2838" y="0"/>
                  </a:lnTo>
                  <a:lnTo>
                    <a:pt x="2908" y="4"/>
                  </a:lnTo>
                  <a:lnTo>
                    <a:pt x="2980" y="10"/>
                  </a:lnTo>
                  <a:lnTo>
                    <a:pt x="3058" y="22"/>
                  </a:lnTo>
                  <a:lnTo>
                    <a:pt x="3138" y="38"/>
                  </a:lnTo>
                  <a:lnTo>
                    <a:pt x="3222" y="60"/>
                  </a:lnTo>
                  <a:lnTo>
                    <a:pt x="3310" y="86"/>
                  </a:lnTo>
                  <a:lnTo>
                    <a:pt x="3402" y="118"/>
                  </a:lnTo>
                  <a:lnTo>
                    <a:pt x="3498" y="154"/>
                  </a:lnTo>
                  <a:lnTo>
                    <a:pt x="3598" y="196"/>
                  </a:lnTo>
                  <a:lnTo>
                    <a:pt x="3702" y="242"/>
                  </a:lnTo>
                  <a:lnTo>
                    <a:pt x="3810" y="296"/>
                  </a:lnTo>
                  <a:lnTo>
                    <a:pt x="3810" y="296"/>
                  </a:lnTo>
                  <a:lnTo>
                    <a:pt x="3864" y="322"/>
                  </a:lnTo>
                  <a:lnTo>
                    <a:pt x="3914" y="350"/>
                  </a:lnTo>
                  <a:lnTo>
                    <a:pt x="3964" y="378"/>
                  </a:lnTo>
                  <a:lnTo>
                    <a:pt x="4014" y="408"/>
                  </a:lnTo>
                  <a:lnTo>
                    <a:pt x="4063" y="438"/>
                  </a:lnTo>
                  <a:lnTo>
                    <a:pt x="4109" y="470"/>
                  </a:lnTo>
                  <a:lnTo>
                    <a:pt x="4155" y="500"/>
                  </a:lnTo>
                  <a:lnTo>
                    <a:pt x="4199" y="532"/>
                  </a:lnTo>
                  <a:lnTo>
                    <a:pt x="4241" y="566"/>
                  </a:lnTo>
                  <a:lnTo>
                    <a:pt x="4283" y="598"/>
                  </a:lnTo>
                  <a:lnTo>
                    <a:pt x="4363" y="668"/>
                  </a:lnTo>
                  <a:lnTo>
                    <a:pt x="4439" y="738"/>
                  </a:lnTo>
                  <a:lnTo>
                    <a:pt x="4511" y="812"/>
                  </a:lnTo>
                  <a:lnTo>
                    <a:pt x="4579" y="888"/>
                  </a:lnTo>
                  <a:lnTo>
                    <a:pt x="4643" y="966"/>
                  </a:lnTo>
                  <a:lnTo>
                    <a:pt x="4703" y="1046"/>
                  </a:lnTo>
                  <a:lnTo>
                    <a:pt x="4761" y="1128"/>
                  </a:lnTo>
                  <a:lnTo>
                    <a:pt x="4813" y="1212"/>
                  </a:lnTo>
                  <a:lnTo>
                    <a:pt x="4863" y="1298"/>
                  </a:lnTo>
                  <a:lnTo>
                    <a:pt x="4911" y="1386"/>
                  </a:lnTo>
                  <a:lnTo>
                    <a:pt x="4955" y="1476"/>
                  </a:lnTo>
                  <a:lnTo>
                    <a:pt x="4997" y="1566"/>
                  </a:lnTo>
                  <a:lnTo>
                    <a:pt x="5035" y="1658"/>
                  </a:lnTo>
                  <a:lnTo>
                    <a:pt x="5071" y="1752"/>
                  </a:lnTo>
                  <a:lnTo>
                    <a:pt x="5105" y="1848"/>
                  </a:lnTo>
                  <a:lnTo>
                    <a:pt x="5137" y="1944"/>
                  </a:lnTo>
                  <a:lnTo>
                    <a:pt x="5165" y="2042"/>
                  </a:lnTo>
                  <a:lnTo>
                    <a:pt x="5193" y="2140"/>
                  </a:lnTo>
                  <a:lnTo>
                    <a:pt x="5219" y="2240"/>
                  </a:lnTo>
                  <a:lnTo>
                    <a:pt x="5243" y="2340"/>
                  </a:lnTo>
                  <a:lnTo>
                    <a:pt x="5267" y="2442"/>
                  </a:lnTo>
                  <a:lnTo>
                    <a:pt x="5287" y="2544"/>
                  </a:lnTo>
                  <a:lnTo>
                    <a:pt x="5309" y="2646"/>
                  </a:lnTo>
                  <a:lnTo>
                    <a:pt x="5347" y="2852"/>
                  </a:lnTo>
                  <a:lnTo>
                    <a:pt x="5381" y="3060"/>
                  </a:lnTo>
                  <a:lnTo>
                    <a:pt x="5447" y="3480"/>
                  </a:lnTo>
                  <a:lnTo>
                    <a:pt x="5481" y="3688"/>
                  </a:lnTo>
                  <a:lnTo>
                    <a:pt x="5517" y="3894"/>
                  </a:lnTo>
                  <a:lnTo>
                    <a:pt x="5557" y="4100"/>
                  </a:lnTo>
                  <a:lnTo>
                    <a:pt x="5577" y="4202"/>
                  </a:lnTo>
                  <a:lnTo>
                    <a:pt x="5599" y="4302"/>
                  </a:lnTo>
                  <a:lnTo>
                    <a:pt x="5623" y="4402"/>
                  </a:lnTo>
                  <a:lnTo>
                    <a:pt x="5649" y="4502"/>
                  </a:lnTo>
                  <a:lnTo>
                    <a:pt x="5675" y="4600"/>
                  </a:lnTo>
                  <a:lnTo>
                    <a:pt x="5705" y="4696"/>
                  </a:lnTo>
                  <a:lnTo>
                    <a:pt x="5735" y="4793"/>
                  </a:lnTo>
                  <a:lnTo>
                    <a:pt x="5769" y="4887"/>
                  </a:lnTo>
                  <a:lnTo>
                    <a:pt x="5803" y="4981"/>
                  </a:lnTo>
                  <a:lnTo>
                    <a:pt x="5841" y="5073"/>
                  </a:lnTo>
                  <a:lnTo>
                    <a:pt x="5881" y="5163"/>
                  </a:lnTo>
                  <a:lnTo>
                    <a:pt x="5925" y="5251"/>
                  </a:lnTo>
                  <a:lnTo>
                    <a:pt x="5971" y="5337"/>
                  </a:lnTo>
                  <a:lnTo>
                    <a:pt x="6019" y="5423"/>
                  </a:lnTo>
                  <a:lnTo>
                    <a:pt x="6071" y="5505"/>
                  </a:lnTo>
                  <a:lnTo>
                    <a:pt x="6127" y="5587"/>
                  </a:lnTo>
                  <a:lnTo>
                    <a:pt x="6187" y="5665"/>
                  </a:lnTo>
                  <a:lnTo>
                    <a:pt x="6249" y="5743"/>
                  </a:lnTo>
                  <a:lnTo>
                    <a:pt x="6315" y="5817"/>
                  </a:lnTo>
                  <a:lnTo>
                    <a:pt x="6387" y="5889"/>
                  </a:lnTo>
                  <a:lnTo>
                    <a:pt x="6461" y="5959"/>
                  </a:lnTo>
                  <a:lnTo>
                    <a:pt x="6539" y="602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" name="Freeform 8"/>
          <p:cNvSpPr/>
          <p:nvPr/>
        </p:nvSpPr>
        <p:spPr>
          <a:xfrm>
            <a:off x="469800" y="507960"/>
            <a:ext cx="7323120" cy="8748720"/>
          </a:xfrm>
          <a:custGeom>
            <a:avLst/>
            <a:gdLst>
              <a:gd name="textAreaLeft" fmla="*/ 0 w 7323120"/>
              <a:gd name="textAreaRight" fmla="*/ 7323480 w 7323120"/>
              <a:gd name="textAreaTop" fmla="*/ 0 h 8748720"/>
              <a:gd name="textAreaBottom" fmla="*/ 8749080 h 8748720"/>
            </a:gdLst>
            <a:ahLst/>
            <a:rect l="textAreaLeft" t="textAreaTop" r="textAreaRight" b="textAreaBottom"/>
            <a:pathLst>
              <a:path w="4613" h="5511">
                <a:moveTo>
                  <a:pt x="3709" y="5511"/>
                </a:moveTo>
                <a:lnTo>
                  <a:pt x="3709" y="5511"/>
                </a:lnTo>
                <a:lnTo>
                  <a:pt x="3681" y="5455"/>
                </a:lnTo>
                <a:lnTo>
                  <a:pt x="3647" y="5401"/>
                </a:lnTo>
                <a:lnTo>
                  <a:pt x="3609" y="5349"/>
                </a:lnTo>
                <a:lnTo>
                  <a:pt x="3569" y="5295"/>
                </a:lnTo>
                <a:lnTo>
                  <a:pt x="3523" y="5241"/>
                </a:lnTo>
                <a:lnTo>
                  <a:pt x="3475" y="5189"/>
                </a:lnTo>
                <a:lnTo>
                  <a:pt x="3421" y="5137"/>
                </a:lnTo>
                <a:lnTo>
                  <a:pt x="3365" y="5085"/>
                </a:lnTo>
                <a:lnTo>
                  <a:pt x="3307" y="5033"/>
                </a:lnTo>
                <a:lnTo>
                  <a:pt x="3245" y="4981"/>
                </a:lnTo>
                <a:lnTo>
                  <a:pt x="3179" y="4929"/>
                </a:lnTo>
                <a:lnTo>
                  <a:pt x="3111" y="4877"/>
                </a:lnTo>
                <a:lnTo>
                  <a:pt x="3041" y="4825"/>
                </a:lnTo>
                <a:lnTo>
                  <a:pt x="2969" y="4773"/>
                </a:lnTo>
                <a:lnTo>
                  <a:pt x="2817" y="4671"/>
                </a:lnTo>
                <a:lnTo>
                  <a:pt x="2656" y="4569"/>
                </a:lnTo>
                <a:lnTo>
                  <a:pt x="2490" y="4465"/>
                </a:lnTo>
                <a:lnTo>
                  <a:pt x="2320" y="4361"/>
                </a:lnTo>
                <a:lnTo>
                  <a:pt x="2148" y="4257"/>
                </a:lnTo>
                <a:lnTo>
                  <a:pt x="1796" y="4047"/>
                </a:lnTo>
                <a:lnTo>
                  <a:pt x="1620" y="3941"/>
                </a:lnTo>
                <a:lnTo>
                  <a:pt x="1448" y="3831"/>
                </a:lnTo>
                <a:lnTo>
                  <a:pt x="1278" y="3721"/>
                </a:lnTo>
                <a:lnTo>
                  <a:pt x="1194" y="3665"/>
                </a:lnTo>
                <a:lnTo>
                  <a:pt x="1112" y="3609"/>
                </a:lnTo>
                <a:lnTo>
                  <a:pt x="1032" y="3553"/>
                </a:lnTo>
                <a:lnTo>
                  <a:pt x="954" y="3495"/>
                </a:lnTo>
                <a:lnTo>
                  <a:pt x="876" y="3439"/>
                </a:lnTo>
                <a:lnTo>
                  <a:pt x="802" y="3379"/>
                </a:lnTo>
                <a:lnTo>
                  <a:pt x="730" y="3321"/>
                </a:lnTo>
                <a:lnTo>
                  <a:pt x="660" y="3261"/>
                </a:lnTo>
                <a:lnTo>
                  <a:pt x="592" y="3201"/>
                </a:lnTo>
                <a:lnTo>
                  <a:pt x="528" y="3141"/>
                </a:lnTo>
                <a:lnTo>
                  <a:pt x="466" y="3078"/>
                </a:lnTo>
                <a:lnTo>
                  <a:pt x="406" y="3016"/>
                </a:lnTo>
                <a:lnTo>
                  <a:pt x="352" y="2952"/>
                </a:lnTo>
                <a:lnTo>
                  <a:pt x="300" y="2888"/>
                </a:lnTo>
                <a:lnTo>
                  <a:pt x="250" y="2824"/>
                </a:lnTo>
                <a:lnTo>
                  <a:pt x="206" y="2758"/>
                </a:lnTo>
                <a:lnTo>
                  <a:pt x="164" y="2692"/>
                </a:lnTo>
                <a:lnTo>
                  <a:pt x="128" y="2624"/>
                </a:lnTo>
                <a:lnTo>
                  <a:pt x="96" y="2556"/>
                </a:lnTo>
                <a:lnTo>
                  <a:pt x="68" y="2488"/>
                </a:lnTo>
                <a:lnTo>
                  <a:pt x="44" y="2418"/>
                </a:lnTo>
                <a:lnTo>
                  <a:pt x="34" y="2382"/>
                </a:lnTo>
                <a:lnTo>
                  <a:pt x="26" y="2346"/>
                </a:lnTo>
                <a:lnTo>
                  <a:pt x="18" y="2310"/>
                </a:lnTo>
                <a:lnTo>
                  <a:pt x="12" y="2274"/>
                </a:lnTo>
                <a:lnTo>
                  <a:pt x="6" y="2238"/>
                </a:lnTo>
                <a:lnTo>
                  <a:pt x="2" y="2202"/>
                </a:lnTo>
                <a:lnTo>
                  <a:pt x="0" y="2166"/>
                </a:lnTo>
                <a:lnTo>
                  <a:pt x="0" y="2128"/>
                </a:lnTo>
                <a:lnTo>
                  <a:pt x="0" y="2090"/>
                </a:lnTo>
                <a:lnTo>
                  <a:pt x="2" y="2052"/>
                </a:lnTo>
                <a:lnTo>
                  <a:pt x="4" y="2014"/>
                </a:lnTo>
                <a:lnTo>
                  <a:pt x="10" y="1976"/>
                </a:lnTo>
                <a:lnTo>
                  <a:pt x="16" y="1938"/>
                </a:lnTo>
                <a:lnTo>
                  <a:pt x="22" y="1900"/>
                </a:lnTo>
                <a:lnTo>
                  <a:pt x="32" y="1860"/>
                </a:lnTo>
                <a:lnTo>
                  <a:pt x="42" y="1820"/>
                </a:lnTo>
                <a:lnTo>
                  <a:pt x="54" y="1780"/>
                </a:lnTo>
                <a:lnTo>
                  <a:pt x="68" y="1740"/>
                </a:lnTo>
                <a:lnTo>
                  <a:pt x="68" y="1740"/>
                </a:lnTo>
                <a:lnTo>
                  <a:pt x="98" y="1662"/>
                </a:lnTo>
                <a:lnTo>
                  <a:pt x="128" y="1586"/>
                </a:lnTo>
                <a:lnTo>
                  <a:pt x="160" y="1516"/>
                </a:lnTo>
                <a:lnTo>
                  <a:pt x="192" y="1450"/>
                </a:lnTo>
                <a:lnTo>
                  <a:pt x="226" y="1388"/>
                </a:lnTo>
                <a:lnTo>
                  <a:pt x="260" y="1330"/>
                </a:lnTo>
                <a:lnTo>
                  <a:pt x="294" y="1278"/>
                </a:lnTo>
                <a:lnTo>
                  <a:pt x="330" y="1228"/>
                </a:lnTo>
                <a:lnTo>
                  <a:pt x="368" y="1182"/>
                </a:lnTo>
                <a:lnTo>
                  <a:pt x="404" y="1140"/>
                </a:lnTo>
                <a:lnTo>
                  <a:pt x="442" y="1102"/>
                </a:lnTo>
                <a:lnTo>
                  <a:pt x="480" y="1066"/>
                </a:lnTo>
                <a:lnTo>
                  <a:pt x="520" y="1036"/>
                </a:lnTo>
                <a:lnTo>
                  <a:pt x="560" y="1008"/>
                </a:lnTo>
                <a:lnTo>
                  <a:pt x="600" y="984"/>
                </a:lnTo>
                <a:lnTo>
                  <a:pt x="640" y="962"/>
                </a:lnTo>
                <a:lnTo>
                  <a:pt x="682" y="944"/>
                </a:lnTo>
                <a:lnTo>
                  <a:pt x="724" y="930"/>
                </a:lnTo>
                <a:lnTo>
                  <a:pt x="766" y="918"/>
                </a:lnTo>
                <a:lnTo>
                  <a:pt x="808" y="908"/>
                </a:lnTo>
                <a:lnTo>
                  <a:pt x="850" y="902"/>
                </a:lnTo>
                <a:lnTo>
                  <a:pt x="894" y="900"/>
                </a:lnTo>
                <a:lnTo>
                  <a:pt x="938" y="900"/>
                </a:lnTo>
                <a:lnTo>
                  <a:pt x="980" y="902"/>
                </a:lnTo>
                <a:lnTo>
                  <a:pt x="1024" y="906"/>
                </a:lnTo>
                <a:lnTo>
                  <a:pt x="1068" y="914"/>
                </a:lnTo>
                <a:lnTo>
                  <a:pt x="1112" y="922"/>
                </a:lnTo>
                <a:lnTo>
                  <a:pt x="1156" y="934"/>
                </a:lnTo>
                <a:lnTo>
                  <a:pt x="1200" y="948"/>
                </a:lnTo>
                <a:lnTo>
                  <a:pt x="1244" y="964"/>
                </a:lnTo>
                <a:lnTo>
                  <a:pt x="1288" y="982"/>
                </a:lnTo>
                <a:lnTo>
                  <a:pt x="1332" y="1002"/>
                </a:lnTo>
                <a:lnTo>
                  <a:pt x="1376" y="1024"/>
                </a:lnTo>
                <a:lnTo>
                  <a:pt x="1420" y="1048"/>
                </a:lnTo>
                <a:lnTo>
                  <a:pt x="1464" y="1072"/>
                </a:lnTo>
                <a:lnTo>
                  <a:pt x="1508" y="1100"/>
                </a:lnTo>
                <a:lnTo>
                  <a:pt x="1552" y="1128"/>
                </a:lnTo>
                <a:lnTo>
                  <a:pt x="1594" y="1156"/>
                </a:lnTo>
                <a:lnTo>
                  <a:pt x="1638" y="1188"/>
                </a:lnTo>
                <a:lnTo>
                  <a:pt x="1680" y="1220"/>
                </a:lnTo>
                <a:lnTo>
                  <a:pt x="1764" y="1288"/>
                </a:lnTo>
                <a:lnTo>
                  <a:pt x="1846" y="1360"/>
                </a:lnTo>
                <a:lnTo>
                  <a:pt x="1926" y="1434"/>
                </a:lnTo>
                <a:lnTo>
                  <a:pt x="2004" y="1512"/>
                </a:lnTo>
                <a:lnTo>
                  <a:pt x="2078" y="1592"/>
                </a:lnTo>
                <a:lnTo>
                  <a:pt x="2152" y="1672"/>
                </a:lnTo>
                <a:lnTo>
                  <a:pt x="2220" y="1754"/>
                </a:lnTo>
                <a:lnTo>
                  <a:pt x="2286" y="1834"/>
                </a:lnTo>
                <a:lnTo>
                  <a:pt x="2348" y="1914"/>
                </a:lnTo>
                <a:lnTo>
                  <a:pt x="2408" y="1994"/>
                </a:lnTo>
                <a:lnTo>
                  <a:pt x="2462" y="2070"/>
                </a:lnTo>
                <a:lnTo>
                  <a:pt x="2512" y="2144"/>
                </a:lnTo>
                <a:lnTo>
                  <a:pt x="2512" y="2144"/>
                </a:lnTo>
                <a:lnTo>
                  <a:pt x="2498" y="2092"/>
                </a:lnTo>
                <a:lnTo>
                  <a:pt x="2488" y="2038"/>
                </a:lnTo>
                <a:lnTo>
                  <a:pt x="2478" y="1984"/>
                </a:lnTo>
                <a:lnTo>
                  <a:pt x="2470" y="1928"/>
                </a:lnTo>
                <a:lnTo>
                  <a:pt x="2464" y="1872"/>
                </a:lnTo>
                <a:lnTo>
                  <a:pt x="2460" y="1814"/>
                </a:lnTo>
                <a:lnTo>
                  <a:pt x="2456" y="1756"/>
                </a:lnTo>
                <a:lnTo>
                  <a:pt x="2456" y="1698"/>
                </a:lnTo>
                <a:lnTo>
                  <a:pt x="2456" y="1638"/>
                </a:lnTo>
                <a:lnTo>
                  <a:pt x="2456" y="1578"/>
                </a:lnTo>
                <a:lnTo>
                  <a:pt x="2460" y="1518"/>
                </a:lnTo>
                <a:lnTo>
                  <a:pt x="2464" y="1458"/>
                </a:lnTo>
                <a:lnTo>
                  <a:pt x="2470" y="1396"/>
                </a:lnTo>
                <a:lnTo>
                  <a:pt x="2476" y="1336"/>
                </a:lnTo>
                <a:lnTo>
                  <a:pt x="2486" y="1276"/>
                </a:lnTo>
                <a:lnTo>
                  <a:pt x="2496" y="1216"/>
                </a:lnTo>
                <a:lnTo>
                  <a:pt x="2506" y="1156"/>
                </a:lnTo>
                <a:lnTo>
                  <a:pt x="2520" y="1096"/>
                </a:lnTo>
                <a:lnTo>
                  <a:pt x="2534" y="1036"/>
                </a:lnTo>
                <a:lnTo>
                  <a:pt x="2548" y="978"/>
                </a:lnTo>
                <a:lnTo>
                  <a:pt x="2566" y="920"/>
                </a:lnTo>
                <a:lnTo>
                  <a:pt x="2584" y="862"/>
                </a:lnTo>
                <a:lnTo>
                  <a:pt x="2602" y="806"/>
                </a:lnTo>
                <a:lnTo>
                  <a:pt x="2624" y="752"/>
                </a:lnTo>
                <a:lnTo>
                  <a:pt x="2644" y="698"/>
                </a:lnTo>
                <a:lnTo>
                  <a:pt x="2668" y="644"/>
                </a:lnTo>
                <a:lnTo>
                  <a:pt x="2692" y="592"/>
                </a:lnTo>
                <a:lnTo>
                  <a:pt x="2718" y="542"/>
                </a:lnTo>
                <a:lnTo>
                  <a:pt x="2744" y="494"/>
                </a:lnTo>
                <a:lnTo>
                  <a:pt x="2773" y="448"/>
                </a:lnTo>
                <a:lnTo>
                  <a:pt x="2801" y="402"/>
                </a:lnTo>
                <a:lnTo>
                  <a:pt x="2831" y="358"/>
                </a:lnTo>
                <a:lnTo>
                  <a:pt x="2861" y="318"/>
                </a:lnTo>
                <a:lnTo>
                  <a:pt x="2893" y="278"/>
                </a:lnTo>
                <a:lnTo>
                  <a:pt x="2927" y="240"/>
                </a:lnTo>
                <a:lnTo>
                  <a:pt x="2961" y="206"/>
                </a:lnTo>
                <a:lnTo>
                  <a:pt x="2997" y="172"/>
                </a:lnTo>
                <a:lnTo>
                  <a:pt x="3033" y="142"/>
                </a:lnTo>
                <a:lnTo>
                  <a:pt x="3069" y="116"/>
                </a:lnTo>
                <a:lnTo>
                  <a:pt x="3107" y="90"/>
                </a:lnTo>
                <a:lnTo>
                  <a:pt x="3147" y="68"/>
                </a:lnTo>
                <a:lnTo>
                  <a:pt x="3187" y="48"/>
                </a:lnTo>
                <a:lnTo>
                  <a:pt x="3229" y="32"/>
                </a:lnTo>
                <a:lnTo>
                  <a:pt x="3271" y="20"/>
                </a:lnTo>
                <a:lnTo>
                  <a:pt x="3313" y="10"/>
                </a:lnTo>
                <a:lnTo>
                  <a:pt x="3357" y="2"/>
                </a:lnTo>
                <a:lnTo>
                  <a:pt x="3401" y="0"/>
                </a:lnTo>
                <a:lnTo>
                  <a:pt x="3447" y="0"/>
                </a:lnTo>
                <a:lnTo>
                  <a:pt x="3493" y="4"/>
                </a:lnTo>
                <a:lnTo>
                  <a:pt x="3541" y="12"/>
                </a:lnTo>
                <a:lnTo>
                  <a:pt x="3589" y="22"/>
                </a:lnTo>
                <a:lnTo>
                  <a:pt x="3637" y="38"/>
                </a:lnTo>
                <a:lnTo>
                  <a:pt x="3687" y="58"/>
                </a:lnTo>
                <a:lnTo>
                  <a:pt x="3737" y="82"/>
                </a:lnTo>
                <a:lnTo>
                  <a:pt x="3787" y="108"/>
                </a:lnTo>
                <a:lnTo>
                  <a:pt x="3839" y="142"/>
                </a:lnTo>
                <a:lnTo>
                  <a:pt x="3891" y="178"/>
                </a:lnTo>
                <a:lnTo>
                  <a:pt x="3945" y="218"/>
                </a:lnTo>
                <a:lnTo>
                  <a:pt x="3999" y="264"/>
                </a:lnTo>
                <a:lnTo>
                  <a:pt x="4053" y="316"/>
                </a:lnTo>
                <a:lnTo>
                  <a:pt x="4107" y="370"/>
                </a:lnTo>
                <a:lnTo>
                  <a:pt x="4163" y="430"/>
                </a:lnTo>
                <a:lnTo>
                  <a:pt x="4219" y="496"/>
                </a:lnTo>
                <a:lnTo>
                  <a:pt x="4275" y="566"/>
                </a:lnTo>
                <a:lnTo>
                  <a:pt x="4275" y="566"/>
                </a:lnTo>
                <a:lnTo>
                  <a:pt x="4329" y="638"/>
                </a:lnTo>
                <a:lnTo>
                  <a:pt x="4377" y="710"/>
                </a:lnTo>
                <a:lnTo>
                  <a:pt x="4419" y="782"/>
                </a:lnTo>
                <a:lnTo>
                  <a:pt x="4457" y="854"/>
                </a:lnTo>
                <a:lnTo>
                  <a:pt x="4491" y="928"/>
                </a:lnTo>
                <a:lnTo>
                  <a:pt x="4521" y="1002"/>
                </a:lnTo>
                <a:lnTo>
                  <a:pt x="4545" y="1076"/>
                </a:lnTo>
                <a:lnTo>
                  <a:pt x="4565" y="1150"/>
                </a:lnTo>
                <a:lnTo>
                  <a:pt x="4583" y="1224"/>
                </a:lnTo>
                <a:lnTo>
                  <a:pt x="4595" y="1300"/>
                </a:lnTo>
                <a:lnTo>
                  <a:pt x="4605" y="1376"/>
                </a:lnTo>
                <a:lnTo>
                  <a:pt x="4611" y="1452"/>
                </a:lnTo>
                <a:lnTo>
                  <a:pt x="4613" y="1528"/>
                </a:lnTo>
                <a:lnTo>
                  <a:pt x="4613" y="1604"/>
                </a:lnTo>
                <a:lnTo>
                  <a:pt x="4609" y="1680"/>
                </a:lnTo>
                <a:lnTo>
                  <a:pt x="4603" y="1758"/>
                </a:lnTo>
                <a:lnTo>
                  <a:pt x="4593" y="1834"/>
                </a:lnTo>
                <a:lnTo>
                  <a:pt x="4581" y="1912"/>
                </a:lnTo>
                <a:lnTo>
                  <a:pt x="4565" y="1990"/>
                </a:lnTo>
                <a:lnTo>
                  <a:pt x="4549" y="2068"/>
                </a:lnTo>
                <a:lnTo>
                  <a:pt x="4531" y="2146"/>
                </a:lnTo>
                <a:lnTo>
                  <a:pt x="4509" y="2224"/>
                </a:lnTo>
                <a:lnTo>
                  <a:pt x="4487" y="2304"/>
                </a:lnTo>
                <a:lnTo>
                  <a:pt x="4461" y="2382"/>
                </a:lnTo>
                <a:lnTo>
                  <a:pt x="4435" y="2460"/>
                </a:lnTo>
                <a:lnTo>
                  <a:pt x="4407" y="2540"/>
                </a:lnTo>
                <a:lnTo>
                  <a:pt x="4349" y="2698"/>
                </a:lnTo>
                <a:lnTo>
                  <a:pt x="4285" y="2856"/>
                </a:lnTo>
                <a:lnTo>
                  <a:pt x="4219" y="3016"/>
                </a:lnTo>
                <a:lnTo>
                  <a:pt x="4085" y="3335"/>
                </a:lnTo>
                <a:lnTo>
                  <a:pt x="4019" y="3493"/>
                </a:lnTo>
                <a:lnTo>
                  <a:pt x="3955" y="3651"/>
                </a:lnTo>
                <a:lnTo>
                  <a:pt x="3893" y="3809"/>
                </a:lnTo>
                <a:lnTo>
                  <a:pt x="3835" y="3967"/>
                </a:lnTo>
                <a:lnTo>
                  <a:pt x="3809" y="4045"/>
                </a:lnTo>
                <a:lnTo>
                  <a:pt x="3785" y="4123"/>
                </a:lnTo>
                <a:lnTo>
                  <a:pt x="3761" y="4201"/>
                </a:lnTo>
                <a:lnTo>
                  <a:pt x="3741" y="4279"/>
                </a:lnTo>
                <a:lnTo>
                  <a:pt x="3721" y="4355"/>
                </a:lnTo>
                <a:lnTo>
                  <a:pt x="3703" y="4433"/>
                </a:lnTo>
                <a:lnTo>
                  <a:pt x="3689" y="4511"/>
                </a:lnTo>
                <a:lnTo>
                  <a:pt x="3677" y="4587"/>
                </a:lnTo>
                <a:lnTo>
                  <a:pt x="3667" y="4663"/>
                </a:lnTo>
                <a:lnTo>
                  <a:pt x="3659" y="4739"/>
                </a:lnTo>
                <a:lnTo>
                  <a:pt x="3655" y="4815"/>
                </a:lnTo>
                <a:lnTo>
                  <a:pt x="3655" y="4891"/>
                </a:lnTo>
                <a:lnTo>
                  <a:pt x="3657" y="4965"/>
                </a:lnTo>
                <a:lnTo>
                  <a:pt x="3661" y="5041"/>
                </a:lnTo>
                <a:lnTo>
                  <a:pt x="3671" y="5115"/>
                </a:lnTo>
                <a:lnTo>
                  <a:pt x="3683" y="5189"/>
                </a:lnTo>
                <a:lnTo>
                  <a:pt x="3699" y="5263"/>
                </a:lnTo>
                <a:lnTo>
                  <a:pt x="3719" y="5335"/>
                </a:lnTo>
                <a:lnTo>
                  <a:pt x="3745" y="5407"/>
                </a:lnTo>
                <a:lnTo>
                  <a:pt x="3773" y="547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グループ化 12"/>
          <p:cNvGrpSpPr/>
          <p:nvPr/>
        </p:nvGrpSpPr>
        <p:grpSpPr>
          <a:xfrm>
            <a:off x="117360" y="412920"/>
            <a:ext cx="7675560" cy="8843760"/>
            <a:chOff x="117360" y="412920"/>
            <a:chExt cx="7675560" cy="8843760"/>
          </a:xfrm>
        </p:grpSpPr>
        <p:sp>
          <p:nvSpPr>
            <p:cNvPr id="47" name="Freeform 7"/>
            <p:cNvSpPr/>
            <p:nvPr/>
          </p:nvSpPr>
          <p:spPr>
            <a:xfrm>
              <a:off x="469800" y="507960"/>
              <a:ext cx="7323120" cy="8748720"/>
            </a:xfrm>
            <a:custGeom>
              <a:avLst/>
              <a:gdLst>
                <a:gd name="textAreaLeft" fmla="*/ 0 w 7323120"/>
                <a:gd name="textAreaRight" fmla="*/ 7323480 w 7323120"/>
                <a:gd name="textAreaTop" fmla="*/ 0 h 8748720"/>
                <a:gd name="textAreaBottom" fmla="*/ 8749080 h 8748720"/>
              </a:gdLst>
              <a:ahLst/>
              <a:rect l="textAreaLeft" t="textAreaTop" r="textAreaRight" b="textAreaBottom"/>
              <a:pathLst>
                <a:path w="4613" h="5511">
                  <a:moveTo>
                    <a:pt x="3709" y="5511"/>
                  </a:moveTo>
                  <a:lnTo>
                    <a:pt x="3709" y="5511"/>
                  </a:lnTo>
                  <a:lnTo>
                    <a:pt x="3681" y="5455"/>
                  </a:lnTo>
                  <a:lnTo>
                    <a:pt x="3647" y="5401"/>
                  </a:lnTo>
                  <a:lnTo>
                    <a:pt x="3609" y="5349"/>
                  </a:lnTo>
                  <a:lnTo>
                    <a:pt x="3569" y="5295"/>
                  </a:lnTo>
                  <a:lnTo>
                    <a:pt x="3523" y="5241"/>
                  </a:lnTo>
                  <a:lnTo>
                    <a:pt x="3475" y="5189"/>
                  </a:lnTo>
                  <a:lnTo>
                    <a:pt x="3421" y="5137"/>
                  </a:lnTo>
                  <a:lnTo>
                    <a:pt x="3365" y="5085"/>
                  </a:lnTo>
                  <a:lnTo>
                    <a:pt x="3307" y="5033"/>
                  </a:lnTo>
                  <a:lnTo>
                    <a:pt x="3245" y="4981"/>
                  </a:lnTo>
                  <a:lnTo>
                    <a:pt x="3179" y="4929"/>
                  </a:lnTo>
                  <a:lnTo>
                    <a:pt x="3111" y="4877"/>
                  </a:lnTo>
                  <a:lnTo>
                    <a:pt x="3041" y="4825"/>
                  </a:lnTo>
                  <a:lnTo>
                    <a:pt x="2969" y="4773"/>
                  </a:lnTo>
                  <a:lnTo>
                    <a:pt x="2817" y="4671"/>
                  </a:lnTo>
                  <a:lnTo>
                    <a:pt x="2656" y="4569"/>
                  </a:lnTo>
                  <a:lnTo>
                    <a:pt x="2490" y="4465"/>
                  </a:lnTo>
                  <a:lnTo>
                    <a:pt x="2320" y="4361"/>
                  </a:lnTo>
                  <a:lnTo>
                    <a:pt x="2148" y="4257"/>
                  </a:lnTo>
                  <a:lnTo>
                    <a:pt x="1796" y="4047"/>
                  </a:lnTo>
                  <a:lnTo>
                    <a:pt x="1620" y="3941"/>
                  </a:lnTo>
                  <a:lnTo>
                    <a:pt x="1448" y="3831"/>
                  </a:lnTo>
                  <a:lnTo>
                    <a:pt x="1278" y="3721"/>
                  </a:lnTo>
                  <a:lnTo>
                    <a:pt x="1194" y="3665"/>
                  </a:lnTo>
                  <a:lnTo>
                    <a:pt x="1112" y="3609"/>
                  </a:lnTo>
                  <a:lnTo>
                    <a:pt x="1032" y="3553"/>
                  </a:lnTo>
                  <a:lnTo>
                    <a:pt x="954" y="3495"/>
                  </a:lnTo>
                  <a:lnTo>
                    <a:pt x="876" y="3439"/>
                  </a:lnTo>
                  <a:lnTo>
                    <a:pt x="802" y="3379"/>
                  </a:lnTo>
                  <a:lnTo>
                    <a:pt x="730" y="3321"/>
                  </a:lnTo>
                  <a:lnTo>
                    <a:pt x="660" y="3261"/>
                  </a:lnTo>
                  <a:lnTo>
                    <a:pt x="592" y="3201"/>
                  </a:lnTo>
                  <a:lnTo>
                    <a:pt x="528" y="3141"/>
                  </a:lnTo>
                  <a:lnTo>
                    <a:pt x="466" y="3078"/>
                  </a:lnTo>
                  <a:lnTo>
                    <a:pt x="406" y="3016"/>
                  </a:lnTo>
                  <a:lnTo>
                    <a:pt x="352" y="2952"/>
                  </a:lnTo>
                  <a:lnTo>
                    <a:pt x="300" y="2888"/>
                  </a:lnTo>
                  <a:lnTo>
                    <a:pt x="250" y="2824"/>
                  </a:lnTo>
                  <a:lnTo>
                    <a:pt x="206" y="2758"/>
                  </a:lnTo>
                  <a:lnTo>
                    <a:pt x="164" y="2692"/>
                  </a:lnTo>
                  <a:lnTo>
                    <a:pt x="128" y="2624"/>
                  </a:lnTo>
                  <a:lnTo>
                    <a:pt x="96" y="2556"/>
                  </a:lnTo>
                  <a:lnTo>
                    <a:pt x="68" y="2488"/>
                  </a:lnTo>
                  <a:lnTo>
                    <a:pt x="44" y="2418"/>
                  </a:lnTo>
                  <a:lnTo>
                    <a:pt x="34" y="2382"/>
                  </a:lnTo>
                  <a:lnTo>
                    <a:pt x="26" y="2346"/>
                  </a:lnTo>
                  <a:lnTo>
                    <a:pt x="18" y="2310"/>
                  </a:lnTo>
                  <a:lnTo>
                    <a:pt x="12" y="2274"/>
                  </a:lnTo>
                  <a:lnTo>
                    <a:pt x="6" y="2238"/>
                  </a:lnTo>
                  <a:lnTo>
                    <a:pt x="2" y="2202"/>
                  </a:lnTo>
                  <a:lnTo>
                    <a:pt x="0" y="2166"/>
                  </a:lnTo>
                  <a:lnTo>
                    <a:pt x="0" y="2128"/>
                  </a:lnTo>
                  <a:lnTo>
                    <a:pt x="0" y="2090"/>
                  </a:lnTo>
                  <a:lnTo>
                    <a:pt x="2" y="2052"/>
                  </a:lnTo>
                  <a:lnTo>
                    <a:pt x="4" y="2014"/>
                  </a:lnTo>
                  <a:lnTo>
                    <a:pt x="10" y="1976"/>
                  </a:lnTo>
                  <a:lnTo>
                    <a:pt x="16" y="1938"/>
                  </a:lnTo>
                  <a:lnTo>
                    <a:pt x="22" y="1900"/>
                  </a:lnTo>
                  <a:lnTo>
                    <a:pt x="32" y="1860"/>
                  </a:lnTo>
                  <a:lnTo>
                    <a:pt x="42" y="1820"/>
                  </a:lnTo>
                  <a:lnTo>
                    <a:pt x="54" y="1780"/>
                  </a:lnTo>
                  <a:lnTo>
                    <a:pt x="68" y="1740"/>
                  </a:lnTo>
                  <a:lnTo>
                    <a:pt x="68" y="1740"/>
                  </a:lnTo>
                  <a:lnTo>
                    <a:pt x="98" y="1662"/>
                  </a:lnTo>
                  <a:lnTo>
                    <a:pt x="128" y="1586"/>
                  </a:lnTo>
                  <a:lnTo>
                    <a:pt x="160" y="1516"/>
                  </a:lnTo>
                  <a:lnTo>
                    <a:pt x="192" y="1450"/>
                  </a:lnTo>
                  <a:lnTo>
                    <a:pt x="226" y="1388"/>
                  </a:lnTo>
                  <a:lnTo>
                    <a:pt x="260" y="1330"/>
                  </a:lnTo>
                  <a:lnTo>
                    <a:pt x="294" y="1278"/>
                  </a:lnTo>
                  <a:lnTo>
                    <a:pt x="330" y="1228"/>
                  </a:lnTo>
                  <a:lnTo>
                    <a:pt x="368" y="1182"/>
                  </a:lnTo>
                  <a:lnTo>
                    <a:pt x="404" y="1140"/>
                  </a:lnTo>
                  <a:lnTo>
                    <a:pt x="442" y="1102"/>
                  </a:lnTo>
                  <a:lnTo>
                    <a:pt x="480" y="1066"/>
                  </a:lnTo>
                  <a:lnTo>
                    <a:pt x="520" y="1036"/>
                  </a:lnTo>
                  <a:lnTo>
                    <a:pt x="560" y="1008"/>
                  </a:lnTo>
                  <a:lnTo>
                    <a:pt x="600" y="984"/>
                  </a:lnTo>
                  <a:lnTo>
                    <a:pt x="640" y="962"/>
                  </a:lnTo>
                  <a:lnTo>
                    <a:pt x="682" y="944"/>
                  </a:lnTo>
                  <a:lnTo>
                    <a:pt x="724" y="930"/>
                  </a:lnTo>
                  <a:lnTo>
                    <a:pt x="766" y="918"/>
                  </a:lnTo>
                  <a:lnTo>
                    <a:pt x="808" y="908"/>
                  </a:lnTo>
                  <a:lnTo>
                    <a:pt x="850" y="902"/>
                  </a:lnTo>
                  <a:lnTo>
                    <a:pt x="894" y="900"/>
                  </a:lnTo>
                  <a:lnTo>
                    <a:pt x="938" y="900"/>
                  </a:lnTo>
                  <a:lnTo>
                    <a:pt x="980" y="902"/>
                  </a:lnTo>
                  <a:lnTo>
                    <a:pt x="1024" y="906"/>
                  </a:lnTo>
                  <a:lnTo>
                    <a:pt x="1068" y="914"/>
                  </a:lnTo>
                  <a:lnTo>
                    <a:pt x="1112" y="922"/>
                  </a:lnTo>
                  <a:lnTo>
                    <a:pt x="1156" y="934"/>
                  </a:lnTo>
                  <a:lnTo>
                    <a:pt x="1200" y="948"/>
                  </a:lnTo>
                  <a:lnTo>
                    <a:pt x="1244" y="964"/>
                  </a:lnTo>
                  <a:lnTo>
                    <a:pt x="1288" y="982"/>
                  </a:lnTo>
                  <a:lnTo>
                    <a:pt x="1332" y="1002"/>
                  </a:lnTo>
                  <a:lnTo>
                    <a:pt x="1376" y="1024"/>
                  </a:lnTo>
                  <a:lnTo>
                    <a:pt x="1420" y="1048"/>
                  </a:lnTo>
                  <a:lnTo>
                    <a:pt x="1464" y="1072"/>
                  </a:lnTo>
                  <a:lnTo>
                    <a:pt x="1508" y="1100"/>
                  </a:lnTo>
                  <a:lnTo>
                    <a:pt x="1552" y="1128"/>
                  </a:lnTo>
                  <a:lnTo>
                    <a:pt x="1594" y="1156"/>
                  </a:lnTo>
                  <a:lnTo>
                    <a:pt x="1638" y="1188"/>
                  </a:lnTo>
                  <a:lnTo>
                    <a:pt x="1680" y="1220"/>
                  </a:lnTo>
                  <a:lnTo>
                    <a:pt x="1764" y="1288"/>
                  </a:lnTo>
                  <a:lnTo>
                    <a:pt x="1846" y="1360"/>
                  </a:lnTo>
                  <a:lnTo>
                    <a:pt x="1926" y="1434"/>
                  </a:lnTo>
                  <a:lnTo>
                    <a:pt x="2004" y="1512"/>
                  </a:lnTo>
                  <a:lnTo>
                    <a:pt x="2078" y="1592"/>
                  </a:lnTo>
                  <a:lnTo>
                    <a:pt x="2152" y="1672"/>
                  </a:lnTo>
                  <a:lnTo>
                    <a:pt x="2220" y="1754"/>
                  </a:lnTo>
                  <a:lnTo>
                    <a:pt x="2286" y="1834"/>
                  </a:lnTo>
                  <a:lnTo>
                    <a:pt x="2348" y="1914"/>
                  </a:lnTo>
                  <a:lnTo>
                    <a:pt x="2408" y="1994"/>
                  </a:lnTo>
                  <a:lnTo>
                    <a:pt x="2462" y="2070"/>
                  </a:lnTo>
                  <a:lnTo>
                    <a:pt x="2512" y="2144"/>
                  </a:lnTo>
                  <a:lnTo>
                    <a:pt x="2512" y="2144"/>
                  </a:lnTo>
                  <a:lnTo>
                    <a:pt x="2498" y="2092"/>
                  </a:lnTo>
                  <a:lnTo>
                    <a:pt x="2488" y="2038"/>
                  </a:lnTo>
                  <a:lnTo>
                    <a:pt x="2478" y="1984"/>
                  </a:lnTo>
                  <a:lnTo>
                    <a:pt x="2470" y="1928"/>
                  </a:lnTo>
                  <a:lnTo>
                    <a:pt x="2464" y="1872"/>
                  </a:lnTo>
                  <a:lnTo>
                    <a:pt x="2460" y="1814"/>
                  </a:lnTo>
                  <a:lnTo>
                    <a:pt x="2456" y="1756"/>
                  </a:lnTo>
                  <a:lnTo>
                    <a:pt x="2456" y="1698"/>
                  </a:lnTo>
                  <a:lnTo>
                    <a:pt x="2456" y="1638"/>
                  </a:lnTo>
                  <a:lnTo>
                    <a:pt x="2456" y="1578"/>
                  </a:lnTo>
                  <a:lnTo>
                    <a:pt x="2460" y="1518"/>
                  </a:lnTo>
                  <a:lnTo>
                    <a:pt x="2464" y="1458"/>
                  </a:lnTo>
                  <a:lnTo>
                    <a:pt x="2470" y="1396"/>
                  </a:lnTo>
                  <a:lnTo>
                    <a:pt x="2476" y="1336"/>
                  </a:lnTo>
                  <a:lnTo>
                    <a:pt x="2486" y="1276"/>
                  </a:lnTo>
                  <a:lnTo>
                    <a:pt x="2496" y="1216"/>
                  </a:lnTo>
                  <a:lnTo>
                    <a:pt x="2506" y="1156"/>
                  </a:lnTo>
                  <a:lnTo>
                    <a:pt x="2520" y="1096"/>
                  </a:lnTo>
                  <a:lnTo>
                    <a:pt x="2534" y="1036"/>
                  </a:lnTo>
                  <a:lnTo>
                    <a:pt x="2548" y="978"/>
                  </a:lnTo>
                  <a:lnTo>
                    <a:pt x="2566" y="920"/>
                  </a:lnTo>
                  <a:lnTo>
                    <a:pt x="2584" y="862"/>
                  </a:lnTo>
                  <a:lnTo>
                    <a:pt x="2602" y="806"/>
                  </a:lnTo>
                  <a:lnTo>
                    <a:pt x="2624" y="752"/>
                  </a:lnTo>
                  <a:lnTo>
                    <a:pt x="2644" y="698"/>
                  </a:lnTo>
                  <a:lnTo>
                    <a:pt x="2668" y="644"/>
                  </a:lnTo>
                  <a:lnTo>
                    <a:pt x="2692" y="592"/>
                  </a:lnTo>
                  <a:lnTo>
                    <a:pt x="2718" y="542"/>
                  </a:lnTo>
                  <a:lnTo>
                    <a:pt x="2744" y="494"/>
                  </a:lnTo>
                  <a:lnTo>
                    <a:pt x="2773" y="448"/>
                  </a:lnTo>
                  <a:lnTo>
                    <a:pt x="2801" y="402"/>
                  </a:lnTo>
                  <a:lnTo>
                    <a:pt x="2831" y="358"/>
                  </a:lnTo>
                  <a:lnTo>
                    <a:pt x="2861" y="318"/>
                  </a:lnTo>
                  <a:lnTo>
                    <a:pt x="2893" y="278"/>
                  </a:lnTo>
                  <a:lnTo>
                    <a:pt x="2927" y="240"/>
                  </a:lnTo>
                  <a:lnTo>
                    <a:pt x="2961" y="206"/>
                  </a:lnTo>
                  <a:lnTo>
                    <a:pt x="2997" y="172"/>
                  </a:lnTo>
                  <a:lnTo>
                    <a:pt x="3033" y="142"/>
                  </a:lnTo>
                  <a:lnTo>
                    <a:pt x="3069" y="116"/>
                  </a:lnTo>
                  <a:lnTo>
                    <a:pt x="3107" y="90"/>
                  </a:lnTo>
                  <a:lnTo>
                    <a:pt x="3147" y="68"/>
                  </a:lnTo>
                  <a:lnTo>
                    <a:pt x="3187" y="48"/>
                  </a:lnTo>
                  <a:lnTo>
                    <a:pt x="3229" y="32"/>
                  </a:lnTo>
                  <a:lnTo>
                    <a:pt x="3271" y="20"/>
                  </a:lnTo>
                  <a:lnTo>
                    <a:pt x="3313" y="10"/>
                  </a:lnTo>
                  <a:lnTo>
                    <a:pt x="3357" y="2"/>
                  </a:lnTo>
                  <a:lnTo>
                    <a:pt x="3401" y="0"/>
                  </a:lnTo>
                  <a:lnTo>
                    <a:pt x="3447" y="0"/>
                  </a:lnTo>
                  <a:lnTo>
                    <a:pt x="3493" y="4"/>
                  </a:lnTo>
                  <a:lnTo>
                    <a:pt x="3541" y="12"/>
                  </a:lnTo>
                  <a:lnTo>
                    <a:pt x="3589" y="22"/>
                  </a:lnTo>
                  <a:lnTo>
                    <a:pt x="3637" y="38"/>
                  </a:lnTo>
                  <a:lnTo>
                    <a:pt x="3687" y="58"/>
                  </a:lnTo>
                  <a:lnTo>
                    <a:pt x="3737" y="82"/>
                  </a:lnTo>
                  <a:lnTo>
                    <a:pt x="3787" y="108"/>
                  </a:lnTo>
                  <a:lnTo>
                    <a:pt x="3839" y="142"/>
                  </a:lnTo>
                  <a:lnTo>
                    <a:pt x="3891" y="178"/>
                  </a:lnTo>
                  <a:lnTo>
                    <a:pt x="3945" y="218"/>
                  </a:lnTo>
                  <a:lnTo>
                    <a:pt x="3999" y="264"/>
                  </a:lnTo>
                  <a:lnTo>
                    <a:pt x="4053" y="316"/>
                  </a:lnTo>
                  <a:lnTo>
                    <a:pt x="4107" y="370"/>
                  </a:lnTo>
                  <a:lnTo>
                    <a:pt x="4163" y="430"/>
                  </a:lnTo>
                  <a:lnTo>
                    <a:pt x="4219" y="496"/>
                  </a:lnTo>
                  <a:lnTo>
                    <a:pt x="4275" y="566"/>
                  </a:lnTo>
                  <a:lnTo>
                    <a:pt x="4275" y="566"/>
                  </a:lnTo>
                  <a:lnTo>
                    <a:pt x="4329" y="638"/>
                  </a:lnTo>
                  <a:lnTo>
                    <a:pt x="4377" y="710"/>
                  </a:lnTo>
                  <a:lnTo>
                    <a:pt x="4419" y="782"/>
                  </a:lnTo>
                  <a:lnTo>
                    <a:pt x="4457" y="854"/>
                  </a:lnTo>
                  <a:lnTo>
                    <a:pt x="4491" y="928"/>
                  </a:lnTo>
                  <a:lnTo>
                    <a:pt x="4521" y="1002"/>
                  </a:lnTo>
                  <a:lnTo>
                    <a:pt x="4545" y="1076"/>
                  </a:lnTo>
                  <a:lnTo>
                    <a:pt x="4565" y="1150"/>
                  </a:lnTo>
                  <a:lnTo>
                    <a:pt x="4583" y="1224"/>
                  </a:lnTo>
                  <a:lnTo>
                    <a:pt x="4595" y="1300"/>
                  </a:lnTo>
                  <a:lnTo>
                    <a:pt x="4605" y="1376"/>
                  </a:lnTo>
                  <a:lnTo>
                    <a:pt x="4611" y="1452"/>
                  </a:lnTo>
                  <a:lnTo>
                    <a:pt x="4613" y="1528"/>
                  </a:lnTo>
                  <a:lnTo>
                    <a:pt x="4613" y="1604"/>
                  </a:lnTo>
                  <a:lnTo>
                    <a:pt x="4609" y="1680"/>
                  </a:lnTo>
                  <a:lnTo>
                    <a:pt x="4603" y="1758"/>
                  </a:lnTo>
                  <a:lnTo>
                    <a:pt x="4593" y="1834"/>
                  </a:lnTo>
                  <a:lnTo>
                    <a:pt x="4581" y="1912"/>
                  </a:lnTo>
                  <a:lnTo>
                    <a:pt x="4565" y="1990"/>
                  </a:lnTo>
                  <a:lnTo>
                    <a:pt x="4549" y="2068"/>
                  </a:lnTo>
                  <a:lnTo>
                    <a:pt x="4531" y="2146"/>
                  </a:lnTo>
                  <a:lnTo>
                    <a:pt x="4509" y="2224"/>
                  </a:lnTo>
                  <a:lnTo>
                    <a:pt x="4487" y="2304"/>
                  </a:lnTo>
                  <a:lnTo>
                    <a:pt x="4461" y="2382"/>
                  </a:lnTo>
                  <a:lnTo>
                    <a:pt x="4435" y="2460"/>
                  </a:lnTo>
                  <a:lnTo>
                    <a:pt x="4407" y="2540"/>
                  </a:lnTo>
                  <a:lnTo>
                    <a:pt x="4349" y="2698"/>
                  </a:lnTo>
                  <a:lnTo>
                    <a:pt x="4285" y="2856"/>
                  </a:lnTo>
                  <a:lnTo>
                    <a:pt x="4219" y="3016"/>
                  </a:lnTo>
                  <a:lnTo>
                    <a:pt x="4085" y="3335"/>
                  </a:lnTo>
                  <a:lnTo>
                    <a:pt x="4019" y="3493"/>
                  </a:lnTo>
                  <a:lnTo>
                    <a:pt x="3955" y="3651"/>
                  </a:lnTo>
                  <a:lnTo>
                    <a:pt x="3893" y="3809"/>
                  </a:lnTo>
                  <a:lnTo>
                    <a:pt x="3835" y="3967"/>
                  </a:lnTo>
                  <a:lnTo>
                    <a:pt x="3809" y="4045"/>
                  </a:lnTo>
                  <a:lnTo>
                    <a:pt x="3785" y="4123"/>
                  </a:lnTo>
                  <a:lnTo>
                    <a:pt x="3761" y="4201"/>
                  </a:lnTo>
                  <a:lnTo>
                    <a:pt x="3741" y="4279"/>
                  </a:lnTo>
                  <a:lnTo>
                    <a:pt x="3721" y="4355"/>
                  </a:lnTo>
                  <a:lnTo>
                    <a:pt x="3703" y="4433"/>
                  </a:lnTo>
                  <a:lnTo>
                    <a:pt x="3689" y="4511"/>
                  </a:lnTo>
                  <a:lnTo>
                    <a:pt x="3677" y="4587"/>
                  </a:lnTo>
                  <a:lnTo>
                    <a:pt x="3667" y="4663"/>
                  </a:lnTo>
                  <a:lnTo>
                    <a:pt x="3659" y="4739"/>
                  </a:lnTo>
                  <a:lnTo>
                    <a:pt x="3655" y="4815"/>
                  </a:lnTo>
                  <a:lnTo>
                    <a:pt x="3655" y="4891"/>
                  </a:lnTo>
                  <a:lnTo>
                    <a:pt x="3657" y="4965"/>
                  </a:lnTo>
                  <a:lnTo>
                    <a:pt x="3661" y="5041"/>
                  </a:lnTo>
                  <a:lnTo>
                    <a:pt x="3671" y="5115"/>
                  </a:lnTo>
                  <a:lnTo>
                    <a:pt x="3683" y="5189"/>
                  </a:lnTo>
                  <a:lnTo>
                    <a:pt x="3699" y="5263"/>
                  </a:lnTo>
                  <a:lnTo>
                    <a:pt x="3719" y="5335"/>
                  </a:lnTo>
                  <a:lnTo>
                    <a:pt x="3745" y="5407"/>
                  </a:lnTo>
                  <a:lnTo>
                    <a:pt x="3773" y="5479"/>
                  </a:lnTo>
                  <a:lnTo>
                    <a:pt x="3709" y="5511"/>
                  </a:lnTo>
                  <a:close/>
                </a:path>
              </a:pathLst>
            </a:custGeom>
            <a:solidFill>
              <a:srgbClr val="f9d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6072120" y="9037800"/>
              <a:ext cx="41040" cy="91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6" h="58">
                  <a:moveTo>
                    <a:pt x="26" y="58"/>
                  </a:moveTo>
                  <a:lnTo>
                    <a:pt x="8" y="12"/>
                  </a:lnTo>
                  <a:lnTo>
                    <a:pt x="0" y="0"/>
                  </a:lnTo>
                  <a:lnTo>
                    <a:pt x="26" y="58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5979960" y="8647200"/>
              <a:ext cx="101520" cy="3841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64" h="242">
                  <a:moveTo>
                    <a:pt x="22" y="82"/>
                  </a:moveTo>
                  <a:lnTo>
                    <a:pt x="22" y="82"/>
                  </a:lnTo>
                  <a:lnTo>
                    <a:pt x="12" y="4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0" y="28"/>
                  </a:lnTo>
                  <a:lnTo>
                    <a:pt x="2" y="50"/>
                  </a:lnTo>
                  <a:lnTo>
                    <a:pt x="16" y="114"/>
                  </a:lnTo>
                  <a:lnTo>
                    <a:pt x="16" y="114"/>
                  </a:lnTo>
                  <a:lnTo>
                    <a:pt x="28" y="156"/>
                  </a:lnTo>
                  <a:lnTo>
                    <a:pt x="44" y="200"/>
                  </a:lnTo>
                  <a:lnTo>
                    <a:pt x="58" y="232"/>
                  </a:lnTo>
                  <a:lnTo>
                    <a:pt x="62" y="240"/>
                  </a:lnTo>
                  <a:lnTo>
                    <a:pt x="64" y="242"/>
                  </a:lnTo>
                  <a:lnTo>
                    <a:pt x="64" y="240"/>
                  </a:lnTo>
                  <a:lnTo>
                    <a:pt x="64" y="240"/>
                  </a:lnTo>
                  <a:lnTo>
                    <a:pt x="42" y="184"/>
                  </a:lnTo>
                  <a:lnTo>
                    <a:pt x="32" y="152"/>
                  </a:lnTo>
                  <a:lnTo>
                    <a:pt x="22" y="116"/>
                  </a:lnTo>
                  <a:lnTo>
                    <a:pt x="22" y="116"/>
                  </a:lnTo>
                  <a:lnTo>
                    <a:pt x="38" y="162"/>
                  </a:lnTo>
                  <a:lnTo>
                    <a:pt x="46" y="188"/>
                  </a:lnTo>
                  <a:lnTo>
                    <a:pt x="56" y="208"/>
                  </a:lnTo>
                  <a:lnTo>
                    <a:pt x="56" y="208"/>
                  </a:lnTo>
                  <a:lnTo>
                    <a:pt x="44" y="168"/>
                  </a:lnTo>
                  <a:lnTo>
                    <a:pt x="36" y="146"/>
                  </a:lnTo>
                  <a:lnTo>
                    <a:pt x="28" y="124"/>
                  </a:lnTo>
                  <a:lnTo>
                    <a:pt x="16" y="78"/>
                  </a:lnTo>
                  <a:lnTo>
                    <a:pt x="22" y="82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5964120" y="8605800"/>
              <a:ext cx="12600" cy="41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26">
                  <a:moveTo>
                    <a:pt x="2" y="12"/>
                  </a:moveTo>
                  <a:lnTo>
                    <a:pt x="2" y="12"/>
                  </a:lnTo>
                  <a:lnTo>
                    <a:pt x="6" y="22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2" y="4"/>
                  </a:lnTo>
                  <a:lnTo>
                    <a:pt x="0" y="0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5935680" y="8444160"/>
              <a:ext cx="21960" cy="101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4" h="64">
                  <a:moveTo>
                    <a:pt x="10" y="64"/>
                  </a:moveTo>
                  <a:lnTo>
                    <a:pt x="10" y="64"/>
                  </a:lnTo>
                  <a:lnTo>
                    <a:pt x="8" y="42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14" y="60"/>
                  </a:lnTo>
                  <a:lnTo>
                    <a:pt x="0" y="0"/>
                  </a:lnTo>
                  <a:lnTo>
                    <a:pt x="10" y="64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5925960" y="8158320"/>
              <a:ext cx="2880" cy="378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" h="24">
                  <a:moveTo>
                    <a:pt x="2" y="24"/>
                  </a:moveTo>
                  <a:lnTo>
                    <a:pt x="2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925960" y="8024760"/>
              <a:ext cx="15840" cy="345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0" h="218">
                  <a:moveTo>
                    <a:pt x="4" y="0"/>
                  </a:moveTo>
                  <a:lnTo>
                    <a:pt x="4" y="0"/>
                  </a:lnTo>
                  <a:lnTo>
                    <a:pt x="2" y="16"/>
                  </a:lnTo>
                  <a:lnTo>
                    <a:pt x="0" y="36"/>
                  </a:lnTo>
                  <a:lnTo>
                    <a:pt x="0" y="84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4" y="74"/>
                  </a:lnTo>
                  <a:lnTo>
                    <a:pt x="6" y="94"/>
                  </a:lnTo>
                  <a:lnTo>
                    <a:pt x="6" y="128"/>
                  </a:lnTo>
                  <a:lnTo>
                    <a:pt x="6" y="128"/>
                  </a:lnTo>
                  <a:lnTo>
                    <a:pt x="8" y="156"/>
                  </a:lnTo>
                  <a:lnTo>
                    <a:pt x="6" y="176"/>
                  </a:lnTo>
                  <a:lnTo>
                    <a:pt x="8" y="192"/>
                  </a:lnTo>
                  <a:lnTo>
                    <a:pt x="10" y="218"/>
                  </a:lnTo>
                  <a:lnTo>
                    <a:pt x="10" y="218"/>
                  </a:lnTo>
                  <a:lnTo>
                    <a:pt x="10" y="188"/>
                  </a:lnTo>
                  <a:lnTo>
                    <a:pt x="10" y="158"/>
                  </a:lnTo>
                  <a:lnTo>
                    <a:pt x="10" y="158"/>
                  </a:lnTo>
                  <a:lnTo>
                    <a:pt x="6" y="6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929200" y="8196480"/>
              <a:ext cx="1440" cy="44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588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5935680" y="8371080"/>
              <a:ext cx="6120" cy="442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" h="28">
                  <a:moveTo>
                    <a:pt x="0" y="0"/>
                  </a:moveTo>
                  <a:lnTo>
                    <a:pt x="2" y="28"/>
                  </a:lnTo>
                  <a:lnTo>
                    <a:pt x="4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5938920" y="7650360"/>
              <a:ext cx="44280" cy="314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8" h="198">
                  <a:moveTo>
                    <a:pt x="12" y="56"/>
                  </a:moveTo>
                  <a:lnTo>
                    <a:pt x="12" y="56"/>
                  </a:lnTo>
                  <a:lnTo>
                    <a:pt x="12" y="64"/>
                  </a:lnTo>
                  <a:lnTo>
                    <a:pt x="12" y="82"/>
                  </a:lnTo>
                  <a:lnTo>
                    <a:pt x="6" y="126"/>
                  </a:lnTo>
                  <a:lnTo>
                    <a:pt x="2" y="172"/>
                  </a:lnTo>
                  <a:lnTo>
                    <a:pt x="0" y="188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6" y="148"/>
                  </a:lnTo>
                  <a:lnTo>
                    <a:pt x="12" y="110"/>
                  </a:lnTo>
                  <a:lnTo>
                    <a:pt x="16" y="88"/>
                  </a:lnTo>
                  <a:lnTo>
                    <a:pt x="18" y="84"/>
                  </a:lnTo>
                  <a:lnTo>
                    <a:pt x="20" y="88"/>
                  </a:lnTo>
                  <a:lnTo>
                    <a:pt x="20" y="88"/>
                  </a:lnTo>
                  <a:lnTo>
                    <a:pt x="24" y="48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4" y="8"/>
                  </a:lnTo>
                  <a:lnTo>
                    <a:pt x="18" y="28"/>
                  </a:lnTo>
                  <a:lnTo>
                    <a:pt x="12" y="56"/>
                  </a:lnTo>
                  <a:lnTo>
                    <a:pt x="12" y="56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6021360" y="7472520"/>
              <a:ext cx="6120" cy="28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" h="18">
                  <a:moveTo>
                    <a:pt x="0" y="18"/>
                  </a:moveTo>
                  <a:lnTo>
                    <a:pt x="0" y="1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992920" y="6885000"/>
              <a:ext cx="177480" cy="6825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112" h="430">
                  <a:moveTo>
                    <a:pt x="112" y="0"/>
                  </a:moveTo>
                  <a:lnTo>
                    <a:pt x="112" y="0"/>
                  </a:lnTo>
                  <a:lnTo>
                    <a:pt x="86" y="90"/>
                  </a:lnTo>
                  <a:lnTo>
                    <a:pt x="64" y="178"/>
                  </a:lnTo>
                  <a:lnTo>
                    <a:pt x="64" y="178"/>
                  </a:lnTo>
                  <a:lnTo>
                    <a:pt x="66" y="162"/>
                  </a:lnTo>
                  <a:lnTo>
                    <a:pt x="74" y="126"/>
                  </a:lnTo>
                  <a:lnTo>
                    <a:pt x="74" y="126"/>
                  </a:lnTo>
                  <a:lnTo>
                    <a:pt x="60" y="174"/>
                  </a:lnTo>
                  <a:lnTo>
                    <a:pt x="52" y="210"/>
                  </a:lnTo>
                  <a:lnTo>
                    <a:pt x="36" y="282"/>
                  </a:lnTo>
                  <a:lnTo>
                    <a:pt x="36" y="282"/>
                  </a:lnTo>
                  <a:lnTo>
                    <a:pt x="34" y="284"/>
                  </a:lnTo>
                  <a:lnTo>
                    <a:pt x="34" y="282"/>
                  </a:lnTo>
                  <a:lnTo>
                    <a:pt x="36" y="272"/>
                  </a:lnTo>
                  <a:lnTo>
                    <a:pt x="44" y="236"/>
                  </a:lnTo>
                  <a:lnTo>
                    <a:pt x="52" y="202"/>
                  </a:lnTo>
                  <a:lnTo>
                    <a:pt x="54" y="196"/>
                  </a:lnTo>
                  <a:lnTo>
                    <a:pt x="50" y="202"/>
                  </a:lnTo>
                  <a:lnTo>
                    <a:pt x="50" y="202"/>
                  </a:lnTo>
                  <a:lnTo>
                    <a:pt x="30" y="282"/>
                  </a:lnTo>
                  <a:lnTo>
                    <a:pt x="24" y="322"/>
                  </a:lnTo>
                  <a:lnTo>
                    <a:pt x="18" y="356"/>
                  </a:lnTo>
                  <a:lnTo>
                    <a:pt x="18" y="356"/>
                  </a:lnTo>
                  <a:lnTo>
                    <a:pt x="0" y="430"/>
                  </a:lnTo>
                  <a:lnTo>
                    <a:pt x="12" y="406"/>
                  </a:lnTo>
                  <a:lnTo>
                    <a:pt x="12" y="406"/>
                  </a:lnTo>
                  <a:lnTo>
                    <a:pt x="16" y="384"/>
                  </a:lnTo>
                  <a:lnTo>
                    <a:pt x="18" y="362"/>
                  </a:lnTo>
                  <a:lnTo>
                    <a:pt x="22" y="342"/>
                  </a:lnTo>
                  <a:lnTo>
                    <a:pt x="28" y="326"/>
                  </a:lnTo>
                  <a:lnTo>
                    <a:pt x="28" y="326"/>
                  </a:lnTo>
                  <a:lnTo>
                    <a:pt x="28" y="326"/>
                  </a:lnTo>
                  <a:lnTo>
                    <a:pt x="28" y="326"/>
                  </a:lnTo>
                  <a:lnTo>
                    <a:pt x="28" y="336"/>
                  </a:lnTo>
                  <a:lnTo>
                    <a:pt x="22" y="370"/>
                  </a:lnTo>
                  <a:lnTo>
                    <a:pt x="22" y="370"/>
                  </a:lnTo>
                  <a:lnTo>
                    <a:pt x="30" y="328"/>
                  </a:lnTo>
                  <a:lnTo>
                    <a:pt x="44" y="276"/>
                  </a:lnTo>
                  <a:lnTo>
                    <a:pt x="80" y="146"/>
                  </a:lnTo>
                  <a:lnTo>
                    <a:pt x="80" y="146"/>
                  </a:lnTo>
                  <a:lnTo>
                    <a:pt x="96" y="90"/>
                  </a:lnTo>
                  <a:lnTo>
                    <a:pt x="100" y="60"/>
                  </a:lnTo>
                  <a:lnTo>
                    <a:pt x="104" y="36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6183360" y="685980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0" y="12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11800" y="6228000"/>
              <a:ext cx="206280" cy="5522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130" h="348">
                  <a:moveTo>
                    <a:pt x="40" y="216"/>
                  </a:moveTo>
                  <a:lnTo>
                    <a:pt x="40" y="216"/>
                  </a:lnTo>
                  <a:lnTo>
                    <a:pt x="12" y="308"/>
                  </a:lnTo>
                  <a:lnTo>
                    <a:pt x="12" y="308"/>
                  </a:lnTo>
                  <a:lnTo>
                    <a:pt x="2" y="330"/>
                  </a:lnTo>
                  <a:lnTo>
                    <a:pt x="2" y="330"/>
                  </a:lnTo>
                  <a:lnTo>
                    <a:pt x="2" y="330"/>
                  </a:lnTo>
                  <a:lnTo>
                    <a:pt x="2" y="332"/>
                  </a:lnTo>
                  <a:lnTo>
                    <a:pt x="0" y="338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14" y="312"/>
                  </a:lnTo>
                  <a:lnTo>
                    <a:pt x="28" y="270"/>
                  </a:lnTo>
                  <a:lnTo>
                    <a:pt x="42" y="228"/>
                  </a:lnTo>
                  <a:lnTo>
                    <a:pt x="54" y="188"/>
                  </a:lnTo>
                  <a:lnTo>
                    <a:pt x="54" y="188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76" y="138"/>
                  </a:lnTo>
                  <a:lnTo>
                    <a:pt x="72" y="156"/>
                  </a:lnTo>
                  <a:lnTo>
                    <a:pt x="72" y="158"/>
                  </a:lnTo>
                  <a:lnTo>
                    <a:pt x="72" y="158"/>
                  </a:lnTo>
                  <a:lnTo>
                    <a:pt x="78" y="146"/>
                  </a:lnTo>
                  <a:lnTo>
                    <a:pt x="78" y="146"/>
                  </a:lnTo>
                  <a:lnTo>
                    <a:pt x="44" y="232"/>
                  </a:lnTo>
                  <a:lnTo>
                    <a:pt x="44" y="232"/>
                  </a:lnTo>
                  <a:lnTo>
                    <a:pt x="70" y="172"/>
                  </a:lnTo>
                  <a:lnTo>
                    <a:pt x="94" y="110"/>
                  </a:lnTo>
                  <a:lnTo>
                    <a:pt x="130" y="6"/>
                  </a:lnTo>
                  <a:lnTo>
                    <a:pt x="130" y="6"/>
                  </a:lnTo>
                  <a:lnTo>
                    <a:pt x="122" y="24"/>
                  </a:lnTo>
                  <a:lnTo>
                    <a:pt x="110" y="52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10" y="38"/>
                  </a:lnTo>
                  <a:lnTo>
                    <a:pt x="92" y="82"/>
                  </a:lnTo>
                  <a:lnTo>
                    <a:pt x="70" y="140"/>
                  </a:lnTo>
                  <a:lnTo>
                    <a:pt x="40" y="216"/>
                  </a:lnTo>
                  <a:lnTo>
                    <a:pt x="40" y="216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6186600" y="6751800"/>
              <a:ext cx="28440" cy="759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8" h="48">
                  <a:moveTo>
                    <a:pt x="0" y="48"/>
                  </a:moveTo>
                  <a:lnTo>
                    <a:pt x="0" y="48"/>
                  </a:lnTo>
                  <a:lnTo>
                    <a:pt x="12" y="1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16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6418440" y="6195960"/>
              <a:ext cx="15840" cy="41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0" h="26">
                  <a:moveTo>
                    <a:pt x="10" y="0"/>
                  </a:moveTo>
                  <a:lnTo>
                    <a:pt x="10" y="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6392880" y="6174000"/>
              <a:ext cx="41040" cy="982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6" h="62">
                  <a:moveTo>
                    <a:pt x="0" y="62"/>
                  </a:moveTo>
                  <a:lnTo>
                    <a:pt x="26" y="0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4" y="46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6459480" y="2330640"/>
              <a:ext cx="1012680" cy="3786120"/>
            </a:xfrm>
            <a:custGeom>
              <a:avLst/>
              <a:gdLst>
                <a:gd name="textAreaLeft" fmla="*/ 0 w 1012680"/>
                <a:gd name="textAreaRight" fmla="*/ 1013040 w 1012680"/>
                <a:gd name="textAreaTop" fmla="*/ 0 h 3786120"/>
                <a:gd name="textAreaBottom" fmla="*/ 3786480 h 3786120"/>
              </a:gdLst>
              <a:ahLst/>
              <a:rect l="textAreaLeft" t="textAreaTop" r="textAreaRight" b="textAreaBottom"/>
              <a:pathLst>
                <a:path w="638" h="2385">
                  <a:moveTo>
                    <a:pt x="604" y="20"/>
                  </a:moveTo>
                  <a:lnTo>
                    <a:pt x="604" y="20"/>
                  </a:lnTo>
                  <a:lnTo>
                    <a:pt x="606" y="46"/>
                  </a:lnTo>
                  <a:lnTo>
                    <a:pt x="616" y="104"/>
                  </a:lnTo>
                  <a:lnTo>
                    <a:pt x="616" y="104"/>
                  </a:lnTo>
                  <a:lnTo>
                    <a:pt x="612" y="90"/>
                  </a:lnTo>
                  <a:lnTo>
                    <a:pt x="606" y="62"/>
                  </a:lnTo>
                  <a:lnTo>
                    <a:pt x="600" y="28"/>
                  </a:lnTo>
                  <a:lnTo>
                    <a:pt x="592" y="0"/>
                  </a:lnTo>
                  <a:lnTo>
                    <a:pt x="592" y="0"/>
                  </a:lnTo>
                  <a:lnTo>
                    <a:pt x="598" y="30"/>
                  </a:lnTo>
                  <a:lnTo>
                    <a:pt x="598" y="30"/>
                  </a:lnTo>
                  <a:lnTo>
                    <a:pt x="596" y="28"/>
                  </a:lnTo>
                  <a:lnTo>
                    <a:pt x="592" y="16"/>
                  </a:lnTo>
                  <a:lnTo>
                    <a:pt x="590" y="14"/>
                  </a:lnTo>
                  <a:lnTo>
                    <a:pt x="590" y="18"/>
                  </a:lnTo>
                  <a:lnTo>
                    <a:pt x="590" y="18"/>
                  </a:lnTo>
                  <a:lnTo>
                    <a:pt x="608" y="110"/>
                  </a:lnTo>
                  <a:lnTo>
                    <a:pt x="614" y="154"/>
                  </a:lnTo>
                  <a:lnTo>
                    <a:pt x="620" y="208"/>
                  </a:lnTo>
                  <a:lnTo>
                    <a:pt x="620" y="208"/>
                  </a:lnTo>
                  <a:lnTo>
                    <a:pt x="620" y="206"/>
                  </a:lnTo>
                  <a:lnTo>
                    <a:pt x="618" y="206"/>
                  </a:lnTo>
                  <a:lnTo>
                    <a:pt x="618" y="216"/>
                  </a:lnTo>
                  <a:lnTo>
                    <a:pt x="618" y="216"/>
                  </a:lnTo>
                  <a:lnTo>
                    <a:pt x="622" y="256"/>
                  </a:lnTo>
                  <a:lnTo>
                    <a:pt x="624" y="300"/>
                  </a:lnTo>
                  <a:lnTo>
                    <a:pt x="624" y="348"/>
                  </a:lnTo>
                  <a:lnTo>
                    <a:pt x="624" y="398"/>
                  </a:lnTo>
                  <a:lnTo>
                    <a:pt x="624" y="448"/>
                  </a:lnTo>
                  <a:lnTo>
                    <a:pt x="620" y="496"/>
                  </a:lnTo>
                  <a:lnTo>
                    <a:pt x="616" y="540"/>
                  </a:lnTo>
                  <a:lnTo>
                    <a:pt x="612" y="578"/>
                  </a:lnTo>
                  <a:lnTo>
                    <a:pt x="612" y="578"/>
                  </a:lnTo>
                  <a:lnTo>
                    <a:pt x="594" y="706"/>
                  </a:lnTo>
                  <a:lnTo>
                    <a:pt x="584" y="768"/>
                  </a:lnTo>
                  <a:lnTo>
                    <a:pt x="570" y="838"/>
                  </a:lnTo>
                  <a:lnTo>
                    <a:pt x="570" y="838"/>
                  </a:lnTo>
                  <a:lnTo>
                    <a:pt x="540" y="962"/>
                  </a:lnTo>
                  <a:lnTo>
                    <a:pt x="506" y="1086"/>
                  </a:lnTo>
                  <a:lnTo>
                    <a:pt x="466" y="1208"/>
                  </a:lnTo>
                  <a:lnTo>
                    <a:pt x="424" y="1332"/>
                  </a:lnTo>
                  <a:lnTo>
                    <a:pt x="380" y="1456"/>
                  </a:lnTo>
                  <a:lnTo>
                    <a:pt x="332" y="1580"/>
                  </a:lnTo>
                  <a:lnTo>
                    <a:pt x="282" y="1704"/>
                  </a:lnTo>
                  <a:lnTo>
                    <a:pt x="228" y="1828"/>
                  </a:lnTo>
                  <a:lnTo>
                    <a:pt x="214" y="1876"/>
                  </a:lnTo>
                  <a:lnTo>
                    <a:pt x="214" y="1876"/>
                  </a:lnTo>
                  <a:lnTo>
                    <a:pt x="204" y="1896"/>
                  </a:lnTo>
                  <a:lnTo>
                    <a:pt x="194" y="1920"/>
                  </a:lnTo>
                  <a:lnTo>
                    <a:pt x="184" y="1943"/>
                  </a:lnTo>
                  <a:lnTo>
                    <a:pt x="182" y="1947"/>
                  </a:lnTo>
                  <a:lnTo>
                    <a:pt x="182" y="1947"/>
                  </a:lnTo>
                  <a:lnTo>
                    <a:pt x="182" y="1947"/>
                  </a:lnTo>
                  <a:lnTo>
                    <a:pt x="182" y="1947"/>
                  </a:lnTo>
                  <a:lnTo>
                    <a:pt x="206" y="1888"/>
                  </a:lnTo>
                  <a:lnTo>
                    <a:pt x="206" y="1888"/>
                  </a:lnTo>
                  <a:lnTo>
                    <a:pt x="178" y="1949"/>
                  </a:lnTo>
                  <a:lnTo>
                    <a:pt x="148" y="2019"/>
                  </a:lnTo>
                  <a:lnTo>
                    <a:pt x="118" y="2093"/>
                  </a:lnTo>
                  <a:lnTo>
                    <a:pt x="88" y="2163"/>
                  </a:lnTo>
                  <a:lnTo>
                    <a:pt x="88" y="2163"/>
                  </a:lnTo>
                  <a:lnTo>
                    <a:pt x="92" y="2155"/>
                  </a:lnTo>
                  <a:lnTo>
                    <a:pt x="96" y="2151"/>
                  </a:lnTo>
                  <a:lnTo>
                    <a:pt x="98" y="2151"/>
                  </a:lnTo>
                  <a:lnTo>
                    <a:pt x="98" y="2155"/>
                  </a:lnTo>
                  <a:lnTo>
                    <a:pt x="94" y="2167"/>
                  </a:lnTo>
                  <a:lnTo>
                    <a:pt x="94" y="2167"/>
                  </a:lnTo>
                  <a:lnTo>
                    <a:pt x="92" y="2167"/>
                  </a:lnTo>
                  <a:lnTo>
                    <a:pt x="90" y="2169"/>
                  </a:lnTo>
                  <a:lnTo>
                    <a:pt x="86" y="2179"/>
                  </a:lnTo>
                  <a:lnTo>
                    <a:pt x="68" y="2217"/>
                  </a:lnTo>
                  <a:lnTo>
                    <a:pt x="50" y="2261"/>
                  </a:lnTo>
                  <a:lnTo>
                    <a:pt x="42" y="2279"/>
                  </a:lnTo>
                  <a:lnTo>
                    <a:pt x="34" y="2291"/>
                  </a:lnTo>
                  <a:lnTo>
                    <a:pt x="34" y="2291"/>
                  </a:lnTo>
                  <a:lnTo>
                    <a:pt x="18" y="2329"/>
                  </a:lnTo>
                  <a:lnTo>
                    <a:pt x="16" y="2333"/>
                  </a:lnTo>
                  <a:lnTo>
                    <a:pt x="18" y="2335"/>
                  </a:lnTo>
                  <a:lnTo>
                    <a:pt x="18" y="2339"/>
                  </a:lnTo>
                  <a:lnTo>
                    <a:pt x="16" y="2345"/>
                  </a:lnTo>
                  <a:lnTo>
                    <a:pt x="0" y="2385"/>
                  </a:lnTo>
                  <a:lnTo>
                    <a:pt x="0" y="2385"/>
                  </a:lnTo>
                  <a:lnTo>
                    <a:pt x="0" y="2385"/>
                  </a:lnTo>
                  <a:lnTo>
                    <a:pt x="2" y="2383"/>
                  </a:lnTo>
                  <a:lnTo>
                    <a:pt x="6" y="2375"/>
                  </a:lnTo>
                  <a:lnTo>
                    <a:pt x="20" y="2345"/>
                  </a:lnTo>
                  <a:lnTo>
                    <a:pt x="36" y="2309"/>
                  </a:lnTo>
                  <a:lnTo>
                    <a:pt x="46" y="2285"/>
                  </a:lnTo>
                  <a:lnTo>
                    <a:pt x="46" y="2285"/>
                  </a:lnTo>
                  <a:lnTo>
                    <a:pt x="38" y="2309"/>
                  </a:lnTo>
                  <a:lnTo>
                    <a:pt x="26" y="2335"/>
                  </a:lnTo>
                  <a:lnTo>
                    <a:pt x="18" y="2355"/>
                  </a:lnTo>
                  <a:lnTo>
                    <a:pt x="16" y="2361"/>
                  </a:lnTo>
                  <a:lnTo>
                    <a:pt x="18" y="2363"/>
                  </a:lnTo>
                  <a:lnTo>
                    <a:pt x="18" y="2363"/>
                  </a:lnTo>
                  <a:lnTo>
                    <a:pt x="134" y="2077"/>
                  </a:lnTo>
                  <a:lnTo>
                    <a:pt x="272" y="1732"/>
                  </a:lnTo>
                  <a:lnTo>
                    <a:pt x="266" y="1756"/>
                  </a:lnTo>
                  <a:lnTo>
                    <a:pt x="266" y="1756"/>
                  </a:lnTo>
                  <a:lnTo>
                    <a:pt x="346" y="1556"/>
                  </a:lnTo>
                  <a:lnTo>
                    <a:pt x="420" y="1372"/>
                  </a:lnTo>
                  <a:lnTo>
                    <a:pt x="420" y="1372"/>
                  </a:lnTo>
                  <a:lnTo>
                    <a:pt x="420" y="1374"/>
                  </a:lnTo>
                  <a:lnTo>
                    <a:pt x="420" y="1370"/>
                  </a:lnTo>
                  <a:lnTo>
                    <a:pt x="426" y="1354"/>
                  </a:lnTo>
                  <a:lnTo>
                    <a:pt x="446" y="1298"/>
                  </a:lnTo>
                  <a:lnTo>
                    <a:pt x="466" y="1240"/>
                  </a:lnTo>
                  <a:lnTo>
                    <a:pt x="470" y="1222"/>
                  </a:lnTo>
                  <a:lnTo>
                    <a:pt x="470" y="1218"/>
                  </a:lnTo>
                  <a:lnTo>
                    <a:pt x="468" y="1218"/>
                  </a:lnTo>
                  <a:lnTo>
                    <a:pt x="468" y="1218"/>
                  </a:lnTo>
                  <a:lnTo>
                    <a:pt x="482" y="1184"/>
                  </a:lnTo>
                  <a:lnTo>
                    <a:pt x="496" y="1140"/>
                  </a:lnTo>
                  <a:lnTo>
                    <a:pt x="496" y="1128"/>
                  </a:lnTo>
                  <a:lnTo>
                    <a:pt x="496" y="1128"/>
                  </a:lnTo>
                  <a:lnTo>
                    <a:pt x="508" y="1094"/>
                  </a:lnTo>
                  <a:lnTo>
                    <a:pt x="516" y="1072"/>
                  </a:lnTo>
                  <a:lnTo>
                    <a:pt x="524" y="1048"/>
                  </a:lnTo>
                  <a:lnTo>
                    <a:pt x="534" y="1010"/>
                  </a:lnTo>
                  <a:lnTo>
                    <a:pt x="534" y="1010"/>
                  </a:lnTo>
                  <a:lnTo>
                    <a:pt x="528" y="1028"/>
                  </a:lnTo>
                  <a:lnTo>
                    <a:pt x="528" y="1026"/>
                  </a:lnTo>
                  <a:lnTo>
                    <a:pt x="528" y="1020"/>
                  </a:lnTo>
                  <a:lnTo>
                    <a:pt x="534" y="982"/>
                  </a:lnTo>
                  <a:lnTo>
                    <a:pt x="534" y="982"/>
                  </a:lnTo>
                  <a:lnTo>
                    <a:pt x="554" y="922"/>
                  </a:lnTo>
                  <a:lnTo>
                    <a:pt x="570" y="860"/>
                  </a:lnTo>
                  <a:lnTo>
                    <a:pt x="586" y="798"/>
                  </a:lnTo>
                  <a:lnTo>
                    <a:pt x="600" y="742"/>
                  </a:lnTo>
                  <a:lnTo>
                    <a:pt x="600" y="742"/>
                  </a:lnTo>
                  <a:lnTo>
                    <a:pt x="596" y="752"/>
                  </a:lnTo>
                  <a:lnTo>
                    <a:pt x="588" y="778"/>
                  </a:lnTo>
                  <a:lnTo>
                    <a:pt x="588" y="778"/>
                  </a:lnTo>
                  <a:lnTo>
                    <a:pt x="594" y="750"/>
                  </a:lnTo>
                  <a:lnTo>
                    <a:pt x="596" y="738"/>
                  </a:lnTo>
                  <a:lnTo>
                    <a:pt x="596" y="724"/>
                  </a:lnTo>
                  <a:lnTo>
                    <a:pt x="596" y="724"/>
                  </a:lnTo>
                  <a:lnTo>
                    <a:pt x="600" y="698"/>
                  </a:lnTo>
                  <a:lnTo>
                    <a:pt x="604" y="686"/>
                  </a:lnTo>
                  <a:lnTo>
                    <a:pt x="606" y="684"/>
                  </a:lnTo>
                  <a:lnTo>
                    <a:pt x="608" y="684"/>
                  </a:lnTo>
                  <a:lnTo>
                    <a:pt x="608" y="684"/>
                  </a:lnTo>
                  <a:lnTo>
                    <a:pt x="616" y="628"/>
                  </a:lnTo>
                  <a:lnTo>
                    <a:pt x="620" y="580"/>
                  </a:lnTo>
                  <a:lnTo>
                    <a:pt x="622" y="538"/>
                  </a:lnTo>
                  <a:lnTo>
                    <a:pt x="626" y="494"/>
                  </a:lnTo>
                  <a:lnTo>
                    <a:pt x="622" y="516"/>
                  </a:lnTo>
                  <a:lnTo>
                    <a:pt x="622" y="516"/>
                  </a:lnTo>
                  <a:lnTo>
                    <a:pt x="626" y="450"/>
                  </a:lnTo>
                  <a:lnTo>
                    <a:pt x="630" y="388"/>
                  </a:lnTo>
                  <a:lnTo>
                    <a:pt x="630" y="322"/>
                  </a:lnTo>
                  <a:lnTo>
                    <a:pt x="628" y="250"/>
                  </a:lnTo>
                  <a:lnTo>
                    <a:pt x="628" y="250"/>
                  </a:lnTo>
                  <a:lnTo>
                    <a:pt x="628" y="240"/>
                  </a:lnTo>
                  <a:lnTo>
                    <a:pt x="630" y="244"/>
                  </a:lnTo>
                  <a:lnTo>
                    <a:pt x="632" y="278"/>
                  </a:lnTo>
                  <a:lnTo>
                    <a:pt x="636" y="330"/>
                  </a:lnTo>
                  <a:lnTo>
                    <a:pt x="636" y="374"/>
                  </a:lnTo>
                  <a:lnTo>
                    <a:pt x="636" y="374"/>
                  </a:lnTo>
                  <a:lnTo>
                    <a:pt x="638" y="332"/>
                  </a:lnTo>
                  <a:lnTo>
                    <a:pt x="638" y="296"/>
                  </a:lnTo>
                  <a:lnTo>
                    <a:pt x="638" y="296"/>
                  </a:lnTo>
                  <a:lnTo>
                    <a:pt x="630" y="218"/>
                  </a:lnTo>
                  <a:lnTo>
                    <a:pt x="624" y="172"/>
                  </a:lnTo>
                  <a:lnTo>
                    <a:pt x="618" y="130"/>
                  </a:lnTo>
                  <a:lnTo>
                    <a:pt x="618" y="130"/>
                  </a:lnTo>
                  <a:lnTo>
                    <a:pt x="620" y="142"/>
                  </a:lnTo>
                  <a:lnTo>
                    <a:pt x="622" y="142"/>
                  </a:lnTo>
                  <a:lnTo>
                    <a:pt x="622" y="140"/>
                  </a:lnTo>
                  <a:lnTo>
                    <a:pt x="618" y="106"/>
                  </a:lnTo>
                  <a:lnTo>
                    <a:pt x="612" y="60"/>
                  </a:lnTo>
                  <a:lnTo>
                    <a:pt x="604" y="20"/>
                  </a:lnTo>
                  <a:lnTo>
                    <a:pt x="604" y="2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7472520" y="2793960"/>
              <a:ext cx="6120" cy="53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" h="34">
                  <a:moveTo>
                    <a:pt x="0" y="4"/>
                  </a:moveTo>
                  <a:lnTo>
                    <a:pt x="0" y="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7418520" y="2349360"/>
              <a:ext cx="1440" cy="126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588" h="8">
                  <a:moveTo>
                    <a:pt x="0" y="8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7427880" y="3222720"/>
              <a:ext cx="6120" cy="442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" h="28">
                  <a:moveTo>
                    <a:pt x="0" y="28"/>
                  </a:moveTo>
                  <a:lnTo>
                    <a:pt x="0" y="2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7412040" y="3387600"/>
              <a:ext cx="25200" cy="120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6" h="76">
                  <a:moveTo>
                    <a:pt x="16" y="0"/>
                  </a:moveTo>
                  <a:lnTo>
                    <a:pt x="16" y="0"/>
                  </a:lnTo>
                  <a:lnTo>
                    <a:pt x="8" y="34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4" y="5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7186680" y="4299120"/>
              <a:ext cx="18720" cy="56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2" h="36">
                  <a:moveTo>
                    <a:pt x="4" y="14"/>
                  </a:moveTo>
                  <a:lnTo>
                    <a:pt x="4" y="14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7440480" y="2463840"/>
              <a:ext cx="21960" cy="1648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4" h="104">
                  <a:moveTo>
                    <a:pt x="14" y="104"/>
                  </a:moveTo>
                  <a:lnTo>
                    <a:pt x="14" y="10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52"/>
                  </a:lnTo>
                  <a:lnTo>
                    <a:pt x="14" y="104"/>
                  </a:lnTo>
                  <a:lnTo>
                    <a:pt x="14" y="104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6072120" y="568440"/>
              <a:ext cx="1311120" cy="1670040"/>
            </a:xfrm>
            <a:custGeom>
              <a:avLst/>
              <a:gdLst>
                <a:gd name="textAreaLeft" fmla="*/ 0 w 1311120"/>
                <a:gd name="textAreaRight" fmla="*/ 1311480 w 1311120"/>
                <a:gd name="textAreaTop" fmla="*/ 0 h 1670040"/>
                <a:gd name="textAreaBottom" fmla="*/ 1670400 h 1670040"/>
              </a:gdLst>
              <a:ahLst/>
              <a:rect l="textAreaLeft" t="textAreaTop" r="textAreaRight" b="textAreaBottom"/>
              <a:pathLst>
                <a:path w="826" h="1052">
                  <a:moveTo>
                    <a:pt x="76" y="44"/>
                  </a:moveTo>
                  <a:lnTo>
                    <a:pt x="76" y="44"/>
                  </a:lnTo>
                  <a:lnTo>
                    <a:pt x="120" y="76"/>
                  </a:lnTo>
                  <a:lnTo>
                    <a:pt x="170" y="114"/>
                  </a:lnTo>
                  <a:lnTo>
                    <a:pt x="220" y="154"/>
                  </a:lnTo>
                  <a:lnTo>
                    <a:pt x="268" y="198"/>
                  </a:lnTo>
                  <a:lnTo>
                    <a:pt x="268" y="198"/>
                  </a:lnTo>
                  <a:lnTo>
                    <a:pt x="300" y="228"/>
                  </a:lnTo>
                  <a:lnTo>
                    <a:pt x="318" y="242"/>
                  </a:lnTo>
                  <a:lnTo>
                    <a:pt x="328" y="250"/>
                  </a:lnTo>
                  <a:lnTo>
                    <a:pt x="332" y="252"/>
                  </a:lnTo>
                  <a:lnTo>
                    <a:pt x="336" y="252"/>
                  </a:lnTo>
                  <a:lnTo>
                    <a:pt x="342" y="260"/>
                  </a:lnTo>
                  <a:lnTo>
                    <a:pt x="388" y="304"/>
                  </a:lnTo>
                  <a:lnTo>
                    <a:pt x="366" y="292"/>
                  </a:lnTo>
                  <a:lnTo>
                    <a:pt x="366" y="292"/>
                  </a:lnTo>
                  <a:lnTo>
                    <a:pt x="404" y="334"/>
                  </a:lnTo>
                  <a:lnTo>
                    <a:pt x="444" y="378"/>
                  </a:lnTo>
                  <a:lnTo>
                    <a:pt x="484" y="426"/>
                  </a:lnTo>
                  <a:lnTo>
                    <a:pt x="522" y="476"/>
                  </a:lnTo>
                  <a:lnTo>
                    <a:pt x="560" y="524"/>
                  </a:lnTo>
                  <a:lnTo>
                    <a:pt x="596" y="572"/>
                  </a:lnTo>
                  <a:lnTo>
                    <a:pt x="628" y="616"/>
                  </a:lnTo>
                  <a:lnTo>
                    <a:pt x="654" y="658"/>
                  </a:lnTo>
                  <a:lnTo>
                    <a:pt x="654" y="658"/>
                  </a:lnTo>
                  <a:lnTo>
                    <a:pt x="662" y="674"/>
                  </a:lnTo>
                  <a:lnTo>
                    <a:pt x="662" y="674"/>
                  </a:lnTo>
                  <a:lnTo>
                    <a:pt x="660" y="672"/>
                  </a:lnTo>
                  <a:lnTo>
                    <a:pt x="652" y="658"/>
                  </a:lnTo>
                  <a:lnTo>
                    <a:pt x="652" y="658"/>
                  </a:lnTo>
                  <a:lnTo>
                    <a:pt x="666" y="684"/>
                  </a:lnTo>
                  <a:lnTo>
                    <a:pt x="678" y="700"/>
                  </a:lnTo>
                  <a:lnTo>
                    <a:pt x="694" y="722"/>
                  </a:lnTo>
                  <a:lnTo>
                    <a:pt x="702" y="732"/>
                  </a:lnTo>
                  <a:lnTo>
                    <a:pt x="712" y="750"/>
                  </a:lnTo>
                  <a:lnTo>
                    <a:pt x="742" y="810"/>
                  </a:lnTo>
                  <a:lnTo>
                    <a:pt x="742" y="810"/>
                  </a:lnTo>
                  <a:lnTo>
                    <a:pt x="720" y="772"/>
                  </a:lnTo>
                  <a:lnTo>
                    <a:pt x="720" y="774"/>
                  </a:lnTo>
                  <a:lnTo>
                    <a:pt x="724" y="786"/>
                  </a:lnTo>
                  <a:lnTo>
                    <a:pt x="736" y="816"/>
                  </a:lnTo>
                  <a:lnTo>
                    <a:pt x="738" y="824"/>
                  </a:lnTo>
                  <a:lnTo>
                    <a:pt x="736" y="824"/>
                  </a:lnTo>
                  <a:lnTo>
                    <a:pt x="734" y="820"/>
                  </a:lnTo>
                  <a:lnTo>
                    <a:pt x="726" y="804"/>
                  </a:lnTo>
                  <a:lnTo>
                    <a:pt x="726" y="804"/>
                  </a:lnTo>
                  <a:lnTo>
                    <a:pt x="752" y="862"/>
                  </a:lnTo>
                  <a:lnTo>
                    <a:pt x="778" y="924"/>
                  </a:lnTo>
                  <a:lnTo>
                    <a:pt x="798" y="982"/>
                  </a:lnTo>
                  <a:lnTo>
                    <a:pt x="812" y="1028"/>
                  </a:lnTo>
                  <a:lnTo>
                    <a:pt x="812" y="1028"/>
                  </a:lnTo>
                  <a:lnTo>
                    <a:pt x="812" y="1024"/>
                  </a:lnTo>
                  <a:lnTo>
                    <a:pt x="812" y="1016"/>
                  </a:lnTo>
                  <a:lnTo>
                    <a:pt x="812" y="1016"/>
                  </a:lnTo>
                  <a:lnTo>
                    <a:pt x="814" y="1020"/>
                  </a:lnTo>
                  <a:lnTo>
                    <a:pt x="824" y="1052"/>
                  </a:lnTo>
                  <a:lnTo>
                    <a:pt x="824" y="1052"/>
                  </a:lnTo>
                  <a:lnTo>
                    <a:pt x="822" y="1038"/>
                  </a:lnTo>
                  <a:lnTo>
                    <a:pt x="822" y="1034"/>
                  </a:lnTo>
                  <a:lnTo>
                    <a:pt x="824" y="1036"/>
                  </a:lnTo>
                  <a:lnTo>
                    <a:pt x="826" y="1038"/>
                  </a:lnTo>
                  <a:lnTo>
                    <a:pt x="826" y="1038"/>
                  </a:lnTo>
                  <a:lnTo>
                    <a:pt x="798" y="950"/>
                  </a:lnTo>
                  <a:lnTo>
                    <a:pt x="786" y="918"/>
                  </a:lnTo>
                  <a:lnTo>
                    <a:pt x="772" y="886"/>
                  </a:lnTo>
                  <a:lnTo>
                    <a:pt x="772" y="886"/>
                  </a:lnTo>
                  <a:lnTo>
                    <a:pt x="768" y="874"/>
                  </a:lnTo>
                  <a:lnTo>
                    <a:pt x="772" y="880"/>
                  </a:lnTo>
                  <a:lnTo>
                    <a:pt x="774" y="886"/>
                  </a:lnTo>
                  <a:lnTo>
                    <a:pt x="770" y="872"/>
                  </a:lnTo>
                  <a:lnTo>
                    <a:pt x="770" y="872"/>
                  </a:lnTo>
                  <a:lnTo>
                    <a:pt x="758" y="846"/>
                  </a:lnTo>
                  <a:lnTo>
                    <a:pt x="746" y="818"/>
                  </a:lnTo>
                  <a:lnTo>
                    <a:pt x="746" y="818"/>
                  </a:lnTo>
                  <a:lnTo>
                    <a:pt x="740" y="808"/>
                  </a:lnTo>
                  <a:lnTo>
                    <a:pt x="746" y="816"/>
                  </a:lnTo>
                  <a:lnTo>
                    <a:pt x="750" y="820"/>
                  </a:lnTo>
                  <a:lnTo>
                    <a:pt x="738" y="796"/>
                  </a:lnTo>
                  <a:lnTo>
                    <a:pt x="738" y="796"/>
                  </a:lnTo>
                  <a:lnTo>
                    <a:pt x="684" y="694"/>
                  </a:lnTo>
                  <a:lnTo>
                    <a:pt x="692" y="706"/>
                  </a:lnTo>
                  <a:lnTo>
                    <a:pt x="692" y="706"/>
                  </a:lnTo>
                  <a:lnTo>
                    <a:pt x="660" y="654"/>
                  </a:lnTo>
                  <a:lnTo>
                    <a:pt x="650" y="638"/>
                  </a:lnTo>
                  <a:lnTo>
                    <a:pt x="648" y="636"/>
                  </a:lnTo>
                  <a:lnTo>
                    <a:pt x="648" y="640"/>
                  </a:lnTo>
                  <a:lnTo>
                    <a:pt x="648" y="640"/>
                  </a:lnTo>
                  <a:lnTo>
                    <a:pt x="626" y="598"/>
                  </a:lnTo>
                  <a:lnTo>
                    <a:pt x="628" y="606"/>
                  </a:lnTo>
                  <a:lnTo>
                    <a:pt x="628" y="606"/>
                  </a:lnTo>
                  <a:lnTo>
                    <a:pt x="590" y="544"/>
                  </a:lnTo>
                  <a:lnTo>
                    <a:pt x="554" y="492"/>
                  </a:lnTo>
                  <a:lnTo>
                    <a:pt x="512" y="436"/>
                  </a:lnTo>
                  <a:lnTo>
                    <a:pt x="452" y="366"/>
                  </a:lnTo>
                  <a:lnTo>
                    <a:pt x="452" y="366"/>
                  </a:lnTo>
                  <a:lnTo>
                    <a:pt x="462" y="378"/>
                  </a:lnTo>
                  <a:lnTo>
                    <a:pt x="462" y="378"/>
                  </a:lnTo>
                  <a:lnTo>
                    <a:pt x="460" y="376"/>
                  </a:lnTo>
                  <a:lnTo>
                    <a:pt x="440" y="356"/>
                  </a:lnTo>
                  <a:lnTo>
                    <a:pt x="440" y="356"/>
                  </a:lnTo>
                  <a:lnTo>
                    <a:pt x="464" y="386"/>
                  </a:lnTo>
                  <a:lnTo>
                    <a:pt x="484" y="406"/>
                  </a:lnTo>
                  <a:lnTo>
                    <a:pt x="502" y="428"/>
                  </a:lnTo>
                  <a:lnTo>
                    <a:pt x="526" y="456"/>
                  </a:lnTo>
                  <a:lnTo>
                    <a:pt x="526" y="456"/>
                  </a:lnTo>
                  <a:lnTo>
                    <a:pt x="526" y="456"/>
                  </a:lnTo>
                  <a:lnTo>
                    <a:pt x="524" y="456"/>
                  </a:lnTo>
                  <a:lnTo>
                    <a:pt x="518" y="450"/>
                  </a:lnTo>
                  <a:lnTo>
                    <a:pt x="502" y="434"/>
                  </a:lnTo>
                  <a:lnTo>
                    <a:pt x="496" y="428"/>
                  </a:lnTo>
                  <a:lnTo>
                    <a:pt x="492" y="426"/>
                  </a:lnTo>
                  <a:lnTo>
                    <a:pt x="506" y="446"/>
                  </a:lnTo>
                  <a:lnTo>
                    <a:pt x="506" y="446"/>
                  </a:lnTo>
                  <a:lnTo>
                    <a:pt x="474" y="402"/>
                  </a:lnTo>
                  <a:lnTo>
                    <a:pt x="442" y="364"/>
                  </a:lnTo>
                  <a:lnTo>
                    <a:pt x="416" y="332"/>
                  </a:lnTo>
                  <a:lnTo>
                    <a:pt x="406" y="320"/>
                  </a:lnTo>
                  <a:lnTo>
                    <a:pt x="398" y="308"/>
                  </a:lnTo>
                  <a:lnTo>
                    <a:pt x="398" y="308"/>
                  </a:lnTo>
                  <a:lnTo>
                    <a:pt x="358" y="264"/>
                  </a:lnTo>
                  <a:lnTo>
                    <a:pt x="322" y="230"/>
                  </a:lnTo>
                  <a:lnTo>
                    <a:pt x="240" y="156"/>
                  </a:lnTo>
                  <a:lnTo>
                    <a:pt x="244" y="156"/>
                  </a:lnTo>
                  <a:lnTo>
                    <a:pt x="244" y="156"/>
                  </a:lnTo>
                  <a:lnTo>
                    <a:pt x="236" y="152"/>
                  </a:lnTo>
                  <a:lnTo>
                    <a:pt x="226" y="144"/>
                  </a:lnTo>
                  <a:lnTo>
                    <a:pt x="202" y="124"/>
                  </a:lnTo>
                  <a:lnTo>
                    <a:pt x="168" y="96"/>
                  </a:lnTo>
                  <a:lnTo>
                    <a:pt x="150" y="84"/>
                  </a:lnTo>
                  <a:lnTo>
                    <a:pt x="128" y="70"/>
                  </a:lnTo>
                  <a:lnTo>
                    <a:pt x="128" y="7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62" y="98"/>
                  </a:lnTo>
                  <a:lnTo>
                    <a:pt x="152" y="90"/>
                  </a:lnTo>
                  <a:lnTo>
                    <a:pt x="118" y="66"/>
                  </a:lnTo>
                  <a:lnTo>
                    <a:pt x="118" y="66"/>
                  </a:lnTo>
                  <a:lnTo>
                    <a:pt x="120" y="68"/>
                  </a:lnTo>
                  <a:lnTo>
                    <a:pt x="112" y="62"/>
                  </a:lnTo>
                  <a:lnTo>
                    <a:pt x="112" y="62"/>
                  </a:lnTo>
                  <a:lnTo>
                    <a:pt x="58" y="30"/>
                  </a:lnTo>
                  <a:lnTo>
                    <a:pt x="2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4" y="34"/>
                  </a:lnTo>
                  <a:lnTo>
                    <a:pt x="96" y="54"/>
                  </a:lnTo>
                  <a:lnTo>
                    <a:pt x="130" y="76"/>
                  </a:lnTo>
                  <a:lnTo>
                    <a:pt x="130" y="76"/>
                  </a:lnTo>
                  <a:lnTo>
                    <a:pt x="108" y="64"/>
                  </a:lnTo>
                  <a:lnTo>
                    <a:pt x="76" y="44"/>
                  </a:lnTo>
                  <a:lnTo>
                    <a:pt x="76" y="44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7170840" y="1689120"/>
              <a:ext cx="21960" cy="41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4" h="26">
                  <a:moveTo>
                    <a:pt x="14" y="2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4" y="26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4645080" y="412920"/>
              <a:ext cx="1382760" cy="558720"/>
            </a:xfrm>
            <a:custGeom>
              <a:avLst/>
              <a:gdLst>
                <a:gd name="textAreaLeft" fmla="*/ 0 w 1382760"/>
                <a:gd name="textAreaRight" fmla="*/ 1383120 w 138276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871" h="352">
                  <a:moveTo>
                    <a:pt x="589" y="6"/>
                  </a:moveTo>
                  <a:lnTo>
                    <a:pt x="589" y="6"/>
                  </a:lnTo>
                  <a:lnTo>
                    <a:pt x="565" y="6"/>
                  </a:lnTo>
                  <a:lnTo>
                    <a:pt x="565" y="4"/>
                  </a:lnTo>
                  <a:lnTo>
                    <a:pt x="567" y="4"/>
                  </a:lnTo>
                  <a:lnTo>
                    <a:pt x="571" y="4"/>
                  </a:lnTo>
                  <a:lnTo>
                    <a:pt x="571" y="2"/>
                  </a:lnTo>
                  <a:lnTo>
                    <a:pt x="571" y="2"/>
                  </a:lnTo>
                  <a:lnTo>
                    <a:pt x="549" y="2"/>
                  </a:lnTo>
                  <a:lnTo>
                    <a:pt x="549" y="2"/>
                  </a:lnTo>
                  <a:lnTo>
                    <a:pt x="535" y="2"/>
                  </a:lnTo>
                  <a:lnTo>
                    <a:pt x="533" y="4"/>
                  </a:lnTo>
                  <a:lnTo>
                    <a:pt x="535" y="4"/>
                  </a:lnTo>
                  <a:lnTo>
                    <a:pt x="555" y="6"/>
                  </a:lnTo>
                  <a:lnTo>
                    <a:pt x="575" y="8"/>
                  </a:lnTo>
                  <a:lnTo>
                    <a:pt x="575" y="8"/>
                  </a:lnTo>
                  <a:lnTo>
                    <a:pt x="573" y="8"/>
                  </a:lnTo>
                  <a:lnTo>
                    <a:pt x="559" y="10"/>
                  </a:lnTo>
                  <a:lnTo>
                    <a:pt x="559" y="10"/>
                  </a:lnTo>
                  <a:lnTo>
                    <a:pt x="529" y="12"/>
                  </a:lnTo>
                  <a:lnTo>
                    <a:pt x="497" y="16"/>
                  </a:lnTo>
                  <a:lnTo>
                    <a:pt x="467" y="22"/>
                  </a:lnTo>
                  <a:lnTo>
                    <a:pt x="443" y="28"/>
                  </a:lnTo>
                  <a:lnTo>
                    <a:pt x="443" y="28"/>
                  </a:lnTo>
                  <a:lnTo>
                    <a:pt x="455" y="22"/>
                  </a:lnTo>
                  <a:lnTo>
                    <a:pt x="457" y="20"/>
                  </a:lnTo>
                  <a:lnTo>
                    <a:pt x="457" y="20"/>
                  </a:lnTo>
                  <a:lnTo>
                    <a:pt x="451" y="18"/>
                  </a:lnTo>
                  <a:lnTo>
                    <a:pt x="443" y="20"/>
                  </a:lnTo>
                  <a:lnTo>
                    <a:pt x="443" y="20"/>
                  </a:lnTo>
                  <a:lnTo>
                    <a:pt x="395" y="32"/>
                  </a:lnTo>
                  <a:lnTo>
                    <a:pt x="365" y="42"/>
                  </a:lnTo>
                  <a:lnTo>
                    <a:pt x="335" y="54"/>
                  </a:lnTo>
                  <a:lnTo>
                    <a:pt x="335" y="54"/>
                  </a:lnTo>
                  <a:lnTo>
                    <a:pt x="363" y="44"/>
                  </a:lnTo>
                  <a:lnTo>
                    <a:pt x="343" y="54"/>
                  </a:lnTo>
                  <a:lnTo>
                    <a:pt x="321" y="64"/>
                  </a:lnTo>
                  <a:lnTo>
                    <a:pt x="343" y="56"/>
                  </a:lnTo>
                  <a:lnTo>
                    <a:pt x="343" y="56"/>
                  </a:lnTo>
                  <a:lnTo>
                    <a:pt x="295" y="82"/>
                  </a:lnTo>
                  <a:lnTo>
                    <a:pt x="259" y="104"/>
                  </a:lnTo>
                  <a:lnTo>
                    <a:pt x="229" y="122"/>
                  </a:lnTo>
                  <a:lnTo>
                    <a:pt x="229" y="122"/>
                  </a:lnTo>
                  <a:lnTo>
                    <a:pt x="245" y="110"/>
                  </a:lnTo>
                  <a:lnTo>
                    <a:pt x="275" y="90"/>
                  </a:lnTo>
                  <a:lnTo>
                    <a:pt x="275" y="90"/>
                  </a:lnTo>
                  <a:lnTo>
                    <a:pt x="277" y="88"/>
                  </a:lnTo>
                  <a:lnTo>
                    <a:pt x="273" y="90"/>
                  </a:lnTo>
                  <a:lnTo>
                    <a:pt x="253" y="100"/>
                  </a:lnTo>
                  <a:lnTo>
                    <a:pt x="211" y="126"/>
                  </a:lnTo>
                  <a:lnTo>
                    <a:pt x="211" y="126"/>
                  </a:lnTo>
                  <a:lnTo>
                    <a:pt x="179" y="152"/>
                  </a:lnTo>
                  <a:lnTo>
                    <a:pt x="139" y="188"/>
                  </a:lnTo>
                  <a:lnTo>
                    <a:pt x="96" y="230"/>
                  </a:lnTo>
                  <a:lnTo>
                    <a:pt x="58" y="274"/>
                  </a:lnTo>
                  <a:lnTo>
                    <a:pt x="58" y="274"/>
                  </a:lnTo>
                  <a:lnTo>
                    <a:pt x="26" y="312"/>
                  </a:lnTo>
                  <a:lnTo>
                    <a:pt x="6" y="340"/>
                  </a:lnTo>
                  <a:lnTo>
                    <a:pt x="2" y="350"/>
                  </a:lnTo>
                  <a:lnTo>
                    <a:pt x="0" y="352"/>
                  </a:lnTo>
                  <a:lnTo>
                    <a:pt x="4" y="352"/>
                  </a:lnTo>
                  <a:lnTo>
                    <a:pt x="12" y="344"/>
                  </a:lnTo>
                  <a:lnTo>
                    <a:pt x="12" y="344"/>
                  </a:lnTo>
                  <a:lnTo>
                    <a:pt x="38" y="310"/>
                  </a:lnTo>
                  <a:lnTo>
                    <a:pt x="68" y="274"/>
                  </a:lnTo>
                  <a:lnTo>
                    <a:pt x="68" y="274"/>
                  </a:lnTo>
                  <a:lnTo>
                    <a:pt x="40" y="302"/>
                  </a:lnTo>
                  <a:lnTo>
                    <a:pt x="40" y="304"/>
                  </a:lnTo>
                  <a:lnTo>
                    <a:pt x="40" y="302"/>
                  </a:lnTo>
                  <a:lnTo>
                    <a:pt x="42" y="298"/>
                  </a:lnTo>
                  <a:lnTo>
                    <a:pt x="68" y="264"/>
                  </a:lnTo>
                  <a:lnTo>
                    <a:pt x="68" y="264"/>
                  </a:lnTo>
                  <a:lnTo>
                    <a:pt x="114" y="216"/>
                  </a:lnTo>
                  <a:lnTo>
                    <a:pt x="131" y="200"/>
                  </a:lnTo>
                  <a:lnTo>
                    <a:pt x="135" y="198"/>
                  </a:lnTo>
                  <a:lnTo>
                    <a:pt x="135" y="200"/>
                  </a:lnTo>
                  <a:lnTo>
                    <a:pt x="135" y="200"/>
                  </a:lnTo>
                  <a:lnTo>
                    <a:pt x="112" y="222"/>
                  </a:lnTo>
                  <a:lnTo>
                    <a:pt x="92" y="246"/>
                  </a:lnTo>
                  <a:lnTo>
                    <a:pt x="92" y="246"/>
                  </a:lnTo>
                  <a:lnTo>
                    <a:pt x="118" y="218"/>
                  </a:lnTo>
                  <a:lnTo>
                    <a:pt x="149" y="192"/>
                  </a:lnTo>
                  <a:lnTo>
                    <a:pt x="181" y="164"/>
                  </a:lnTo>
                  <a:lnTo>
                    <a:pt x="215" y="140"/>
                  </a:lnTo>
                  <a:lnTo>
                    <a:pt x="251" y="114"/>
                  </a:lnTo>
                  <a:lnTo>
                    <a:pt x="289" y="92"/>
                  </a:lnTo>
                  <a:lnTo>
                    <a:pt x="329" y="72"/>
                  </a:lnTo>
                  <a:lnTo>
                    <a:pt x="371" y="54"/>
                  </a:lnTo>
                  <a:lnTo>
                    <a:pt x="371" y="54"/>
                  </a:lnTo>
                  <a:lnTo>
                    <a:pt x="415" y="38"/>
                  </a:lnTo>
                  <a:lnTo>
                    <a:pt x="461" y="28"/>
                  </a:lnTo>
                  <a:lnTo>
                    <a:pt x="505" y="20"/>
                  </a:lnTo>
                  <a:lnTo>
                    <a:pt x="551" y="16"/>
                  </a:lnTo>
                  <a:lnTo>
                    <a:pt x="597" y="16"/>
                  </a:lnTo>
                  <a:lnTo>
                    <a:pt x="643" y="20"/>
                  </a:lnTo>
                  <a:lnTo>
                    <a:pt x="687" y="26"/>
                  </a:lnTo>
                  <a:lnTo>
                    <a:pt x="729" y="36"/>
                  </a:lnTo>
                  <a:lnTo>
                    <a:pt x="729" y="36"/>
                  </a:lnTo>
                  <a:lnTo>
                    <a:pt x="681" y="24"/>
                  </a:lnTo>
                  <a:lnTo>
                    <a:pt x="631" y="18"/>
                  </a:lnTo>
                  <a:lnTo>
                    <a:pt x="631" y="18"/>
                  </a:lnTo>
                  <a:lnTo>
                    <a:pt x="645" y="18"/>
                  </a:lnTo>
                  <a:lnTo>
                    <a:pt x="669" y="20"/>
                  </a:lnTo>
                  <a:lnTo>
                    <a:pt x="697" y="24"/>
                  </a:lnTo>
                  <a:lnTo>
                    <a:pt x="725" y="30"/>
                  </a:lnTo>
                  <a:lnTo>
                    <a:pt x="725" y="30"/>
                  </a:lnTo>
                  <a:lnTo>
                    <a:pt x="703" y="22"/>
                  </a:lnTo>
                  <a:lnTo>
                    <a:pt x="679" y="14"/>
                  </a:lnTo>
                  <a:lnTo>
                    <a:pt x="679" y="14"/>
                  </a:lnTo>
                  <a:lnTo>
                    <a:pt x="717" y="22"/>
                  </a:lnTo>
                  <a:lnTo>
                    <a:pt x="729" y="26"/>
                  </a:lnTo>
                  <a:lnTo>
                    <a:pt x="733" y="28"/>
                  </a:lnTo>
                  <a:lnTo>
                    <a:pt x="733" y="28"/>
                  </a:lnTo>
                  <a:lnTo>
                    <a:pt x="749" y="30"/>
                  </a:lnTo>
                  <a:lnTo>
                    <a:pt x="753" y="30"/>
                  </a:lnTo>
                  <a:lnTo>
                    <a:pt x="753" y="30"/>
                  </a:lnTo>
                  <a:lnTo>
                    <a:pt x="731" y="22"/>
                  </a:lnTo>
                  <a:lnTo>
                    <a:pt x="731" y="22"/>
                  </a:lnTo>
                  <a:lnTo>
                    <a:pt x="777" y="34"/>
                  </a:lnTo>
                  <a:lnTo>
                    <a:pt x="809" y="44"/>
                  </a:lnTo>
                  <a:lnTo>
                    <a:pt x="871" y="70"/>
                  </a:lnTo>
                  <a:lnTo>
                    <a:pt x="871" y="70"/>
                  </a:lnTo>
                  <a:lnTo>
                    <a:pt x="805" y="40"/>
                  </a:lnTo>
                  <a:lnTo>
                    <a:pt x="781" y="32"/>
                  </a:lnTo>
                  <a:lnTo>
                    <a:pt x="761" y="26"/>
                  </a:lnTo>
                  <a:lnTo>
                    <a:pt x="711" y="14"/>
                  </a:lnTo>
                  <a:lnTo>
                    <a:pt x="629" y="0"/>
                  </a:lnTo>
                  <a:lnTo>
                    <a:pt x="629" y="0"/>
                  </a:lnTo>
                  <a:lnTo>
                    <a:pt x="609" y="2"/>
                  </a:lnTo>
                  <a:lnTo>
                    <a:pt x="589" y="6"/>
                  </a:lnTo>
                  <a:lnTo>
                    <a:pt x="589" y="6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5958000" y="504720"/>
              <a:ext cx="66600" cy="28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2" h="18">
                  <a:moveTo>
                    <a:pt x="28" y="10"/>
                  </a:moveTo>
                  <a:lnTo>
                    <a:pt x="28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8"/>
                  </a:lnTo>
                  <a:lnTo>
                    <a:pt x="42" y="18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5884920" y="488880"/>
              <a:ext cx="66600" cy="25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2" h="16">
                  <a:moveTo>
                    <a:pt x="26" y="14"/>
                  </a:moveTo>
                  <a:lnTo>
                    <a:pt x="26" y="14"/>
                  </a:lnTo>
                  <a:lnTo>
                    <a:pt x="28" y="14"/>
                  </a:lnTo>
                  <a:lnTo>
                    <a:pt x="34" y="14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12" y="4"/>
                  </a:lnTo>
                  <a:lnTo>
                    <a:pt x="0" y="0"/>
                  </a:lnTo>
                  <a:lnTo>
                    <a:pt x="26" y="14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4794120" y="689040"/>
              <a:ext cx="87120" cy="824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5" h="52">
                  <a:moveTo>
                    <a:pt x="55" y="0"/>
                  </a:moveTo>
                  <a:lnTo>
                    <a:pt x="55" y="0"/>
                  </a:lnTo>
                  <a:lnTo>
                    <a:pt x="27" y="2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43" y="12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4410000" y="984240"/>
              <a:ext cx="228600" cy="3902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44" h="246">
                  <a:moveTo>
                    <a:pt x="0" y="246"/>
                  </a:moveTo>
                  <a:lnTo>
                    <a:pt x="0" y="246"/>
                  </a:lnTo>
                  <a:lnTo>
                    <a:pt x="32" y="184"/>
                  </a:lnTo>
                  <a:lnTo>
                    <a:pt x="60" y="132"/>
                  </a:lnTo>
                  <a:lnTo>
                    <a:pt x="92" y="80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42" y="4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6" y="6"/>
                  </a:lnTo>
                  <a:lnTo>
                    <a:pt x="126" y="16"/>
                  </a:lnTo>
                  <a:lnTo>
                    <a:pt x="122" y="18"/>
                  </a:lnTo>
                  <a:lnTo>
                    <a:pt x="124" y="12"/>
                  </a:lnTo>
                  <a:lnTo>
                    <a:pt x="124" y="12"/>
                  </a:lnTo>
                  <a:lnTo>
                    <a:pt x="106" y="40"/>
                  </a:lnTo>
                  <a:lnTo>
                    <a:pt x="96" y="60"/>
                  </a:lnTo>
                  <a:lnTo>
                    <a:pt x="86" y="80"/>
                  </a:lnTo>
                  <a:lnTo>
                    <a:pt x="70" y="110"/>
                  </a:lnTo>
                  <a:lnTo>
                    <a:pt x="70" y="110"/>
                  </a:lnTo>
                  <a:lnTo>
                    <a:pt x="56" y="130"/>
                  </a:lnTo>
                  <a:lnTo>
                    <a:pt x="38" y="162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2" y="236"/>
                  </a:lnTo>
                  <a:lnTo>
                    <a:pt x="4" y="236"/>
                  </a:lnTo>
                  <a:lnTo>
                    <a:pt x="0" y="246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>
              <a:off x="3232080" y="1314360"/>
              <a:ext cx="1197000" cy="2523960"/>
            </a:xfrm>
            <a:custGeom>
              <a:avLst/>
              <a:gdLst>
                <a:gd name="textAreaLeft" fmla="*/ 0 w 1197000"/>
                <a:gd name="textAreaRight" fmla="*/ 1197360 w 1197000"/>
                <a:gd name="textAreaTop" fmla="*/ 0 h 2523960"/>
                <a:gd name="textAreaBottom" fmla="*/ 2524320 h 2523960"/>
              </a:gdLst>
              <a:ahLst/>
              <a:rect l="textAreaLeft" t="textAreaTop" r="textAreaRight" b="textAreaBottom"/>
              <a:pathLst>
                <a:path w="754" h="1590">
                  <a:moveTo>
                    <a:pt x="602" y="368"/>
                  </a:moveTo>
                  <a:lnTo>
                    <a:pt x="602" y="368"/>
                  </a:lnTo>
                  <a:lnTo>
                    <a:pt x="584" y="436"/>
                  </a:lnTo>
                  <a:lnTo>
                    <a:pt x="568" y="498"/>
                  </a:lnTo>
                  <a:lnTo>
                    <a:pt x="568" y="498"/>
                  </a:lnTo>
                  <a:lnTo>
                    <a:pt x="568" y="490"/>
                  </a:lnTo>
                  <a:lnTo>
                    <a:pt x="572" y="476"/>
                  </a:lnTo>
                  <a:lnTo>
                    <a:pt x="582" y="436"/>
                  </a:lnTo>
                  <a:lnTo>
                    <a:pt x="582" y="436"/>
                  </a:lnTo>
                  <a:lnTo>
                    <a:pt x="574" y="452"/>
                  </a:lnTo>
                  <a:lnTo>
                    <a:pt x="570" y="474"/>
                  </a:lnTo>
                  <a:lnTo>
                    <a:pt x="562" y="504"/>
                  </a:lnTo>
                  <a:lnTo>
                    <a:pt x="554" y="538"/>
                  </a:lnTo>
                  <a:lnTo>
                    <a:pt x="554" y="538"/>
                  </a:lnTo>
                  <a:lnTo>
                    <a:pt x="558" y="526"/>
                  </a:lnTo>
                  <a:lnTo>
                    <a:pt x="558" y="524"/>
                  </a:lnTo>
                  <a:lnTo>
                    <a:pt x="558" y="530"/>
                  </a:lnTo>
                  <a:lnTo>
                    <a:pt x="558" y="530"/>
                  </a:lnTo>
                  <a:lnTo>
                    <a:pt x="544" y="596"/>
                  </a:lnTo>
                  <a:lnTo>
                    <a:pt x="538" y="632"/>
                  </a:lnTo>
                  <a:lnTo>
                    <a:pt x="532" y="676"/>
                  </a:lnTo>
                  <a:lnTo>
                    <a:pt x="516" y="764"/>
                  </a:lnTo>
                  <a:lnTo>
                    <a:pt x="516" y="764"/>
                  </a:lnTo>
                  <a:lnTo>
                    <a:pt x="514" y="798"/>
                  </a:lnTo>
                  <a:lnTo>
                    <a:pt x="514" y="808"/>
                  </a:lnTo>
                  <a:lnTo>
                    <a:pt x="514" y="810"/>
                  </a:lnTo>
                  <a:lnTo>
                    <a:pt x="516" y="810"/>
                  </a:lnTo>
                  <a:lnTo>
                    <a:pt x="516" y="810"/>
                  </a:lnTo>
                  <a:lnTo>
                    <a:pt x="504" y="882"/>
                  </a:lnTo>
                  <a:lnTo>
                    <a:pt x="494" y="968"/>
                  </a:lnTo>
                  <a:lnTo>
                    <a:pt x="494" y="968"/>
                  </a:lnTo>
                  <a:lnTo>
                    <a:pt x="500" y="946"/>
                  </a:lnTo>
                  <a:lnTo>
                    <a:pt x="504" y="934"/>
                  </a:lnTo>
                  <a:lnTo>
                    <a:pt x="506" y="930"/>
                  </a:lnTo>
                  <a:lnTo>
                    <a:pt x="506" y="928"/>
                  </a:lnTo>
                  <a:lnTo>
                    <a:pt x="506" y="928"/>
                  </a:lnTo>
                  <a:lnTo>
                    <a:pt x="500" y="1024"/>
                  </a:lnTo>
                  <a:lnTo>
                    <a:pt x="498" y="1084"/>
                  </a:lnTo>
                  <a:lnTo>
                    <a:pt x="498" y="1132"/>
                  </a:lnTo>
                  <a:lnTo>
                    <a:pt x="498" y="1194"/>
                  </a:lnTo>
                  <a:lnTo>
                    <a:pt x="498" y="1194"/>
                  </a:lnTo>
                  <a:lnTo>
                    <a:pt x="496" y="1174"/>
                  </a:lnTo>
                  <a:lnTo>
                    <a:pt x="496" y="1142"/>
                  </a:lnTo>
                  <a:lnTo>
                    <a:pt x="496" y="1142"/>
                  </a:lnTo>
                  <a:lnTo>
                    <a:pt x="494" y="1150"/>
                  </a:lnTo>
                  <a:lnTo>
                    <a:pt x="494" y="1162"/>
                  </a:lnTo>
                  <a:lnTo>
                    <a:pt x="496" y="1196"/>
                  </a:lnTo>
                  <a:lnTo>
                    <a:pt x="502" y="1284"/>
                  </a:lnTo>
                  <a:lnTo>
                    <a:pt x="498" y="1280"/>
                  </a:lnTo>
                  <a:lnTo>
                    <a:pt x="498" y="1280"/>
                  </a:lnTo>
                  <a:lnTo>
                    <a:pt x="502" y="1326"/>
                  </a:lnTo>
                  <a:lnTo>
                    <a:pt x="510" y="1380"/>
                  </a:lnTo>
                  <a:lnTo>
                    <a:pt x="526" y="1488"/>
                  </a:lnTo>
                  <a:lnTo>
                    <a:pt x="520" y="1474"/>
                  </a:lnTo>
                  <a:lnTo>
                    <a:pt x="520" y="1474"/>
                  </a:lnTo>
                  <a:lnTo>
                    <a:pt x="532" y="1524"/>
                  </a:lnTo>
                  <a:lnTo>
                    <a:pt x="544" y="1576"/>
                  </a:lnTo>
                  <a:lnTo>
                    <a:pt x="548" y="1588"/>
                  </a:lnTo>
                  <a:lnTo>
                    <a:pt x="548" y="1590"/>
                  </a:lnTo>
                  <a:lnTo>
                    <a:pt x="548" y="1590"/>
                  </a:lnTo>
                  <a:lnTo>
                    <a:pt x="562" y="1582"/>
                  </a:lnTo>
                  <a:lnTo>
                    <a:pt x="562" y="1582"/>
                  </a:lnTo>
                  <a:lnTo>
                    <a:pt x="562" y="1582"/>
                  </a:lnTo>
                  <a:lnTo>
                    <a:pt x="560" y="1582"/>
                  </a:lnTo>
                  <a:lnTo>
                    <a:pt x="560" y="1580"/>
                  </a:lnTo>
                  <a:lnTo>
                    <a:pt x="558" y="1578"/>
                  </a:lnTo>
                  <a:lnTo>
                    <a:pt x="554" y="1572"/>
                  </a:lnTo>
                  <a:lnTo>
                    <a:pt x="540" y="1550"/>
                  </a:lnTo>
                  <a:lnTo>
                    <a:pt x="508" y="1506"/>
                  </a:lnTo>
                  <a:lnTo>
                    <a:pt x="508" y="1506"/>
                  </a:lnTo>
                  <a:lnTo>
                    <a:pt x="448" y="1422"/>
                  </a:lnTo>
                  <a:lnTo>
                    <a:pt x="392" y="1348"/>
                  </a:lnTo>
                  <a:lnTo>
                    <a:pt x="358" y="1298"/>
                  </a:lnTo>
                  <a:lnTo>
                    <a:pt x="358" y="1298"/>
                  </a:lnTo>
                  <a:lnTo>
                    <a:pt x="332" y="1268"/>
                  </a:lnTo>
                  <a:lnTo>
                    <a:pt x="328" y="1264"/>
                  </a:lnTo>
                  <a:lnTo>
                    <a:pt x="358" y="1304"/>
                  </a:lnTo>
                  <a:lnTo>
                    <a:pt x="392" y="1350"/>
                  </a:lnTo>
                  <a:lnTo>
                    <a:pt x="394" y="1354"/>
                  </a:lnTo>
                  <a:lnTo>
                    <a:pt x="394" y="1356"/>
                  </a:lnTo>
                  <a:lnTo>
                    <a:pt x="392" y="1354"/>
                  </a:lnTo>
                  <a:lnTo>
                    <a:pt x="376" y="1336"/>
                  </a:lnTo>
                  <a:lnTo>
                    <a:pt x="376" y="1336"/>
                  </a:lnTo>
                  <a:lnTo>
                    <a:pt x="372" y="1328"/>
                  </a:lnTo>
                  <a:lnTo>
                    <a:pt x="366" y="1318"/>
                  </a:lnTo>
                  <a:lnTo>
                    <a:pt x="342" y="1288"/>
                  </a:lnTo>
                  <a:lnTo>
                    <a:pt x="308" y="1250"/>
                  </a:lnTo>
                  <a:lnTo>
                    <a:pt x="270" y="1202"/>
                  </a:lnTo>
                  <a:lnTo>
                    <a:pt x="270" y="1202"/>
                  </a:lnTo>
                  <a:lnTo>
                    <a:pt x="264" y="1194"/>
                  </a:lnTo>
                  <a:lnTo>
                    <a:pt x="268" y="1198"/>
                  </a:lnTo>
                  <a:lnTo>
                    <a:pt x="286" y="1218"/>
                  </a:lnTo>
                  <a:lnTo>
                    <a:pt x="304" y="1238"/>
                  </a:lnTo>
                  <a:lnTo>
                    <a:pt x="306" y="1240"/>
                  </a:lnTo>
                  <a:lnTo>
                    <a:pt x="302" y="1232"/>
                  </a:lnTo>
                  <a:lnTo>
                    <a:pt x="302" y="1232"/>
                  </a:lnTo>
                  <a:lnTo>
                    <a:pt x="290" y="1220"/>
                  </a:lnTo>
                  <a:lnTo>
                    <a:pt x="276" y="1204"/>
                  </a:lnTo>
                  <a:lnTo>
                    <a:pt x="238" y="1160"/>
                  </a:lnTo>
                  <a:lnTo>
                    <a:pt x="238" y="1160"/>
                  </a:lnTo>
                  <a:lnTo>
                    <a:pt x="240" y="1160"/>
                  </a:lnTo>
                  <a:lnTo>
                    <a:pt x="238" y="1158"/>
                  </a:lnTo>
                  <a:lnTo>
                    <a:pt x="232" y="1150"/>
                  </a:lnTo>
                  <a:lnTo>
                    <a:pt x="212" y="1126"/>
                  </a:lnTo>
                  <a:lnTo>
                    <a:pt x="194" y="1104"/>
                  </a:lnTo>
                  <a:lnTo>
                    <a:pt x="192" y="1100"/>
                  </a:lnTo>
                  <a:lnTo>
                    <a:pt x="196" y="1102"/>
                  </a:lnTo>
                  <a:lnTo>
                    <a:pt x="196" y="1102"/>
                  </a:lnTo>
                  <a:lnTo>
                    <a:pt x="136" y="1042"/>
                  </a:lnTo>
                  <a:lnTo>
                    <a:pt x="76" y="984"/>
                  </a:lnTo>
                  <a:lnTo>
                    <a:pt x="76" y="984"/>
                  </a:lnTo>
                  <a:lnTo>
                    <a:pt x="60" y="966"/>
                  </a:lnTo>
                  <a:lnTo>
                    <a:pt x="42" y="944"/>
                  </a:lnTo>
                  <a:lnTo>
                    <a:pt x="0" y="904"/>
                  </a:lnTo>
                  <a:lnTo>
                    <a:pt x="0" y="904"/>
                  </a:lnTo>
                  <a:lnTo>
                    <a:pt x="24" y="930"/>
                  </a:lnTo>
                  <a:lnTo>
                    <a:pt x="24" y="932"/>
                  </a:lnTo>
                  <a:lnTo>
                    <a:pt x="24" y="932"/>
                  </a:lnTo>
                  <a:lnTo>
                    <a:pt x="20" y="930"/>
                  </a:lnTo>
                  <a:lnTo>
                    <a:pt x="18" y="930"/>
                  </a:lnTo>
                  <a:lnTo>
                    <a:pt x="20" y="932"/>
                  </a:lnTo>
                  <a:lnTo>
                    <a:pt x="28" y="942"/>
                  </a:lnTo>
                  <a:lnTo>
                    <a:pt x="48" y="964"/>
                  </a:lnTo>
                  <a:lnTo>
                    <a:pt x="48" y="964"/>
                  </a:lnTo>
                  <a:lnTo>
                    <a:pt x="90" y="1006"/>
                  </a:lnTo>
                  <a:lnTo>
                    <a:pt x="136" y="1056"/>
                  </a:lnTo>
                  <a:lnTo>
                    <a:pt x="184" y="1110"/>
                  </a:lnTo>
                  <a:lnTo>
                    <a:pt x="234" y="1168"/>
                  </a:lnTo>
                  <a:lnTo>
                    <a:pt x="286" y="1228"/>
                  </a:lnTo>
                  <a:lnTo>
                    <a:pt x="334" y="1288"/>
                  </a:lnTo>
                  <a:lnTo>
                    <a:pt x="380" y="1348"/>
                  </a:lnTo>
                  <a:lnTo>
                    <a:pt x="424" y="1406"/>
                  </a:lnTo>
                  <a:lnTo>
                    <a:pt x="424" y="1406"/>
                  </a:lnTo>
                  <a:lnTo>
                    <a:pt x="432" y="1414"/>
                  </a:lnTo>
                  <a:lnTo>
                    <a:pt x="442" y="1428"/>
                  </a:lnTo>
                  <a:lnTo>
                    <a:pt x="468" y="1462"/>
                  </a:lnTo>
                  <a:lnTo>
                    <a:pt x="494" y="1498"/>
                  </a:lnTo>
                  <a:lnTo>
                    <a:pt x="514" y="1524"/>
                  </a:lnTo>
                  <a:lnTo>
                    <a:pt x="514" y="1524"/>
                  </a:lnTo>
                  <a:lnTo>
                    <a:pt x="518" y="1536"/>
                  </a:lnTo>
                  <a:lnTo>
                    <a:pt x="522" y="1546"/>
                  </a:lnTo>
                  <a:lnTo>
                    <a:pt x="522" y="1546"/>
                  </a:lnTo>
                  <a:lnTo>
                    <a:pt x="548" y="1584"/>
                  </a:lnTo>
                  <a:lnTo>
                    <a:pt x="544" y="1574"/>
                  </a:lnTo>
                  <a:lnTo>
                    <a:pt x="528" y="1548"/>
                  </a:lnTo>
                  <a:lnTo>
                    <a:pt x="524" y="1542"/>
                  </a:lnTo>
                  <a:lnTo>
                    <a:pt x="526" y="1544"/>
                  </a:lnTo>
                  <a:lnTo>
                    <a:pt x="526" y="1544"/>
                  </a:lnTo>
                  <a:lnTo>
                    <a:pt x="548" y="1576"/>
                  </a:lnTo>
                  <a:lnTo>
                    <a:pt x="548" y="1576"/>
                  </a:lnTo>
                  <a:lnTo>
                    <a:pt x="552" y="1582"/>
                  </a:lnTo>
                  <a:lnTo>
                    <a:pt x="554" y="1586"/>
                  </a:lnTo>
                  <a:lnTo>
                    <a:pt x="554" y="1586"/>
                  </a:lnTo>
                  <a:lnTo>
                    <a:pt x="554" y="1586"/>
                  </a:lnTo>
                  <a:lnTo>
                    <a:pt x="552" y="1572"/>
                  </a:lnTo>
                  <a:lnTo>
                    <a:pt x="552" y="1572"/>
                  </a:lnTo>
                  <a:lnTo>
                    <a:pt x="550" y="1554"/>
                  </a:lnTo>
                  <a:lnTo>
                    <a:pt x="550" y="1548"/>
                  </a:lnTo>
                  <a:lnTo>
                    <a:pt x="550" y="1548"/>
                  </a:lnTo>
                  <a:lnTo>
                    <a:pt x="550" y="1548"/>
                  </a:lnTo>
                  <a:lnTo>
                    <a:pt x="542" y="1512"/>
                  </a:lnTo>
                  <a:lnTo>
                    <a:pt x="540" y="1506"/>
                  </a:lnTo>
                  <a:lnTo>
                    <a:pt x="540" y="1508"/>
                  </a:lnTo>
                  <a:lnTo>
                    <a:pt x="540" y="1512"/>
                  </a:lnTo>
                  <a:lnTo>
                    <a:pt x="534" y="1498"/>
                  </a:lnTo>
                  <a:lnTo>
                    <a:pt x="534" y="1498"/>
                  </a:lnTo>
                  <a:lnTo>
                    <a:pt x="530" y="1442"/>
                  </a:lnTo>
                  <a:lnTo>
                    <a:pt x="530" y="1442"/>
                  </a:lnTo>
                  <a:lnTo>
                    <a:pt x="522" y="1392"/>
                  </a:lnTo>
                  <a:lnTo>
                    <a:pt x="516" y="1338"/>
                  </a:lnTo>
                  <a:lnTo>
                    <a:pt x="510" y="1284"/>
                  </a:lnTo>
                  <a:lnTo>
                    <a:pt x="506" y="1228"/>
                  </a:lnTo>
                  <a:lnTo>
                    <a:pt x="504" y="1172"/>
                  </a:lnTo>
                  <a:lnTo>
                    <a:pt x="502" y="1114"/>
                  </a:lnTo>
                  <a:lnTo>
                    <a:pt x="502" y="1054"/>
                  </a:lnTo>
                  <a:lnTo>
                    <a:pt x="504" y="996"/>
                  </a:lnTo>
                  <a:lnTo>
                    <a:pt x="508" y="936"/>
                  </a:lnTo>
                  <a:lnTo>
                    <a:pt x="512" y="876"/>
                  </a:lnTo>
                  <a:lnTo>
                    <a:pt x="518" y="816"/>
                  </a:lnTo>
                  <a:lnTo>
                    <a:pt x="526" y="756"/>
                  </a:lnTo>
                  <a:lnTo>
                    <a:pt x="534" y="696"/>
                  </a:lnTo>
                  <a:lnTo>
                    <a:pt x="544" y="638"/>
                  </a:lnTo>
                  <a:lnTo>
                    <a:pt x="556" y="580"/>
                  </a:lnTo>
                  <a:lnTo>
                    <a:pt x="570" y="524"/>
                  </a:lnTo>
                  <a:lnTo>
                    <a:pt x="560" y="546"/>
                  </a:lnTo>
                  <a:lnTo>
                    <a:pt x="560" y="546"/>
                  </a:lnTo>
                  <a:lnTo>
                    <a:pt x="584" y="452"/>
                  </a:lnTo>
                  <a:lnTo>
                    <a:pt x="604" y="368"/>
                  </a:lnTo>
                  <a:lnTo>
                    <a:pt x="616" y="328"/>
                  </a:lnTo>
                  <a:lnTo>
                    <a:pt x="628" y="290"/>
                  </a:lnTo>
                  <a:lnTo>
                    <a:pt x="644" y="250"/>
                  </a:lnTo>
                  <a:lnTo>
                    <a:pt x="660" y="208"/>
                  </a:lnTo>
                  <a:lnTo>
                    <a:pt x="660" y="208"/>
                  </a:lnTo>
                  <a:lnTo>
                    <a:pt x="672" y="168"/>
                  </a:lnTo>
                  <a:lnTo>
                    <a:pt x="672" y="168"/>
                  </a:lnTo>
                  <a:lnTo>
                    <a:pt x="672" y="174"/>
                  </a:lnTo>
                  <a:lnTo>
                    <a:pt x="672" y="174"/>
                  </a:lnTo>
                  <a:lnTo>
                    <a:pt x="676" y="170"/>
                  </a:lnTo>
                  <a:lnTo>
                    <a:pt x="678" y="168"/>
                  </a:lnTo>
                  <a:lnTo>
                    <a:pt x="680" y="168"/>
                  </a:lnTo>
                  <a:lnTo>
                    <a:pt x="676" y="182"/>
                  </a:lnTo>
                  <a:lnTo>
                    <a:pt x="676" y="182"/>
                  </a:lnTo>
                  <a:lnTo>
                    <a:pt x="698" y="128"/>
                  </a:lnTo>
                  <a:lnTo>
                    <a:pt x="720" y="76"/>
                  </a:lnTo>
                  <a:lnTo>
                    <a:pt x="720" y="76"/>
                  </a:lnTo>
                  <a:lnTo>
                    <a:pt x="692" y="138"/>
                  </a:lnTo>
                  <a:lnTo>
                    <a:pt x="692" y="138"/>
                  </a:lnTo>
                  <a:lnTo>
                    <a:pt x="704" y="104"/>
                  </a:lnTo>
                  <a:lnTo>
                    <a:pt x="718" y="72"/>
                  </a:lnTo>
                  <a:lnTo>
                    <a:pt x="732" y="46"/>
                  </a:lnTo>
                  <a:lnTo>
                    <a:pt x="742" y="32"/>
                  </a:lnTo>
                  <a:lnTo>
                    <a:pt x="742" y="32"/>
                  </a:lnTo>
                  <a:lnTo>
                    <a:pt x="752" y="6"/>
                  </a:lnTo>
                  <a:lnTo>
                    <a:pt x="754" y="0"/>
                  </a:lnTo>
                  <a:lnTo>
                    <a:pt x="738" y="24"/>
                  </a:lnTo>
                  <a:lnTo>
                    <a:pt x="696" y="104"/>
                  </a:lnTo>
                  <a:lnTo>
                    <a:pt x="696" y="104"/>
                  </a:lnTo>
                  <a:lnTo>
                    <a:pt x="680" y="148"/>
                  </a:lnTo>
                  <a:lnTo>
                    <a:pt x="666" y="184"/>
                  </a:lnTo>
                  <a:lnTo>
                    <a:pt x="642" y="238"/>
                  </a:lnTo>
                  <a:lnTo>
                    <a:pt x="620" y="292"/>
                  </a:lnTo>
                  <a:lnTo>
                    <a:pt x="608" y="326"/>
                  </a:lnTo>
                  <a:lnTo>
                    <a:pt x="594" y="370"/>
                  </a:lnTo>
                  <a:lnTo>
                    <a:pt x="594" y="370"/>
                  </a:lnTo>
                  <a:lnTo>
                    <a:pt x="586" y="404"/>
                  </a:lnTo>
                  <a:lnTo>
                    <a:pt x="586" y="406"/>
                  </a:lnTo>
                  <a:lnTo>
                    <a:pt x="588" y="404"/>
                  </a:lnTo>
                  <a:lnTo>
                    <a:pt x="590" y="398"/>
                  </a:lnTo>
                  <a:lnTo>
                    <a:pt x="598" y="378"/>
                  </a:lnTo>
                  <a:lnTo>
                    <a:pt x="602" y="368"/>
                  </a:lnTo>
                  <a:lnTo>
                    <a:pt x="602" y="368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4295520" y="1603440"/>
              <a:ext cx="9360" cy="316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" h="20">
                  <a:moveTo>
                    <a:pt x="0" y="20"/>
                  </a:moveTo>
                  <a:lnTo>
                    <a:pt x="0" y="20"/>
                  </a:lnTo>
                  <a:lnTo>
                    <a:pt x="6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>
              <a:off x="3178080" y="2698920"/>
              <a:ext cx="53640" cy="507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4" h="32">
                  <a:moveTo>
                    <a:pt x="34" y="32"/>
                  </a:moveTo>
                  <a:lnTo>
                    <a:pt x="34" y="32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6" y="6"/>
                  </a:lnTo>
                  <a:lnTo>
                    <a:pt x="34" y="32"/>
                  </a:lnTo>
                  <a:lnTo>
                    <a:pt x="34" y="32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>
              <a:off x="4406760" y="13651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4416480" y="1260360"/>
              <a:ext cx="28440" cy="536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8" h="34">
                  <a:moveTo>
                    <a:pt x="18" y="0"/>
                  </a:moveTo>
                  <a:lnTo>
                    <a:pt x="18" y="0"/>
                  </a:lnTo>
                  <a:lnTo>
                    <a:pt x="0" y="3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>
              <a:off x="2746080" y="2317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5"/>
            <p:cNvSpPr/>
            <p:nvPr/>
          </p:nvSpPr>
          <p:spPr>
            <a:xfrm>
              <a:off x="1117440" y="1940040"/>
              <a:ext cx="34920" cy="158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2" h="10">
                  <a:moveTo>
                    <a:pt x="0" y="10"/>
                  </a:moveTo>
                  <a:lnTo>
                    <a:pt x="0" y="1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6"/>
            <p:cNvSpPr/>
            <p:nvPr/>
          </p:nvSpPr>
          <p:spPr>
            <a:xfrm>
              <a:off x="117360" y="1847880"/>
              <a:ext cx="3000240" cy="3998880"/>
            </a:xfrm>
            <a:custGeom>
              <a:avLst/>
              <a:gdLst>
                <a:gd name="textAreaLeft" fmla="*/ 0 w 3000240"/>
                <a:gd name="textAreaRight" fmla="*/ 3000600 w 3000240"/>
                <a:gd name="textAreaTop" fmla="*/ 0 h 3998880"/>
                <a:gd name="textAreaBottom" fmla="*/ 3999240 h 3998880"/>
              </a:gdLst>
              <a:ahLst/>
              <a:rect l="textAreaLeft" t="textAreaTop" r="textAreaRight" b="textAreaBottom"/>
              <a:pathLst>
                <a:path w="1890" h="2519">
                  <a:moveTo>
                    <a:pt x="600" y="2317"/>
                  </a:moveTo>
                  <a:lnTo>
                    <a:pt x="600" y="2317"/>
                  </a:lnTo>
                  <a:lnTo>
                    <a:pt x="690" y="2393"/>
                  </a:lnTo>
                  <a:lnTo>
                    <a:pt x="734" y="2429"/>
                  </a:lnTo>
                  <a:lnTo>
                    <a:pt x="772" y="2457"/>
                  </a:lnTo>
                  <a:lnTo>
                    <a:pt x="766" y="2455"/>
                  </a:lnTo>
                  <a:lnTo>
                    <a:pt x="766" y="2455"/>
                  </a:lnTo>
                  <a:lnTo>
                    <a:pt x="836" y="2507"/>
                  </a:lnTo>
                  <a:lnTo>
                    <a:pt x="856" y="2519"/>
                  </a:lnTo>
                  <a:lnTo>
                    <a:pt x="852" y="2515"/>
                  </a:lnTo>
                  <a:lnTo>
                    <a:pt x="836" y="2501"/>
                  </a:lnTo>
                  <a:lnTo>
                    <a:pt x="820" y="2489"/>
                  </a:lnTo>
                  <a:lnTo>
                    <a:pt x="820" y="2489"/>
                  </a:lnTo>
                  <a:lnTo>
                    <a:pt x="780" y="2459"/>
                  </a:lnTo>
                  <a:lnTo>
                    <a:pt x="762" y="2441"/>
                  </a:lnTo>
                  <a:lnTo>
                    <a:pt x="746" y="2425"/>
                  </a:lnTo>
                  <a:lnTo>
                    <a:pt x="716" y="2399"/>
                  </a:lnTo>
                  <a:lnTo>
                    <a:pt x="716" y="2399"/>
                  </a:lnTo>
                  <a:lnTo>
                    <a:pt x="632" y="2331"/>
                  </a:lnTo>
                  <a:lnTo>
                    <a:pt x="594" y="2301"/>
                  </a:lnTo>
                  <a:lnTo>
                    <a:pt x="556" y="2265"/>
                  </a:lnTo>
                  <a:lnTo>
                    <a:pt x="556" y="2265"/>
                  </a:lnTo>
                  <a:lnTo>
                    <a:pt x="542" y="2251"/>
                  </a:lnTo>
                  <a:lnTo>
                    <a:pt x="538" y="2245"/>
                  </a:lnTo>
                  <a:lnTo>
                    <a:pt x="538" y="2245"/>
                  </a:lnTo>
                  <a:lnTo>
                    <a:pt x="540" y="2245"/>
                  </a:lnTo>
                  <a:lnTo>
                    <a:pt x="544" y="2249"/>
                  </a:lnTo>
                  <a:lnTo>
                    <a:pt x="544" y="2249"/>
                  </a:lnTo>
                  <a:lnTo>
                    <a:pt x="508" y="2214"/>
                  </a:lnTo>
                  <a:lnTo>
                    <a:pt x="480" y="2188"/>
                  </a:lnTo>
                  <a:lnTo>
                    <a:pt x="454" y="2164"/>
                  </a:lnTo>
                  <a:lnTo>
                    <a:pt x="428" y="2140"/>
                  </a:lnTo>
                  <a:lnTo>
                    <a:pt x="428" y="2140"/>
                  </a:lnTo>
                  <a:lnTo>
                    <a:pt x="426" y="2134"/>
                  </a:lnTo>
                  <a:lnTo>
                    <a:pt x="420" y="2124"/>
                  </a:lnTo>
                  <a:lnTo>
                    <a:pt x="402" y="2100"/>
                  </a:lnTo>
                  <a:lnTo>
                    <a:pt x="342" y="2032"/>
                  </a:lnTo>
                  <a:lnTo>
                    <a:pt x="306" y="1990"/>
                  </a:lnTo>
                  <a:lnTo>
                    <a:pt x="272" y="1948"/>
                  </a:lnTo>
                  <a:lnTo>
                    <a:pt x="242" y="1904"/>
                  </a:lnTo>
                  <a:lnTo>
                    <a:pt x="230" y="1884"/>
                  </a:lnTo>
                  <a:lnTo>
                    <a:pt x="218" y="1864"/>
                  </a:lnTo>
                  <a:lnTo>
                    <a:pt x="218" y="1864"/>
                  </a:lnTo>
                  <a:lnTo>
                    <a:pt x="188" y="1816"/>
                  </a:lnTo>
                  <a:lnTo>
                    <a:pt x="156" y="1762"/>
                  </a:lnTo>
                  <a:lnTo>
                    <a:pt x="124" y="1702"/>
                  </a:lnTo>
                  <a:lnTo>
                    <a:pt x="94" y="1640"/>
                  </a:lnTo>
                  <a:lnTo>
                    <a:pt x="94" y="1640"/>
                  </a:lnTo>
                  <a:lnTo>
                    <a:pt x="100" y="1648"/>
                  </a:lnTo>
                  <a:lnTo>
                    <a:pt x="100" y="1646"/>
                  </a:lnTo>
                  <a:lnTo>
                    <a:pt x="88" y="1618"/>
                  </a:lnTo>
                  <a:lnTo>
                    <a:pt x="76" y="1586"/>
                  </a:lnTo>
                  <a:lnTo>
                    <a:pt x="74" y="1576"/>
                  </a:lnTo>
                  <a:lnTo>
                    <a:pt x="74" y="1576"/>
                  </a:lnTo>
                  <a:lnTo>
                    <a:pt x="76" y="1578"/>
                  </a:lnTo>
                  <a:lnTo>
                    <a:pt x="76" y="1578"/>
                  </a:lnTo>
                  <a:lnTo>
                    <a:pt x="72" y="1570"/>
                  </a:lnTo>
                  <a:lnTo>
                    <a:pt x="68" y="1560"/>
                  </a:lnTo>
                  <a:lnTo>
                    <a:pt x="56" y="1530"/>
                  </a:lnTo>
                  <a:lnTo>
                    <a:pt x="44" y="1488"/>
                  </a:lnTo>
                  <a:lnTo>
                    <a:pt x="34" y="1442"/>
                  </a:lnTo>
                  <a:lnTo>
                    <a:pt x="34" y="1442"/>
                  </a:lnTo>
                  <a:lnTo>
                    <a:pt x="26" y="1396"/>
                  </a:lnTo>
                  <a:lnTo>
                    <a:pt x="20" y="1354"/>
                  </a:lnTo>
                  <a:lnTo>
                    <a:pt x="14" y="1324"/>
                  </a:lnTo>
                  <a:lnTo>
                    <a:pt x="12" y="1314"/>
                  </a:lnTo>
                  <a:lnTo>
                    <a:pt x="8" y="1310"/>
                  </a:lnTo>
                  <a:lnTo>
                    <a:pt x="8" y="1310"/>
                  </a:lnTo>
                  <a:lnTo>
                    <a:pt x="8" y="1254"/>
                  </a:lnTo>
                  <a:lnTo>
                    <a:pt x="6" y="1242"/>
                  </a:lnTo>
                  <a:lnTo>
                    <a:pt x="10" y="1162"/>
                  </a:lnTo>
                  <a:lnTo>
                    <a:pt x="10" y="1162"/>
                  </a:lnTo>
                  <a:lnTo>
                    <a:pt x="10" y="1176"/>
                  </a:lnTo>
                  <a:lnTo>
                    <a:pt x="10" y="1196"/>
                  </a:lnTo>
                  <a:lnTo>
                    <a:pt x="10" y="1196"/>
                  </a:lnTo>
                  <a:lnTo>
                    <a:pt x="14" y="1126"/>
                  </a:lnTo>
                  <a:lnTo>
                    <a:pt x="16" y="1096"/>
                  </a:lnTo>
                  <a:lnTo>
                    <a:pt x="22" y="1064"/>
                  </a:lnTo>
                  <a:lnTo>
                    <a:pt x="22" y="1064"/>
                  </a:lnTo>
                  <a:lnTo>
                    <a:pt x="32" y="1012"/>
                  </a:lnTo>
                  <a:lnTo>
                    <a:pt x="32" y="1004"/>
                  </a:lnTo>
                  <a:lnTo>
                    <a:pt x="32" y="1004"/>
                  </a:lnTo>
                  <a:lnTo>
                    <a:pt x="30" y="1004"/>
                  </a:lnTo>
                  <a:lnTo>
                    <a:pt x="30" y="1002"/>
                  </a:lnTo>
                  <a:lnTo>
                    <a:pt x="34" y="978"/>
                  </a:lnTo>
                  <a:lnTo>
                    <a:pt x="34" y="978"/>
                  </a:lnTo>
                  <a:lnTo>
                    <a:pt x="52" y="916"/>
                  </a:lnTo>
                  <a:lnTo>
                    <a:pt x="62" y="886"/>
                  </a:lnTo>
                  <a:lnTo>
                    <a:pt x="70" y="866"/>
                  </a:lnTo>
                  <a:lnTo>
                    <a:pt x="84" y="836"/>
                  </a:lnTo>
                  <a:lnTo>
                    <a:pt x="84" y="836"/>
                  </a:lnTo>
                  <a:lnTo>
                    <a:pt x="86" y="828"/>
                  </a:lnTo>
                  <a:lnTo>
                    <a:pt x="88" y="818"/>
                  </a:lnTo>
                  <a:lnTo>
                    <a:pt x="100" y="786"/>
                  </a:lnTo>
                  <a:lnTo>
                    <a:pt x="130" y="704"/>
                  </a:lnTo>
                  <a:lnTo>
                    <a:pt x="130" y="704"/>
                  </a:lnTo>
                  <a:lnTo>
                    <a:pt x="112" y="746"/>
                  </a:lnTo>
                  <a:lnTo>
                    <a:pt x="106" y="758"/>
                  </a:lnTo>
                  <a:lnTo>
                    <a:pt x="110" y="742"/>
                  </a:lnTo>
                  <a:lnTo>
                    <a:pt x="110" y="742"/>
                  </a:lnTo>
                  <a:lnTo>
                    <a:pt x="140" y="670"/>
                  </a:lnTo>
                  <a:lnTo>
                    <a:pt x="158" y="628"/>
                  </a:lnTo>
                  <a:lnTo>
                    <a:pt x="176" y="586"/>
                  </a:lnTo>
                  <a:lnTo>
                    <a:pt x="208" y="522"/>
                  </a:lnTo>
                  <a:lnTo>
                    <a:pt x="208" y="522"/>
                  </a:lnTo>
                  <a:lnTo>
                    <a:pt x="216" y="510"/>
                  </a:lnTo>
                  <a:lnTo>
                    <a:pt x="214" y="514"/>
                  </a:lnTo>
                  <a:lnTo>
                    <a:pt x="198" y="546"/>
                  </a:lnTo>
                  <a:lnTo>
                    <a:pt x="186" y="568"/>
                  </a:lnTo>
                  <a:lnTo>
                    <a:pt x="204" y="538"/>
                  </a:lnTo>
                  <a:lnTo>
                    <a:pt x="204" y="538"/>
                  </a:lnTo>
                  <a:lnTo>
                    <a:pt x="180" y="590"/>
                  </a:lnTo>
                  <a:lnTo>
                    <a:pt x="160" y="636"/>
                  </a:lnTo>
                  <a:lnTo>
                    <a:pt x="144" y="676"/>
                  </a:lnTo>
                  <a:lnTo>
                    <a:pt x="132" y="710"/>
                  </a:lnTo>
                  <a:lnTo>
                    <a:pt x="132" y="710"/>
                  </a:lnTo>
                  <a:lnTo>
                    <a:pt x="166" y="632"/>
                  </a:lnTo>
                  <a:lnTo>
                    <a:pt x="206" y="548"/>
                  </a:lnTo>
                  <a:lnTo>
                    <a:pt x="250" y="466"/>
                  </a:lnTo>
                  <a:lnTo>
                    <a:pt x="274" y="426"/>
                  </a:lnTo>
                  <a:lnTo>
                    <a:pt x="298" y="388"/>
                  </a:lnTo>
                  <a:lnTo>
                    <a:pt x="298" y="388"/>
                  </a:lnTo>
                  <a:lnTo>
                    <a:pt x="312" y="370"/>
                  </a:lnTo>
                  <a:lnTo>
                    <a:pt x="308" y="378"/>
                  </a:lnTo>
                  <a:lnTo>
                    <a:pt x="302" y="388"/>
                  </a:lnTo>
                  <a:lnTo>
                    <a:pt x="312" y="376"/>
                  </a:lnTo>
                  <a:lnTo>
                    <a:pt x="312" y="376"/>
                  </a:lnTo>
                  <a:lnTo>
                    <a:pt x="360" y="312"/>
                  </a:lnTo>
                  <a:lnTo>
                    <a:pt x="402" y="260"/>
                  </a:lnTo>
                  <a:lnTo>
                    <a:pt x="422" y="236"/>
                  </a:lnTo>
                  <a:lnTo>
                    <a:pt x="444" y="212"/>
                  </a:lnTo>
                  <a:lnTo>
                    <a:pt x="468" y="190"/>
                  </a:lnTo>
                  <a:lnTo>
                    <a:pt x="494" y="168"/>
                  </a:lnTo>
                  <a:lnTo>
                    <a:pt x="480" y="184"/>
                  </a:lnTo>
                  <a:lnTo>
                    <a:pt x="480" y="184"/>
                  </a:lnTo>
                  <a:lnTo>
                    <a:pt x="500" y="166"/>
                  </a:lnTo>
                  <a:lnTo>
                    <a:pt x="526" y="144"/>
                  </a:lnTo>
                  <a:lnTo>
                    <a:pt x="556" y="122"/>
                  </a:lnTo>
                  <a:lnTo>
                    <a:pt x="594" y="100"/>
                  </a:lnTo>
                  <a:lnTo>
                    <a:pt x="632" y="80"/>
                  </a:lnTo>
                  <a:lnTo>
                    <a:pt x="674" y="60"/>
                  </a:lnTo>
                  <a:lnTo>
                    <a:pt x="716" y="44"/>
                  </a:lnTo>
                  <a:lnTo>
                    <a:pt x="758" y="32"/>
                  </a:lnTo>
                  <a:lnTo>
                    <a:pt x="758" y="32"/>
                  </a:lnTo>
                  <a:lnTo>
                    <a:pt x="742" y="34"/>
                  </a:lnTo>
                  <a:lnTo>
                    <a:pt x="740" y="32"/>
                  </a:lnTo>
                  <a:lnTo>
                    <a:pt x="742" y="32"/>
                  </a:lnTo>
                  <a:lnTo>
                    <a:pt x="748" y="30"/>
                  </a:lnTo>
                  <a:lnTo>
                    <a:pt x="748" y="30"/>
                  </a:lnTo>
                  <a:lnTo>
                    <a:pt x="754" y="30"/>
                  </a:lnTo>
                  <a:lnTo>
                    <a:pt x="772" y="26"/>
                  </a:lnTo>
                  <a:lnTo>
                    <a:pt x="836" y="14"/>
                  </a:lnTo>
                  <a:lnTo>
                    <a:pt x="876" y="8"/>
                  </a:lnTo>
                  <a:lnTo>
                    <a:pt x="920" y="4"/>
                  </a:lnTo>
                  <a:lnTo>
                    <a:pt x="964" y="6"/>
                  </a:lnTo>
                  <a:lnTo>
                    <a:pt x="986" y="8"/>
                  </a:lnTo>
                  <a:lnTo>
                    <a:pt x="1008" y="10"/>
                  </a:lnTo>
                  <a:lnTo>
                    <a:pt x="1008" y="10"/>
                  </a:lnTo>
                  <a:lnTo>
                    <a:pt x="1008" y="10"/>
                  </a:lnTo>
                  <a:lnTo>
                    <a:pt x="1010" y="8"/>
                  </a:lnTo>
                  <a:lnTo>
                    <a:pt x="1020" y="8"/>
                  </a:lnTo>
                  <a:lnTo>
                    <a:pt x="1062" y="12"/>
                  </a:lnTo>
                  <a:lnTo>
                    <a:pt x="1116" y="22"/>
                  </a:lnTo>
                  <a:lnTo>
                    <a:pt x="1144" y="28"/>
                  </a:lnTo>
                  <a:lnTo>
                    <a:pt x="1170" y="34"/>
                  </a:lnTo>
                  <a:lnTo>
                    <a:pt x="1170" y="34"/>
                  </a:lnTo>
                  <a:lnTo>
                    <a:pt x="1182" y="40"/>
                  </a:lnTo>
                  <a:lnTo>
                    <a:pt x="1186" y="42"/>
                  </a:lnTo>
                  <a:lnTo>
                    <a:pt x="1188" y="44"/>
                  </a:lnTo>
                  <a:lnTo>
                    <a:pt x="1186" y="46"/>
                  </a:lnTo>
                  <a:lnTo>
                    <a:pt x="1186" y="46"/>
                  </a:lnTo>
                  <a:lnTo>
                    <a:pt x="1152" y="34"/>
                  </a:lnTo>
                  <a:lnTo>
                    <a:pt x="1124" y="28"/>
                  </a:lnTo>
                  <a:lnTo>
                    <a:pt x="1102" y="22"/>
                  </a:lnTo>
                  <a:lnTo>
                    <a:pt x="1084" y="20"/>
                  </a:lnTo>
                  <a:lnTo>
                    <a:pt x="1048" y="18"/>
                  </a:lnTo>
                  <a:lnTo>
                    <a:pt x="996" y="14"/>
                  </a:lnTo>
                  <a:lnTo>
                    <a:pt x="996" y="14"/>
                  </a:lnTo>
                  <a:lnTo>
                    <a:pt x="1026" y="16"/>
                  </a:lnTo>
                  <a:lnTo>
                    <a:pt x="1058" y="20"/>
                  </a:lnTo>
                  <a:lnTo>
                    <a:pt x="1090" y="26"/>
                  </a:lnTo>
                  <a:lnTo>
                    <a:pt x="1124" y="34"/>
                  </a:lnTo>
                  <a:lnTo>
                    <a:pt x="1190" y="52"/>
                  </a:lnTo>
                  <a:lnTo>
                    <a:pt x="1242" y="70"/>
                  </a:lnTo>
                  <a:lnTo>
                    <a:pt x="1218" y="64"/>
                  </a:lnTo>
                  <a:lnTo>
                    <a:pt x="1218" y="64"/>
                  </a:lnTo>
                  <a:lnTo>
                    <a:pt x="1272" y="84"/>
                  </a:lnTo>
                  <a:lnTo>
                    <a:pt x="1308" y="96"/>
                  </a:lnTo>
                  <a:lnTo>
                    <a:pt x="1342" y="110"/>
                  </a:lnTo>
                  <a:lnTo>
                    <a:pt x="1396" y="138"/>
                  </a:lnTo>
                  <a:lnTo>
                    <a:pt x="1384" y="134"/>
                  </a:lnTo>
                  <a:lnTo>
                    <a:pt x="1384" y="134"/>
                  </a:lnTo>
                  <a:lnTo>
                    <a:pt x="1420" y="154"/>
                  </a:lnTo>
                  <a:lnTo>
                    <a:pt x="1456" y="174"/>
                  </a:lnTo>
                  <a:lnTo>
                    <a:pt x="1526" y="216"/>
                  </a:lnTo>
                  <a:lnTo>
                    <a:pt x="1594" y="264"/>
                  </a:lnTo>
                  <a:lnTo>
                    <a:pt x="1660" y="312"/>
                  </a:lnTo>
                  <a:lnTo>
                    <a:pt x="1722" y="362"/>
                  </a:lnTo>
                  <a:lnTo>
                    <a:pt x="1782" y="412"/>
                  </a:lnTo>
                  <a:lnTo>
                    <a:pt x="1888" y="502"/>
                  </a:lnTo>
                  <a:lnTo>
                    <a:pt x="1888" y="502"/>
                  </a:lnTo>
                  <a:lnTo>
                    <a:pt x="1890" y="502"/>
                  </a:lnTo>
                  <a:lnTo>
                    <a:pt x="1890" y="502"/>
                  </a:lnTo>
                  <a:lnTo>
                    <a:pt x="1886" y="496"/>
                  </a:lnTo>
                  <a:lnTo>
                    <a:pt x="1870" y="478"/>
                  </a:lnTo>
                  <a:lnTo>
                    <a:pt x="1840" y="444"/>
                  </a:lnTo>
                  <a:lnTo>
                    <a:pt x="1840" y="444"/>
                  </a:lnTo>
                  <a:lnTo>
                    <a:pt x="1786" y="400"/>
                  </a:lnTo>
                  <a:lnTo>
                    <a:pt x="1740" y="364"/>
                  </a:lnTo>
                  <a:lnTo>
                    <a:pt x="1652" y="302"/>
                  </a:lnTo>
                  <a:lnTo>
                    <a:pt x="1656" y="298"/>
                  </a:lnTo>
                  <a:lnTo>
                    <a:pt x="1656" y="298"/>
                  </a:lnTo>
                  <a:lnTo>
                    <a:pt x="1608" y="268"/>
                  </a:lnTo>
                  <a:lnTo>
                    <a:pt x="1592" y="260"/>
                  </a:lnTo>
                  <a:lnTo>
                    <a:pt x="1594" y="262"/>
                  </a:lnTo>
                  <a:lnTo>
                    <a:pt x="1604" y="270"/>
                  </a:lnTo>
                  <a:lnTo>
                    <a:pt x="1604" y="270"/>
                  </a:lnTo>
                  <a:lnTo>
                    <a:pt x="1576" y="250"/>
                  </a:lnTo>
                  <a:lnTo>
                    <a:pt x="1558" y="236"/>
                  </a:lnTo>
                  <a:lnTo>
                    <a:pt x="1540" y="224"/>
                  </a:lnTo>
                  <a:lnTo>
                    <a:pt x="1506" y="202"/>
                  </a:lnTo>
                  <a:lnTo>
                    <a:pt x="1506" y="202"/>
                  </a:lnTo>
                  <a:lnTo>
                    <a:pt x="1510" y="202"/>
                  </a:lnTo>
                  <a:lnTo>
                    <a:pt x="1516" y="204"/>
                  </a:lnTo>
                  <a:lnTo>
                    <a:pt x="1532" y="212"/>
                  </a:lnTo>
                  <a:lnTo>
                    <a:pt x="1546" y="220"/>
                  </a:lnTo>
                  <a:lnTo>
                    <a:pt x="1550" y="222"/>
                  </a:lnTo>
                  <a:lnTo>
                    <a:pt x="1552" y="222"/>
                  </a:lnTo>
                  <a:lnTo>
                    <a:pt x="1552" y="222"/>
                  </a:lnTo>
                  <a:lnTo>
                    <a:pt x="1498" y="190"/>
                  </a:lnTo>
                  <a:lnTo>
                    <a:pt x="1498" y="190"/>
                  </a:lnTo>
                  <a:lnTo>
                    <a:pt x="1502" y="190"/>
                  </a:lnTo>
                  <a:lnTo>
                    <a:pt x="1502" y="190"/>
                  </a:lnTo>
                  <a:lnTo>
                    <a:pt x="1492" y="184"/>
                  </a:lnTo>
                  <a:lnTo>
                    <a:pt x="1482" y="176"/>
                  </a:lnTo>
                  <a:lnTo>
                    <a:pt x="1480" y="176"/>
                  </a:lnTo>
                  <a:lnTo>
                    <a:pt x="1484" y="176"/>
                  </a:lnTo>
                  <a:lnTo>
                    <a:pt x="1484" y="176"/>
                  </a:lnTo>
                  <a:lnTo>
                    <a:pt x="1418" y="140"/>
                  </a:lnTo>
                  <a:lnTo>
                    <a:pt x="1362" y="110"/>
                  </a:lnTo>
                  <a:lnTo>
                    <a:pt x="1334" y="96"/>
                  </a:lnTo>
                  <a:lnTo>
                    <a:pt x="1304" y="82"/>
                  </a:lnTo>
                  <a:lnTo>
                    <a:pt x="1270" y="68"/>
                  </a:lnTo>
                  <a:lnTo>
                    <a:pt x="1230" y="54"/>
                  </a:lnTo>
                  <a:lnTo>
                    <a:pt x="1230" y="54"/>
                  </a:lnTo>
                  <a:lnTo>
                    <a:pt x="1262" y="66"/>
                  </a:lnTo>
                  <a:lnTo>
                    <a:pt x="1292" y="78"/>
                  </a:lnTo>
                  <a:lnTo>
                    <a:pt x="1292" y="78"/>
                  </a:lnTo>
                  <a:lnTo>
                    <a:pt x="1286" y="78"/>
                  </a:lnTo>
                  <a:lnTo>
                    <a:pt x="1270" y="72"/>
                  </a:lnTo>
                  <a:lnTo>
                    <a:pt x="1228" y="58"/>
                  </a:lnTo>
                  <a:lnTo>
                    <a:pt x="1228" y="58"/>
                  </a:lnTo>
                  <a:lnTo>
                    <a:pt x="1206" y="48"/>
                  </a:lnTo>
                  <a:lnTo>
                    <a:pt x="1186" y="40"/>
                  </a:lnTo>
                  <a:lnTo>
                    <a:pt x="1120" y="20"/>
                  </a:lnTo>
                  <a:lnTo>
                    <a:pt x="1120" y="20"/>
                  </a:lnTo>
                  <a:lnTo>
                    <a:pt x="1084" y="14"/>
                  </a:lnTo>
                  <a:lnTo>
                    <a:pt x="1050" y="10"/>
                  </a:lnTo>
                  <a:lnTo>
                    <a:pt x="966" y="4"/>
                  </a:lnTo>
                  <a:lnTo>
                    <a:pt x="966" y="4"/>
                  </a:lnTo>
                  <a:lnTo>
                    <a:pt x="966" y="2"/>
                  </a:lnTo>
                  <a:lnTo>
                    <a:pt x="964" y="2"/>
                  </a:lnTo>
                  <a:lnTo>
                    <a:pt x="954" y="0"/>
                  </a:lnTo>
                  <a:lnTo>
                    <a:pt x="910" y="0"/>
                  </a:lnTo>
                  <a:lnTo>
                    <a:pt x="862" y="0"/>
                  </a:lnTo>
                  <a:lnTo>
                    <a:pt x="832" y="2"/>
                  </a:lnTo>
                  <a:lnTo>
                    <a:pt x="832" y="2"/>
                  </a:lnTo>
                  <a:lnTo>
                    <a:pt x="758" y="22"/>
                  </a:lnTo>
                  <a:lnTo>
                    <a:pt x="712" y="34"/>
                  </a:lnTo>
                  <a:lnTo>
                    <a:pt x="696" y="40"/>
                  </a:lnTo>
                  <a:lnTo>
                    <a:pt x="688" y="44"/>
                  </a:lnTo>
                  <a:lnTo>
                    <a:pt x="688" y="44"/>
                  </a:lnTo>
                  <a:lnTo>
                    <a:pt x="634" y="70"/>
                  </a:lnTo>
                  <a:lnTo>
                    <a:pt x="612" y="80"/>
                  </a:lnTo>
                  <a:lnTo>
                    <a:pt x="604" y="82"/>
                  </a:lnTo>
                  <a:lnTo>
                    <a:pt x="604" y="82"/>
                  </a:lnTo>
                  <a:lnTo>
                    <a:pt x="630" y="68"/>
                  </a:lnTo>
                  <a:lnTo>
                    <a:pt x="630" y="68"/>
                  </a:lnTo>
                  <a:lnTo>
                    <a:pt x="596" y="86"/>
                  </a:lnTo>
                  <a:lnTo>
                    <a:pt x="596" y="86"/>
                  </a:lnTo>
                  <a:lnTo>
                    <a:pt x="600" y="80"/>
                  </a:lnTo>
                  <a:lnTo>
                    <a:pt x="600" y="80"/>
                  </a:lnTo>
                  <a:lnTo>
                    <a:pt x="570" y="100"/>
                  </a:lnTo>
                  <a:lnTo>
                    <a:pt x="534" y="124"/>
                  </a:lnTo>
                  <a:lnTo>
                    <a:pt x="534" y="124"/>
                  </a:lnTo>
                  <a:lnTo>
                    <a:pt x="546" y="114"/>
                  </a:lnTo>
                  <a:lnTo>
                    <a:pt x="570" y="98"/>
                  </a:lnTo>
                  <a:lnTo>
                    <a:pt x="570" y="98"/>
                  </a:lnTo>
                  <a:lnTo>
                    <a:pt x="542" y="118"/>
                  </a:lnTo>
                  <a:lnTo>
                    <a:pt x="516" y="136"/>
                  </a:lnTo>
                  <a:lnTo>
                    <a:pt x="494" y="156"/>
                  </a:lnTo>
                  <a:lnTo>
                    <a:pt x="472" y="174"/>
                  </a:lnTo>
                  <a:lnTo>
                    <a:pt x="432" y="214"/>
                  </a:lnTo>
                  <a:lnTo>
                    <a:pt x="392" y="254"/>
                  </a:lnTo>
                  <a:lnTo>
                    <a:pt x="392" y="254"/>
                  </a:lnTo>
                  <a:lnTo>
                    <a:pt x="354" y="304"/>
                  </a:lnTo>
                  <a:lnTo>
                    <a:pt x="336" y="330"/>
                  </a:lnTo>
                  <a:lnTo>
                    <a:pt x="334" y="336"/>
                  </a:lnTo>
                  <a:lnTo>
                    <a:pt x="334" y="336"/>
                  </a:lnTo>
                  <a:lnTo>
                    <a:pt x="336" y="334"/>
                  </a:lnTo>
                  <a:lnTo>
                    <a:pt x="336" y="334"/>
                  </a:lnTo>
                  <a:lnTo>
                    <a:pt x="326" y="346"/>
                  </a:lnTo>
                  <a:lnTo>
                    <a:pt x="316" y="356"/>
                  </a:lnTo>
                  <a:lnTo>
                    <a:pt x="302" y="372"/>
                  </a:lnTo>
                  <a:lnTo>
                    <a:pt x="278" y="408"/>
                  </a:lnTo>
                  <a:lnTo>
                    <a:pt x="278" y="408"/>
                  </a:lnTo>
                  <a:lnTo>
                    <a:pt x="262" y="436"/>
                  </a:lnTo>
                  <a:lnTo>
                    <a:pt x="244" y="466"/>
                  </a:lnTo>
                  <a:lnTo>
                    <a:pt x="226" y="496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20" y="502"/>
                  </a:lnTo>
                  <a:lnTo>
                    <a:pt x="222" y="498"/>
                  </a:lnTo>
                  <a:lnTo>
                    <a:pt x="234" y="470"/>
                  </a:lnTo>
                  <a:lnTo>
                    <a:pt x="234" y="470"/>
                  </a:lnTo>
                  <a:lnTo>
                    <a:pt x="212" y="508"/>
                  </a:lnTo>
                  <a:lnTo>
                    <a:pt x="190" y="556"/>
                  </a:lnTo>
                  <a:lnTo>
                    <a:pt x="138" y="668"/>
                  </a:lnTo>
                  <a:lnTo>
                    <a:pt x="138" y="668"/>
                  </a:lnTo>
                  <a:lnTo>
                    <a:pt x="126" y="684"/>
                  </a:lnTo>
                  <a:lnTo>
                    <a:pt x="126" y="684"/>
                  </a:lnTo>
                  <a:lnTo>
                    <a:pt x="108" y="734"/>
                  </a:lnTo>
                  <a:lnTo>
                    <a:pt x="100" y="760"/>
                  </a:lnTo>
                  <a:lnTo>
                    <a:pt x="88" y="782"/>
                  </a:lnTo>
                  <a:lnTo>
                    <a:pt x="92" y="780"/>
                  </a:lnTo>
                  <a:lnTo>
                    <a:pt x="92" y="780"/>
                  </a:lnTo>
                  <a:lnTo>
                    <a:pt x="74" y="826"/>
                  </a:lnTo>
                  <a:lnTo>
                    <a:pt x="56" y="878"/>
                  </a:lnTo>
                  <a:lnTo>
                    <a:pt x="38" y="932"/>
                  </a:lnTo>
                  <a:lnTo>
                    <a:pt x="24" y="984"/>
                  </a:lnTo>
                  <a:lnTo>
                    <a:pt x="24" y="984"/>
                  </a:lnTo>
                  <a:lnTo>
                    <a:pt x="20" y="1002"/>
                  </a:lnTo>
                  <a:lnTo>
                    <a:pt x="18" y="1022"/>
                  </a:lnTo>
                  <a:lnTo>
                    <a:pt x="16" y="1060"/>
                  </a:lnTo>
                  <a:lnTo>
                    <a:pt x="16" y="1060"/>
                  </a:lnTo>
                  <a:lnTo>
                    <a:pt x="8" y="1100"/>
                  </a:lnTo>
                  <a:lnTo>
                    <a:pt x="2" y="1144"/>
                  </a:lnTo>
                  <a:lnTo>
                    <a:pt x="0" y="1188"/>
                  </a:lnTo>
                  <a:lnTo>
                    <a:pt x="0" y="1232"/>
                  </a:lnTo>
                  <a:lnTo>
                    <a:pt x="2" y="1274"/>
                  </a:lnTo>
                  <a:lnTo>
                    <a:pt x="6" y="1314"/>
                  </a:lnTo>
                  <a:lnTo>
                    <a:pt x="12" y="1352"/>
                  </a:lnTo>
                  <a:lnTo>
                    <a:pt x="18" y="1384"/>
                  </a:lnTo>
                  <a:lnTo>
                    <a:pt x="18" y="1384"/>
                  </a:lnTo>
                  <a:lnTo>
                    <a:pt x="36" y="1478"/>
                  </a:lnTo>
                  <a:lnTo>
                    <a:pt x="36" y="1478"/>
                  </a:lnTo>
                  <a:lnTo>
                    <a:pt x="30" y="1462"/>
                  </a:lnTo>
                  <a:lnTo>
                    <a:pt x="24" y="1438"/>
                  </a:lnTo>
                  <a:lnTo>
                    <a:pt x="24" y="1438"/>
                  </a:lnTo>
                  <a:lnTo>
                    <a:pt x="34" y="1480"/>
                  </a:lnTo>
                  <a:lnTo>
                    <a:pt x="44" y="1524"/>
                  </a:lnTo>
                  <a:lnTo>
                    <a:pt x="56" y="1560"/>
                  </a:lnTo>
                  <a:lnTo>
                    <a:pt x="68" y="1588"/>
                  </a:lnTo>
                  <a:lnTo>
                    <a:pt x="68" y="1588"/>
                  </a:lnTo>
                  <a:lnTo>
                    <a:pt x="80" y="1618"/>
                  </a:lnTo>
                  <a:lnTo>
                    <a:pt x="84" y="1632"/>
                  </a:lnTo>
                  <a:lnTo>
                    <a:pt x="88" y="1646"/>
                  </a:lnTo>
                  <a:lnTo>
                    <a:pt x="96" y="1668"/>
                  </a:lnTo>
                  <a:lnTo>
                    <a:pt x="96" y="1668"/>
                  </a:lnTo>
                  <a:lnTo>
                    <a:pt x="118" y="1712"/>
                  </a:lnTo>
                  <a:lnTo>
                    <a:pt x="144" y="1760"/>
                  </a:lnTo>
                  <a:lnTo>
                    <a:pt x="172" y="1810"/>
                  </a:lnTo>
                  <a:lnTo>
                    <a:pt x="202" y="1860"/>
                  </a:lnTo>
                  <a:lnTo>
                    <a:pt x="232" y="1906"/>
                  </a:lnTo>
                  <a:lnTo>
                    <a:pt x="258" y="1944"/>
                  </a:lnTo>
                  <a:lnTo>
                    <a:pt x="282" y="1974"/>
                  </a:lnTo>
                  <a:lnTo>
                    <a:pt x="290" y="1982"/>
                  </a:lnTo>
                  <a:lnTo>
                    <a:pt x="298" y="1988"/>
                  </a:lnTo>
                  <a:lnTo>
                    <a:pt x="298" y="1988"/>
                  </a:lnTo>
                  <a:lnTo>
                    <a:pt x="272" y="1954"/>
                  </a:lnTo>
                  <a:lnTo>
                    <a:pt x="240" y="1908"/>
                  </a:lnTo>
                  <a:lnTo>
                    <a:pt x="206" y="1856"/>
                  </a:lnTo>
                  <a:lnTo>
                    <a:pt x="170" y="1798"/>
                  </a:lnTo>
                  <a:lnTo>
                    <a:pt x="170" y="1798"/>
                  </a:lnTo>
                  <a:lnTo>
                    <a:pt x="178" y="1808"/>
                  </a:lnTo>
                  <a:lnTo>
                    <a:pt x="180" y="1810"/>
                  </a:lnTo>
                  <a:lnTo>
                    <a:pt x="184" y="1816"/>
                  </a:lnTo>
                  <a:lnTo>
                    <a:pt x="194" y="1830"/>
                  </a:lnTo>
                  <a:lnTo>
                    <a:pt x="194" y="1830"/>
                  </a:lnTo>
                  <a:lnTo>
                    <a:pt x="226" y="1880"/>
                  </a:lnTo>
                  <a:lnTo>
                    <a:pt x="256" y="1926"/>
                  </a:lnTo>
                  <a:lnTo>
                    <a:pt x="286" y="1968"/>
                  </a:lnTo>
                  <a:lnTo>
                    <a:pt x="324" y="2016"/>
                  </a:lnTo>
                  <a:lnTo>
                    <a:pt x="312" y="2012"/>
                  </a:lnTo>
                  <a:lnTo>
                    <a:pt x="312" y="2012"/>
                  </a:lnTo>
                  <a:lnTo>
                    <a:pt x="348" y="2058"/>
                  </a:lnTo>
                  <a:lnTo>
                    <a:pt x="384" y="2100"/>
                  </a:lnTo>
                  <a:lnTo>
                    <a:pt x="422" y="2140"/>
                  </a:lnTo>
                  <a:lnTo>
                    <a:pt x="460" y="2178"/>
                  </a:lnTo>
                  <a:lnTo>
                    <a:pt x="534" y="2251"/>
                  </a:lnTo>
                  <a:lnTo>
                    <a:pt x="568" y="2285"/>
                  </a:lnTo>
                  <a:lnTo>
                    <a:pt x="600" y="2317"/>
                  </a:lnTo>
                  <a:lnTo>
                    <a:pt x="600" y="2317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129960" y="3978360"/>
              <a:ext cx="12600" cy="1047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" h="66">
                  <a:moveTo>
                    <a:pt x="0" y="0"/>
                  </a:moveTo>
                  <a:lnTo>
                    <a:pt x="0" y="0"/>
                  </a:lnTo>
                  <a:lnTo>
                    <a:pt x="2" y="34"/>
                  </a:lnTo>
                  <a:lnTo>
                    <a:pt x="6" y="66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2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142560" y="4067280"/>
              <a:ext cx="12600" cy="63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8" h="40">
                  <a:moveTo>
                    <a:pt x="0" y="2"/>
                  </a:moveTo>
                  <a:lnTo>
                    <a:pt x="0" y="2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1390320" y="5796000"/>
              <a:ext cx="88560" cy="698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6" h="44">
                  <a:moveTo>
                    <a:pt x="0" y="0"/>
                  </a:moveTo>
                  <a:lnTo>
                    <a:pt x="0" y="0"/>
                  </a:lnTo>
                  <a:lnTo>
                    <a:pt x="24" y="20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26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1441080" y="5830920"/>
              <a:ext cx="47520" cy="37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0" h="24">
                  <a:moveTo>
                    <a:pt x="30" y="24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1495080" y="5872320"/>
              <a:ext cx="3070080" cy="1933560"/>
            </a:xfrm>
            <a:custGeom>
              <a:avLst/>
              <a:gdLst>
                <a:gd name="textAreaLeft" fmla="*/ 0 w 3070080"/>
                <a:gd name="textAreaRight" fmla="*/ 3070440 w 3070080"/>
                <a:gd name="textAreaTop" fmla="*/ 0 h 1933560"/>
                <a:gd name="textAreaBottom" fmla="*/ 1933920 h 1933560"/>
              </a:gdLst>
              <a:ahLst/>
              <a:rect l="textAreaLeft" t="textAreaTop" r="textAreaRight" b="textAreaBottom"/>
              <a:pathLst>
                <a:path w="1934" h="1218">
                  <a:moveTo>
                    <a:pt x="1622" y="1028"/>
                  </a:moveTo>
                  <a:lnTo>
                    <a:pt x="1714" y="1080"/>
                  </a:lnTo>
                  <a:lnTo>
                    <a:pt x="1714" y="1080"/>
                  </a:lnTo>
                  <a:lnTo>
                    <a:pt x="1738" y="1096"/>
                  </a:lnTo>
                  <a:lnTo>
                    <a:pt x="1774" y="1120"/>
                  </a:lnTo>
                  <a:lnTo>
                    <a:pt x="1800" y="1136"/>
                  </a:lnTo>
                  <a:lnTo>
                    <a:pt x="1804" y="1140"/>
                  </a:lnTo>
                  <a:lnTo>
                    <a:pt x="1796" y="1136"/>
                  </a:lnTo>
                  <a:lnTo>
                    <a:pt x="1796" y="1136"/>
                  </a:lnTo>
                  <a:lnTo>
                    <a:pt x="1846" y="1164"/>
                  </a:lnTo>
                  <a:lnTo>
                    <a:pt x="1898" y="1196"/>
                  </a:lnTo>
                  <a:lnTo>
                    <a:pt x="1930" y="1218"/>
                  </a:lnTo>
                  <a:lnTo>
                    <a:pt x="1934" y="1218"/>
                  </a:lnTo>
                  <a:lnTo>
                    <a:pt x="1934" y="1218"/>
                  </a:lnTo>
                  <a:lnTo>
                    <a:pt x="1926" y="1210"/>
                  </a:lnTo>
                  <a:lnTo>
                    <a:pt x="1926" y="1210"/>
                  </a:lnTo>
                  <a:lnTo>
                    <a:pt x="1714" y="1076"/>
                  </a:lnTo>
                  <a:lnTo>
                    <a:pt x="1476" y="930"/>
                  </a:lnTo>
                  <a:lnTo>
                    <a:pt x="1228" y="782"/>
                  </a:lnTo>
                  <a:lnTo>
                    <a:pt x="988" y="642"/>
                  </a:lnTo>
                  <a:lnTo>
                    <a:pt x="1038" y="670"/>
                  </a:lnTo>
                  <a:lnTo>
                    <a:pt x="1038" y="670"/>
                  </a:lnTo>
                  <a:lnTo>
                    <a:pt x="982" y="638"/>
                  </a:lnTo>
                  <a:lnTo>
                    <a:pt x="934" y="608"/>
                  </a:lnTo>
                  <a:lnTo>
                    <a:pt x="852" y="558"/>
                  </a:lnTo>
                  <a:lnTo>
                    <a:pt x="776" y="512"/>
                  </a:lnTo>
                  <a:lnTo>
                    <a:pt x="736" y="488"/>
                  </a:lnTo>
                  <a:lnTo>
                    <a:pt x="690" y="462"/>
                  </a:lnTo>
                  <a:lnTo>
                    <a:pt x="710" y="468"/>
                  </a:lnTo>
                  <a:lnTo>
                    <a:pt x="710" y="468"/>
                  </a:lnTo>
                  <a:lnTo>
                    <a:pt x="656" y="436"/>
                  </a:lnTo>
                  <a:lnTo>
                    <a:pt x="602" y="404"/>
                  </a:lnTo>
                  <a:lnTo>
                    <a:pt x="548" y="372"/>
                  </a:lnTo>
                  <a:lnTo>
                    <a:pt x="522" y="354"/>
                  </a:lnTo>
                  <a:lnTo>
                    <a:pt x="494" y="334"/>
                  </a:lnTo>
                  <a:lnTo>
                    <a:pt x="500" y="342"/>
                  </a:lnTo>
                  <a:lnTo>
                    <a:pt x="500" y="342"/>
                  </a:lnTo>
                  <a:lnTo>
                    <a:pt x="454" y="310"/>
                  </a:lnTo>
                  <a:lnTo>
                    <a:pt x="462" y="316"/>
                  </a:lnTo>
                  <a:lnTo>
                    <a:pt x="462" y="316"/>
                  </a:lnTo>
                  <a:lnTo>
                    <a:pt x="392" y="272"/>
                  </a:lnTo>
                  <a:lnTo>
                    <a:pt x="326" y="226"/>
                  </a:lnTo>
                  <a:lnTo>
                    <a:pt x="326" y="226"/>
                  </a:lnTo>
                  <a:lnTo>
                    <a:pt x="328" y="226"/>
                  </a:lnTo>
                  <a:lnTo>
                    <a:pt x="340" y="234"/>
                  </a:lnTo>
                  <a:lnTo>
                    <a:pt x="366" y="252"/>
                  </a:lnTo>
                  <a:lnTo>
                    <a:pt x="366" y="252"/>
                  </a:lnTo>
                  <a:lnTo>
                    <a:pt x="346" y="238"/>
                  </a:lnTo>
                  <a:lnTo>
                    <a:pt x="320" y="222"/>
                  </a:lnTo>
                  <a:lnTo>
                    <a:pt x="262" y="184"/>
                  </a:lnTo>
                  <a:lnTo>
                    <a:pt x="262" y="184"/>
                  </a:lnTo>
                  <a:lnTo>
                    <a:pt x="250" y="174"/>
                  </a:lnTo>
                  <a:lnTo>
                    <a:pt x="250" y="172"/>
                  </a:lnTo>
                  <a:lnTo>
                    <a:pt x="252" y="174"/>
                  </a:lnTo>
                  <a:lnTo>
                    <a:pt x="268" y="184"/>
                  </a:lnTo>
                  <a:lnTo>
                    <a:pt x="268" y="184"/>
                  </a:lnTo>
                  <a:lnTo>
                    <a:pt x="192" y="130"/>
                  </a:lnTo>
                  <a:lnTo>
                    <a:pt x="130" y="84"/>
                  </a:lnTo>
                  <a:lnTo>
                    <a:pt x="74" y="4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20" y="12"/>
                  </a:lnTo>
                  <a:lnTo>
                    <a:pt x="22" y="14"/>
                  </a:lnTo>
                  <a:lnTo>
                    <a:pt x="2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54" y="42"/>
                  </a:lnTo>
                  <a:lnTo>
                    <a:pt x="106" y="78"/>
                  </a:lnTo>
                  <a:lnTo>
                    <a:pt x="158" y="114"/>
                  </a:lnTo>
                  <a:lnTo>
                    <a:pt x="210" y="150"/>
                  </a:lnTo>
                  <a:lnTo>
                    <a:pt x="190" y="136"/>
                  </a:lnTo>
                  <a:lnTo>
                    <a:pt x="190" y="136"/>
                  </a:lnTo>
                  <a:lnTo>
                    <a:pt x="224" y="156"/>
                  </a:lnTo>
                  <a:lnTo>
                    <a:pt x="246" y="172"/>
                  </a:lnTo>
                  <a:lnTo>
                    <a:pt x="274" y="192"/>
                  </a:lnTo>
                  <a:lnTo>
                    <a:pt x="324" y="226"/>
                  </a:lnTo>
                  <a:lnTo>
                    <a:pt x="324" y="226"/>
                  </a:lnTo>
                  <a:lnTo>
                    <a:pt x="280" y="200"/>
                  </a:lnTo>
                  <a:lnTo>
                    <a:pt x="242" y="176"/>
                  </a:lnTo>
                  <a:lnTo>
                    <a:pt x="242" y="176"/>
                  </a:lnTo>
                  <a:lnTo>
                    <a:pt x="278" y="204"/>
                  </a:lnTo>
                  <a:lnTo>
                    <a:pt x="310" y="226"/>
                  </a:lnTo>
                  <a:lnTo>
                    <a:pt x="366" y="262"/>
                  </a:lnTo>
                  <a:lnTo>
                    <a:pt x="414" y="294"/>
                  </a:lnTo>
                  <a:lnTo>
                    <a:pt x="438" y="310"/>
                  </a:lnTo>
                  <a:lnTo>
                    <a:pt x="462" y="328"/>
                  </a:lnTo>
                  <a:lnTo>
                    <a:pt x="454" y="324"/>
                  </a:lnTo>
                  <a:lnTo>
                    <a:pt x="454" y="324"/>
                  </a:lnTo>
                  <a:lnTo>
                    <a:pt x="484" y="344"/>
                  </a:lnTo>
                  <a:lnTo>
                    <a:pt x="522" y="366"/>
                  </a:lnTo>
                  <a:lnTo>
                    <a:pt x="522" y="366"/>
                  </a:lnTo>
                  <a:lnTo>
                    <a:pt x="476" y="334"/>
                  </a:lnTo>
                  <a:lnTo>
                    <a:pt x="476" y="334"/>
                  </a:lnTo>
                  <a:lnTo>
                    <a:pt x="492" y="344"/>
                  </a:lnTo>
                  <a:lnTo>
                    <a:pt x="506" y="350"/>
                  </a:lnTo>
                  <a:lnTo>
                    <a:pt x="524" y="358"/>
                  </a:lnTo>
                  <a:lnTo>
                    <a:pt x="524" y="358"/>
                  </a:lnTo>
                  <a:lnTo>
                    <a:pt x="542" y="370"/>
                  </a:lnTo>
                  <a:lnTo>
                    <a:pt x="558" y="380"/>
                  </a:lnTo>
                  <a:lnTo>
                    <a:pt x="578" y="392"/>
                  </a:lnTo>
                  <a:lnTo>
                    <a:pt x="604" y="408"/>
                  </a:lnTo>
                  <a:lnTo>
                    <a:pt x="604" y="408"/>
                  </a:lnTo>
                  <a:lnTo>
                    <a:pt x="606" y="412"/>
                  </a:lnTo>
                  <a:lnTo>
                    <a:pt x="604" y="410"/>
                  </a:lnTo>
                  <a:lnTo>
                    <a:pt x="588" y="402"/>
                  </a:lnTo>
                  <a:lnTo>
                    <a:pt x="548" y="380"/>
                  </a:lnTo>
                  <a:lnTo>
                    <a:pt x="602" y="410"/>
                  </a:lnTo>
                  <a:lnTo>
                    <a:pt x="602" y="410"/>
                  </a:lnTo>
                  <a:lnTo>
                    <a:pt x="630" y="430"/>
                  </a:lnTo>
                  <a:lnTo>
                    <a:pt x="646" y="440"/>
                  </a:lnTo>
                  <a:lnTo>
                    <a:pt x="672" y="460"/>
                  </a:lnTo>
                  <a:lnTo>
                    <a:pt x="672" y="460"/>
                  </a:lnTo>
                  <a:lnTo>
                    <a:pt x="686" y="468"/>
                  </a:lnTo>
                  <a:lnTo>
                    <a:pt x="680" y="464"/>
                  </a:lnTo>
                  <a:lnTo>
                    <a:pt x="672" y="458"/>
                  </a:lnTo>
                  <a:lnTo>
                    <a:pt x="674" y="458"/>
                  </a:lnTo>
                  <a:lnTo>
                    <a:pt x="684" y="462"/>
                  </a:lnTo>
                  <a:lnTo>
                    <a:pt x="684" y="462"/>
                  </a:lnTo>
                  <a:lnTo>
                    <a:pt x="710" y="480"/>
                  </a:lnTo>
                  <a:lnTo>
                    <a:pt x="748" y="504"/>
                  </a:lnTo>
                  <a:lnTo>
                    <a:pt x="852" y="570"/>
                  </a:lnTo>
                  <a:lnTo>
                    <a:pt x="968" y="638"/>
                  </a:lnTo>
                  <a:lnTo>
                    <a:pt x="1066" y="694"/>
                  </a:lnTo>
                  <a:lnTo>
                    <a:pt x="1066" y="694"/>
                  </a:lnTo>
                  <a:lnTo>
                    <a:pt x="1048" y="684"/>
                  </a:lnTo>
                  <a:lnTo>
                    <a:pt x="1040" y="680"/>
                  </a:lnTo>
                  <a:lnTo>
                    <a:pt x="1030" y="676"/>
                  </a:lnTo>
                  <a:lnTo>
                    <a:pt x="1006" y="662"/>
                  </a:lnTo>
                  <a:lnTo>
                    <a:pt x="1006" y="662"/>
                  </a:lnTo>
                  <a:lnTo>
                    <a:pt x="1050" y="688"/>
                  </a:lnTo>
                  <a:lnTo>
                    <a:pt x="1072" y="700"/>
                  </a:lnTo>
                  <a:lnTo>
                    <a:pt x="1082" y="704"/>
                  </a:lnTo>
                  <a:lnTo>
                    <a:pt x="1082" y="704"/>
                  </a:lnTo>
                  <a:lnTo>
                    <a:pt x="1142" y="738"/>
                  </a:lnTo>
                  <a:lnTo>
                    <a:pt x="1204" y="776"/>
                  </a:lnTo>
                  <a:lnTo>
                    <a:pt x="1318" y="848"/>
                  </a:lnTo>
                  <a:lnTo>
                    <a:pt x="1300" y="832"/>
                  </a:lnTo>
                  <a:lnTo>
                    <a:pt x="1300" y="832"/>
                  </a:lnTo>
                  <a:lnTo>
                    <a:pt x="1350" y="860"/>
                  </a:lnTo>
                  <a:lnTo>
                    <a:pt x="1408" y="898"/>
                  </a:lnTo>
                  <a:lnTo>
                    <a:pt x="1474" y="938"/>
                  </a:lnTo>
                  <a:lnTo>
                    <a:pt x="1548" y="984"/>
                  </a:lnTo>
                  <a:lnTo>
                    <a:pt x="1546" y="982"/>
                  </a:lnTo>
                  <a:lnTo>
                    <a:pt x="1546" y="982"/>
                  </a:lnTo>
                  <a:lnTo>
                    <a:pt x="1572" y="996"/>
                  </a:lnTo>
                  <a:lnTo>
                    <a:pt x="1600" y="1010"/>
                  </a:lnTo>
                  <a:lnTo>
                    <a:pt x="1632" y="1026"/>
                  </a:lnTo>
                  <a:lnTo>
                    <a:pt x="1670" y="1052"/>
                  </a:lnTo>
                  <a:lnTo>
                    <a:pt x="1670" y="1052"/>
                  </a:lnTo>
                  <a:lnTo>
                    <a:pt x="1638" y="1036"/>
                  </a:lnTo>
                  <a:lnTo>
                    <a:pt x="1626" y="1028"/>
                  </a:lnTo>
                  <a:lnTo>
                    <a:pt x="1622" y="1028"/>
                  </a:lnTo>
                  <a:lnTo>
                    <a:pt x="1622" y="1028"/>
                  </a:lnTo>
                  <a:lnTo>
                    <a:pt x="1622" y="1028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4584600" y="7824960"/>
              <a:ext cx="120600" cy="69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6" h="44">
                  <a:moveTo>
                    <a:pt x="34" y="1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8" y="18"/>
                  </a:lnTo>
                  <a:lnTo>
                    <a:pt x="54" y="34"/>
                  </a:lnTo>
                  <a:lnTo>
                    <a:pt x="72" y="44"/>
                  </a:lnTo>
                  <a:lnTo>
                    <a:pt x="76" y="44"/>
                  </a:lnTo>
                  <a:lnTo>
                    <a:pt x="76" y="44"/>
                  </a:lnTo>
                  <a:lnTo>
                    <a:pt x="76" y="44"/>
                  </a:lnTo>
                  <a:lnTo>
                    <a:pt x="76" y="44"/>
                  </a:lnTo>
                  <a:lnTo>
                    <a:pt x="38" y="18"/>
                  </a:lnTo>
                  <a:lnTo>
                    <a:pt x="24" y="8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20" y="10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4740120" y="7923240"/>
              <a:ext cx="1296720" cy="1241280"/>
            </a:xfrm>
            <a:custGeom>
              <a:avLst/>
              <a:gdLst>
                <a:gd name="textAreaLeft" fmla="*/ 0 w 1296720"/>
                <a:gd name="textAreaRight" fmla="*/ 1296720 w 129672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817" h="782">
                  <a:moveTo>
                    <a:pt x="567" y="452"/>
                  </a:moveTo>
                  <a:lnTo>
                    <a:pt x="567" y="452"/>
                  </a:lnTo>
                  <a:lnTo>
                    <a:pt x="577" y="460"/>
                  </a:lnTo>
                  <a:lnTo>
                    <a:pt x="583" y="464"/>
                  </a:lnTo>
                  <a:lnTo>
                    <a:pt x="583" y="464"/>
                  </a:lnTo>
                  <a:lnTo>
                    <a:pt x="537" y="418"/>
                  </a:lnTo>
                  <a:lnTo>
                    <a:pt x="487" y="372"/>
                  </a:lnTo>
                  <a:lnTo>
                    <a:pt x="437" y="328"/>
                  </a:lnTo>
                  <a:lnTo>
                    <a:pt x="389" y="286"/>
                  </a:lnTo>
                  <a:lnTo>
                    <a:pt x="303" y="216"/>
                  </a:lnTo>
                  <a:lnTo>
                    <a:pt x="245" y="168"/>
                  </a:lnTo>
                  <a:lnTo>
                    <a:pt x="245" y="168"/>
                  </a:lnTo>
                  <a:lnTo>
                    <a:pt x="217" y="146"/>
                  </a:lnTo>
                  <a:lnTo>
                    <a:pt x="193" y="132"/>
                  </a:lnTo>
                  <a:lnTo>
                    <a:pt x="167" y="114"/>
                  </a:lnTo>
                  <a:lnTo>
                    <a:pt x="129" y="90"/>
                  </a:lnTo>
                  <a:lnTo>
                    <a:pt x="105" y="68"/>
                  </a:lnTo>
                  <a:lnTo>
                    <a:pt x="105" y="68"/>
                  </a:lnTo>
                  <a:lnTo>
                    <a:pt x="32" y="18"/>
                  </a:lnTo>
                  <a:lnTo>
                    <a:pt x="4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26" y="18"/>
                  </a:lnTo>
                  <a:lnTo>
                    <a:pt x="44" y="28"/>
                  </a:lnTo>
                  <a:lnTo>
                    <a:pt x="65" y="42"/>
                  </a:lnTo>
                  <a:lnTo>
                    <a:pt x="58" y="42"/>
                  </a:lnTo>
                  <a:lnTo>
                    <a:pt x="121" y="84"/>
                  </a:lnTo>
                  <a:lnTo>
                    <a:pt x="101" y="72"/>
                  </a:lnTo>
                  <a:lnTo>
                    <a:pt x="101" y="72"/>
                  </a:lnTo>
                  <a:lnTo>
                    <a:pt x="127" y="92"/>
                  </a:lnTo>
                  <a:lnTo>
                    <a:pt x="147" y="106"/>
                  </a:lnTo>
                  <a:lnTo>
                    <a:pt x="177" y="124"/>
                  </a:lnTo>
                  <a:lnTo>
                    <a:pt x="209" y="146"/>
                  </a:lnTo>
                  <a:lnTo>
                    <a:pt x="233" y="162"/>
                  </a:lnTo>
                  <a:lnTo>
                    <a:pt x="265" y="188"/>
                  </a:lnTo>
                  <a:lnTo>
                    <a:pt x="261" y="192"/>
                  </a:lnTo>
                  <a:lnTo>
                    <a:pt x="261" y="192"/>
                  </a:lnTo>
                  <a:lnTo>
                    <a:pt x="345" y="258"/>
                  </a:lnTo>
                  <a:lnTo>
                    <a:pt x="381" y="288"/>
                  </a:lnTo>
                  <a:lnTo>
                    <a:pt x="419" y="322"/>
                  </a:lnTo>
                  <a:lnTo>
                    <a:pt x="419" y="322"/>
                  </a:lnTo>
                  <a:lnTo>
                    <a:pt x="419" y="320"/>
                  </a:lnTo>
                  <a:lnTo>
                    <a:pt x="411" y="312"/>
                  </a:lnTo>
                  <a:lnTo>
                    <a:pt x="411" y="312"/>
                  </a:lnTo>
                  <a:lnTo>
                    <a:pt x="395" y="298"/>
                  </a:lnTo>
                  <a:lnTo>
                    <a:pt x="393" y="294"/>
                  </a:lnTo>
                  <a:lnTo>
                    <a:pt x="395" y="294"/>
                  </a:lnTo>
                  <a:lnTo>
                    <a:pt x="395" y="294"/>
                  </a:lnTo>
                  <a:lnTo>
                    <a:pt x="437" y="328"/>
                  </a:lnTo>
                  <a:lnTo>
                    <a:pt x="437" y="330"/>
                  </a:lnTo>
                  <a:lnTo>
                    <a:pt x="433" y="326"/>
                  </a:lnTo>
                  <a:lnTo>
                    <a:pt x="427" y="324"/>
                  </a:lnTo>
                  <a:lnTo>
                    <a:pt x="423" y="322"/>
                  </a:lnTo>
                  <a:lnTo>
                    <a:pt x="427" y="328"/>
                  </a:lnTo>
                  <a:lnTo>
                    <a:pt x="445" y="344"/>
                  </a:lnTo>
                  <a:lnTo>
                    <a:pt x="445" y="344"/>
                  </a:lnTo>
                  <a:lnTo>
                    <a:pt x="481" y="374"/>
                  </a:lnTo>
                  <a:lnTo>
                    <a:pt x="519" y="408"/>
                  </a:lnTo>
                  <a:lnTo>
                    <a:pt x="559" y="448"/>
                  </a:lnTo>
                  <a:lnTo>
                    <a:pt x="599" y="488"/>
                  </a:lnTo>
                  <a:lnTo>
                    <a:pt x="635" y="528"/>
                  </a:lnTo>
                  <a:lnTo>
                    <a:pt x="667" y="564"/>
                  </a:lnTo>
                  <a:lnTo>
                    <a:pt x="691" y="596"/>
                  </a:lnTo>
                  <a:lnTo>
                    <a:pt x="709" y="622"/>
                  </a:lnTo>
                  <a:lnTo>
                    <a:pt x="709" y="622"/>
                  </a:lnTo>
                  <a:lnTo>
                    <a:pt x="701" y="610"/>
                  </a:lnTo>
                  <a:lnTo>
                    <a:pt x="699" y="606"/>
                  </a:lnTo>
                  <a:lnTo>
                    <a:pt x="713" y="620"/>
                  </a:lnTo>
                  <a:lnTo>
                    <a:pt x="737" y="652"/>
                  </a:lnTo>
                  <a:lnTo>
                    <a:pt x="763" y="690"/>
                  </a:lnTo>
                  <a:lnTo>
                    <a:pt x="763" y="690"/>
                  </a:lnTo>
                  <a:lnTo>
                    <a:pt x="767" y="698"/>
                  </a:lnTo>
                  <a:lnTo>
                    <a:pt x="761" y="692"/>
                  </a:lnTo>
                  <a:lnTo>
                    <a:pt x="751" y="678"/>
                  </a:lnTo>
                  <a:lnTo>
                    <a:pt x="743" y="668"/>
                  </a:lnTo>
                  <a:lnTo>
                    <a:pt x="743" y="668"/>
                  </a:lnTo>
                  <a:lnTo>
                    <a:pt x="785" y="738"/>
                  </a:lnTo>
                  <a:lnTo>
                    <a:pt x="785" y="738"/>
                  </a:lnTo>
                  <a:lnTo>
                    <a:pt x="779" y="722"/>
                  </a:lnTo>
                  <a:lnTo>
                    <a:pt x="779" y="722"/>
                  </a:lnTo>
                  <a:lnTo>
                    <a:pt x="779" y="722"/>
                  </a:lnTo>
                  <a:lnTo>
                    <a:pt x="783" y="726"/>
                  </a:lnTo>
                  <a:lnTo>
                    <a:pt x="797" y="746"/>
                  </a:lnTo>
                  <a:lnTo>
                    <a:pt x="817" y="782"/>
                  </a:lnTo>
                  <a:lnTo>
                    <a:pt x="817" y="782"/>
                  </a:lnTo>
                  <a:lnTo>
                    <a:pt x="793" y="734"/>
                  </a:lnTo>
                  <a:lnTo>
                    <a:pt x="765" y="688"/>
                  </a:lnTo>
                  <a:lnTo>
                    <a:pt x="737" y="646"/>
                  </a:lnTo>
                  <a:lnTo>
                    <a:pt x="707" y="606"/>
                  </a:lnTo>
                  <a:lnTo>
                    <a:pt x="675" y="568"/>
                  </a:lnTo>
                  <a:lnTo>
                    <a:pt x="641" y="530"/>
                  </a:lnTo>
                  <a:lnTo>
                    <a:pt x="567" y="452"/>
                  </a:lnTo>
                  <a:lnTo>
                    <a:pt x="567" y="452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4"/>
            <p:cNvSpPr/>
            <p:nvPr/>
          </p:nvSpPr>
          <p:spPr>
            <a:xfrm>
              <a:off x="5665680" y="865980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0" h="44">
                  <a:moveTo>
                    <a:pt x="18" y="18"/>
                  </a:moveTo>
                  <a:lnTo>
                    <a:pt x="18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0" y="44"/>
                  </a:lnTo>
                  <a:lnTo>
                    <a:pt x="18" y="18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グループ化 60"/>
          <p:cNvGrpSpPr/>
          <p:nvPr/>
        </p:nvGrpSpPr>
        <p:grpSpPr>
          <a:xfrm>
            <a:off x="6811920" y="5618160"/>
            <a:ext cx="4241880" cy="4460760"/>
            <a:chOff x="6811920" y="5618160"/>
            <a:chExt cx="4241880" cy="4460760"/>
          </a:xfrm>
        </p:grpSpPr>
        <p:sp>
          <p:nvSpPr>
            <p:cNvPr id="95" name="Freeform 55"/>
            <p:cNvSpPr/>
            <p:nvPr/>
          </p:nvSpPr>
          <p:spPr>
            <a:xfrm>
              <a:off x="6811920" y="5770440"/>
              <a:ext cx="3991320" cy="4308480"/>
            </a:xfrm>
            <a:custGeom>
              <a:avLst/>
              <a:gdLst>
                <a:gd name="textAreaLeft" fmla="*/ 0 w 3991320"/>
                <a:gd name="textAreaRight" fmla="*/ 3991680 w 3991320"/>
                <a:gd name="textAreaTop" fmla="*/ 0 h 4308480"/>
                <a:gd name="textAreaBottom" fmla="*/ 4308840 h 4308480"/>
              </a:gdLst>
              <a:ahLst/>
              <a:rect l="textAreaLeft" t="textAreaTop" r="textAreaRight" b="textAreaBottom"/>
              <a:pathLst>
                <a:path w="2514" h="2714">
                  <a:moveTo>
                    <a:pt x="0" y="2694"/>
                  </a:moveTo>
                  <a:lnTo>
                    <a:pt x="0" y="2694"/>
                  </a:lnTo>
                  <a:lnTo>
                    <a:pt x="18" y="2666"/>
                  </a:lnTo>
                  <a:lnTo>
                    <a:pt x="36" y="2636"/>
                  </a:lnTo>
                  <a:lnTo>
                    <a:pt x="52" y="2606"/>
                  </a:lnTo>
                  <a:lnTo>
                    <a:pt x="68" y="2572"/>
                  </a:lnTo>
                  <a:lnTo>
                    <a:pt x="82" y="2536"/>
                  </a:lnTo>
                  <a:lnTo>
                    <a:pt x="96" y="2500"/>
                  </a:lnTo>
                  <a:lnTo>
                    <a:pt x="108" y="2462"/>
                  </a:lnTo>
                  <a:lnTo>
                    <a:pt x="120" y="2424"/>
                  </a:lnTo>
                  <a:lnTo>
                    <a:pt x="142" y="2340"/>
                  </a:lnTo>
                  <a:lnTo>
                    <a:pt x="160" y="2252"/>
                  </a:lnTo>
                  <a:lnTo>
                    <a:pt x="176" y="2160"/>
                  </a:lnTo>
                  <a:lnTo>
                    <a:pt x="190" y="2062"/>
                  </a:lnTo>
                  <a:lnTo>
                    <a:pt x="202" y="1962"/>
                  </a:lnTo>
                  <a:lnTo>
                    <a:pt x="214" y="1860"/>
                  </a:lnTo>
                  <a:lnTo>
                    <a:pt x="234" y="1648"/>
                  </a:lnTo>
                  <a:lnTo>
                    <a:pt x="254" y="1432"/>
                  </a:lnTo>
                  <a:lnTo>
                    <a:pt x="264" y="1324"/>
                  </a:lnTo>
                  <a:lnTo>
                    <a:pt x="276" y="1216"/>
                  </a:lnTo>
                  <a:lnTo>
                    <a:pt x="290" y="1110"/>
                  </a:lnTo>
                  <a:lnTo>
                    <a:pt x="304" y="1004"/>
                  </a:lnTo>
                  <a:lnTo>
                    <a:pt x="322" y="902"/>
                  </a:lnTo>
                  <a:lnTo>
                    <a:pt x="342" y="802"/>
                  </a:lnTo>
                  <a:lnTo>
                    <a:pt x="366" y="706"/>
                  </a:lnTo>
                  <a:lnTo>
                    <a:pt x="392" y="612"/>
                  </a:lnTo>
                  <a:lnTo>
                    <a:pt x="408" y="568"/>
                  </a:lnTo>
                  <a:lnTo>
                    <a:pt x="424" y="524"/>
                  </a:lnTo>
                  <a:lnTo>
                    <a:pt x="440" y="482"/>
                  </a:lnTo>
                  <a:lnTo>
                    <a:pt x="458" y="442"/>
                  </a:lnTo>
                  <a:lnTo>
                    <a:pt x="478" y="402"/>
                  </a:lnTo>
                  <a:lnTo>
                    <a:pt x="498" y="364"/>
                  </a:lnTo>
                  <a:lnTo>
                    <a:pt x="520" y="328"/>
                  </a:lnTo>
                  <a:lnTo>
                    <a:pt x="542" y="292"/>
                  </a:lnTo>
                  <a:lnTo>
                    <a:pt x="566" y="260"/>
                  </a:lnTo>
                  <a:lnTo>
                    <a:pt x="592" y="228"/>
                  </a:lnTo>
                  <a:lnTo>
                    <a:pt x="620" y="198"/>
                  </a:lnTo>
                  <a:lnTo>
                    <a:pt x="648" y="170"/>
                  </a:lnTo>
                  <a:lnTo>
                    <a:pt x="678" y="144"/>
                  </a:lnTo>
                  <a:lnTo>
                    <a:pt x="710" y="120"/>
                  </a:lnTo>
                  <a:lnTo>
                    <a:pt x="744" y="100"/>
                  </a:lnTo>
                  <a:lnTo>
                    <a:pt x="778" y="80"/>
                  </a:lnTo>
                  <a:lnTo>
                    <a:pt x="816" y="62"/>
                  </a:lnTo>
                  <a:lnTo>
                    <a:pt x="854" y="48"/>
                  </a:lnTo>
                  <a:lnTo>
                    <a:pt x="894" y="34"/>
                  </a:lnTo>
                  <a:lnTo>
                    <a:pt x="938" y="24"/>
                  </a:lnTo>
                  <a:lnTo>
                    <a:pt x="938" y="24"/>
                  </a:lnTo>
                  <a:lnTo>
                    <a:pt x="980" y="16"/>
                  </a:lnTo>
                  <a:lnTo>
                    <a:pt x="1022" y="10"/>
                  </a:lnTo>
                  <a:lnTo>
                    <a:pt x="1062" y="6"/>
                  </a:lnTo>
                  <a:lnTo>
                    <a:pt x="1098" y="2"/>
                  </a:lnTo>
                  <a:lnTo>
                    <a:pt x="1134" y="0"/>
                  </a:lnTo>
                  <a:lnTo>
                    <a:pt x="1168" y="0"/>
                  </a:lnTo>
                  <a:lnTo>
                    <a:pt x="1202" y="2"/>
                  </a:lnTo>
                  <a:lnTo>
                    <a:pt x="1232" y="4"/>
                  </a:lnTo>
                  <a:lnTo>
                    <a:pt x="1262" y="8"/>
                  </a:lnTo>
                  <a:lnTo>
                    <a:pt x="1290" y="14"/>
                  </a:lnTo>
                  <a:lnTo>
                    <a:pt x="1316" y="20"/>
                  </a:lnTo>
                  <a:lnTo>
                    <a:pt x="1340" y="28"/>
                  </a:lnTo>
                  <a:lnTo>
                    <a:pt x="1362" y="38"/>
                  </a:lnTo>
                  <a:lnTo>
                    <a:pt x="1384" y="48"/>
                  </a:lnTo>
                  <a:lnTo>
                    <a:pt x="1404" y="60"/>
                  </a:lnTo>
                  <a:lnTo>
                    <a:pt x="1424" y="72"/>
                  </a:lnTo>
                  <a:lnTo>
                    <a:pt x="1440" y="86"/>
                  </a:lnTo>
                  <a:lnTo>
                    <a:pt x="1456" y="100"/>
                  </a:lnTo>
                  <a:lnTo>
                    <a:pt x="1472" y="116"/>
                  </a:lnTo>
                  <a:lnTo>
                    <a:pt x="1484" y="134"/>
                  </a:lnTo>
                  <a:lnTo>
                    <a:pt x="1498" y="150"/>
                  </a:lnTo>
                  <a:lnTo>
                    <a:pt x="1508" y="170"/>
                  </a:lnTo>
                  <a:lnTo>
                    <a:pt x="1518" y="188"/>
                  </a:lnTo>
                  <a:lnTo>
                    <a:pt x="1526" y="208"/>
                  </a:lnTo>
                  <a:lnTo>
                    <a:pt x="1534" y="230"/>
                  </a:lnTo>
                  <a:lnTo>
                    <a:pt x="1540" y="252"/>
                  </a:lnTo>
                  <a:lnTo>
                    <a:pt x="1550" y="298"/>
                  </a:lnTo>
                  <a:lnTo>
                    <a:pt x="1556" y="346"/>
                  </a:lnTo>
                  <a:lnTo>
                    <a:pt x="1558" y="396"/>
                  </a:lnTo>
                  <a:lnTo>
                    <a:pt x="1556" y="448"/>
                  </a:lnTo>
                  <a:lnTo>
                    <a:pt x="1552" y="500"/>
                  </a:lnTo>
                  <a:lnTo>
                    <a:pt x="1544" y="556"/>
                  </a:lnTo>
                  <a:lnTo>
                    <a:pt x="1534" y="612"/>
                  </a:lnTo>
                  <a:lnTo>
                    <a:pt x="1520" y="668"/>
                  </a:lnTo>
                  <a:lnTo>
                    <a:pt x="1506" y="724"/>
                  </a:lnTo>
                  <a:lnTo>
                    <a:pt x="1488" y="780"/>
                  </a:lnTo>
                  <a:lnTo>
                    <a:pt x="1470" y="838"/>
                  </a:lnTo>
                  <a:lnTo>
                    <a:pt x="1450" y="892"/>
                  </a:lnTo>
                  <a:lnTo>
                    <a:pt x="1428" y="948"/>
                  </a:lnTo>
                  <a:lnTo>
                    <a:pt x="1406" y="1000"/>
                  </a:lnTo>
                  <a:lnTo>
                    <a:pt x="1384" y="1052"/>
                  </a:lnTo>
                  <a:lnTo>
                    <a:pt x="1336" y="1150"/>
                  </a:lnTo>
                  <a:lnTo>
                    <a:pt x="1290" y="1238"/>
                  </a:lnTo>
                  <a:lnTo>
                    <a:pt x="1290" y="1238"/>
                  </a:lnTo>
                  <a:lnTo>
                    <a:pt x="1334" y="1198"/>
                  </a:lnTo>
                  <a:lnTo>
                    <a:pt x="1380" y="1162"/>
                  </a:lnTo>
                  <a:lnTo>
                    <a:pt x="1430" y="1126"/>
                  </a:lnTo>
                  <a:lnTo>
                    <a:pt x="1484" y="1092"/>
                  </a:lnTo>
                  <a:lnTo>
                    <a:pt x="1540" y="1060"/>
                  </a:lnTo>
                  <a:lnTo>
                    <a:pt x="1596" y="1030"/>
                  </a:lnTo>
                  <a:lnTo>
                    <a:pt x="1656" y="1004"/>
                  </a:lnTo>
                  <a:lnTo>
                    <a:pt x="1716" y="978"/>
                  </a:lnTo>
                  <a:lnTo>
                    <a:pt x="1776" y="956"/>
                  </a:lnTo>
                  <a:lnTo>
                    <a:pt x="1836" y="938"/>
                  </a:lnTo>
                  <a:lnTo>
                    <a:pt x="1898" y="922"/>
                  </a:lnTo>
                  <a:lnTo>
                    <a:pt x="1958" y="910"/>
                  </a:lnTo>
                  <a:lnTo>
                    <a:pt x="2018" y="902"/>
                  </a:lnTo>
                  <a:lnTo>
                    <a:pt x="2076" y="896"/>
                  </a:lnTo>
                  <a:lnTo>
                    <a:pt x="2132" y="894"/>
                  </a:lnTo>
                  <a:lnTo>
                    <a:pt x="2186" y="896"/>
                  </a:lnTo>
                  <a:lnTo>
                    <a:pt x="2236" y="904"/>
                  </a:lnTo>
                  <a:lnTo>
                    <a:pt x="2260" y="908"/>
                  </a:lnTo>
                  <a:lnTo>
                    <a:pt x="2284" y="914"/>
                  </a:lnTo>
                  <a:lnTo>
                    <a:pt x="2308" y="920"/>
                  </a:lnTo>
                  <a:lnTo>
                    <a:pt x="2330" y="930"/>
                  </a:lnTo>
                  <a:lnTo>
                    <a:pt x="2350" y="938"/>
                  </a:lnTo>
                  <a:lnTo>
                    <a:pt x="2370" y="948"/>
                  </a:lnTo>
                  <a:lnTo>
                    <a:pt x="2390" y="960"/>
                  </a:lnTo>
                  <a:lnTo>
                    <a:pt x="2406" y="974"/>
                  </a:lnTo>
                  <a:lnTo>
                    <a:pt x="2424" y="988"/>
                  </a:lnTo>
                  <a:lnTo>
                    <a:pt x="2438" y="1002"/>
                  </a:lnTo>
                  <a:lnTo>
                    <a:pt x="2452" y="1020"/>
                  </a:lnTo>
                  <a:lnTo>
                    <a:pt x="2466" y="1038"/>
                  </a:lnTo>
                  <a:lnTo>
                    <a:pt x="2476" y="1056"/>
                  </a:lnTo>
                  <a:lnTo>
                    <a:pt x="2486" y="1078"/>
                  </a:lnTo>
                  <a:lnTo>
                    <a:pt x="2496" y="1100"/>
                  </a:lnTo>
                  <a:lnTo>
                    <a:pt x="2502" y="1122"/>
                  </a:lnTo>
                  <a:lnTo>
                    <a:pt x="2508" y="1148"/>
                  </a:lnTo>
                  <a:lnTo>
                    <a:pt x="2510" y="1174"/>
                  </a:lnTo>
                  <a:lnTo>
                    <a:pt x="2512" y="1202"/>
                  </a:lnTo>
                  <a:lnTo>
                    <a:pt x="2514" y="1230"/>
                  </a:lnTo>
                  <a:lnTo>
                    <a:pt x="2512" y="1260"/>
                  </a:lnTo>
                  <a:lnTo>
                    <a:pt x="2508" y="1292"/>
                  </a:lnTo>
                  <a:lnTo>
                    <a:pt x="2502" y="1326"/>
                  </a:lnTo>
                  <a:lnTo>
                    <a:pt x="2496" y="1362"/>
                  </a:lnTo>
                  <a:lnTo>
                    <a:pt x="2486" y="1398"/>
                  </a:lnTo>
                  <a:lnTo>
                    <a:pt x="2474" y="1436"/>
                  </a:lnTo>
                  <a:lnTo>
                    <a:pt x="2462" y="1476"/>
                  </a:lnTo>
                  <a:lnTo>
                    <a:pt x="2446" y="1518"/>
                  </a:lnTo>
                  <a:lnTo>
                    <a:pt x="2428" y="1562"/>
                  </a:lnTo>
                  <a:lnTo>
                    <a:pt x="2408" y="1606"/>
                  </a:lnTo>
                  <a:lnTo>
                    <a:pt x="2408" y="1606"/>
                  </a:lnTo>
                  <a:lnTo>
                    <a:pt x="2386" y="1650"/>
                  </a:lnTo>
                  <a:lnTo>
                    <a:pt x="2364" y="1690"/>
                  </a:lnTo>
                  <a:lnTo>
                    <a:pt x="2340" y="1730"/>
                  </a:lnTo>
                  <a:lnTo>
                    <a:pt x="2314" y="1766"/>
                  </a:lnTo>
                  <a:lnTo>
                    <a:pt x="2288" y="1802"/>
                  </a:lnTo>
                  <a:lnTo>
                    <a:pt x="2260" y="1834"/>
                  </a:lnTo>
                  <a:lnTo>
                    <a:pt x="2232" y="1866"/>
                  </a:lnTo>
                  <a:lnTo>
                    <a:pt x="2202" y="1896"/>
                  </a:lnTo>
                  <a:lnTo>
                    <a:pt x="2172" y="1924"/>
                  </a:lnTo>
                  <a:lnTo>
                    <a:pt x="2140" y="1950"/>
                  </a:lnTo>
                  <a:lnTo>
                    <a:pt x="2106" y="1974"/>
                  </a:lnTo>
                  <a:lnTo>
                    <a:pt x="2074" y="1998"/>
                  </a:lnTo>
                  <a:lnTo>
                    <a:pt x="2038" y="2020"/>
                  </a:lnTo>
                  <a:lnTo>
                    <a:pt x="2004" y="2040"/>
                  </a:lnTo>
                  <a:lnTo>
                    <a:pt x="1966" y="2060"/>
                  </a:lnTo>
                  <a:lnTo>
                    <a:pt x="1930" y="2078"/>
                  </a:lnTo>
                  <a:lnTo>
                    <a:pt x="1892" y="2094"/>
                  </a:lnTo>
                  <a:lnTo>
                    <a:pt x="1854" y="2110"/>
                  </a:lnTo>
                  <a:lnTo>
                    <a:pt x="1774" y="2138"/>
                  </a:lnTo>
                  <a:lnTo>
                    <a:pt x="1694" y="2162"/>
                  </a:lnTo>
                  <a:lnTo>
                    <a:pt x="1610" y="2184"/>
                  </a:lnTo>
                  <a:lnTo>
                    <a:pt x="1526" y="2202"/>
                  </a:lnTo>
                  <a:lnTo>
                    <a:pt x="1440" y="2218"/>
                  </a:lnTo>
                  <a:lnTo>
                    <a:pt x="1352" y="2234"/>
                  </a:lnTo>
                  <a:lnTo>
                    <a:pt x="1264" y="2246"/>
                  </a:lnTo>
                  <a:lnTo>
                    <a:pt x="1088" y="2272"/>
                  </a:lnTo>
                  <a:lnTo>
                    <a:pt x="912" y="2300"/>
                  </a:lnTo>
                  <a:lnTo>
                    <a:pt x="826" y="2314"/>
                  </a:lnTo>
                  <a:lnTo>
                    <a:pt x="740" y="2332"/>
                  </a:lnTo>
                  <a:lnTo>
                    <a:pt x="658" y="2350"/>
                  </a:lnTo>
                  <a:lnTo>
                    <a:pt x="576" y="2374"/>
                  </a:lnTo>
                  <a:lnTo>
                    <a:pt x="496" y="2398"/>
                  </a:lnTo>
                  <a:lnTo>
                    <a:pt x="458" y="2412"/>
                  </a:lnTo>
                  <a:lnTo>
                    <a:pt x="418" y="2428"/>
                  </a:lnTo>
                  <a:lnTo>
                    <a:pt x="382" y="2444"/>
                  </a:lnTo>
                  <a:lnTo>
                    <a:pt x="344" y="2462"/>
                  </a:lnTo>
                  <a:lnTo>
                    <a:pt x="308" y="2480"/>
                  </a:lnTo>
                  <a:lnTo>
                    <a:pt x="274" y="2500"/>
                  </a:lnTo>
                  <a:lnTo>
                    <a:pt x="240" y="2522"/>
                  </a:lnTo>
                  <a:lnTo>
                    <a:pt x="206" y="2544"/>
                  </a:lnTo>
                  <a:lnTo>
                    <a:pt x="174" y="2570"/>
                  </a:lnTo>
                  <a:lnTo>
                    <a:pt x="142" y="2594"/>
                  </a:lnTo>
                  <a:lnTo>
                    <a:pt x="112" y="2622"/>
                  </a:lnTo>
                  <a:lnTo>
                    <a:pt x="82" y="2652"/>
                  </a:lnTo>
                  <a:lnTo>
                    <a:pt x="54" y="2682"/>
                  </a:lnTo>
                  <a:lnTo>
                    <a:pt x="28" y="2714"/>
                  </a:lnTo>
                  <a:lnTo>
                    <a:pt x="0" y="2694"/>
                  </a:lnTo>
                  <a:close/>
                </a:path>
              </a:pathLst>
            </a:custGeom>
            <a:solidFill>
              <a:srgbClr val="f8c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6"/>
            <p:cNvSpPr/>
            <p:nvPr/>
          </p:nvSpPr>
          <p:spPr>
            <a:xfrm>
              <a:off x="6811920" y="5770440"/>
              <a:ext cx="3991320" cy="4308480"/>
            </a:xfrm>
            <a:custGeom>
              <a:avLst/>
              <a:gdLst>
                <a:gd name="textAreaLeft" fmla="*/ 0 w 3991320"/>
                <a:gd name="textAreaRight" fmla="*/ 3991680 w 3991320"/>
                <a:gd name="textAreaTop" fmla="*/ 0 h 4308480"/>
                <a:gd name="textAreaBottom" fmla="*/ 4308840 h 4308480"/>
              </a:gdLst>
              <a:ahLst/>
              <a:rect l="textAreaLeft" t="textAreaTop" r="textAreaRight" b="textAreaBottom"/>
              <a:pathLst>
                <a:path w="2514" h="2714">
                  <a:moveTo>
                    <a:pt x="0" y="2694"/>
                  </a:moveTo>
                  <a:lnTo>
                    <a:pt x="0" y="2694"/>
                  </a:lnTo>
                  <a:lnTo>
                    <a:pt x="18" y="2666"/>
                  </a:lnTo>
                  <a:lnTo>
                    <a:pt x="36" y="2636"/>
                  </a:lnTo>
                  <a:lnTo>
                    <a:pt x="52" y="2606"/>
                  </a:lnTo>
                  <a:lnTo>
                    <a:pt x="68" y="2572"/>
                  </a:lnTo>
                  <a:lnTo>
                    <a:pt x="82" y="2536"/>
                  </a:lnTo>
                  <a:lnTo>
                    <a:pt x="96" y="2500"/>
                  </a:lnTo>
                  <a:lnTo>
                    <a:pt x="108" y="2462"/>
                  </a:lnTo>
                  <a:lnTo>
                    <a:pt x="120" y="2424"/>
                  </a:lnTo>
                  <a:lnTo>
                    <a:pt x="142" y="2340"/>
                  </a:lnTo>
                  <a:lnTo>
                    <a:pt x="160" y="2252"/>
                  </a:lnTo>
                  <a:lnTo>
                    <a:pt x="176" y="2160"/>
                  </a:lnTo>
                  <a:lnTo>
                    <a:pt x="190" y="2062"/>
                  </a:lnTo>
                  <a:lnTo>
                    <a:pt x="202" y="1962"/>
                  </a:lnTo>
                  <a:lnTo>
                    <a:pt x="214" y="1860"/>
                  </a:lnTo>
                  <a:lnTo>
                    <a:pt x="234" y="1648"/>
                  </a:lnTo>
                  <a:lnTo>
                    <a:pt x="254" y="1432"/>
                  </a:lnTo>
                  <a:lnTo>
                    <a:pt x="264" y="1324"/>
                  </a:lnTo>
                  <a:lnTo>
                    <a:pt x="276" y="1216"/>
                  </a:lnTo>
                  <a:lnTo>
                    <a:pt x="290" y="1110"/>
                  </a:lnTo>
                  <a:lnTo>
                    <a:pt x="304" y="1004"/>
                  </a:lnTo>
                  <a:lnTo>
                    <a:pt x="322" y="902"/>
                  </a:lnTo>
                  <a:lnTo>
                    <a:pt x="342" y="802"/>
                  </a:lnTo>
                  <a:lnTo>
                    <a:pt x="366" y="706"/>
                  </a:lnTo>
                  <a:lnTo>
                    <a:pt x="392" y="612"/>
                  </a:lnTo>
                  <a:lnTo>
                    <a:pt x="408" y="568"/>
                  </a:lnTo>
                  <a:lnTo>
                    <a:pt x="424" y="524"/>
                  </a:lnTo>
                  <a:lnTo>
                    <a:pt x="440" y="482"/>
                  </a:lnTo>
                  <a:lnTo>
                    <a:pt x="458" y="442"/>
                  </a:lnTo>
                  <a:lnTo>
                    <a:pt x="478" y="402"/>
                  </a:lnTo>
                  <a:lnTo>
                    <a:pt x="498" y="364"/>
                  </a:lnTo>
                  <a:lnTo>
                    <a:pt x="520" y="328"/>
                  </a:lnTo>
                  <a:lnTo>
                    <a:pt x="542" y="292"/>
                  </a:lnTo>
                  <a:lnTo>
                    <a:pt x="566" y="260"/>
                  </a:lnTo>
                  <a:lnTo>
                    <a:pt x="592" y="228"/>
                  </a:lnTo>
                  <a:lnTo>
                    <a:pt x="620" y="198"/>
                  </a:lnTo>
                  <a:lnTo>
                    <a:pt x="648" y="170"/>
                  </a:lnTo>
                  <a:lnTo>
                    <a:pt x="678" y="144"/>
                  </a:lnTo>
                  <a:lnTo>
                    <a:pt x="710" y="120"/>
                  </a:lnTo>
                  <a:lnTo>
                    <a:pt x="744" y="100"/>
                  </a:lnTo>
                  <a:lnTo>
                    <a:pt x="778" y="80"/>
                  </a:lnTo>
                  <a:lnTo>
                    <a:pt x="816" y="62"/>
                  </a:lnTo>
                  <a:lnTo>
                    <a:pt x="854" y="48"/>
                  </a:lnTo>
                  <a:lnTo>
                    <a:pt x="894" y="34"/>
                  </a:lnTo>
                  <a:lnTo>
                    <a:pt x="938" y="24"/>
                  </a:lnTo>
                  <a:lnTo>
                    <a:pt x="938" y="24"/>
                  </a:lnTo>
                  <a:lnTo>
                    <a:pt x="980" y="16"/>
                  </a:lnTo>
                  <a:lnTo>
                    <a:pt x="1022" y="10"/>
                  </a:lnTo>
                  <a:lnTo>
                    <a:pt x="1062" y="6"/>
                  </a:lnTo>
                  <a:lnTo>
                    <a:pt x="1098" y="2"/>
                  </a:lnTo>
                  <a:lnTo>
                    <a:pt x="1134" y="0"/>
                  </a:lnTo>
                  <a:lnTo>
                    <a:pt x="1168" y="0"/>
                  </a:lnTo>
                  <a:lnTo>
                    <a:pt x="1202" y="2"/>
                  </a:lnTo>
                  <a:lnTo>
                    <a:pt x="1232" y="4"/>
                  </a:lnTo>
                  <a:lnTo>
                    <a:pt x="1262" y="8"/>
                  </a:lnTo>
                  <a:lnTo>
                    <a:pt x="1290" y="14"/>
                  </a:lnTo>
                  <a:lnTo>
                    <a:pt x="1316" y="20"/>
                  </a:lnTo>
                  <a:lnTo>
                    <a:pt x="1340" y="28"/>
                  </a:lnTo>
                  <a:lnTo>
                    <a:pt x="1362" y="38"/>
                  </a:lnTo>
                  <a:lnTo>
                    <a:pt x="1384" y="48"/>
                  </a:lnTo>
                  <a:lnTo>
                    <a:pt x="1404" y="60"/>
                  </a:lnTo>
                  <a:lnTo>
                    <a:pt x="1424" y="72"/>
                  </a:lnTo>
                  <a:lnTo>
                    <a:pt x="1440" y="86"/>
                  </a:lnTo>
                  <a:lnTo>
                    <a:pt x="1456" y="100"/>
                  </a:lnTo>
                  <a:lnTo>
                    <a:pt x="1472" y="116"/>
                  </a:lnTo>
                  <a:lnTo>
                    <a:pt x="1484" y="134"/>
                  </a:lnTo>
                  <a:lnTo>
                    <a:pt x="1498" y="150"/>
                  </a:lnTo>
                  <a:lnTo>
                    <a:pt x="1508" y="170"/>
                  </a:lnTo>
                  <a:lnTo>
                    <a:pt x="1518" y="188"/>
                  </a:lnTo>
                  <a:lnTo>
                    <a:pt x="1526" y="208"/>
                  </a:lnTo>
                  <a:lnTo>
                    <a:pt x="1534" y="230"/>
                  </a:lnTo>
                  <a:lnTo>
                    <a:pt x="1540" y="252"/>
                  </a:lnTo>
                  <a:lnTo>
                    <a:pt x="1550" y="298"/>
                  </a:lnTo>
                  <a:lnTo>
                    <a:pt x="1556" y="346"/>
                  </a:lnTo>
                  <a:lnTo>
                    <a:pt x="1558" y="396"/>
                  </a:lnTo>
                  <a:lnTo>
                    <a:pt x="1556" y="448"/>
                  </a:lnTo>
                  <a:lnTo>
                    <a:pt x="1552" y="500"/>
                  </a:lnTo>
                  <a:lnTo>
                    <a:pt x="1544" y="556"/>
                  </a:lnTo>
                  <a:lnTo>
                    <a:pt x="1534" y="612"/>
                  </a:lnTo>
                  <a:lnTo>
                    <a:pt x="1520" y="668"/>
                  </a:lnTo>
                  <a:lnTo>
                    <a:pt x="1506" y="724"/>
                  </a:lnTo>
                  <a:lnTo>
                    <a:pt x="1488" y="780"/>
                  </a:lnTo>
                  <a:lnTo>
                    <a:pt x="1470" y="838"/>
                  </a:lnTo>
                  <a:lnTo>
                    <a:pt x="1450" y="892"/>
                  </a:lnTo>
                  <a:lnTo>
                    <a:pt x="1428" y="948"/>
                  </a:lnTo>
                  <a:lnTo>
                    <a:pt x="1406" y="1000"/>
                  </a:lnTo>
                  <a:lnTo>
                    <a:pt x="1384" y="1052"/>
                  </a:lnTo>
                  <a:lnTo>
                    <a:pt x="1336" y="1150"/>
                  </a:lnTo>
                  <a:lnTo>
                    <a:pt x="1290" y="1238"/>
                  </a:lnTo>
                  <a:lnTo>
                    <a:pt x="1290" y="1238"/>
                  </a:lnTo>
                  <a:lnTo>
                    <a:pt x="1334" y="1198"/>
                  </a:lnTo>
                  <a:lnTo>
                    <a:pt x="1380" y="1162"/>
                  </a:lnTo>
                  <a:lnTo>
                    <a:pt x="1430" y="1126"/>
                  </a:lnTo>
                  <a:lnTo>
                    <a:pt x="1484" y="1092"/>
                  </a:lnTo>
                  <a:lnTo>
                    <a:pt x="1540" y="1060"/>
                  </a:lnTo>
                  <a:lnTo>
                    <a:pt x="1596" y="1030"/>
                  </a:lnTo>
                  <a:lnTo>
                    <a:pt x="1656" y="1004"/>
                  </a:lnTo>
                  <a:lnTo>
                    <a:pt x="1716" y="978"/>
                  </a:lnTo>
                  <a:lnTo>
                    <a:pt x="1776" y="956"/>
                  </a:lnTo>
                  <a:lnTo>
                    <a:pt x="1836" y="938"/>
                  </a:lnTo>
                  <a:lnTo>
                    <a:pt x="1898" y="922"/>
                  </a:lnTo>
                  <a:lnTo>
                    <a:pt x="1958" y="910"/>
                  </a:lnTo>
                  <a:lnTo>
                    <a:pt x="2018" y="902"/>
                  </a:lnTo>
                  <a:lnTo>
                    <a:pt x="2076" y="896"/>
                  </a:lnTo>
                  <a:lnTo>
                    <a:pt x="2132" y="894"/>
                  </a:lnTo>
                  <a:lnTo>
                    <a:pt x="2186" y="896"/>
                  </a:lnTo>
                  <a:lnTo>
                    <a:pt x="2236" y="904"/>
                  </a:lnTo>
                  <a:lnTo>
                    <a:pt x="2260" y="908"/>
                  </a:lnTo>
                  <a:lnTo>
                    <a:pt x="2284" y="914"/>
                  </a:lnTo>
                  <a:lnTo>
                    <a:pt x="2308" y="920"/>
                  </a:lnTo>
                  <a:lnTo>
                    <a:pt x="2330" y="930"/>
                  </a:lnTo>
                  <a:lnTo>
                    <a:pt x="2350" y="938"/>
                  </a:lnTo>
                  <a:lnTo>
                    <a:pt x="2370" y="948"/>
                  </a:lnTo>
                  <a:lnTo>
                    <a:pt x="2390" y="960"/>
                  </a:lnTo>
                  <a:lnTo>
                    <a:pt x="2406" y="974"/>
                  </a:lnTo>
                  <a:lnTo>
                    <a:pt x="2424" y="988"/>
                  </a:lnTo>
                  <a:lnTo>
                    <a:pt x="2438" y="1002"/>
                  </a:lnTo>
                  <a:lnTo>
                    <a:pt x="2452" y="1020"/>
                  </a:lnTo>
                  <a:lnTo>
                    <a:pt x="2466" y="1038"/>
                  </a:lnTo>
                  <a:lnTo>
                    <a:pt x="2476" y="1056"/>
                  </a:lnTo>
                  <a:lnTo>
                    <a:pt x="2486" y="1078"/>
                  </a:lnTo>
                  <a:lnTo>
                    <a:pt x="2496" y="1100"/>
                  </a:lnTo>
                  <a:lnTo>
                    <a:pt x="2502" y="1122"/>
                  </a:lnTo>
                  <a:lnTo>
                    <a:pt x="2508" y="1148"/>
                  </a:lnTo>
                  <a:lnTo>
                    <a:pt x="2510" y="1174"/>
                  </a:lnTo>
                  <a:lnTo>
                    <a:pt x="2512" y="1202"/>
                  </a:lnTo>
                  <a:lnTo>
                    <a:pt x="2514" y="1230"/>
                  </a:lnTo>
                  <a:lnTo>
                    <a:pt x="2512" y="1260"/>
                  </a:lnTo>
                  <a:lnTo>
                    <a:pt x="2508" y="1292"/>
                  </a:lnTo>
                  <a:lnTo>
                    <a:pt x="2502" y="1326"/>
                  </a:lnTo>
                  <a:lnTo>
                    <a:pt x="2496" y="1362"/>
                  </a:lnTo>
                  <a:lnTo>
                    <a:pt x="2486" y="1398"/>
                  </a:lnTo>
                  <a:lnTo>
                    <a:pt x="2474" y="1436"/>
                  </a:lnTo>
                  <a:lnTo>
                    <a:pt x="2462" y="1476"/>
                  </a:lnTo>
                  <a:lnTo>
                    <a:pt x="2446" y="1518"/>
                  </a:lnTo>
                  <a:lnTo>
                    <a:pt x="2428" y="1562"/>
                  </a:lnTo>
                  <a:lnTo>
                    <a:pt x="2408" y="1606"/>
                  </a:lnTo>
                  <a:lnTo>
                    <a:pt x="2408" y="1606"/>
                  </a:lnTo>
                  <a:lnTo>
                    <a:pt x="2386" y="1650"/>
                  </a:lnTo>
                  <a:lnTo>
                    <a:pt x="2364" y="1690"/>
                  </a:lnTo>
                  <a:lnTo>
                    <a:pt x="2340" y="1730"/>
                  </a:lnTo>
                  <a:lnTo>
                    <a:pt x="2314" y="1766"/>
                  </a:lnTo>
                  <a:lnTo>
                    <a:pt x="2288" y="1802"/>
                  </a:lnTo>
                  <a:lnTo>
                    <a:pt x="2260" y="1834"/>
                  </a:lnTo>
                  <a:lnTo>
                    <a:pt x="2232" y="1866"/>
                  </a:lnTo>
                  <a:lnTo>
                    <a:pt x="2202" y="1896"/>
                  </a:lnTo>
                  <a:lnTo>
                    <a:pt x="2172" y="1924"/>
                  </a:lnTo>
                  <a:lnTo>
                    <a:pt x="2140" y="1950"/>
                  </a:lnTo>
                  <a:lnTo>
                    <a:pt x="2106" y="1974"/>
                  </a:lnTo>
                  <a:lnTo>
                    <a:pt x="2074" y="1998"/>
                  </a:lnTo>
                  <a:lnTo>
                    <a:pt x="2038" y="2020"/>
                  </a:lnTo>
                  <a:lnTo>
                    <a:pt x="2004" y="2040"/>
                  </a:lnTo>
                  <a:lnTo>
                    <a:pt x="1966" y="2060"/>
                  </a:lnTo>
                  <a:lnTo>
                    <a:pt x="1930" y="2078"/>
                  </a:lnTo>
                  <a:lnTo>
                    <a:pt x="1892" y="2094"/>
                  </a:lnTo>
                  <a:lnTo>
                    <a:pt x="1854" y="2110"/>
                  </a:lnTo>
                  <a:lnTo>
                    <a:pt x="1774" y="2138"/>
                  </a:lnTo>
                  <a:lnTo>
                    <a:pt x="1694" y="2162"/>
                  </a:lnTo>
                  <a:lnTo>
                    <a:pt x="1610" y="2184"/>
                  </a:lnTo>
                  <a:lnTo>
                    <a:pt x="1526" y="2202"/>
                  </a:lnTo>
                  <a:lnTo>
                    <a:pt x="1440" y="2218"/>
                  </a:lnTo>
                  <a:lnTo>
                    <a:pt x="1352" y="2234"/>
                  </a:lnTo>
                  <a:lnTo>
                    <a:pt x="1264" y="2246"/>
                  </a:lnTo>
                  <a:lnTo>
                    <a:pt x="1088" y="2272"/>
                  </a:lnTo>
                  <a:lnTo>
                    <a:pt x="912" y="2300"/>
                  </a:lnTo>
                  <a:lnTo>
                    <a:pt x="826" y="2314"/>
                  </a:lnTo>
                  <a:lnTo>
                    <a:pt x="740" y="2332"/>
                  </a:lnTo>
                  <a:lnTo>
                    <a:pt x="658" y="2350"/>
                  </a:lnTo>
                  <a:lnTo>
                    <a:pt x="576" y="2374"/>
                  </a:lnTo>
                  <a:lnTo>
                    <a:pt x="496" y="2398"/>
                  </a:lnTo>
                  <a:lnTo>
                    <a:pt x="458" y="2412"/>
                  </a:lnTo>
                  <a:lnTo>
                    <a:pt x="418" y="2428"/>
                  </a:lnTo>
                  <a:lnTo>
                    <a:pt x="382" y="2444"/>
                  </a:lnTo>
                  <a:lnTo>
                    <a:pt x="344" y="2462"/>
                  </a:lnTo>
                  <a:lnTo>
                    <a:pt x="308" y="2480"/>
                  </a:lnTo>
                  <a:lnTo>
                    <a:pt x="274" y="2500"/>
                  </a:lnTo>
                  <a:lnTo>
                    <a:pt x="240" y="2522"/>
                  </a:lnTo>
                  <a:lnTo>
                    <a:pt x="206" y="2544"/>
                  </a:lnTo>
                  <a:lnTo>
                    <a:pt x="174" y="2570"/>
                  </a:lnTo>
                  <a:lnTo>
                    <a:pt x="142" y="2594"/>
                  </a:lnTo>
                  <a:lnTo>
                    <a:pt x="112" y="2622"/>
                  </a:lnTo>
                  <a:lnTo>
                    <a:pt x="82" y="2652"/>
                  </a:lnTo>
                  <a:lnTo>
                    <a:pt x="54" y="2682"/>
                  </a:lnTo>
                  <a:lnTo>
                    <a:pt x="28" y="27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57"/>
            <p:cNvSpPr/>
            <p:nvPr/>
          </p:nvSpPr>
          <p:spPr>
            <a:xfrm>
              <a:off x="7094520" y="9891720"/>
              <a:ext cx="34920" cy="442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2" h="28">
                  <a:moveTo>
                    <a:pt x="0" y="28"/>
                  </a:moveTo>
                  <a:lnTo>
                    <a:pt x="18" y="8"/>
                  </a:lnTo>
                  <a:lnTo>
                    <a:pt x="22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58"/>
            <p:cNvSpPr/>
            <p:nvPr/>
          </p:nvSpPr>
          <p:spPr>
            <a:xfrm>
              <a:off x="7135560" y="9748800"/>
              <a:ext cx="149040" cy="1458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94" h="92">
                  <a:moveTo>
                    <a:pt x="62" y="30"/>
                  </a:moveTo>
                  <a:lnTo>
                    <a:pt x="94" y="0"/>
                  </a:lnTo>
                  <a:lnTo>
                    <a:pt x="94" y="0"/>
                  </a:lnTo>
                  <a:lnTo>
                    <a:pt x="84" y="6"/>
                  </a:lnTo>
                  <a:lnTo>
                    <a:pt x="82" y="6"/>
                  </a:lnTo>
                  <a:lnTo>
                    <a:pt x="46" y="36"/>
                  </a:lnTo>
                  <a:lnTo>
                    <a:pt x="46" y="36"/>
                  </a:lnTo>
                  <a:lnTo>
                    <a:pt x="30" y="52"/>
                  </a:lnTo>
                  <a:lnTo>
                    <a:pt x="14" y="72"/>
                  </a:lnTo>
                  <a:lnTo>
                    <a:pt x="2" y="86"/>
                  </a:lnTo>
                  <a:lnTo>
                    <a:pt x="0" y="90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0" y="68"/>
                  </a:lnTo>
                  <a:lnTo>
                    <a:pt x="32" y="54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30" y="58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36" y="54"/>
                  </a:lnTo>
                  <a:lnTo>
                    <a:pt x="62" y="28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59"/>
            <p:cNvSpPr/>
            <p:nvPr/>
          </p:nvSpPr>
          <p:spPr>
            <a:xfrm>
              <a:off x="7284960" y="972972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4" y="4"/>
                  </a:moveTo>
                  <a:lnTo>
                    <a:pt x="4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2"/>
                  </a:lnTo>
                  <a:lnTo>
                    <a:pt x="1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0"/>
            <p:cNvSpPr/>
            <p:nvPr/>
          </p:nvSpPr>
          <p:spPr>
            <a:xfrm>
              <a:off x="7323120" y="9675720"/>
              <a:ext cx="44280" cy="31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8" h="20">
                  <a:moveTo>
                    <a:pt x="0" y="20"/>
                  </a:moveTo>
                  <a:lnTo>
                    <a:pt x="0" y="20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4" y="20"/>
                  </a:lnTo>
                  <a:lnTo>
                    <a:pt x="28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61"/>
            <p:cNvSpPr/>
            <p:nvPr/>
          </p:nvSpPr>
          <p:spPr>
            <a:xfrm>
              <a:off x="7475400" y="959328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0" y="6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62"/>
            <p:cNvSpPr/>
            <p:nvPr/>
          </p:nvSpPr>
          <p:spPr>
            <a:xfrm>
              <a:off x="7399080" y="9558360"/>
              <a:ext cx="155520" cy="982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98" h="62">
                  <a:moveTo>
                    <a:pt x="98" y="0"/>
                  </a:moveTo>
                  <a:lnTo>
                    <a:pt x="98" y="0"/>
                  </a:lnTo>
                  <a:lnTo>
                    <a:pt x="80" y="8"/>
                  </a:lnTo>
                  <a:lnTo>
                    <a:pt x="60" y="22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68" y="18"/>
                  </a:lnTo>
                  <a:lnTo>
                    <a:pt x="64" y="20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20" y="50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98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63"/>
            <p:cNvSpPr/>
            <p:nvPr/>
          </p:nvSpPr>
          <p:spPr>
            <a:xfrm>
              <a:off x="7456320" y="960300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4"/>
            <p:cNvSpPr/>
            <p:nvPr/>
          </p:nvSpPr>
          <p:spPr>
            <a:xfrm>
              <a:off x="7380000" y="965376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lnTo>
                    <a:pt x="0" y="8"/>
                  </a:lnTo>
                  <a:lnTo>
                    <a:pt x="2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65"/>
            <p:cNvSpPr/>
            <p:nvPr/>
          </p:nvSpPr>
          <p:spPr>
            <a:xfrm>
              <a:off x="7583400" y="9479160"/>
              <a:ext cx="155520" cy="66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98" h="42">
                  <a:moveTo>
                    <a:pt x="68" y="8"/>
                  </a:moveTo>
                  <a:lnTo>
                    <a:pt x="68" y="8"/>
                  </a:lnTo>
                  <a:lnTo>
                    <a:pt x="56" y="14"/>
                  </a:lnTo>
                  <a:lnTo>
                    <a:pt x="34" y="24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30"/>
                  </a:lnTo>
                  <a:lnTo>
                    <a:pt x="44" y="22"/>
                  </a:lnTo>
                  <a:lnTo>
                    <a:pt x="54" y="18"/>
                  </a:lnTo>
                  <a:lnTo>
                    <a:pt x="56" y="18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94" y="2"/>
                  </a:lnTo>
                  <a:lnTo>
                    <a:pt x="94" y="2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68" y="8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66"/>
            <p:cNvSpPr/>
            <p:nvPr/>
          </p:nvSpPr>
          <p:spPr>
            <a:xfrm>
              <a:off x="7815240" y="94503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4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67"/>
            <p:cNvSpPr/>
            <p:nvPr/>
          </p:nvSpPr>
          <p:spPr>
            <a:xfrm>
              <a:off x="7777080" y="9352080"/>
              <a:ext cx="355320" cy="1076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24" h="68">
                  <a:moveTo>
                    <a:pt x="224" y="0"/>
                  </a:moveTo>
                  <a:lnTo>
                    <a:pt x="224" y="0"/>
                  </a:lnTo>
                  <a:lnTo>
                    <a:pt x="178" y="14"/>
                  </a:lnTo>
                  <a:lnTo>
                    <a:pt x="132" y="28"/>
                  </a:lnTo>
                  <a:lnTo>
                    <a:pt x="132" y="28"/>
                  </a:lnTo>
                  <a:lnTo>
                    <a:pt x="140" y="24"/>
                  </a:lnTo>
                  <a:lnTo>
                    <a:pt x="158" y="18"/>
                  </a:lnTo>
                  <a:lnTo>
                    <a:pt x="158" y="18"/>
                  </a:lnTo>
                  <a:lnTo>
                    <a:pt x="114" y="32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6" y="44"/>
                  </a:lnTo>
                  <a:lnTo>
                    <a:pt x="76" y="42"/>
                  </a:lnTo>
                  <a:lnTo>
                    <a:pt x="82" y="40"/>
                  </a:lnTo>
                  <a:lnTo>
                    <a:pt x="100" y="34"/>
                  </a:lnTo>
                  <a:lnTo>
                    <a:pt x="118" y="30"/>
                  </a:lnTo>
                  <a:lnTo>
                    <a:pt x="120" y="28"/>
                  </a:lnTo>
                  <a:lnTo>
                    <a:pt x="116" y="28"/>
                  </a:lnTo>
                  <a:lnTo>
                    <a:pt x="116" y="28"/>
                  </a:lnTo>
                  <a:lnTo>
                    <a:pt x="76" y="42"/>
                  </a:lnTo>
                  <a:lnTo>
                    <a:pt x="56" y="50"/>
                  </a:lnTo>
                  <a:lnTo>
                    <a:pt x="38" y="56"/>
                  </a:lnTo>
                  <a:lnTo>
                    <a:pt x="0" y="68"/>
                  </a:lnTo>
                  <a:lnTo>
                    <a:pt x="14" y="66"/>
                  </a:lnTo>
                  <a:lnTo>
                    <a:pt x="14" y="66"/>
                  </a:lnTo>
                  <a:lnTo>
                    <a:pt x="36" y="58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54" y="52"/>
                  </a:lnTo>
                  <a:lnTo>
                    <a:pt x="56" y="52"/>
                  </a:lnTo>
                  <a:lnTo>
                    <a:pt x="54" y="52"/>
                  </a:lnTo>
                  <a:lnTo>
                    <a:pt x="50" y="54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82" y="46"/>
                  </a:lnTo>
                  <a:lnTo>
                    <a:pt x="150" y="26"/>
                  </a:lnTo>
                  <a:lnTo>
                    <a:pt x="150" y="26"/>
                  </a:lnTo>
                  <a:lnTo>
                    <a:pt x="180" y="18"/>
                  </a:lnTo>
                  <a:lnTo>
                    <a:pt x="194" y="12"/>
                  </a:lnTo>
                  <a:lnTo>
                    <a:pt x="206" y="6"/>
                  </a:lnTo>
                  <a:lnTo>
                    <a:pt x="224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68"/>
            <p:cNvSpPr/>
            <p:nvPr/>
          </p:nvSpPr>
          <p:spPr>
            <a:xfrm>
              <a:off x="8142120" y="935532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0" y="0"/>
                  </a:move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69"/>
            <p:cNvSpPr/>
            <p:nvPr/>
          </p:nvSpPr>
          <p:spPr>
            <a:xfrm>
              <a:off x="8192880" y="9282240"/>
              <a:ext cx="304560" cy="601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92" h="38">
                  <a:moveTo>
                    <a:pt x="70" y="20"/>
                  </a:moveTo>
                  <a:lnTo>
                    <a:pt x="22" y="32"/>
                  </a:lnTo>
                  <a:lnTo>
                    <a:pt x="22" y="32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4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0" y="34"/>
                  </a:lnTo>
                  <a:lnTo>
                    <a:pt x="42" y="30"/>
                  </a:lnTo>
                  <a:lnTo>
                    <a:pt x="88" y="18"/>
                  </a:lnTo>
                  <a:lnTo>
                    <a:pt x="88" y="18"/>
                  </a:lnTo>
                  <a:lnTo>
                    <a:pt x="118" y="14"/>
                  </a:lnTo>
                  <a:lnTo>
                    <a:pt x="118" y="14"/>
                  </a:lnTo>
                  <a:lnTo>
                    <a:pt x="116" y="14"/>
                  </a:lnTo>
                  <a:lnTo>
                    <a:pt x="106" y="18"/>
                  </a:lnTo>
                  <a:lnTo>
                    <a:pt x="106" y="18"/>
                  </a:lnTo>
                  <a:lnTo>
                    <a:pt x="112" y="18"/>
                  </a:lnTo>
                  <a:lnTo>
                    <a:pt x="112" y="18"/>
                  </a:lnTo>
                  <a:lnTo>
                    <a:pt x="64" y="26"/>
                  </a:lnTo>
                  <a:lnTo>
                    <a:pt x="64" y="26"/>
                  </a:lnTo>
                  <a:lnTo>
                    <a:pt x="98" y="22"/>
                  </a:lnTo>
                  <a:lnTo>
                    <a:pt x="132" y="14"/>
                  </a:lnTo>
                  <a:lnTo>
                    <a:pt x="190" y="2"/>
                  </a:lnTo>
                  <a:lnTo>
                    <a:pt x="190" y="2"/>
                  </a:lnTo>
                  <a:lnTo>
                    <a:pt x="180" y="4"/>
                  </a:lnTo>
                  <a:lnTo>
                    <a:pt x="164" y="6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44" y="6"/>
                  </a:lnTo>
                  <a:lnTo>
                    <a:pt x="70" y="20"/>
                  </a:lnTo>
                  <a:lnTo>
                    <a:pt x="70" y="2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70"/>
            <p:cNvSpPr/>
            <p:nvPr/>
          </p:nvSpPr>
          <p:spPr>
            <a:xfrm>
              <a:off x="8164440" y="9336240"/>
              <a:ext cx="41040" cy="9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6" h="6">
                  <a:moveTo>
                    <a:pt x="0" y="6"/>
                  </a:moveTo>
                  <a:lnTo>
                    <a:pt x="0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71"/>
            <p:cNvSpPr/>
            <p:nvPr/>
          </p:nvSpPr>
          <p:spPr>
            <a:xfrm>
              <a:off x="8494560" y="9282240"/>
              <a:ext cx="21960" cy="28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72"/>
            <p:cNvSpPr/>
            <p:nvPr/>
          </p:nvSpPr>
          <p:spPr>
            <a:xfrm>
              <a:off x="8472600" y="9275760"/>
              <a:ext cx="53640" cy="93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4" h="6">
                  <a:moveTo>
                    <a:pt x="0" y="6"/>
                  </a:moveTo>
                  <a:lnTo>
                    <a:pt x="34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73"/>
            <p:cNvSpPr/>
            <p:nvPr/>
          </p:nvSpPr>
          <p:spPr>
            <a:xfrm>
              <a:off x="8561520" y="8659800"/>
              <a:ext cx="1968480" cy="615960"/>
            </a:xfrm>
            <a:custGeom>
              <a:avLst/>
              <a:gdLst>
                <a:gd name="textAreaLeft" fmla="*/ 0 w 1968480"/>
                <a:gd name="textAreaRight" fmla="*/ 1968840 w 196848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1240" h="388">
                  <a:moveTo>
                    <a:pt x="1232" y="12"/>
                  </a:moveTo>
                  <a:lnTo>
                    <a:pt x="1232" y="12"/>
                  </a:lnTo>
                  <a:lnTo>
                    <a:pt x="1198" y="38"/>
                  </a:lnTo>
                  <a:lnTo>
                    <a:pt x="1198" y="38"/>
                  </a:lnTo>
                  <a:lnTo>
                    <a:pt x="1216" y="22"/>
                  </a:lnTo>
                  <a:lnTo>
                    <a:pt x="1240" y="0"/>
                  </a:lnTo>
                  <a:lnTo>
                    <a:pt x="1240" y="0"/>
                  </a:lnTo>
                  <a:lnTo>
                    <a:pt x="1228" y="10"/>
                  </a:lnTo>
                  <a:lnTo>
                    <a:pt x="1226" y="10"/>
                  </a:lnTo>
                  <a:lnTo>
                    <a:pt x="1228" y="10"/>
                  </a:lnTo>
                  <a:lnTo>
                    <a:pt x="1232" y="4"/>
                  </a:lnTo>
                  <a:lnTo>
                    <a:pt x="1232" y="4"/>
                  </a:lnTo>
                  <a:lnTo>
                    <a:pt x="1230" y="4"/>
                  </a:lnTo>
                  <a:lnTo>
                    <a:pt x="1230" y="4"/>
                  </a:lnTo>
                  <a:lnTo>
                    <a:pt x="1194" y="36"/>
                  </a:lnTo>
                  <a:lnTo>
                    <a:pt x="1174" y="52"/>
                  </a:lnTo>
                  <a:lnTo>
                    <a:pt x="1152" y="68"/>
                  </a:lnTo>
                  <a:lnTo>
                    <a:pt x="1152" y="68"/>
                  </a:lnTo>
                  <a:lnTo>
                    <a:pt x="1152" y="68"/>
                  </a:lnTo>
                  <a:lnTo>
                    <a:pt x="1148" y="70"/>
                  </a:lnTo>
                  <a:lnTo>
                    <a:pt x="1148" y="70"/>
                  </a:lnTo>
                  <a:lnTo>
                    <a:pt x="1110" y="96"/>
                  </a:lnTo>
                  <a:lnTo>
                    <a:pt x="1066" y="122"/>
                  </a:lnTo>
                  <a:lnTo>
                    <a:pt x="1022" y="146"/>
                  </a:lnTo>
                  <a:lnTo>
                    <a:pt x="982" y="166"/>
                  </a:lnTo>
                  <a:lnTo>
                    <a:pt x="982" y="166"/>
                  </a:lnTo>
                  <a:lnTo>
                    <a:pt x="920" y="192"/>
                  </a:lnTo>
                  <a:lnTo>
                    <a:pt x="854" y="218"/>
                  </a:lnTo>
                  <a:lnTo>
                    <a:pt x="854" y="218"/>
                  </a:lnTo>
                  <a:lnTo>
                    <a:pt x="790" y="240"/>
                  </a:lnTo>
                  <a:lnTo>
                    <a:pt x="724" y="258"/>
                  </a:lnTo>
                  <a:lnTo>
                    <a:pt x="658" y="274"/>
                  </a:lnTo>
                  <a:lnTo>
                    <a:pt x="590" y="290"/>
                  </a:lnTo>
                  <a:lnTo>
                    <a:pt x="522" y="302"/>
                  </a:lnTo>
                  <a:lnTo>
                    <a:pt x="454" y="316"/>
                  </a:lnTo>
                  <a:lnTo>
                    <a:pt x="314" y="336"/>
                  </a:lnTo>
                  <a:lnTo>
                    <a:pt x="288" y="344"/>
                  </a:lnTo>
                  <a:lnTo>
                    <a:pt x="288" y="344"/>
                  </a:lnTo>
                  <a:lnTo>
                    <a:pt x="262" y="346"/>
                  </a:lnTo>
                  <a:lnTo>
                    <a:pt x="250" y="348"/>
                  </a:lnTo>
                  <a:lnTo>
                    <a:pt x="248" y="348"/>
                  </a:lnTo>
                  <a:lnTo>
                    <a:pt x="248" y="348"/>
                  </a:lnTo>
                  <a:lnTo>
                    <a:pt x="248" y="348"/>
                  </a:lnTo>
                  <a:lnTo>
                    <a:pt x="280" y="342"/>
                  </a:lnTo>
                  <a:lnTo>
                    <a:pt x="280" y="342"/>
                  </a:lnTo>
                  <a:lnTo>
                    <a:pt x="246" y="346"/>
                  </a:lnTo>
                  <a:lnTo>
                    <a:pt x="204" y="352"/>
                  </a:lnTo>
                  <a:lnTo>
                    <a:pt x="124" y="364"/>
                  </a:lnTo>
                  <a:lnTo>
                    <a:pt x="124" y="364"/>
                  </a:lnTo>
                  <a:lnTo>
                    <a:pt x="132" y="366"/>
                  </a:lnTo>
                  <a:lnTo>
                    <a:pt x="130" y="366"/>
                  </a:lnTo>
                  <a:lnTo>
                    <a:pt x="124" y="368"/>
                  </a:lnTo>
                  <a:lnTo>
                    <a:pt x="124" y="368"/>
                  </a:lnTo>
                  <a:lnTo>
                    <a:pt x="122" y="368"/>
                  </a:lnTo>
                  <a:lnTo>
                    <a:pt x="116" y="368"/>
                  </a:lnTo>
                  <a:lnTo>
                    <a:pt x="94" y="370"/>
                  </a:lnTo>
                  <a:lnTo>
                    <a:pt x="70" y="374"/>
                  </a:lnTo>
                  <a:lnTo>
                    <a:pt x="52" y="376"/>
                  </a:lnTo>
                  <a:lnTo>
                    <a:pt x="52" y="376"/>
                  </a:lnTo>
                  <a:lnTo>
                    <a:pt x="30" y="378"/>
                  </a:lnTo>
                  <a:lnTo>
                    <a:pt x="26" y="380"/>
                  </a:lnTo>
                  <a:lnTo>
                    <a:pt x="22" y="382"/>
                  </a:lnTo>
                  <a:lnTo>
                    <a:pt x="0" y="386"/>
                  </a:lnTo>
                  <a:lnTo>
                    <a:pt x="0" y="386"/>
                  </a:lnTo>
                  <a:lnTo>
                    <a:pt x="6" y="386"/>
                  </a:lnTo>
                  <a:lnTo>
                    <a:pt x="24" y="384"/>
                  </a:lnTo>
                  <a:lnTo>
                    <a:pt x="58" y="380"/>
                  </a:lnTo>
                  <a:lnTo>
                    <a:pt x="58" y="380"/>
                  </a:lnTo>
                  <a:lnTo>
                    <a:pt x="30" y="384"/>
                  </a:lnTo>
                  <a:lnTo>
                    <a:pt x="18" y="386"/>
                  </a:lnTo>
                  <a:lnTo>
                    <a:pt x="14" y="388"/>
                  </a:lnTo>
                  <a:lnTo>
                    <a:pt x="14" y="388"/>
                  </a:lnTo>
                  <a:lnTo>
                    <a:pt x="176" y="362"/>
                  </a:lnTo>
                  <a:lnTo>
                    <a:pt x="368" y="330"/>
                  </a:lnTo>
                  <a:lnTo>
                    <a:pt x="356" y="334"/>
                  </a:lnTo>
                  <a:lnTo>
                    <a:pt x="356" y="334"/>
                  </a:lnTo>
                  <a:lnTo>
                    <a:pt x="468" y="316"/>
                  </a:lnTo>
                  <a:lnTo>
                    <a:pt x="572" y="298"/>
                  </a:lnTo>
                  <a:lnTo>
                    <a:pt x="572" y="298"/>
                  </a:lnTo>
                  <a:lnTo>
                    <a:pt x="612" y="290"/>
                  </a:lnTo>
                  <a:lnTo>
                    <a:pt x="644" y="282"/>
                  </a:lnTo>
                  <a:lnTo>
                    <a:pt x="654" y="280"/>
                  </a:lnTo>
                  <a:lnTo>
                    <a:pt x="654" y="278"/>
                  </a:lnTo>
                  <a:lnTo>
                    <a:pt x="654" y="278"/>
                  </a:lnTo>
                  <a:lnTo>
                    <a:pt x="654" y="278"/>
                  </a:lnTo>
                  <a:lnTo>
                    <a:pt x="698" y="268"/>
                  </a:lnTo>
                  <a:lnTo>
                    <a:pt x="704" y="266"/>
                  </a:lnTo>
                  <a:lnTo>
                    <a:pt x="704" y="266"/>
                  </a:lnTo>
                  <a:lnTo>
                    <a:pt x="734" y="258"/>
                  </a:lnTo>
                  <a:lnTo>
                    <a:pt x="766" y="250"/>
                  </a:lnTo>
                  <a:lnTo>
                    <a:pt x="766" y="250"/>
                  </a:lnTo>
                  <a:lnTo>
                    <a:pt x="756" y="252"/>
                  </a:lnTo>
                  <a:lnTo>
                    <a:pt x="760" y="250"/>
                  </a:lnTo>
                  <a:lnTo>
                    <a:pt x="778" y="242"/>
                  </a:lnTo>
                  <a:lnTo>
                    <a:pt x="778" y="242"/>
                  </a:lnTo>
                  <a:lnTo>
                    <a:pt x="844" y="224"/>
                  </a:lnTo>
                  <a:lnTo>
                    <a:pt x="906" y="206"/>
                  </a:lnTo>
                  <a:lnTo>
                    <a:pt x="906" y="206"/>
                  </a:lnTo>
                  <a:lnTo>
                    <a:pt x="886" y="210"/>
                  </a:lnTo>
                  <a:lnTo>
                    <a:pt x="886" y="210"/>
                  </a:lnTo>
                  <a:lnTo>
                    <a:pt x="906" y="202"/>
                  </a:lnTo>
                  <a:lnTo>
                    <a:pt x="912" y="198"/>
                  </a:lnTo>
                  <a:lnTo>
                    <a:pt x="912" y="198"/>
                  </a:lnTo>
                  <a:lnTo>
                    <a:pt x="932" y="192"/>
                  </a:lnTo>
                  <a:lnTo>
                    <a:pt x="934" y="192"/>
                  </a:lnTo>
                  <a:lnTo>
                    <a:pt x="934" y="194"/>
                  </a:lnTo>
                  <a:lnTo>
                    <a:pt x="934" y="194"/>
                  </a:lnTo>
                  <a:lnTo>
                    <a:pt x="962" y="182"/>
                  </a:lnTo>
                  <a:lnTo>
                    <a:pt x="984" y="170"/>
                  </a:lnTo>
                  <a:lnTo>
                    <a:pt x="1002" y="160"/>
                  </a:lnTo>
                  <a:lnTo>
                    <a:pt x="1024" y="148"/>
                  </a:lnTo>
                  <a:lnTo>
                    <a:pt x="1012" y="152"/>
                  </a:lnTo>
                  <a:lnTo>
                    <a:pt x="1012" y="152"/>
                  </a:lnTo>
                  <a:lnTo>
                    <a:pt x="1074" y="120"/>
                  </a:lnTo>
                  <a:lnTo>
                    <a:pt x="1102" y="104"/>
                  </a:lnTo>
                  <a:lnTo>
                    <a:pt x="1134" y="84"/>
                  </a:lnTo>
                  <a:lnTo>
                    <a:pt x="1134" y="84"/>
                  </a:lnTo>
                  <a:lnTo>
                    <a:pt x="1140" y="80"/>
                  </a:lnTo>
                  <a:lnTo>
                    <a:pt x="1138" y="82"/>
                  </a:lnTo>
                  <a:lnTo>
                    <a:pt x="1124" y="94"/>
                  </a:lnTo>
                  <a:lnTo>
                    <a:pt x="1082" y="120"/>
                  </a:lnTo>
                  <a:lnTo>
                    <a:pt x="1082" y="120"/>
                  </a:lnTo>
                  <a:lnTo>
                    <a:pt x="1116" y="100"/>
                  </a:lnTo>
                  <a:lnTo>
                    <a:pt x="1116" y="100"/>
                  </a:lnTo>
                  <a:lnTo>
                    <a:pt x="1150" y="76"/>
                  </a:lnTo>
                  <a:lnTo>
                    <a:pt x="1186" y="46"/>
                  </a:lnTo>
                  <a:lnTo>
                    <a:pt x="1186" y="46"/>
                  </a:lnTo>
                  <a:lnTo>
                    <a:pt x="1182" y="50"/>
                  </a:lnTo>
                  <a:lnTo>
                    <a:pt x="1184" y="50"/>
                  </a:lnTo>
                  <a:lnTo>
                    <a:pt x="1198" y="40"/>
                  </a:lnTo>
                  <a:lnTo>
                    <a:pt x="1232" y="12"/>
                  </a:lnTo>
                  <a:lnTo>
                    <a:pt x="1232" y="12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4"/>
            <p:cNvSpPr/>
            <p:nvPr/>
          </p:nvSpPr>
          <p:spPr>
            <a:xfrm>
              <a:off x="10314000" y="881856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12" y="0"/>
                  </a:moveTo>
                  <a:lnTo>
                    <a:pt x="1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5"/>
            <p:cNvSpPr/>
            <p:nvPr/>
          </p:nvSpPr>
          <p:spPr>
            <a:xfrm>
              <a:off x="10517400" y="8672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76"/>
            <p:cNvSpPr/>
            <p:nvPr/>
          </p:nvSpPr>
          <p:spPr>
            <a:xfrm>
              <a:off x="10110960" y="891684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0" y="6"/>
                  </a:moveTo>
                  <a:lnTo>
                    <a:pt x="6" y="4"/>
                  </a:lnTo>
                  <a:lnTo>
                    <a:pt x="14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77"/>
            <p:cNvSpPr/>
            <p:nvPr/>
          </p:nvSpPr>
          <p:spPr>
            <a:xfrm>
              <a:off x="9999720" y="896472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38" y="0"/>
                  </a:moveTo>
                  <a:lnTo>
                    <a:pt x="38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8" y="1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78"/>
            <p:cNvSpPr/>
            <p:nvPr/>
          </p:nvSpPr>
          <p:spPr>
            <a:xfrm>
              <a:off x="9555120" y="9110520"/>
              <a:ext cx="28440" cy="61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8" h="4">
                  <a:moveTo>
                    <a:pt x="10" y="0"/>
                  </a:moveTo>
                  <a:lnTo>
                    <a:pt x="10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79"/>
            <p:cNvSpPr/>
            <p:nvPr/>
          </p:nvSpPr>
          <p:spPr>
            <a:xfrm>
              <a:off x="10409400" y="8713800"/>
              <a:ext cx="69840" cy="536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4" h="34">
                  <a:moveTo>
                    <a:pt x="0" y="34"/>
                  </a:moveTo>
                  <a:lnTo>
                    <a:pt x="32" y="1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22" y="18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80"/>
            <p:cNvSpPr/>
            <p:nvPr/>
          </p:nvSpPr>
          <p:spPr>
            <a:xfrm>
              <a:off x="10564920" y="7605720"/>
              <a:ext cx="476280" cy="10224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1022400"/>
                <a:gd name="textAreaBottom" fmla="*/ 1022760 h 1022400"/>
              </a:gdLst>
              <a:ahLst/>
              <a:rect l="textAreaLeft" t="textAreaTop" r="textAreaRight" b="textAreaBottom"/>
              <a:pathLst>
                <a:path w="300" h="644">
                  <a:moveTo>
                    <a:pt x="296" y="46"/>
                  </a:moveTo>
                  <a:lnTo>
                    <a:pt x="296" y="46"/>
                  </a:lnTo>
                  <a:lnTo>
                    <a:pt x="282" y="106"/>
                  </a:lnTo>
                  <a:lnTo>
                    <a:pt x="274" y="140"/>
                  </a:lnTo>
                  <a:lnTo>
                    <a:pt x="266" y="172"/>
                  </a:lnTo>
                  <a:lnTo>
                    <a:pt x="266" y="172"/>
                  </a:lnTo>
                  <a:lnTo>
                    <a:pt x="256" y="208"/>
                  </a:lnTo>
                  <a:lnTo>
                    <a:pt x="254" y="216"/>
                  </a:lnTo>
                  <a:lnTo>
                    <a:pt x="254" y="222"/>
                  </a:lnTo>
                  <a:lnTo>
                    <a:pt x="242" y="254"/>
                  </a:lnTo>
                  <a:lnTo>
                    <a:pt x="244" y="242"/>
                  </a:lnTo>
                  <a:lnTo>
                    <a:pt x="244" y="242"/>
                  </a:lnTo>
                  <a:lnTo>
                    <a:pt x="220" y="298"/>
                  </a:lnTo>
                  <a:lnTo>
                    <a:pt x="194" y="358"/>
                  </a:lnTo>
                  <a:lnTo>
                    <a:pt x="166" y="416"/>
                  </a:lnTo>
                  <a:lnTo>
                    <a:pt x="140" y="464"/>
                  </a:lnTo>
                  <a:lnTo>
                    <a:pt x="140" y="464"/>
                  </a:lnTo>
                  <a:lnTo>
                    <a:pt x="134" y="472"/>
                  </a:lnTo>
                  <a:lnTo>
                    <a:pt x="140" y="464"/>
                  </a:lnTo>
                  <a:lnTo>
                    <a:pt x="140" y="464"/>
                  </a:lnTo>
                  <a:lnTo>
                    <a:pt x="126" y="486"/>
                  </a:lnTo>
                  <a:lnTo>
                    <a:pt x="120" y="498"/>
                  </a:lnTo>
                  <a:lnTo>
                    <a:pt x="112" y="514"/>
                  </a:lnTo>
                  <a:lnTo>
                    <a:pt x="90" y="542"/>
                  </a:lnTo>
                  <a:lnTo>
                    <a:pt x="90" y="542"/>
                  </a:lnTo>
                  <a:lnTo>
                    <a:pt x="104" y="524"/>
                  </a:lnTo>
                  <a:lnTo>
                    <a:pt x="98" y="528"/>
                  </a:lnTo>
                  <a:lnTo>
                    <a:pt x="86" y="542"/>
                  </a:lnTo>
                  <a:lnTo>
                    <a:pt x="84" y="544"/>
                  </a:lnTo>
                  <a:lnTo>
                    <a:pt x="84" y="542"/>
                  </a:lnTo>
                  <a:lnTo>
                    <a:pt x="90" y="534"/>
                  </a:lnTo>
                  <a:lnTo>
                    <a:pt x="90" y="534"/>
                  </a:lnTo>
                  <a:lnTo>
                    <a:pt x="70" y="562"/>
                  </a:lnTo>
                  <a:lnTo>
                    <a:pt x="48" y="588"/>
                  </a:lnTo>
                  <a:lnTo>
                    <a:pt x="26" y="612"/>
                  </a:lnTo>
                  <a:lnTo>
                    <a:pt x="8" y="632"/>
                  </a:lnTo>
                  <a:lnTo>
                    <a:pt x="8" y="632"/>
                  </a:lnTo>
                  <a:lnTo>
                    <a:pt x="14" y="628"/>
                  </a:lnTo>
                  <a:lnTo>
                    <a:pt x="12" y="630"/>
                  </a:lnTo>
                  <a:lnTo>
                    <a:pt x="0" y="644"/>
                  </a:lnTo>
                  <a:lnTo>
                    <a:pt x="0" y="644"/>
                  </a:lnTo>
                  <a:lnTo>
                    <a:pt x="8" y="638"/>
                  </a:lnTo>
                  <a:lnTo>
                    <a:pt x="8" y="640"/>
                  </a:lnTo>
                  <a:lnTo>
                    <a:pt x="8" y="640"/>
                  </a:lnTo>
                  <a:lnTo>
                    <a:pt x="40" y="604"/>
                  </a:lnTo>
                  <a:lnTo>
                    <a:pt x="64" y="576"/>
                  </a:lnTo>
                  <a:lnTo>
                    <a:pt x="64" y="576"/>
                  </a:lnTo>
                  <a:lnTo>
                    <a:pt x="68" y="572"/>
                  </a:lnTo>
                  <a:lnTo>
                    <a:pt x="66" y="574"/>
                  </a:lnTo>
                  <a:lnTo>
                    <a:pt x="64" y="578"/>
                  </a:lnTo>
                  <a:lnTo>
                    <a:pt x="70" y="572"/>
                  </a:lnTo>
                  <a:lnTo>
                    <a:pt x="70" y="572"/>
                  </a:lnTo>
                  <a:lnTo>
                    <a:pt x="88" y="546"/>
                  </a:lnTo>
                  <a:lnTo>
                    <a:pt x="88" y="546"/>
                  </a:lnTo>
                  <a:lnTo>
                    <a:pt x="92" y="542"/>
                  </a:lnTo>
                  <a:lnTo>
                    <a:pt x="90" y="546"/>
                  </a:lnTo>
                  <a:lnTo>
                    <a:pt x="88" y="550"/>
                  </a:lnTo>
                  <a:lnTo>
                    <a:pt x="96" y="538"/>
                  </a:lnTo>
                  <a:lnTo>
                    <a:pt x="96" y="538"/>
                  </a:lnTo>
                  <a:lnTo>
                    <a:pt x="130" y="486"/>
                  </a:lnTo>
                  <a:lnTo>
                    <a:pt x="126" y="494"/>
                  </a:lnTo>
                  <a:lnTo>
                    <a:pt x="126" y="494"/>
                  </a:lnTo>
                  <a:lnTo>
                    <a:pt x="144" y="466"/>
                  </a:lnTo>
                  <a:lnTo>
                    <a:pt x="148" y="458"/>
                  </a:lnTo>
                  <a:lnTo>
                    <a:pt x="148" y="456"/>
                  </a:lnTo>
                  <a:lnTo>
                    <a:pt x="146" y="458"/>
                  </a:lnTo>
                  <a:lnTo>
                    <a:pt x="146" y="458"/>
                  </a:lnTo>
                  <a:lnTo>
                    <a:pt x="162" y="436"/>
                  </a:lnTo>
                  <a:lnTo>
                    <a:pt x="158" y="440"/>
                  </a:lnTo>
                  <a:lnTo>
                    <a:pt x="158" y="440"/>
                  </a:lnTo>
                  <a:lnTo>
                    <a:pt x="194" y="376"/>
                  </a:lnTo>
                  <a:lnTo>
                    <a:pt x="210" y="344"/>
                  </a:lnTo>
                  <a:lnTo>
                    <a:pt x="228" y="300"/>
                  </a:lnTo>
                  <a:lnTo>
                    <a:pt x="228" y="300"/>
                  </a:lnTo>
                  <a:lnTo>
                    <a:pt x="226" y="306"/>
                  </a:lnTo>
                  <a:lnTo>
                    <a:pt x="226" y="304"/>
                  </a:lnTo>
                  <a:lnTo>
                    <a:pt x="230" y="292"/>
                  </a:lnTo>
                  <a:lnTo>
                    <a:pt x="230" y="292"/>
                  </a:lnTo>
                  <a:lnTo>
                    <a:pt x="216" y="324"/>
                  </a:lnTo>
                  <a:lnTo>
                    <a:pt x="204" y="356"/>
                  </a:lnTo>
                  <a:lnTo>
                    <a:pt x="204" y="356"/>
                  </a:lnTo>
                  <a:lnTo>
                    <a:pt x="204" y="350"/>
                  </a:lnTo>
                  <a:lnTo>
                    <a:pt x="208" y="338"/>
                  </a:lnTo>
                  <a:lnTo>
                    <a:pt x="210" y="332"/>
                  </a:lnTo>
                  <a:lnTo>
                    <a:pt x="204" y="344"/>
                  </a:lnTo>
                  <a:lnTo>
                    <a:pt x="204" y="344"/>
                  </a:lnTo>
                  <a:lnTo>
                    <a:pt x="216" y="318"/>
                  </a:lnTo>
                  <a:lnTo>
                    <a:pt x="226" y="294"/>
                  </a:lnTo>
                  <a:lnTo>
                    <a:pt x="236" y="274"/>
                  </a:lnTo>
                  <a:lnTo>
                    <a:pt x="244" y="260"/>
                  </a:lnTo>
                  <a:lnTo>
                    <a:pt x="244" y="260"/>
                  </a:lnTo>
                  <a:lnTo>
                    <a:pt x="254" y="230"/>
                  </a:lnTo>
                  <a:lnTo>
                    <a:pt x="262" y="206"/>
                  </a:lnTo>
                  <a:lnTo>
                    <a:pt x="280" y="150"/>
                  </a:lnTo>
                  <a:lnTo>
                    <a:pt x="280" y="152"/>
                  </a:lnTo>
                  <a:lnTo>
                    <a:pt x="280" y="152"/>
                  </a:lnTo>
                  <a:lnTo>
                    <a:pt x="282" y="140"/>
                  </a:lnTo>
                  <a:lnTo>
                    <a:pt x="286" y="124"/>
                  </a:lnTo>
                  <a:lnTo>
                    <a:pt x="290" y="102"/>
                  </a:lnTo>
                  <a:lnTo>
                    <a:pt x="294" y="76"/>
                  </a:lnTo>
                  <a:lnTo>
                    <a:pt x="290" y="102"/>
                  </a:lnTo>
                  <a:lnTo>
                    <a:pt x="290" y="102"/>
                  </a:lnTo>
                  <a:lnTo>
                    <a:pt x="290" y="92"/>
                  </a:lnTo>
                  <a:lnTo>
                    <a:pt x="294" y="72"/>
                  </a:lnTo>
                  <a:lnTo>
                    <a:pt x="294" y="72"/>
                  </a:lnTo>
                  <a:lnTo>
                    <a:pt x="294" y="72"/>
                  </a:lnTo>
                  <a:lnTo>
                    <a:pt x="296" y="68"/>
                  </a:lnTo>
                  <a:lnTo>
                    <a:pt x="296" y="68"/>
                  </a:lnTo>
                  <a:lnTo>
                    <a:pt x="298" y="34"/>
                  </a:lnTo>
                  <a:lnTo>
                    <a:pt x="300" y="12"/>
                  </a:lnTo>
                  <a:lnTo>
                    <a:pt x="300" y="0"/>
                  </a:lnTo>
                  <a:lnTo>
                    <a:pt x="300" y="0"/>
                  </a:lnTo>
                  <a:lnTo>
                    <a:pt x="298" y="38"/>
                  </a:lnTo>
                  <a:lnTo>
                    <a:pt x="292" y="78"/>
                  </a:lnTo>
                  <a:lnTo>
                    <a:pt x="292" y="78"/>
                  </a:lnTo>
                  <a:lnTo>
                    <a:pt x="292" y="66"/>
                  </a:lnTo>
                  <a:lnTo>
                    <a:pt x="296" y="46"/>
                  </a:lnTo>
                  <a:lnTo>
                    <a:pt x="296" y="46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81"/>
            <p:cNvSpPr/>
            <p:nvPr/>
          </p:nvSpPr>
          <p:spPr>
            <a:xfrm>
              <a:off x="10752480" y="838980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0" y="14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82"/>
            <p:cNvSpPr/>
            <p:nvPr/>
          </p:nvSpPr>
          <p:spPr>
            <a:xfrm>
              <a:off x="10517400" y="7049880"/>
              <a:ext cx="536400" cy="52380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338" h="330">
                  <a:moveTo>
                    <a:pt x="308" y="180"/>
                  </a:moveTo>
                  <a:lnTo>
                    <a:pt x="308" y="180"/>
                  </a:lnTo>
                  <a:lnTo>
                    <a:pt x="302" y="170"/>
                  </a:lnTo>
                  <a:lnTo>
                    <a:pt x="304" y="170"/>
                  </a:lnTo>
                  <a:lnTo>
                    <a:pt x="304" y="172"/>
                  </a:lnTo>
                  <a:lnTo>
                    <a:pt x="300" y="160"/>
                  </a:lnTo>
                  <a:lnTo>
                    <a:pt x="300" y="160"/>
                  </a:lnTo>
                  <a:lnTo>
                    <a:pt x="296" y="154"/>
                  </a:lnTo>
                  <a:lnTo>
                    <a:pt x="300" y="164"/>
                  </a:lnTo>
                  <a:lnTo>
                    <a:pt x="304" y="174"/>
                  </a:lnTo>
                  <a:lnTo>
                    <a:pt x="304" y="174"/>
                  </a:lnTo>
                  <a:lnTo>
                    <a:pt x="302" y="174"/>
                  </a:lnTo>
                  <a:lnTo>
                    <a:pt x="298" y="168"/>
                  </a:lnTo>
                  <a:lnTo>
                    <a:pt x="298" y="168"/>
                  </a:lnTo>
                  <a:lnTo>
                    <a:pt x="292" y="154"/>
                  </a:lnTo>
                  <a:lnTo>
                    <a:pt x="282" y="138"/>
                  </a:lnTo>
                  <a:lnTo>
                    <a:pt x="264" y="116"/>
                  </a:lnTo>
                  <a:lnTo>
                    <a:pt x="264" y="116"/>
                  </a:lnTo>
                  <a:lnTo>
                    <a:pt x="270" y="120"/>
                  </a:lnTo>
                  <a:lnTo>
                    <a:pt x="272" y="120"/>
                  </a:lnTo>
                  <a:lnTo>
                    <a:pt x="268" y="114"/>
                  </a:lnTo>
                  <a:lnTo>
                    <a:pt x="268" y="114"/>
                  </a:lnTo>
                  <a:lnTo>
                    <a:pt x="250" y="94"/>
                  </a:lnTo>
                  <a:lnTo>
                    <a:pt x="226" y="72"/>
                  </a:lnTo>
                  <a:lnTo>
                    <a:pt x="226" y="72"/>
                  </a:lnTo>
                  <a:lnTo>
                    <a:pt x="238" y="82"/>
                  </a:lnTo>
                  <a:lnTo>
                    <a:pt x="228" y="76"/>
                  </a:lnTo>
                  <a:lnTo>
                    <a:pt x="218" y="68"/>
                  </a:lnTo>
                  <a:lnTo>
                    <a:pt x="226" y="76"/>
                  </a:lnTo>
                  <a:lnTo>
                    <a:pt x="226" y="76"/>
                  </a:lnTo>
                  <a:lnTo>
                    <a:pt x="202" y="60"/>
                  </a:lnTo>
                  <a:lnTo>
                    <a:pt x="166" y="40"/>
                  </a:lnTo>
                  <a:lnTo>
                    <a:pt x="166" y="40"/>
                  </a:lnTo>
                  <a:lnTo>
                    <a:pt x="176" y="44"/>
                  </a:lnTo>
                  <a:lnTo>
                    <a:pt x="194" y="54"/>
                  </a:lnTo>
                  <a:lnTo>
                    <a:pt x="194" y="54"/>
                  </a:lnTo>
                  <a:lnTo>
                    <a:pt x="194" y="54"/>
                  </a:lnTo>
                  <a:lnTo>
                    <a:pt x="194" y="52"/>
                  </a:lnTo>
                  <a:lnTo>
                    <a:pt x="182" y="46"/>
                  </a:lnTo>
                  <a:lnTo>
                    <a:pt x="160" y="34"/>
                  </a:lnTo>
                  <a:lnTo>
                    <a:pt x="160" y="34"/>
                  </a:lnTo>
                  <a:lnTo>
                    <a:pt x="140" y="24"/>
                  </a:lnTo>
                  <a:lnTo>
                    <a:pt x="112" y="16"/>
                  </a:lnTo>
                  <a:lnTo>
                    <a:pt x="82" y="10"/>
                  </a:lnTo>
                  <a:lnTo>
                    <a:pt x="52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94" y="14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6" y="18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114" y="22"/>
                  </a:lnTo>
                  <a:lnTo>
                    <a:pt x="134" y="30"/>
                  </a:lnTo>
                  <a:lnTo>
                    <a:pt x="154" y="38"/>
                  </a:lnTo>
                  <a:lnTo>
                    <a:pt x="176" y="48"/>
                  </a:lnTo>
                  <a:lnTo>
                    <a:pt x="196" y="60"/>
                  </a:lnTo>
                  <a:lnTo>
                    <a:pt x="216" y="74"/>
                  </a:lnTo>
                  <a:lnTo>
                    <a:pt x="234" y="88"/>
                  </a:lnTo>
                  <a:lnTo>
                    <a:pt x="234" y="88"/>
                  </a:lnTo>
                  <a:lnTo>
                    <a:pt x="252" y="106"/>
                  </a:lnTo>
                  <a:lnTo>
                    <a:pt x="268" y="124"/>
                  </a:lnTo>
                  <a:lnTo>
                    <a:pt x="282" y="144"/>
                  </a:lnTo>
                  <a:lnTo>
                    <a:pt x="294" y="164"/>
                  </a:lnTo>
                  <a:lnTo>
                    <a:pt x="304" y="186"/>
                  </a:lnTo>
                  <a:lnTo>
                    <a:pt x="312" y="210"/>
                  </a:lnTo>
                  <a:lnTo>
                    <a:pt x="318" y="232"/>
                  </a:lnTo>
                  <a:lnTo>
                    <a:pt x="324" y="254"/>
                  </a:lnTo>
                  <a:lnTo>
                    <a:pt x="324" y="254"/>
                  </a:lnTo>
                  <a:lnTo>
                    <a:pt x="318" y="228"/>
                  </a:lnTo>
                  <a:lnTo>
                    <a:pt x="312" y="204"/>
                  </a:lnTo>
                  <a:lnTo>
                    <a:pt x="312" y="204"/>
                  </a:lnTo>
                  <a:lnTo>
                    <a:pt x="318" y="222"/>
                  </a:lnTo>
                  <a:lnTo>
                    <a:pt x="326" y="252"/>
                  </a:lnTo>
                  <a:lnTo>
                    <a:pt x="322" y="226"/>
                  </a:lnTo>
                  <a:lnTo>
                    <a:pt x="322" y="226"/>
                  </a:lnTo>
                  <a:lnTo>
                    <a:pt x="328" y="246"/>
                  </a:lnTo>
                  <a:lnTo>
                    <a:pt x="328" y="254"/>
                  </a:lnTo>
                  <a:lnTo>
                    <a:pt x="328" y="254"/>
                  </a:lnTo>
                  <a:lnTo>
                    <a:pt x="330" y="264"/>
                  </a:lnTo>
                  <a:lnTo>
                    <a:pt x="330" y="264"/>
                  </a:lnTo>
                  <a:lnTo>
                    <a:pt x="330" y="252"/>
                  </a:lnTo>
                  <a:lnTo>
                    <a:pt x="330" y="252"/>
                  </a:lnTo>
                  <a:lnTo>
                    <a:pt x="334" y="278"/>
                  </a:lnTo>
                  <a:lnTo>
                    <a:pt x="336" y="294"/>
                  </a:lnTo>
                  <a:lnTo>
                    <a:pt x="338" y="330"/>
                  </a:lnTo>
                  <a:lnTo>
                    <a:pt x="338" y="330"/>
                  </a:lnTo>
                  <a:lnTo>
                    <a:pt x="338" y="292"/>
                  </a:lnTo>
                  <a:lnTo>
                    <a:pt x="334" y="268"/>
                  </a:lnTo>
                  <a:lnTo>
                    <a:pt x="330" y="242"/>
                  </a:lnTo>
                  <a:lnTo>
                    <a:pt x="318" y="198"/>
                  </a:lnTo>
                  <a:lnTo>
                    <a:pt x="308" y="18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83"/>
            <p:cNvSpPr/>
            <p:nvPr/>
          </p:nvSpPr>
          <p:spPr>
            <a:xfrm>
              <a:off x="11047680" y="7535880"/>
              <a:ext cx="2880" cy="410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" h="26">
                  <a:moveTo>
                    <a:pt x="2" y="16"/>
                  </a:moveTo>
                  <a:lnTo>
                    <a:pt x="0" y="0"/>
                  </a:lnTo>
                  <a:lnTo>
                    <a:pt x="0" y="2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84"/>
            <p:cNvSpPr/>
            <p:nvPr/>
          </p:nvSpPr>
          <p:spPr>
            <a:xfrm>
              <a:off x="11037960" y="7497720"/>
              <a:ext cx="2880" cy="378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" h="24">
                  <a:moveTo>
                    <a:pt x="0" y="16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85"/>
            <p:cNvSpPr/>
            <p:nvPr/>
          </p:nvSpPr>
          <p:spPr>
            <a:xfrm>
              <a:off x="10650600" y="7062840"/>
              <a:ext cx="60120" cy="158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8" h="10">
                  <a:moveTo>
                    <a:pt x="38" y="10"/>
                  </a:moveTo>
                  <a:lnTo>
                    <a:pt x="38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86"/>
            <p:cNvSpPr/>
            <p:nvPr/>
          </p:nvSpPr>
          <p:spPr>
            <a:xfrm>
              <a:off x="10272960" y="7043760"/>
              <a:ext cx="237960" cy="18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50" h="12">
                  <a:moveTo>
                    <a:pt x="0" y="12"/>
                  </a:moveTo>
                  <a:lnTo>
                    <a:pt x="0" y="12"/>
                  </a:lnTo>
                  <a:lnTo>
                    <a:pt x="36" y="8"/>
                  </a:lnTo>
                  <a:lnTo>
                    <a:pt x="66" y="4"/>
                  </a:lnTo>
                  <a:lnTo>
                    <a:pt x="98" y="4"/>
                  </a:lnTo>
                  <a:lnTo>
                    <a:pt x="140" y="6"/>
                  </a:lnTo>
                  <a:lnTo>
                    <a:pt x="140" y="6"/>
                  </a:lnTo>
                  <a:lnTo>
                    <a:pt x="150" y="6"/>
                  </a:lnTo>
                  <a:lnTo>
                    <a:pt x="146" y="4"/>
                  </a:lnTo>
                  <a:lnTo>
                    <a:pt x="138" y="2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0" y="0"/>
                  </a:lnTo>
                  <a:lnTo>
                    <a:pt x="110" y="0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66" y="2"/>
                  </a:lnTo>
                  <a:lnTo>
                    <a:pt x="48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1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87"/>
            <p:cNvSpPr/>
            <p:nvPr/>
          </p:nvSpPr>
          <p:spPr>
            <a:xfrm>
              <a:off x="9097920" y="6891120"/>
              <a:ext cx="1206360" cy="701640"/>
            </a:xfrm>
            <a:custGeom>
              <a:avLst/>
              <a:gdLst>
                <a:gd name="textAreaLeft" fmla="*/ 0 w 1206360"/>
                <a:gd name="textAreaRight" fmla="*/ 1206720 w 120636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760" h="442">
                  <a:moveTo>
                    <a:pt x="552" y="138"/>
                  </a:moveTo>
                  <a:lnTo>
                    <a:pt x="552" y="138"/>
                  </a:lnTo>
                  <a:lnTo>
                    <a:pt x="516" y="148"/>
                  </a:lnTo>
                  <a:lnTo>
                    <a:pt x="484" y="158"/>
                  </a:lnTo>
                  <a:lnTo>
                    <a:pt x="484" y="158"/>
                  </a:lnTo>
                  <a:lnTo>
                    <a:pt x="496" y="154"/>
                  </a:lnTo>
                  <a:lnTo>
                    <a:pt x="516" y="148"/>
                  </a:lnTo>
                  <a:lnTo>
                    <a:pt x="516" y="148"/>
                  </a:lnTo>
                  <a:lnTo>
                    <a:pt x="506" y="148"/>
                  </a:lnTo>
                  <a:lnTo>
                    <a:pt x="496" y="152"/>
                  </a:lnTo>
                  <a:lnTo>
                    <a:pt x="462" y="164"/>
                  </a:lnTo>
                  <a:lnTo>
                    <a:pt x="462" y="164"/>
                  </a:lnTo>
                  <a:lnTo>
                    <a:pt x="468" y="162"/>
                  </a:lnTo>
                  <a:lnTo>
                    <a:pt x="470" y="162"/>
                  </a:lnTo>
                  <a:lnTo>
                    <a:pt x="468" y="164"/>
                  </a:lnTo>
                  <a:lnTo>
                    <a:pt x="468" y="164"/>
                  </a:lnTo>
                  <a:lnTo>
                    <a:pt x="416" y="182"/>
                  </a:lnTo>
                  <a:lnTo>
                    <a:pt x="350" y="210"/>
                  </a:lnTo>
                  <a:lnTo>
                    <a:pt x="350" y="210"/>
                  </a:lnTo>
                  <a:lnTo>
                    <a:pt x="336" y="218"/>
                  </a:lnTo>
                  <a:lnTo>
                    <a:pt x="330" y="220"/>
                  </a:lnTo>
                  <a:lnTo>
                    <a:pt x="330" y="222"/>
                  </a:lnTo>
                  <a:lnTo>
                    <a:pt x="330" y="222"/>
                  </a:lnTo>
                  <a:lnTo>
                    <a:pt x="294" y="236"/>
                  </a:lnTo>
                  <a:lnTo>
                    <a:pt x="252" y="256"/>
                  </a:lnTo>
                  <a:lnTo>
                    <a:pt x="252" y="256"/>
                  </a:lnTo>
                  <a:lnTo>
                    <a:pt x="264" y="254"/>
                  </a:lnTo>
                  <a:lnTo>
                    <a:pt x="272" y="252"/>
                  </a:lnTo>
                  <a:lnTo>
                    <a:pt x="274" y="252"/>
                  </a:lnTo>
                  <a:lnTo>
                    <a:pt x="274" y="252"/>
                  </a:lnTo>
                  <a:lnTo>
                    <a:pt x="230" y="274"/>
                  </a:lnTo>
                  <a:lnTo>
                    <a:pt x="202" y="290"/>
                  </a:lnTo>
                  <a:lnTo>
                    <a:pt x="152" y="322"/>
                  </a:lnTo>
                  <a:lnTo>
                    <a:pt x="152" y="322"/>
                  </a:lnTo>
                  <a:lnTo>
                    <a:pt x="176" y="306"/>
                  </a:lnTo>
                  <a:lnTo>
                    <a:pt x="176" y="306"/>
                  </a:lnTo>
                  <a:lnTo>
                    <a:pt x="166" y="310"/>
                  </a:lnTo>
                  <a:lnTo>
                    <a:pt x="150" y="320"/>
                  </a:lnTo>
                  <a:lnTo>
                    <a:pt x="112" y="348"/>
                  </a:lnTo>
                  <a:lnTo>
                    <a:pt x="114" y="344"/>
                  </a:lnTo>
                  <a:lnTo>
                    <a:pt x="114" y="344"/>
                  </a:lnTo>
                  <a:lnTo>
                    <a:pt x="72" y="376"/>
                  </a:lnTo>
                  <a:lnTo>
                    <a:pt x="26" y="414"/>
                  </a:lnTo>
                  <a:lnTo>
                    <a:pt x="32" y="408"/>
                  </a:lnTo>
                  <a:lnTo>
                    <a:pt x="12" y="426"/>
                  </a:lnTo>
                  <a:lnTo>
                    <a:pt x="2" y="436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6" y="442"/>
                  </a:lnTo>
                  <a:lnTo>
                    <a:pt x="6" y="442"/>
                  </a:lnTo>
                  <a:lnTo>
                    <a:pt x="6" y="442"/>
                  </a:lnTo>
                  <a:lnTo>
                    <a:pt x="8" y="440"/>
                  </a:lnTo>
                  <a:lnTo>
                    <a:pt x="10" y="434"/>
                  </a:lnTo>
                  <a:lnTo>
                    <a:pt x="36" y="384"/>
                  </a:lnTo>
                  <a:lnTo>
                    <a:pt x="36" y="384"/>
                  </a:lnTo>
                  <a:lnTo>
                    <a:pt x="62" y="336"/>
                  </a:lnTo>
                  <a:lnTo>
                    <a:pt x="82" y="292"/>
                  </a:lnTo>
                  <a:lnTo>
                    <a:pt x="98" y="262"/>
                  </a:lnTo>
                  <a:lnTo>
                    <a:pt x="98" y="262"/>
                  </a:lnTo>
                  <a:lnTo>
                    <a:pt x="106" y="242"/>
                  </a:lnTo>
                  <a:lnTo>
                    <a:pt x="94" y="264"/>
                  </a:lnTo>
                  <a:lnTo>
                    <a:pt x="82" y="292"/>
                  </a:lnTo>
                  <a:lnTo>
                    <a:pt x="80" y="294"/>
                  </a:lnTo>
                  <a:lnTo>
                    <a:pt x="84" y="280"/>
                  </a:lnTo>
                  <a:lnTo>
                    <a:pt x="84" y="280"/>
                  </a:lnTo>
                  <a:lnTo>
                    <a:pt x="90" y="272"/>
                  </a:lnTo>
                  <a:lnTo>
                    <a:pt x="98" y="254"/>
                  </a:lnTo>
                  <a:lnTo>
                    <a:pt x="108" y="228"/>
                  </a:lnTo>
                  <a:lnTo>
                    <a:pt x="120" y="198"/>
                  </a:lnTo>
                  <a:lnTo>
                    <a:pt x="120" y="198"/>
                  </a:lnTo>
                  <a:lnTo>
                    <a:pt x="124" y="194"/>
                  </a:lnTo>
                  <a:lnTo>
                    <a:pt x="122" y="196"/>
                  </a:lnTo>
                  <a:lnTo>
                    <a:pt x="118" y="210"/>
                  </a:lnTo>
                  <a:lnTo>
                    <a:pt x="112" y="224"/>
                  </a:lnTo>
                  <a:lnTo>
                    <a:pt x="112" y="226"/>
                  </a:lnTo>
                  <a:lnTo>
                    <a:pt x="114" y="220"/>
                  </a:lnTo>
                  <a:lnTo>
                    <a:pt x="114" y="220"/>
                  </a:lnTo>
                  <a:lnTo>
                    <a:pt x="118" y="212"/>
                  </a:lnTo>
                  <a:lnTo>
                    <a:pt x="122" y="202"/>
                  </a:lnTo>
                  <a:lnTo>
                    <a:pt x="134" y="174"/>
                  </a:lnTo>
                  <a:lnTo>
                    <a:pt x="134" y="174"/>
                  </a:lnTo>
                  <a:lnTo>
                    <a:pt x="134" y="174"/>
                  </a:lnTo>
                  <a:lnTo>
                    <a:pt x="136" y="168"/>
                  </a:lnTo>
                  <a:lnTo>
                    <a:pt x="142" y="154"/>
                  </a:lnTo>
                  <a:lnTo>
                    <a:pt x="148" y="140"/>
                  </a:lnTo>
                  <a:lnTo>
                    <a:pt x="150" y="138"/>
                  </a:lnTo>
                  <a:lnTo>
                    <a:pt x="150" y="140"/>
                  </a:lnTo>
                  <a:lnTo>
                    <a:pt x="150" y="140"/>
                  </a:lnTo>
                  <a:lnTo>
                    <a:pt x="178" y="56"/>
                  </a:lnTo>
                  <a:lnTo>
                    <a:pt x="178" y="56"/>
                  </a:lnTo>
                  <a:lnTo>
                    <a:pt x="188" y="3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90" y="18"/>
                  </a:lnTo>
                  <a:lnTo>
                    <a:pt x="190" y="18"/>
                  </a:lnTo>
                  <a:lnTo>
                    <a:pt x="190" y="16"/>
                  </a:lnTo>
                  <a:lnTo>
                    <a:pt x="190" y="14"/>
                  </a:lnTo>
                  <a:lnTo>
                    <a:pt x="188" y="16"/>
                  </a:lnTo>
                  <a:lnTo>
                    <a:pt x="180" y="36"/>
                  </a:lnTo>
                  <a:lnTo>
                    <a:pt x="180" y="36"/>
                  </a:lnTo>
                  <a:lnTo>
                    <a:pt x="158" y="100"/>
                  </a:lnTo>
                  <a:lnTo>
                    <a:pt x="128" y="174"/>
                  </a:lnTo>
                  <a:lnTo>
                    <a:pt x="96" y="250"/>
                  </a:lnTo>
                  <a:lnTo>
                    <a:pt x="62" y="320"/>
                  </a:lnTo>
                  <a:lnTo>
                    <a:pt x="62" y="320"/>
                  </a:lnTo>
                  <a:lnTo>
                    <a:pt x="58" y="334"/>
                  </a:lnTo>
                  <a:lnTo>
                    <a:pt x="48" y="354"/>
                  </a:lnTo>
                  <a:lnTo>
                    <a:pt x="36" y="376"/>
                  </a:lnTo>
                  <a:lnTo>
                    <a:pt x="30" y="392"/>
                  </a:lnTo>
                  <a:lnTo>
                    <a:pt x="30" y="392"/>
                  </a:lnTo>
                  <a:lnTo>
                    <a:pt x="22" y="400"/>
                  </a:lnTo>
                  <a:lnTo>
                    <a:pt x="22" y="400"/>
                  </a:lnTo>
                  <a:lnTo>
                    <a:pt x="10" y="422"/>
                  </a:lnTo>
                  <a:lnTo>
                    <a:pt x="14" y="418"/>
                  </a:lnTo>
                  <a:lnTo>
                    <a:pt x="22" y="404"/>
                  </a:lnTo>
                  <a:lnTo>
                    <a:pt x="24" y="400"/>
                  </a:lnTo>
                  <a:lnTo>
                    <a:pt x="24" y="402"/>
                  </a:lnTo>
                  <a:lnTo>
                    <a:pt x="24" y="402"/>
                  </a:lnTo>
                  <a:lnTo>
                    <a:pt x="6" y="434"/>
                  </a:lnTo>
                  <a:lnTo>
                    <a:pt x="4" y="442"/>
                  </a:lnTo>
                  <a:lnTo>
                    <a:pt x="4" y="442"/>
                  </a:lnTo>
                  <a:lnTo>
                    <a:pt x="6" y="440"/>
                  </a:lnTo>
                  <a:lnTo>
                    <a:pt x="6" y="440"/>
                  </a:lnTo>
                  <a:lnTo>
                    <a:pt x="22" y="426"/>
                  </a:lnTo>
                  <a:lnTo>
                    <a:pt x="20" y="426"/>
                  </a:lnTo>
                  <a:lnTo>
                    <a:pt x="24" y="420"/>
                  </a:lnTo>
                  <a:lnTo>
                    <a:pt x="50" y="402"/>
                  </a:lnTo>
                  <a:lnTo>
                    <a:pt x="50" y="402"/>
                  </a:lnTo>
                  <a:lnTo>
                    <a:pt x="92" y="368"/>
                  </a:lnTo>
                  <a:lnTo>
                    <a:pt x="138" y="334"/>
                  </a:lnTo>
                  <a:lnTo>
                    <a:pt x="190" y="300"/>
                  </a:lnTo>
                  <a:lnTo>
                    <a:pt x="244" y="268"/>
                  </a:lnTo>
                  <a:lnTo>
                    <a:pt x="300" y="238"/>
                  </a:lnTo>
                  <a:lnTo>
                    <a:pt x="358" y="212"/>
                  </a:lnTo>
                  <a:lnTo>
                    <a:pt x="416" y="188"/>
                  </a:lnTo>
                  <a:lnTo>
                    <a:pt x="474" y="166"/>
                  </a:lnTo>
                  <a:lnTo>
                    <a:pt x="462" y="168"/>
                  </a:lnTo>
                  <a:lnTo>
                    <a:pt x="462" y="168"/>
                  </a:lnTo>
                  <a:lnTo>
                    <a:pt x="552" y="138"/>
                  </a:lnTo>
                  <a:lnTo>
                    <a:pt x="594" y="126"/>
                  </a:lnTo>
                  <a:lnTo>
                    <a:pt x="640" y="118"/>
                  </a:lnTo>
                  <a:lnTo>
                    <a:pt x="662" y="112"/>
                  </a:lnTo>
                  <a:lnTo>
                    <a:pt x="662" y="112"/>
                  </a:lnTo>
                  <a:lnTo>
                    <a:pt x="658" y="114"/>
                  </a:lnTo>
                  <a:lnTo>
                    <a:pt x="662" y="114"/>
                  </a:lnTo>
                  <a:lnTo>
                    <a:pt x="664" y="116"/>
                  </a:lnTo>
                  <a:lnTo>
                    <a:pt x="656" y="118"/>
                  </a:lnTo>
                  <a:lnTo>
                    <a:pt x="656" y="118"/>
                  </a:lnTo>
                  <a:lnTo>
                    <a:pt x="686" y="112"/>
                  </a:lnTo>
                  <a:lnTo>
                    <a:pt x="716" y="108"/>
                  </a:lnTo>
                  <a:lnTo>
                    <a:pt x="680" y="112"/>
                  </a:lnTo>
                  <a:lnTo>
                    <a:pt x="680" y="112"/>
                  </a:lnTo>
                  <a:lnTo>
                    <a:pt x="700" y="108"/>
                  </a:lnTo>
                  <a:lnTo>
                    <a:pt x="718" y="106"/>
                  </a:lnTo>
                  <a:lnTo>
                    <a:pt x="742" y="104"/>
                  </a:lnTo>
                  <a:lnTo>
                    <a:pt x="742" y="104"/>
                  </a:lnTo>
                  <a:lnTo>
                    <a:pt x="760" y="102"/>
                  </a:lnTo>
                  <a:lnTo>
                    <a:pt x="744" y="102"/>
                  </a:lnTo>
                  <a:lnTo>
                    <a:pt x="698" y="104"/>
                  </a:lnTo>
                  <a:lnTo>
                    <a:pt x="698" y="104"/>
                  </a:lnTo>
                  <a:lnTo>
                    <a:pt x="652" y="114"/>
                  </a:lnTo>
                  <a:lnTo>
                    <a:pt x="622" y="118"/>
                  </a:lnTo>
                  <a:lnTo>
                    <a:pt x="592" y="124"/>
                  </a:lnTo>
                  <a:lnTo>
                    <a:pt x="550" y="134"/>
                  </a:lnTo>
                  <a:lnTo>
                    <a:pt x="550" y="134"/>
                  </a:lnTo>
                  <a:lnTo>
                    <a:pt x="532" y="140"/>
                  </a:lnTo>
                  <a:lnTo>
                    <a:pt x="536" y="140"/>
                  </a:lnTo>
                  <a:lnTo>
                    <a:pt x="552" y="138"/>
                  </a:lnTo>
                  <a:lnTo>
                    <a:pt x="552" y="138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88"/>
            <p:cNvSpPr/>
            <p:nvPr/>
          </p:nvSpPr>
          <p:spPr>
            <a:xfrm>
              <a:off x="10123560" y="707868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0" y="2"/>
                  </a:moveTo>
                  <a:lnTo>
                    <a:pt x="0" y="2"/>
                  </a:lnTo>
                  <a:lnTo>
                    <a:pt x="1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89"/>
            <p:cNvSpPr/>
            <p:nvPr/>
          </p:nvSpPr>
          <p:spPr>
            <a:xfrm>
              <a:off x="9409320" y="685944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" h="20">
                  <a:moveTo>
                    <a:pt x="0" y="20"/>
                  </a:moveTo>
                  <a:lnTo>
                    <a:pt x="0" y="2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Rectangle 90"/>
            <p:cNvSpPr/>
            <p:nvPr/>
          </p:nvSpPr>
          <p:spPr>
            <a:xfrm>
              <a:off x="10276200" y="7056360"/>
              <a:ext cx="1440" cy="1440"/>
            </a:xfrm>
            <a:prstGeom prst="rect">
              <a:avLst/>
            </a:pr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91"/>
            <p:cNvSpPr/>
            <p:nvPr/>
          </p:nvSpPr>
          <p:spPr>
            <a:xfrm>
              <a:off x="10301400" y="7043760"/>
              <a:ext cx="31680" cy="2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0" h="2">
                  <a:moveTo>
                    <a:pt x="20" y="0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92"/>
            <p:cNvSpPr/>
            <p:nvPr/>
          </p:nvSpPr>
          <p:spPr>
            <a:xfrm>
              <a:off x="9498240" y="65610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93"/>
            <p:cNvSpPr/>
            <p:nvPr/>
          </p:nvSpPr>
          <p:spPr>
            <a:xfrm>
              <a:off x="9285480" y="571320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0"/>
                  </a:moveTo>
                  <a:lnTo>
                    <a:pt x="10" y="6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94"/>
            <p:cNvSpPr/>
            <p:nvPr/>
          </p:nvSpPr>
          <p:spPr>
            <a:xfrm>
              <a:off x="7583400" y="5618160"/>
              <a:ext cx="1949400" cy="1355760"/>
            </a:xfrm>
            <a:custGeom>
              <a:avLst/>
              <a:gdLst>
                <a:gd name="textAreaLeft" fmla="*/ 0 w 1949400"/>
                <a:gd name="textAreaRight" fmla="*/ 1949760 w 1949400"/>
                <a:gd name="textAreaTop" fmla="*/ 0 h 1355760"/>
                <a:gd name="textAreaBottom" fmla="*/ 1356120 h 1355760"/>
              </a:gdLst>
              <a:ahLst/>
              <a:rect l="textAreaLeft" t="textAreaTop" r="textAreaRight" b="textAreaBottom"/>
              <a:pathLst>
                <a:path w="1228" h="854">
                  <a:moveTo>
                    <a:pt x="36" y="686"/>
                  </a:moveTo>
                  <a:lnTo>
                    <a:pt x="36" y="686"/>
                  </a:lnTo>
                  <a:lnTo>
                    <a:pt x="22" y="746"/>
                  </a:lnTo>
                  <a:lnTo>
                    <a:pt x="10" y="800"/>
                  </a:lnTo>
                  <a:lnTo>
                    <a:pt x="10" y="798"/>
                  </a:lnTo>
                  <a:lnTo>
                    <a:pt x="10" y="798"/>
                  </a:lnTo>
                  <a:lnTo>
                    <a:pt x="2" y="842"/>
                  </a:lnTo>
                  <a:lnTo>
                    <a:pt x="0" y="854"/>
                  </a:lnTo>
                  <a:lnTo>
                    <a:pt x="6" y="840"/>
                  </a:lnTo>
                  <a:lnTo>
                    <a:pt x="6" y="830"/>
                  </a:lnTo>
                  <a:lnTo>
                    <a:pt x="6" y="830"/>
                  </a:lnTo>
                  <a:lnTo>
                    <a:pt x="12" y="804"/>
                  </a:lnTo>
                  <a:lnTo>
                    <a:pt x="16" y="792"/>
                  </a:lnTo>
                  <a:lnTo>
                    <a:pt x="20" y="780"/>
                  </a:lnTo>
                  <a:lnTo>
                    <a:pt x="24" y="760"/>
                  </a:lnTo>
                  <a:lnTo>
                    <a:pt x="24" y="760"/>
                  </a:lnTo>
                  <a:lnTo>
                    <a:pt x="36" y="704"/>
                  </a:lnTo>
                  <a:lnTo>
                    <a:pt x="42" y="680"/>
                  </a:lnTo>
                  <a:lnTo>
                    <a:pt x="50" y="652"/>
                  </a:lnTo>
                  <a:lnTo>
                    <a:pt x="50" y="652"/>
                  </a:lnTo>
                  <a:lnTo>
                    <a:pt x="54" y="640"/>
                  </a:lnTo>
                  <a:lnTo>
                    <a:pt x="54" y="644"/>
                  </a:lnTo>
                  <a:lnTo>
                    <a:pt x="54" y="644"/>
                  </a:lnTo>
                  <a:lnTo>
                    <a:pt x="68" y="598"/>
                  </a:lnTo>
                  <a:lnTo>
                    <a:pt x="78" y="562"/>
                  </a:lnTo>
                  <a:lnTo>
                    <a:pt x="78" y="562"/>
                  </a:lnTo>
                  <a:lnTo>
                    <a:pt x="82" y="556"/>
                  </a:lnTo>
                  <a:lnTo>
                    <a:pt x="88" y="540"/>
                  </a:lnTo>
                  <a:lnTo>
                    <a:pt x="106" y="496"/>
                  </a:lnTo>
                  <a:lnTo>
                    <a:pt x="128" y="442"/>
                  </a:lnTo>
                  <a:lnTo>
                    <a:pt x="140" y="418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66" y="370"/>
                  </a:lnTo>
                  <a:lnTo>
                    <a:pt x="184" y="340"/>
                  </a:lnTo>
                  <a:lnTo>
                    <a:pt x="222" y="280"/>
                  </a:lnTo>
                  <a:lnTo>
                    <a:pt x="222" y="280"/>
                  </a:lnTo>
                  <a:lnTo>
                    <a:pt x="220" y="284"/>
                  </a:lnTo>
                  <a:lnTo>
                    <a:pt x="222" y="284"/>
                  </a:lnTo>
                  <a:lnTo>
                    <a:pt x="230" y="272"/>
                  </a:lnTo>
                  <a:lnTo>
                    <a:pt x="242" y="258"/>
                  </a:lnTo>
                  <a:lnTo>
                    <a:pt x="246" y="254"/>
                  </a:lnTo>
                  <a:lnTo>
                    <a:pt x="246" y="254"/>
                  </a:lnTo>
                  <a:lnTo>
                    <a:pt x="246" y="254"/>
                  </a:lnTo>
                  <a:lnTo>
                    <a:pt x="246" y="254"/>
                  </a:lnTo>
                  <a:lnTo>
                    <a:pt x="250" y="246"/>
                  </a:lnTo>
                  <a:lnTo>
                    <a:pt x="262" y="232"/>
                  </a:lnTo>
                  <a:lnTo>
                    <a:pt x="296" y="198"/>
                  </a:lnTo>
                  <a:lnTo>
                    <a:pt x="328" y="166"/>
                  </a:lnTo>
                  <a:lnTo>
                    <a:pt x="346" y="148"/>
                  </a:lnTo>
                  <a:lnTo>
                    <a:pt x="346" y="148"/>
                  </a:lnTo>
                  <a:lnTo>
                    <a:pt x="374" y="128"/>
                  </a:lnTo>
                  <a:lnTo>
                    <a:pt x="410" y="104"/>
                  </a:lnTo>
                  <a:lnTo>
                    <a:pt x="410" y="104"/>
                  </a:lnTo>
                  <a:lnTo>
                    <a:pt x="396" y="116"/>
                  </a:lnTo>
                  <a:lnTo>
                    <a:pt x="396" y="116"/>
                  </a:lnTo>
                  <a:lnTo>
                    <a:pt x="428" y="96"/>
                  </a:lnTo>
                  <a:lnTo>
                    <a:pt x="442" y="88"/>
                  </a:lnTo>
                  <a:lnTo>
                    <a:pt x="458" y="82"/>
                  </a:lnTo>
                  <a:lnTo>
                    <a:pt x="458" y="82"/>
                  </a:lnTo>
                  <a:lnTo>
                    <a:pt x="482" y="70"/>
                  </a:lnTo>
                  <a:lnTo>
                    <a:pt x="486" y="66"/>
                  </a:lnTo>
                  <a:lnTo>
                    <a:pt x="486" y="66"/>
                  </a:lnTo>
                  <a:lnTo>
                    <a:pt x="486" y="66"/>
                  </a:lnTo>
                  <a:lnTo>
                    <a:pt x="498" y="60"/>
                  </a:lnTo>
                  <a:lnTo>
                    <a:pt x="498" y="60"/>
                  </a:lnTo>
                  <a:lnTo>
                    <a:pt x="546" y="44"/>
                  </a:lnTo>
                  <a:lnTo>
                    <a:pt x="576" y="40"/>
                  </a:lnTo>
                  <a:lnTo>
                    <a:pt x="576" y="40"/>
                  </a:lnTo>
                  <a:lnTo>
                    <a:pt x="584" y="36"/>
                  </a:lnTo>
                  <a:lnTo>
                    <a:pt x="602" y="32"/>
                  </a:lnTo>
                  <a:lnTo>
                    <a:pt x="646" y="22"/>
                  </a:lnTo>
                  <a:lnTo>
                    <a:pt x="646" y="22"/>
                  </a:lnTo>
                  <a:lnTo>
                    <a:pt x="622" y="26"/>
                  </a:lnTo>
                  <a:lnTo>
                    <a:pt x="616" y="26"/>
                  </a:lnTo>
                  <a:lnTo>
                    <a:pt x="624" y="24"/>
                  </a:lnTo>
                  <a:lnTo>
                    <a:pt x="624" y="24"/>
                  </a:lnTo>
                  <a:lnTo>
                    <a:pt x="688" y="12"/>
                  </a:lnTo>
                  <a:lnTo>
                    <a:pt x="712" y="8"/>
                  </a:lnTo>
                  <a:lnTo>
                    <a:pt x="750" y="4"/>
                  </a:lnTo>
                  <a:lnTo>
                    <a:pt x="750" y="4"/>
                  </a:lnTo>
                  <a:lnTo>
                    <a:pt x="758" y="4"/>
                  </a:lnTo>
                  <a:lnTo>
                    <a:pt x="754" y="4"/>
                  </a:lnTo>
                  <a:lnTo>
                    <a:pt x="736" y="6"/>
                  </a:lnTo>
                  <a:lnTo>
                    <a:pt x="722" y="8"/>
                  </a:lnTo>
                  <a:lnTo>
                    <a:pt x="742" y="8"/>
                  </a:lnTo>
                  <a:lnTo>
                    <a:pt x="742" y="8"/>
                  </a:lnTo>
                  <a:lnTo>
                    <a:pt x="686" y="16"/>
                  </a:lnTo>
                  <a:lnTo>
                    <a:pt x="644" y="24"/>
                  </a:lnTo>
                  <a:lnTo>
                    <a:pt x="644" y="24"/>
                  </a:lnTo>
                  <a:lnTo>
                    <a:pt x="690" y="16"/>
                  </a:lnTo>
                  <a:lnTo>
                    <a:pt x="738" y="12"/>
                  </a:lnTo>
                  <a:lnTo>
                    <a:pt x="786" y="8"/>
                  </a:lnTo>
                  <a:lnTo>
                    <a:pt x="834" y="6"/>
                  </a:lnTo>
                  <a:lnTo>
                    <a:pt x="834" y="6"/>
                  </a:lnTo>
                  <a:lnTo>
                    <a:pt x="848" y="6"/>
                  </a:lnTo>
                  <a:lnTo>
                    <a:pt x="842" y="6"/>
                  </a:lnTo>
                  <a:lnTo>
                    <a:pt x="836" y="6"/>
                  </a:lnTo>
                  <a:lnTo>
                    <a:pt x="844" y="8"/>
                  </a:lnTo>
                  <a:lnTo>
                    <a:pt x="844" y="8"/>
                  </a:lnTo>
                  <a:lnTo>
                    <a:pt x="886" y="10"/>
                  </a:lnTo>
                  <a:lnTo>
                    <a:pt x="922" y="14"/>
                  </a:lnTo>
                  <a:lnTo>
                    <a:pt x="954" y="18"/>
                  </a:lnTo>
                  <a:lnTo>
                    <a:pt x="988" y="28"/>
                  </a:lnTo>
                  <a:lnTo>
                    <a:pt x="978" y="26"/>
                  </a:lnTo>
                  <a:lnTo>
                    <a:pt x="978" y="26"/>
                  </a:lnTo>
                  <a:lnTo>
                    <a:pt x="992" y="30"/>
                  </a:lnTo>
                  <a:lnTo>
                    <a:pt x="1008" y="34"/>
                  </a:lnTo>
                  <a:lnTo>
                    <a:pt x="1028" y="42"/>
                  </a:lnTo>
                  <a:lnTo>
                    <a:pt x="1048" y="52"/>
                  </a:lnTo>
                  <a:lnTo>
                    <a:pt x="1068" y="64"/>
                  </a:lnTo>
                  <a:lnTo>
                    <a:pt x="1088" y="78"/>
                  </a:lnTo>
                  <a:lnTo>
                    <a:pt x="1106" y="92"/>
                  </a:lnTo>
                  <a:lnTo>
                    <a:pt x="1124" y="108"/>
                  </a:lnTo>
                  <a:lnTo>
                    <a:pt x="1124" y="108"/>
                  </a:lnTo>
                  <a:lnTo>
                    <a:pt x="1118" y="102"/>
                  </a:lnTo>
                  <a:lnTo>
                    <a:pt x="1122" y="104"/>
                  </a:lnTo>
                  <a:lnTo>
                    <a:pt x="1122" y="104"/>
                  </a:lnTo>
                  <a:lnTo>
                    <a:pt x="1130" y="114"/>
                  </a:lnTo>
                  <a:lnTo>
                    <a:pt x="1152" y="140"/>
                  </a:lnTo>
                  <a:lnTo>
                    <a:pt x="1164" y="158"/>
                  </a:lnTo>
                  <a:lnTo>
                    <a:pt x="1176" y="176"/>
                  </a:lnTo>
                  <a:lnTo>
                    <a:pt x="1186" y="198"/>
                  </a:lnTo>
                  <a:lnTo>
                    <a:pt x="1194" y="220"/>
                  </a:lnTo>
                  <a:lnTo>
                    <a:pt x="1194" y="220"/>
                  </a:lnTo>
                  <a:lnTo>
                    <a:pt x="1196" y="220"/>
                  </a:lnTo>
                  <a:lnTo>
                    <a:pt x="1198" y="226"/>
                  </a:lnTo>
                  <a:lnTo>
                    <a:pt x="1206" y="246"/>
                  </a:lnTo>
                  <a:lnTo>
                    <a:pt x="1214" y="274"/>
                  </a:lnTo>
                  <a:lnTo>
                    <a:pt x="1220" y="302"/>
                  </a:lnTo>
                  <a:lnTo>
                    <a:pt x="1220" y="302"/>
                  </a:lnTo>
                  <a:lnTo>
                    <a:pt x="1220" y="312"/>
                  </a:lnTo>
                  <a:lnTo>
                    <a:pt x="1220" y="312"/>
                  </a:lnTo>
                  <a:lnTo>
                    <a:pt x="1220" y="312"/>
                  </a:lnTo>
                  <a:lnTo>
                    <a:pt x="1220" y="312"/>
                  </a:lnTo>
                  <a:lnTo>
                    <a:pt x="1214" y="278"/>
                  </a:lnTo>
                  <a:lnTo>
                    <a:pt x="1208" y="258"/>
                  </a:lnTo>
                  <a:lnTo>
                    <a:pt x="1190" y="216"/>
                  </a:lnTo>
                  <a:lnTo>
                    <a:pt x="1190" y="216"/>
                  </a:lnTo>
                  <a:lnTo>
                    <a:pt x="1196" y="230"/>
                  </a:lnTo>
                  <a:lnTo>
                    <a:pt x="1202" y="246"/>
                  </a:lnTo>
                  <a:lnTo>
                    <a:pt x="1210" y="280"/>
                  </a:lnTo>
                  <a:lnTo>
                    <a:pt x="1216" y="316"/>
                  </a:lnTo>
                  <a:lnTo>
                    <a:pt x="1220" y="344"/>
                  </a:lnTo>
                  <a:lnTo>
                    <a:pt x="1218" y="332"/>
                  </a:lnTo>
                  <a:lnTo>
                    <a:pt x="1218" y="332"/>
                  </a:lnTo>
                  <a:lnTo>
                    <a:pt x="1220" y="362"/>
                  </a:lnTo>
                  <a:lnTo>
                    <a:pt x="1222" y="382"/>
                  </a:lnTo>
                  <a:lnTo>
                    <a:pt x="1224" y="402"/>
                  </a:lnTo>
                  <a:lnTo>
                    <a:pt x="1224" y="432"/>
                  </a:lnTo>
                  <a:lnTo>
                    <a:pt x="1222" y="428"/>
                  </a:lnTo>
                  <a:lnTo>
                    <a:pt x="1222" y="428"/>
                  </a:lnTo>
                  <a:lnTo>
                    <a:pt x="1220" y="470"/>
                  </a:lnTo>
                  <a:lnTo>
                    <a:pt x="1216" y="512"/>
                  </a:lnTo>
                  <a:lnTo>
                    <a:pt x="1208" y="556"/>
                  </a:lnTo>
                  <a:lnTo>
                    <a:pt x="1200" y="600"/>
                  </a:lnTo>
                  <a:lnTo>
                    <a:pt x="1182" y="680"/>
                  </a:lnTo>
                  <a:lnTo>
                    <a:pt x="1164" y="752"/>
                  </a:lnTo>
                  <a:lnTo>
                    <a:pt x="1164" y="752"/>
                  </a:lnTo>
                  <a:lnTo>
                    <a:pt x="1166" y="752"/>
                  </a:lnTo>
                  <a:lnTo>
                    <a:pt x="1166" y="750"/>
                  </a:lnTo>
                  <a:lnTo>
                    <a:pt x="1172" y="736"/>
                  </a:lnTo>
                  <a:lnTo>
                    <a:pt x="1180" y="716"/>
                  </a:lnTo>
                  <a:lnTo>
                    <a:pt x="1180" y="716"/>
                  </a:lnTo>
                  <a:lnTo>
                    <a:pt x="1194" y="650"/>
                  </a:lnTo>
                  <a:lnTo>
                    <a:pt x="1204" y="592"/>
                  </a:lnTo>
                  <a:lnTo>
                    <a:pt x="1206" y="594"/>
                  </a:lnTo>
                  <a:lnTo>
                    <a:pt x="1206" y="594"/>
                  </a:lnTo>
                  <a:lnTo>
                    <a:pt x="1210" y="564"/>
                  </a:lnTo>
                  <a:lnTo>
                    <a:pt x="1210" y="556"/>
                  </a:lnTo>
                  <a:lnTo>
                    <a:pt x="1208" y="562"/>
                  </a:lnTo>
                  <a:lnTo>
                    <a:pt x="1208" y="562"/>
                  </a:lnTo>
                  <a:lnTo>
                    <a:pt x="1210" y="544"/>
                  </a:lnTo>
                  <a:lnTo>
                    <a:pt x="1214" y="534"/>
                  </a:lnTo>
                  <a:lnTo>
                    <a:pt x="1216" y="522"/>
                  </a:lnTo>
                  <a:lnTo>
                    <a:pt x="1218" y="500"/>
                  </a:lnTo>
                  <a:lnTo>
                    <a:pt x="1218" y="500"/>
                  </a:lnTo>
                  <a:lnTo>
                    <a:pt x="1218" y="506"/>
                  </a:lnTo>
                  <a:lnTo>
                    <a:pt x="1218" y="514"/>
                  </a:lnTo>
                  <a:lnTo>
                    <a:pt x="1218" y="524"/>
                  </a:lnTo>
                  <a:lnTo>
                    <a:pt x="1220" y="528"/>
                  </a:lnTo>
                  <a:lnTo>
                    <a:pt x="1222" y="494"/>
                  </a:lnTo>
                  <a:lnTo>
                    <a:pt x="1222" y="494"/>
                  </a:lnTo>
                  <a:lnTo>
                    <a:pt x="1222" y="496"/>
                  </a:lnTo>
                  <a:lnTo>
                    <a:pt x="1224" y="490"/>
                  </a:lnTo>
                  <a:lnTo>
                    <a:pt x="1224" y="484"/>
                  </a:lnTo>
                  <a:lnTo>
                    <a:pt x="1224" y="484"/>
                  </a:lnTo>
                  <a:lnTo>
                    <a:pt x="1224" y="484"/>
                  </a:lnTo>
                  <a:lnTo>
                    <a:pt x="1228" y="410"/>
                  </a:lnTo>
                  <a:lnTo>
                    <a:pt x="1228" y="376"/>
                  </a:lnTo>
                  <a:lnTo>
                    <a:pt x="1226" y="336"/>
                  </a:lnTo>
                  <a:lnTo>
                    <a:pt x="1226" y="336"/>
                  </a:lnTo>
                  <a:lnTo>
                    <a:pt x="1228" y="370"/>
                  </a:lnTo>
                  <a:lnTo>
                    <a:pt x="1228" y="370"/>
                  </a:lnTo>
                  <a:lnTo>
                    <a:pt x="1226" y="358"/>
                  </a:lnTo>
                  <a:lnTo>
                    <a:pt x="1224" y="334"/>
                  </a:lnTo>
                  <a:lnTo>
                    <a:pt x="1224" y="334"/>
                  </a:lnTo>
                  <a:lnTo>
                    <a:pt x="1222" y="310"/>
                  </a:lnTo>
                  <a:lnTo>
                    <a:pt x="1216" y="274"/>
                  </a:lnTo>
                  <a:lnTo>
                    <a:pt x="1216" y="274"/>
                  </a:lnTo>
                  <a:lnTo>
                    <a:pt x="1204" y="240"/>
                  </a:lnTo>
                  <a:lnTo>
                    <a:pt x="1188" y="198"/>
                  </a:lnTo>
                  <a:lnTo>
                    <a:pt x="1188" y="198"/>
                  </a:lnTo>
                  <a:lnTo>
                    <a:pt x="1188" y="198"/>
                  </a:lnTo>
                  <a:lnTo>
                    <a:pt x="1188" y="198"/>
                  </a:lnTo>
                  <a:lnTo>
                    <a:pt x="1186" y="192"/>
                  </a:lnTo>
                  <a:lnTo>
                    <a:pt x="1176" y="170"/>
                  </a:lnTo>
                  <a:lnTo>
                    <a:pt x="1156" y="136"/>
                  </a:lnTo>
                  <a:lnTo>
                    <a:pt x="1156" y="136"/>
                  </a:lnTo>
                  <a:lnTo>
                    <a:pt x="1128" y="106"/>
                  </a:lnTo>
                  <a:lnTo>
                    <a:pt x="1110" y="88"/>
                  </a:lnTo>
                  <a:lnTo>
                    <a:pt x="1102" y="82"/>
                  </a:lnTo>
                  <a:lnTo>
                    <a:pt x="1098" y="80"/>
                  </a:lnTo>
                  <a:lnTo>
                    <a:pt x="1098" y="80"/>
                  </a:lnTo>
                  <a:lnTo>
                    <a:pt x="1072" y="62"/>
                  </a:lnTo>
                  <a:lnTo>
                    <a:pt x="1058" y="52"/>
                  </a:lnTo>
                  <a:lnTo>
                    <a:pt x="1058" y="52"/>
                  </a:lnTo>
                  <a:lnTo>
                    <a:pt x="1072" y="60"/>
                  </a:lnTo>
                  <a:lnTo>
                    <a:pt x="1054" y="50"/>
                  </a:lnTo>
                  <a:lnTo>
                    <a:pt x="1054" y="50"/>
                  </a:lnTo>
                  <a:lnTo>
                    <a:pt x="1058" y="50"/>
                  </a:lnTo>
                  <a:lnTo>
                    <a:pt x="1058" y="50"/>
                  </a:lnTo>
                  <a:lnTo>
                    <a:pt x="1040" y="42"/>
                  </a:lnTo>
                  <a:lnTo>
                    <a:pt x="1020" y="34"/>
                  </a:lnTo>
                  <a:lnTo>
                    <a:pt x="1020" y="34"/>
                  </a:lnTo>
                  <a:lnTo>
                    <a:pt x="1028" y="36"/>
                  </a:lnTo>
                  <a:lnTo>
                    <a:pt x="1042" y="42"/>
                  </a:lnTo>
                  <a:lnTo>
                    <a:pt x="1042" y="42"/>
                  </a:lnTo>
                  <a:lnTo>
                    <a:pt x="1010" y="28"/>
                  </a:lnTo>
                  <a:lnTo>
                    <a:pt x="980" y="20"/>
                  </a:lnTo>
                  <a:lnTo>
                    <a:pt x="922" y="8"/>
                  </a:lnTo>
                  <a:lnTo>
                    <a:pt x="922" y="8"/>
                  </a:lnTo>
                  <a:lnTo>
                    <a:pt x="888" y="6"/>
                  </a:lnTo>
                  <a:lnTo>
                    <a:pt x="872" y="4"/>
                  </a:lnTo>
                  <a:lnTo>
                    <a:pt x="868" y="6"/>
                  </a:lnTo>
                  <a:lnTo>
                    <a:pt x="870" y="6"/>
                  </a:lnTo>
                  <a:lnTo>
                    <a:pt x="870" y="6"/>
                  </a:lnTo>
                  <a:lnTo>
                    <a:pt x="854" y="4"/>
                  </a:lnTo>
                  <a:lnTo>
                    <a:pt x="844" y="2"/>
                  </a:lnTo>
                  <a:lnTo>
                    <a:pt x="820" y="2"/>
                  </a:lnTo>
                  <a:lnTo>
                    <a:pt x="820" y="2"/>
                  </a:lnTo>
                  <a:lnTo>
                    <a:pt x="786" y="4"/>
                  </a:lnTo>
                  <a:lnTo>
                    <a:pt x="766" y="4"/>
                  </a:lnTo>
                  <a:lnTo>
                    <a:pt x="744" y="6"/>
                  </a:lnTo>
                  <a:lnTo>
                    <a:pt x="744" y="6"/>
                  </a:lnTo>
                  <a:lnTo>
                    <a:pt x="764" y="4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58" y="2"/>
                  </a:lnTo>
                  <a:lnTo>
                    <a:pt x="730" y="6"/>
                  </a:lnTo>
                  <a:lnTo>
                    <a:pt x="664" y="16"/>
                  </a:lnTo>
                  <a:lnTo>
                    <a:pt x="664" y="16"/>
                  </a:lnTo>
                  <a:lnTo>
                    <a:pt x="654" y="14"/>
                  </a:lnTo>
                  <a:lnTo>
                    <a:pt x="654" y="14"/>
                  </a:lnTo>
                  <a:lnTo>
                    <a:pt x="628" y="22"/>
                  </a:lnTo>
                  <a:lnTo>
                    <a:pt x="600" y="26"/>
                  </a:lnTo>
                  <a:lnTo>
                    <a:pt x="602" y="28"/>
                  </a:lnTo>
                  <a:lnTo>
                    <a:pt x="602" y="28"/>
                  </a:lnTo>
                  <a:lnTo>
                    <a:pt x="548" y="40"/>
                  </a:lnTo>
                  <a:lnTo>
                    <a:pt x="520" y="48"/>
                  </a:lnTo>
                  <a:lnTo>
                    <a:pt x="494" y="58"/>
                  </a:lnTo>
                  <a:lnTo>
                    <a:pt x="494" y="58"/>
                  </a:lnTo>
                  <a:lnTo>
                    <a:pt x="474" y="66"/>
                  </a:lnTo>
                  <a:lnTo>
                    <a:pt x="456" y="76"/>
                  </a:lnTo>
                  <a:lnTo>
                    <a:pt x="456" y="76"/>
                  </a:lnTo>
                  <a:lnTo>
                    <a:pt x="438" y="86"/>
                  </a:lnTo>
                  <a:lnTo>
                    <a:pt x="418" y="96"/>
                  </a:lnTo>
                  <a:lnTo>
                    <a:pt x="398" y="108"/>
                  </a:lnTo>
                  <a:lnTo>
                    <a:pt x="378" y="122"/>
                  </a:lnTo>
                  <a:lnTo>
                    <a:pt x="342" y="148"/>
                  </a:lnTo>
                  <a:lnTo>
                    <a:pt x="316" y="174"/>
                  </a:lnTo>
                  <a:lnTo>
                    <a:pt x="316" y="174"/>
                  </a:lnTo>
                  <a:lnTo>
                    <a:pt x="280" y="208"/>
                  </a:lnTo>
                  <a:lnTo>
                    <a:pt x="280" y="208"/>
                  </a:lnTo>
                  <a:lnTo>
                    <a:pt x="294" y="192"/>
                  </a:lnTo>
                  <a:lnTo>
                    <a:pt x="294" y="192"/>
                  </a:lnTo>
                  <a:lnTo>
                    <a:pt x="262" y="226"/>
                  </a:lnTo>
                  <a:lnTo>
                    <a:pt x="248" y="240"/>
                  </a:lnTo>
                  <a:lnTo>
                    <a:pt x="240" y="254"/>
                  </a:lnTo>
                  <a:lnTo>
                    <a:pt x="240" y="254"/>
                  </a:lnTo>
                  <a:lnTo>
                    <a:pt x="224" y="274"/>
                  </a:lnTo>
                  <a:lnTo>
                    <a:pt x="210" y="288"/>
                  </a:lnTo>
                  <a:lnTo>
                    <a:pt x="210" y="288"/>
                  </a:lnTo>
                  <a:lnTo>
                    <a:pt x="182" y="334"/>
                  </a:lnTo>
                  <a:lnTo>
                    <a:pt x="150" y="388"/>
                  </a:lnTo>
                  <a:lnTo>
                    <a:pt x="126" y="436"/>
                  </a:lnTo>
                  <a:lnTo>
                    <a:pt x="118" y="452"/>
                  </a:lnTo>
                  <a:lnTo>
                    <a:pt x="116" y="464"/>
                  </a:lnTo>
                  <a:lnTo>
                    <a:pt x="116" y="464"/>
                  </a:lnTo>
                  <a:lnTo>
                    <a:pt x="138" y="418"/>
                  </a:lnTo>
                  <a:lnTo>
                    <a:pt x="170" y="358"/>
                  </a:lnTo>
                  <a:lnTo>
                    <a:pt x="170" y="358"/>
                  </a:lnTo>
                  <a:lnTo>
                    <a:pt x="168" y="364"/>
                  </a:lnTo>
                  <a:lnTo>
                    <a:pt x="162" y="376"/>
                  </a:lnTo>
                  <a:lnTo>
                    <a:pt x="162" y="376"/>
                  </a:lnTo>
                  <a:lnTo>
                    <a:pt x="134" y="428"/>
                  </a:lnTo>
                  <a:lnTo>
                    <a:pt x="122" y="454"/>
                  </a:lnTo>
                  <a:lnTo>
                    <a:pt x="110" y="484"/>
                  </a:lnTo>
                  <a:lnTo>
                    <a:pt x="108" y="476"/>
                  </a:lnTo>
                  <a:lnTo>
                    <a:pt x="108" y="476"/>
                  </a:lnTo>
                  <a:lnTo>
                    <a:pt x="96" y="504"/>
                  </a:lnTo>
                  <a:lnTo>
                    <a:pt x="84" y="532"/>
                  </a:lnTo>
                  <a:lnTo>
                    <a:pt x="66" y="588"/>
                  </a:lnTo>
                  <a:lnTo>
                    <a:pt x="52" y="638"/>
                  </a:lnTo>
                  <a:lnTo>
                    <a:pt x="36" y="686"/>
                  </a:lnTo>
                  <a:lnTo>
                    <a:pt x="36" y="686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95"/>
            <p:cNvSpPr/>
            <p:nvPr/>
          </p:nvSpPr>
          <p:spPr>
            <a:xfrm>
              <a:off x="8066160" y="5868720"/>
              <a:ext cx="44280" cy="31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8" h="20">
                  <a:moveTo>
                    <a:pt x="28" y="0"/>
                  </a:moveTo>
                  <a:lnTo>
                    <a:pt x="28" y="0"/>
                  </a:lnTo>
                  <a:lnTo>
                    <a:pt x="14" y="10"/>
                  </a:lnTo>
                  <a:lnTo>
                    <a:pt x="0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16" y="8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96"/>
            <p:cNvSpPr/>
            <p:nvPr/>
          </p:nvSpPr>
          <p:spPr>
            <a:xfrm>
              <a:off x="8049960" y="590040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0"/>
                  </a:move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97"/>
            <p:cNvSpPr/>
            <p:nvPr/>
          </p:nvSpPr>
          <p:spPr>
            <a:xfrm>
              <a:off x="7576920" y="6922800"/>
              <a:ext cx="12600" cy="56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" h="36">
                  <a:moveTo>
                    <a:pt x="8" y="0"/>
                  </a:moveTo>
                  <a:lnTo>
                    <a:pt x="8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98"/>
            <p:cNvSpPr/>
            <p:nvPr/>
          </p:nvSpPr>
          <p:spPr>
            <a:xfrm>
              <a:off x="7576920" y="6954840"/>
              <a:ext cx="6120" cy="316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" h="20">
                  <a:moveTo>
                    <a:pt x="0" y="20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99"/>
            <p:cNvSpPr/>
            <p:nvPr/>
          </p:nvSpPr>
          <p:spPr>
            <a:xfrm>
              <a:off x="7364160" y="6989760"/>
              <a:ext cx="215640" cy="19047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136" h="1200">
                  <a:moveTo>
                    <a:pt x="20" y="1008"/>
                  </a:moveTo>
                  <a:lnTo>
                    <a:pt x="16" y="1064"/>
                  </a:lnTo>
                  <a:lnTo>
                    <a:pt x="16" y="1064"/>
                  </a:lnTo>
                  <a:lnTo>
                    <a:pt x="10" y="1102"/>
                  </a:lnTo>
                  <a:lnTo>
                    <a:pt x="8" y="1118"/>
                  </a:lnTo>
                  <a:lnTo>
                    <a:pt x="8" y="1120"/>
                  </a:lnTo>
                  <a:lnTo>
                    <a:pt x="8" y="1116"/>
                  </a:lnTo>
                  <a:lnTo>
                    <a:pt x="8" y="1116"/>
                  </a:lnTo>
                  <a:lnTo>
                    <a:pt x="6" y="1146"/>
                  </a:lnTo>
                  <a:lnTo>
                    <a:pt x="2" y="1178"/>
                  </a:lnTo>
                  <a:lnTo>
                    <a:pt x="0" y="1198"/>
                  </a:lnTo>
                  <a:lnTo>
                    <a:pt x="0" y="1200"/>
                  </a:lnTo>
                  <a:lnTo>
                    <a:pt x="2" y="1194"/>
                  </a:lnTo>
                  <a:lnTo>
                    <a:pt x="2" y="1194"/>
                  </a:lnTo>
                  <a:lnTo>
                    <a:pt x="18" y="1062"/>
                  </a:lnTo>
                  <a:lnTo>
                    <a:pt x="32" y="916"/>
                  </a:lnTo>
                  <a:lnTo>
                    <a:pt x="46" y="764"/>
                  </a:lnTo>
                  <a:lnTo>
                    <a:pt x="58" y="618"/>
                  </a:lnTo>
                  <a:lnTo>
                    <a:pt x="56" y="648"/>
                  </a:lnTo>
                  <a:lnTo>
                    <a:pt x="56" y="648"/>
                  </a:lnTo>
                  <a:lnTo>
                    <a:pt x="62" y="584"/>
                  </a:lnTo>
                  <a:lnTo>
                    <a:pt x="66" y="534"/>
                  </a:lnTo>
                  <a:lnTo>
                    <a:pt x="72" y="488"/>
                  </a:lnTo>
                  <a:lnTo>
                    <a:pt x="74" y="434"/>
                  </a:lnTo>
                  <a:lnTo>
                    <a:pt x="76" y="446"/>
                  </a:lnTo>
                  <a:lnTo>
                    <a:pt x="76" y="446"/>
                  </a:lnTo>
                  <a:lnTo>
                    <a:pt x="80" y="412"/>
                  </a:lnTo>
                  <a:lnTo>
                    <a:pt x="82" y="380"/>
                  </a:lnTo>
                  <a:lnTo>
                    <a:pt x="86" y="346"/>
                  </a:lnTo>
                  <a:lnTo>
                    <a:pt x="90" y="312"/>
                  </a:lnTo>
                  <a:lnTo>
                    <a:pt x="88" y="318"/>
                  </a:lnTo>
                  <a:lnTo>
                    <a:pt x="88" y="318"/>
                  </a:lnTo>
                  <a:lnTo>
                    <a:pt x="94" y="288"/>
                  </a:lnTo>
                  <a:lnTo>
                    <a:pt x="92" y="292"/>
                  </a:lnTo>
                  <a:lnTo>
                    <a:pt x="92" y="292"/>
                  </a:lnTo>
                  <a:lnTo>
                    <a:pt x="96" y="250"/>
                  </a:lnTo>
                  <a:lnTo>
                    <a:pt x="104" y="208"/>
                  </a:lnTo>
                  <a:lnTo>
                    <a:pt x="104" y="208"/>
                  </a:lnTo>
                  <a:lnTo>
                    <a:pt x="102" y="216"/>
                  </a:lnTo>
                  <a:lnTo>
                    <a:pt x="100" y="232"/>
                  </a:lnTo>
                  <a:lnTo>
                    <a:pt x="100" y="232"/>
                  </a:lnTo>
                  <a:lnTo>
                    <a:pt x="104" y="204"/>
                  </a:lnTo>
                  <a:lnTo>
                    <a:pt x="108" y="168"/>
                  </a:lnTo>
                  <a:lnTo>
                    <a:pt x="108" y="168"/>
                  </a:lnTo>
                  <a:lnTo>
                    <a:pt x="110" y="160"/>
                  </a:lnTo>
                  <a:lnTo>
                    <a:pt x="110" y="160"/>
                  </a:lnTo>
                  <a:lnTo>
                    <a:pt x="110" y="170"/>
                  </a:lnTo>
                  <a:lnTo>
                    <a:pt x="110" y="170"/>
                  </a:lnTo>
                  <a:lnTo>
                    <a:pt x="118" y="122"/>
                  </a:lnTo>
                  <a:lnTo>
                    <a:pt x="124" y="82"/>
                  </a:lnTo>
                  <a:lnTo>
                    <a:pt x="130" y="46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36" y="8"/>
                  </a:lnTo>
                  <a:lnTo>
                    <a:pt x="134" y="8"/>
                  </a:lnTo>
                  <a:lnTo>
                    <a:pt x="134" y="12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8" y="36"/>
                  </a:lnTo>
                  <a:lnTo>
                    <a:pt x="122" y="68"/>
                  </a:lnTo>
                  <a:lnTo>
                    <a:pt x="112" y="134"/>
                  </a:lnTo>
                  <a:lnTo>
                    <a:pt x="114" y="122"/>
                  </a:lnTo>
                  <a:lnTo>
                    <a:pt x="114" y="122"/>
                  </a:lnTo>
                  <a:lnTo>
                    <a:pt x="112" y="142"/>
                  </a:lnTo>
                  <a:lnTo>
                    <a:pt x="110" y="156"/>
                  </a:lnTo>
                  <a:lnTo>
                    <a:pt x="106" y="174"/>
                  </a:lnTo>
                  <a:lnTo>
                    <a:pt x="102" y="208"/>
                  </a:lnTo>
                  <a:lnTo>
                    <a:pt x="102" y="208"/>
                  </a:lnTo>
                  <a:lnTo>
                    <a:pt x="104" y="180"/>
                  </a:lnTo>
                  <a:lnTo>
                    <a:pt x="108" y="156"/>
                  </a:lnTo>
                  <a:lnTo>
                    <a:pt x="108" y="156"/>
                  </a:lnTo>
                  <a:lnTo>
                    <a:pt x="100" y="200"/>
                  </a:lnTo>
                  <a:lnTo>
                    <a:pt x="96" y="234"/>
                  </a:lnTo>
                  <a:lnTo>
                    <a:pt x="92" y="264"/>
                  </a:lnTo>
                  <a:lnTo>
                    <a:pt x="86" y="296"/>
                  </a:lnTo>
                  <a:lnTo>
                    <a:pt x="86" y="290"/>
                  </a:lnTo>
                  <a:lnTo>
                    <a:pt x="86" y="290"/>
                  </a:lnTo>
                  <a:lnTo>
                    <a:pt x="82" y="334"/>
                  </a:lnTo>
                  <a:lnTo>
                    <a:pt x="82" y="334"/>
                  </a:lnTo>
                  <a:lnTo>
                    <a:pt x="86" y="304"/>
                  </a:lnTo>
                  <a:lnTo>
                    <a:pt x="86" y="304"/>
                  </a:lnTo>
                  <a:lnTo>
                    <a:pt x="86" y="322"/>
                  </a:lnTo>
                  <a:lnTo>
                    <a:pt x="86" y="332"/>
                  </a:lnTo>
                  <a:lnTo>
                    <a:pt x="86" y="332"/>
                  </a:lnTo>
                  <a:lnTo>
                    <a:pt x="84" y="344"/>
                  </a:lnTo>
                  <a:lnTo>
                    <a:pt x="84" y="354"/>
                  </a:lnTo>
                  <a:lnTo>
                    <a:pt x="80" y="382"/>
                  </a:lnTo>
                  <a:lnTo>
                    <a:pt x="80" y="382"/>
                  </a:lnTo>
                  <a:lnTo>
                    <a:pt x="80" y="384"/>
                  </a:lnTo>
                  <a:lnTo>
                    <a:pt x="80" y="382"/>
                  </a:lnTo>
                  <a:lnTo>
                    <a:pt x="80" y="372"/>
                  </a:lnTo>
                  <a:lnTo>
                    <a:pt x="82" y="348"/>
                  </a:lnTo>
                  <a:lnTo>
                    <a:pt x="80" y="382"/>
                  </a:lnTo>
                  <a:lnTo>
                    <a:pt x="80" y="382"/>
                  </a:lnTo>
                  <a:lnTo>
                    <a:pt x="76" y="410"/>
                  </a:lnTo>
                  <a:lnTo>
                    <a:pt x="72" y="426"/>
                  </a:lnTo>
                  <a:lnTo>
                    <a:pt x="72" y="426"/>
                  </a:lnTo>
                  <a:lnTo>
                    <a:pt x="72" y="434"/>
                  </a:lnTo>
                  <a:lnTo>
                    <a:pt x="72" y="430"/>
                  </a:lnTo>
                  <a:lnTo>
                    <a:pt x="74" y="426"/>
                  </a:lnTo>
                  <a:lnTo>
                    <a:pt x="74" y="432"/>
                  </a:lnTo>
                  <a:lnTo>
                    <a:pt x="74" y="432"/>
                  </a:lnTo>
                  <a:lnTo>
                    <a:pt x="68" y="472"/>
                  </a:lnTo>
                  <a:lnTo>
                    <a:pt x="62" y="536"/>
                  </a:lnTo>
                  <a:lnTo>
                    <a:pt x="50" y="668"/>
                  </a:lnTo>
                  <a:lnTo>
                    <a:pt x="50" y="668"/>
                  </a:lnTo>
                  <a:lnTo>
                    <a:pt x="52" y="652"/>
                  </a:lnTo>
                  <a:lnTo>
                    <a:pt x="52" y="632"/>
                  </a:lnTo>
                  <a:lnTo>
                    <a:pt x="52" y="632"/>
                  </a:lnTo>
                  <a:lnTo>
                    <a:pt x="50" y="658"/>
                  </a:lnTo>
                  <a:lnTo>
                    <a:pt x="50" y="678"/>
                  </a:lnTo>
                  <a:lnTo>
                    <a:pt x="50" y="678"/>
                  </a:lnTo>
                  <a:lnTo>
                    <a:pt x="44" y="752"/>
                  </a:lnTo>
                  <a:lnTo>
                    <a:pt x="36" y="822"/>
                  </a:lnTo>
                  <a:lnTo>
                    <a:pt x="38" y="810"/>
                  </a:lnTo>
                  <a:lnTo>
                    <a:pt x="38" y="810"/>
                  </a:lnTo>
                  <a:lnTo>
                    <a:pt x="36" y="840"/>
                  </a:lnTo>
                  <a:lnTo>
                    <a:pt x="32" y="876"/>
                  </a:lnTo>
                  <a:lnTo>
                    <a:pt x="28" y="918"/>
                  </a:lnTo>
                  <a:lnTo>
                    <a:pt x="24" y="964"/>
                  </a:lnTo>
                  <a:lnTo>
                    <a:pt x="24" y="962"/>
                  </a:lnTo>
                  <a:lnTo>
                    <a:pt x="24" y="962"/>
                  </a:lnTo>
                  <a:lnTo>
                    <a:pt x="22" y="994"/>
                  </a:lnTo>
                  <a:lnTo>
                    <a:pt x="22" y="1012"/>
                  </a:lnTo>
                  <a:lnTo>
                    <a:pt x="20" y="1036"/>
                  </a:lnTo>
                  <a:lnTo>
                    <a:pt x="20" y="1036"/>
                  </a:lnTo>
                  <a:lnTo>
                    <a:pt x="20" y="1018"/>
                  </a:lnTo>
                  <a:lnTo>
                    <a:pt x="20" y="1010"/>
                  </a:lnTo>
                  <a:lnTo>
                    <a:pt x="20" y="1008"/>
                  </a:lnTo>
                  <a:lnTo>
                    <a:pt x="20" y="1008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00"/>
            <p:cNvSpPr/>
            <p:nvPr/>
          </p:nvSpPr>
          <p:spPr>
            <a:xfrm>
              <a:off x="7354800" y="8907480"/>
              <a:ext cx="6120" cy="75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" h="48">
                  <a:moveTo>
                    <a:pt x="2" y="22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4" y="24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22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01"/>
            <p:cNvSpPr/>
            <p:nvPr/>
          </p:nvSpPr>
          <p:spPr>
            <a:xfrm>
              <a:off x="7062480" y="9005760"/>
              <a:ext cx="285480" cy="9046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904680"/>
                <a:gd name="textAreaBottom" fmla="*/ 905040 h 904680"/>
              </a:gdLst>
              <a:ahLst/>
              <a:rect l="textAreaLeft" t="textAreaTop" r="textAreaRight" b="textAreaBottom"/>
              <a:pathLst>
                <a:path w="180" h="570">
                  <a:moveTo>
                    <a:pt x="96" y="374"/>
                  </a:moveTo>
                  <a:lnTo>
                    <a:pt x="96" y="374"/>
                  </a:lnTo>
                  <a:lnTo>
                    <a:pt x="94" y="380"/>
                  </a:lnTo>
                  <a:lnTo>
                    <a:pt x="94" y="382"/>
                  </a:lnTo>
                  <a:lnTo>
                    <a:pt x="94" y="382"/>
                  </a:lnTo>
                  <a:lnTo>
                    <a:pt x="106" y="350"/>
                  </a:lnTo>
                  <a:lnTo>
                    <a:pt x="116" y="316"/>
                  </a:lnTo>
                  <a:lnTo>
                    <a:pt x="134" y="250"/>
                  </a:lnTo>
                  <a:lnTo>
                    <a:pt x="156" y="154"/>
                  </a:lnTo>
                  <a:lnTo>
                    <a:pt x="156" y="154"/>
                  </a:lnTo>
                  <a:lnTo>
                    <a:pt x="160" y="136"/>
                  </a:lnTo>
                  <a:lnTo>
                    <a:pt x="162" y="120"/>
                  </a:lnTo>
                  <a:lnTo>
                    <a:pt x="166" y="82"/>
                  </a:lnTo>
                  <a:lnTo>
                    <a:pt x="172" y="64"/>
                  </a:lnTo>
                  <a:lnTo>
                    <a:pt x="172" y="64"/>
                  </a:lnTo>
                  <a:lnTo>
                    <a:pt x="178" y="18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78" y="16"/>
                  </a:lnTo>
                  <a:lnTo>
                    <a:pt x="174" y="40"/>
                  </a:lnTo>
                  <a:lnTo>
                    <a:pt x="174" y="36"/>
                  </a:lnTo>
                  <a:lnTo>
                    <a:pt x="168" y="76"/>
                  </a:lnTo>
                  <a:lnTo>
                    <a:pt x="168" y="64"/>
                  </a:lnTo>
                  <a:lnTo>
                    <a:pt x="168" y="64"/>
                  </a:lnTo>
                  <a:lnTo>
                    <a:pt x="162" y="94"/>
                  </a:lnTo>
                  <a:lnTo>
                    <a:pt x="162" y="112"/>
                  </a:lnTo>
                  <a:lnTo>
                    <a:pt x="158" y="132"/>
                  </a:lnTo>
                  <a:lnTo>
                    <a:pt x="152" y="168"/>
                  </a:lnTo>
                  <a:lnTo>
                    <a:pt x="150" y="168"/>
                  </a:lnTo>
                  <a:lnTo>
                    <a:pt x="150" y="168"/>
                  </a:lnTo>
                  <a:lnTo>
                    <a:pt x="136" y="222"/>
                  </a:lnTo>
                  <a:lnTo>
                    <a:pt x="124" y="272"/>
                  </a:lnTo>
                  <a:lnTo>
                    <a:pt x="124" y="272"/>
                  </a:lnTo>
                  <a:lnTo>
                    <a:pt x="124" y="272"/>
                  </a:lnTo>
                  <a:lnTo>
                    <a:pt x="126" y="266"/>
                  </a:lnTo>
                  <a:lnTo>
                    <a:pt x="126" y="266"/>
                  </a:lnTo>
                  <a:lnTo>
                    <a:pt x="130" y="256"/>
                  </a:lnTo>
                  <a:lnTo>
                    <a:pt x="130" y="252"/>
                  </a:lnTo>
                  <a:lnTo>
                    <a:pt x="132" y="254"/>
                  </a:lnTo>
                  <a:lnTo>
                    <a:pt x="132" y="254"/>
                  </a:lnTo>
                  <a:lnTo>
                    <a:pt x="124" y="282"/>
                  </a:lnTo>
                  <a:lnTo>
                    <a:pt x="124" y="282"/>
                  </a:lnTo>
                  <a:lnTo>
                    <a:pt x="124" y="280"/>
                  </a:lnTo>
                  <a:lnTo>
                    <a:pt x="124" y="274"/>
                  </a:lnTo>
                  <a:lnTo>
                    <a:pt x="118" y="290"/>
                  </a:lnTo>
                  <a:lnTo>
                    <a:pt x="118" y="290"/>
                  </a:lnTo>
                  <a:lnTo>
                    <a:pt x="106" y="340"/>
                  </a:lnTo>
                  <a:lnTo>
                    <a:pt x="86" y="396"/>
                  </a:lnTo>
                  <a:lnTo>
                    <a:pt x="66" y="446"/>
                  </a:lnTo>
                  <a:lnTo>
                    <a:pt x="58" y="466"/>
                  </a:lnTo>
                  <a:lnTo>
                    <a:pt x="50" y="480"/>
                  </a:lnTo>
                  <a:lnTo>
                    <a:pt x="50" y="480"/>
                  </a:lnTo>
                  <a:lnTo>
                    <a:pt x="54" y="472"/>
                  </a:lnTo>
                  <a:lnTo>
                    <a:pt x="52" y="482"/>
                  </a:lnTo>
                  <a:lnTo>
                    <a:pt x="42" y="500"/>
                  </a:lnTo>
                  <a:lnTo>
                    <a:pt x="30" y="522"/>
                  </a:lnTo>
                  <a:lnTo>
                    <a:pt x="30" y="522"/>
                  </a:lnTo>
                  <a:lnTo>
                    <a:pt x="28" y="526"/>
                  </a:lnTo>
                  <a:lnTo>
                    <a:pt x="30" y="520"/>
                  </a:lnTo>
                  <a:lnTo>
                    <a:pt x="36" y="506"/>
                  </a:lnTo>
                  <a:lnTo>
                    <a:pt x="36" y="506"/>
                  </a:lnTo>
                  <a:lnTo>
                    <a:pt x="14" y="544"/>
                  </a:lnTo>
                  <a:lnTo>
                    <a:pt x="14" y="544"/>
                  </a:lnTo>
                  <a:lnTo>
                    <a:pt x="20" y="536"/>
                  </a:lnTo>
                  <a:lnTo>
                    <a:pt x="20" y="538"/>
                  </a:lnTo>
                  <a:lnTo>
                    <a:pt x="18" y="540"/>
                  </a:lnTo>
                  <a:lnTo>
                    <a:pt x="0" y="570"/>
                  </a:lnTo>
                  <a:lnTo>
                    <a:pt x="0" y="570"/>
                  </a:lnTo>
                  <a:lnTo>
                    <a:pt x="18" y="546"/>
                  </a:lnTo>
                  <a:lnTo>
                    <a:pt x="32" y="522"/>
                  </a:lnTo>
                  <a:lnTo>
                    <a:pt x="44" y="498"/>
                  </a:lnTo>
                  <a:lnTo>
                    <a:pt x="56" y="476"/>
                  </a:lnTo>
                  <a:lnTo>
                    <a:pt x="76" y="426"/>
                  </a:lnTo>
                  <a:lnTo>
                    <a:pt x="96" y="374"/>
                  </a:lnTo>
                  <a:lnTo>
                    <a:pt x="96" y="374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02"/>
            <p:cNvSpPr/>
            <p:nvPr/>
          </p:nvSpPr>
          <p:spPr>
            <a:xfrm>
              <a:off x="7196040" y="9612360"/>
              <a:ext cx="15840" cy="475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" h="30">
                  <a:moveTo>
                    <a:pt x="6" y="14"/>
                  </a:moveTo>
                  <a:lnTo>
                    <a:pt x="6" y="1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0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f2a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グループ化 109"/>
          <p:cNvGrpSpPr/>
          <p:nvPr/>
        </p:nvGrpSpPr>
        <p:grpSpPr>
          <a:xfrm>
            <a:off x="8393040" y="142920"/>
            <a:ext cx="2841840" cy="3622680"/>
            <a:chOff x="8393040" y="142920"/>
            <a:chExt cx="2841840" cy="3622680"/>
          </a:xfrm>
        </p:grpSpPr>
        <p:sp>
          <p:nvSpPr>
            <p:cNvPr id="144" name="Freeform 103"/>
            <p:cNvSpPr/>
            <p:nvPr/>
          </p:nvSpPr>
          <p:spPr>
            <a:xfrm>
              <a:off x="8393040" y="142920"/>
              <a:ext cx="2841840" cy="3622680"/>
            </a:xfrm>
            <a:custGeom>
              <a:avLst/>
              <a:gdLst>
                <a:gd name="textAreaLeft" fmla="*/ 0 w 2841840"/>
                <a:gd name="textAreaRight" fmla="*/ 2842200 w 2841840"/>
                <a:gd name="textAreaTop" fmla="*/ 0 h 3622680"/>
                <a:gd name="textAreaBottom" fmla="*/ 3623040 h 3622680"/>
              </a:gdLst>
              <a:ahLst/>
              <a:rect l="textAreaLeft" t="textAreaTop" r="textAreaRight" b="textAreaBottom"/>
              <a:pathLst>
                <a:path w="1790" h="2282">
                  <a:moveTo>
                    <a:pt x="132" y="2282"/>
                  </a:moveTo>
                  <a:lnTo>
                    <a:pt x="132" y="2282"/>
                  </a:lnTo>
                  <a:lnTo>
                    <a:pt x="146" y="2260"/>
                  </a:lnTo>
                  <a:lnTo>
                    <a:pt x="162" y="2238"/>
                  </a:lnTo>
                  <a:lnTo>
                    <a:pt x="180" y="2216"/>
                  </a:lnTo>
                  <a:lnTo>
                    <a:pt x="200" y="2196"/>
                  </a:lnTo>
                  <a:lnTo>
                    <a:pt x="242" y="2154"/>
                  </a:lnTo>
                  <a:lnTo>
                    <a:pt x="292" y="2114"/>
                  </a:lnTo>
                  <a:lnTo>
                    <a:pt x="344" y="2074"/>
                  </a:lnTo>
                  <a:lnTo>
                    <a:pt x="402" y="2034"/>
                  </a:lnTo>
                  <a:lnTo>
                    <a:pt x="466" y="1994"/>
                  </a:lnTo>
                  <a:lnTo>
                    <a:pt x="530" y="1956"/>
                  </a:lnTo>
                  <a:lnTo>
                    <a:pt x="600" y="1916"/>
                  </a:lnTo>
                  <a:lnTo>
                    <a:pt x="670" y="1878"/>
                  </a:lnTo>
                  <a:lnTo>
                    <a:pt x="818" y="1800"/>
                  </a:lnTo>
                  <a:lnTo>
                    <a:pt x="968" y="1722"/>
                  </a:lnTo>
                  <a:lnTo>
                    <a:pt x="1118" y="1640"/>
                  </a:lnTo>
                  <a:lnTo>
                    <a:pt x="1190" y="1598"/>
                  </a:lnTo>
                  <a:lnTo>
                    <a:pt x="1262" y="1556"/>
                  </a:lnTo>
                  <a:lnTo>
                    <a:pt x="1330" y="1514"/>
                  </a:lnTo>
                  <a:lnTo>
                    <a:pt x="1396" y="1468"/>
                  </a:lnTo>
                  <a:lnTo>
                    <a:pt x="1460" y="1424"/>
                  </a:lnTo>
                  <a:lnTo>
                    <a:pt x="1518" y="1376"/>
                  </a:lnTo>
                  <a:lnTo>
                    <a:pt x="1574" y="1328"/>
                  </a:lnTo>
                  <a:lnTo>
                    <a:pt x="1598" y="1302"/>
                  </a:lnTo>
                  <a:lnTo>
                    <a:pt x="1624" y="1278"/>
                  </a:lnTo>
                  <a:lnTo>
                    <a:pt x="1646" y="1252"/>
                  </a:lnTo>
                  <a:lnTo>
                    <a:pt x="1668" y="1226"/>
                  </a:lnTo>
                  <a:lnTo>
                    <a:pt x="1688" y="1200"/>
                  </a:lnTo>
                  <a:lnTo>
                    <a:pt x="1706" y="1172"/>
                  </a:lnTo>
                  <a:lnTo>
                    <a:pt x="1722" y="1144"/>
                  </a:lnTo>
                  <a:lnTo>
                    <a:pt x="1738" y="1116"/>
                  </a:lnTo>
                  <a:lnTo>
                    <a:pt x="1750" y="1088"/>
                  </a:lnTo>
                  <a:lnTo>
                    <a:pt x="1762" y="1060"/>
                  </a:lnTo>
                  <a:lnTo>
                    <a:pt x="1772" y="1030"/>
                  </a:lnTo>
                  <a:lnTo>
                    <a:pt x="1780" y="1000"/>
                  </a:lnTo>
                  <a:lnTo>
                    <a:pt x="1786" y="970"/>
                  </a:lnTo>
                  <a:lnTo>
                    <a:pt x="1790" y="938"/>
                  </a:lnTo>
                  <a:lnTo>
                    <a:pt x="1790" y="906"/>
                  </a:lnTo>
                  <a:lnTo>
                    <a:pt x="1790" y="874"/>
                  </a:lnTo>
                  <a:lnTo>
                    <a:pt x="1786" y="840"/>
                  </a:lnTo>
                  <a:lnTo>
                    <a:pt x="1782" y="806"/>
                  </a:lnTo>
                  <a:lnTo>
                    <a:pt x="1782" y="806"/>
                  </a:lnTo>
                  <a:lnTo>
                    <a:pt x="1766" y="742"/>
                  </a:lnTo>
                  <a:lnTo>
                    <a:pt x="1750" y="682"/>
                  </a:lnTo>
                  <a:lnTo>
                    <a:pt x="1730" y="632"/>
                  </a:lnTo>
                  <a:lnTo>
                    <a:pt x="1720" y="608"/>
                  </a:lnTo>
                  <a:lnTo>
                    <a:pt x="1708" y="586"/>
                  </a:lnTo>
                  <a:lnTo>
                    <a:pt x="1696" y="568"/>
                  </a:lnTo>
                  <a:lnTo>
                    <a:pt x="1684" y="548"/>
                  </a:lnTo>
                  <a:lnTo>
                    <a:pt x="1672" y="532"/>
                  </a:lnTo>
                  <a:lnTo>
                    <a:pt x="1658" y="516"/>
                  </a:lnTo>
                  <a:lnTo>
                    <a:pt x="1646" y="502"/>
                  </a:lnTo>
                  <a:lnTo>
                    <a:pt x="1632" y="490"/>
                  </a:lnTo>
                  <a:lnTo>
                    <a:pt x="1616" y="478"/>
                  </a:lnTo>
                  <a:lnTo>
                    <a:pt x="1602" y="470"/>
                  </a:lnTo>
                  <a:lnTo>
                    <a:pt x="1588" y="460"/>
                  </a:lnTo>
                  <a:lnTo>
                    <a:pt x="1572" y="454"/>
                  </a:lnTo>
                  <a:lnTo>
                    <a:pt x="1556" y="448"/>
                  </a:lnTo>
                  <a:lnTo>
                    <a:pt x="1540" y="442"/>
                  </a:lnTo>
                  <a:lnTo>
                    <a:pt x="1506" y="438"/>
                  </a:lnTo>
                  <a:lnTo>
                    <a:pt x="1472" y="436"/>
                  </a:lnTo>
                  <a:lnTo>
                    <a:pt x="1438" y="438"/>
                  </a:lnTo>
                  <a:lnTo>
                    <a:pt x="1402" y="444"/>
                  </a:lnTo>
                  <a:lnTo>
                    <a:pt x="1364" y="456"/>
                  </a:lnTo>
                  <a:lnTo>
                    <a:pt x="1328" y="468"/>
                  </a:lnTo>
                  <a:lnTo>
                    <a:pt x="1290" y="486"/>
                  </a:lnTo>
                  <a:lnTo>
                    <a:pt x="1254" y="504"/>
                  </a:lnTo>
                  <a:lnTo>
                    <a:pt x="1216" y="526"/>
                  </a:lnTo>
                  <a:lnTo>
                    <a:pt x="1180" y="550"/>
                  </a:lnTo>
                  <a:lnTo>
                    <a:pt x="1142" y="576"/>
                  </a:lnTo>
                  <a:lnTo>
                    <a:pt x="1106" y="604"/>
                  </a:lnTo>
                  <a:lnTo>
                    <a:pt x="1070" y="634"/>
                  </a:lnTo>
                  <a:lnTo>
                    <a:pt x="1034" y="664"/>
                  </a:lnTo>
                  <a:lnTo>
                    <a:pt x="968" y="726"/>
                  </a:lnTo>
                  <a:lnTo>
                    <a:pt x="904" y="790"/>
                  </a:lnTo>
                  <a:lnTo>
                    <a:pt x="848" y="854"/>
                  </a:lnTo>
                  <a:lnTo>
                    <a:pt x="798" y="914"/>
                  </a:lnTo>
                  <a:lnTo>
                    <a:pt x="798" y="914"/>
                  </a:lnTo>
                  <a:lnTo>
                    <a:pt x="814" y="870"/>
                  </a:lnTo>
                  <a:lnTo>
                    <a:pt x="828" y="826"/>
                  </a:lnTo>
                  <a:lnTo>
                    <a:pt x="838" y="778"/>
                  </a:lnTo>
                  <a:lnTo>
                    <a:pt x="846" y="730"/>
                  </a:lnTo>
                  <a:lnTo>
                    <a:pt x="854" y="680"/>
                  </a:lnTo>
                  <a:lnTo>
                    <a:pt x="858" y="630"/>
                  </a:lnTo>
                  <a:lnTo>
                    <a:pt x="860" y="580"/>
                  </a:lnTo>
                  <a:lnTo>
                    <a:pt x="860" y="528"/>
                  </a:lnTo>
                  <a:lnTo>
                    <a:pt x="856" y="478"/>
                  </a:lnTo>
                  <a:lnTo>
                    <a:pt x="852" y="428"/>
                  </a:lnTo>
                  <a:lnTo>
                    <a:pt x="846" y="380"/>
                  </a:lnTo>
                  <a:lnTo>
                    <a:pt x="836" y="332"/>
                  </a:lnTo>
                  <a:lnTo>
                    <a:pt x="826" y="288"/>
                  </a:lnTo>
                  <a:lnTo>
                    <a:pt x="812" y="244"/>
                  </a:lnTo>
                  <a:lnTo>
                    <a:pt x="796" y="202"/>
                  </a:lnTo>
                  <a:lnTo>
                    <a:pt x="778" y="164"/>
                  </a:lnTo>
                  <a:lnTo>
                    <a:pt x="758" y="130"/>
                  </a:lnTo>
                  <a:lnTo>
                    <a:pt x="736" y="98"/>
                  </a:lnTo>
                  <a:lnTo>
                    <a:pt x="712" y="70"/>
                  </a:lnTo>
                  <a:lnTo>
                    <a:pt x="686" y="46"/>
                  </a:lnTo>
                  <a:lnTo>
                    <a:pt x="672" y="36"/>
                  </a:lnTo>
                  <a:lnTo>
                    <a:pt x="656" y="28"/>
                  </a:lnTo>
                  <a:lnTo>
                    <a:pt x="642" y="20"/>
                  </a:lnTo>
                  <a:lnTo>
                    <a:pt x="626" y="14"/>
                  </a:lnTo>
                  <a:lnTo>
                    <a:pt x="610" y="8"/>
                  </a:lnTo>
                  <a:lnTo>
                    <a:pt x="592" y="4"/>
                  </a:lnTo>
                  <a:lnTo>
                    <a:pt x="576" y="2"/>
                  </a:lnTo>
                  <a:lnTo>
                    <a:pt x="558" y="0"/>
                  </a:lnTo>
                  <a:lnTo>
                    <a:pt x="540" y="2"/>
                  </a:lnTo>
                  <a:lnTo>
                    <a:pt x="520" y="4"/>
                  </a:lnTo>
                  <a:lnTo>
                    <a:pt x="500" y="6"/>
                  </a:lnTo>
                  <a:lnTo>
                    <a:pt x="480" y="12"/>
                  </a:lnTo>
                  <a:lnTo>
                    <a:pt x="460" y="18"/>
                  </a:lnTo>
                  <a:lnTo>
                    <a:pt x="438" y="28"/>
                  </a:lnTo>
                  <a:lnTo>
                    <a:pt x="418" y="38"/>
                  </a:lnTo>
                  <a:lnTo>
                    <a:pt x="396" y="50"/>
                  </a:lnTo>
                  <a:lnTo>
                    <a:pt x="372" y="64"/>
                  </a:lnTo>
                  <a:lnTo>
                    <a:pt x="350" y="80"/>
                  </a:lnTo>
                  <a:lnTo>
                    <a:pt x="326" y="96"/>
                  </a:lnTo>
                  <a:lnTo>
                    <a:pt x="302" y="116"/>
                  </a:lnTo>
                  <a:lnTo>
                    <a:pt x="252" y="162"/>
                  </a:lnTo>
                  <a:lnTo>
                    <a:pt x="198" y="216"/>
                  </a:lnTo>
                  <a:lnTo>
                    <a:pt x="198" y="216"/>
                  </a:lnTo>
                  <a:lnTo>
                    <a:pt x="174" y="244"/>
                  </a:lnTo>
                  <a:lnTo>
                    <a:pt x="150" y="272"/>
                  </a:lnTo>
                  <a:lnTo>
                    <a:pt x="130" y="302"/>
                  </a:lnTo>
                  <a:lnTo>
                    <a:pt x="110" y="330"/>
                  </a:lnTo>
                  <a:lnTo>
                    <a:pt x="94" y="360"/>
                  </a:lnTo>
                  <a:lnTo>
                    <a:pt x="78" y="390"/>
                  </a:lnTo>
                  <a:lnTo>
                    <a:pt x="64" y="420"/>
                  </a:lnTo>
                  <a:lnTo>
                    <a:pt x="50" y="450"/>
                  </a:lnTo>
                  <a:lnTo>
                    <a:pt x="40" y="482"/>
                  </a:lnTo>
                  <a:lnTo>
                    <a:pt x="30" y="512"/>
                  </a:lnTo>
                  <a:lnTo>
                    <a:pt x="22" y="544"/>
                  </a:lnTo>
                  <a:lnTo>
                    <a:pt x="16" y="574"/>
                  </a:lnTo>
                  <a:lnTo>
                    <a:pt x="10" y="606"/>
                  </a:lnTo>
                  <a:lnTo>
                    <a:pt x="6" y="638"/>
                  </a:lnTo>
                  <a:lnTo>
                    <a:pt x="0" y="702"/>
                  </a:lnTo>
                  <a:lnTo>
                    <a:pt x="0" y="766"/>
                  </a:lnTo>
                  <a:lnTo>
                    <a:pt x="4" y="832"/>
                  </a:lnTo>
                  <a:lnTo>
                    <a:pt x="10" y="898"/>
                  </a:lnTo>
                  <a:lnTo>
                    <a:pt x="20" y="964"/>
                  </a:lnTo>
                  <a:lnTo>
                    <a:pt x="32" y="1032"/>
                  </a:lnTo>
                  <a:lnTo>
                    <a:pt x="46" y="1098"/>
                  </a:lnTo>
                  <a:lnTo>
                    <a:pt x="76" y="1234"/>
                  </a:lnTo>
                  <a:lnTo>
                    <a:pt x="112" y="1370"/>
                  </a:lnTo>
                  <a:lnTo>
                    <a:pt x="144" y="1504"/>
                  </a:lnTo>
                  <a:lnTo>
                    <a:pt x="158" y="1570"/>
                  </a:lnTo>
                  <a:lnTo>
                    <a:pt x="172" y="1638"/>
                  </a:lnTo>
                  <a:lnTo>
                    <a:pt x="184" y="1704"/>
                  </a:lnTo>
                  <a:lnTo>
                    <a:pt x="192" y="1770"/>
                  </a:lnTo>
                  <a:lnTo>
                    <a:pt x="196" y="1834"/>
                  </a:lnTo>
                  <a:lnTo>
                    <a:pt x="198" y="1900"/>
                  </a:lnTo>
                  <a:lnTo>
                    <a:pt x="196" y="1964"/>
                  </a:lnTo>
                  <a:lnTo>
                    <a:pt x="194" y="1994"/>
                  </a:lnTo>
                  <a:lnTo>
                    <a:pt x="190" y="2026"/>
                  </a:lnTo>
                  <a:lnTo>
                    <a:pt x="184" y="2058"/>
                  </a:lnTo>
                  <a:lnTo>
                    <a:pt x="178" y="2088"/>
                  </a:lnTo>
                  <a:lnTo>
                    <a:pt x="170" y="2118"/>
                  </a:lnTo>
                  <a:lnTo>
                    <a:pt x="160" y="2150"/>
                  </a:lnTo>
                  <a:lnTo>
                    <a:pt x="150" y="2180"/>
                  </a:lnTo>
                  <a:lnTo>
                    <a:pt x="138" y="2208"/>
                  </a:lnTo>
                  <a:lnTo>
                    <a:pt x="124" y="2238"/>
                  </a:lnTo>
                  <a:lnTo>
                    <a:pt x="108" y="2268"/>
                  </a:lnTo>
                  <a:lnTo>
                    <a:pt x="132" y="2282"/>
                  </a:lnTo>
                  <a:close/>
                </a:path>
              </a:pathLst>
            </a:custGeom>
            <a:solidFill>
              <a:srgbClr val="f8c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04"/>
            <p:cNvSpPr/>
            <p:nvPr/>
          </p:nvSpPr>
          <p:spPr>
            <a:xfrm>
              <a:off x="8393040" y="142920"/>
              <a:ext cx="2841840" cy="3622680"/>
            </a:xfrm>
            <a:custGeom>
              <a:avLst/>
              <a:gdLst>
                <a:gd name="textAreaLeft" fmla="*/ 0 w 2841840"/>
                <a:gd name="textAreaRight" fmla="*/ 2842200 w 2841840"/>
                <a:gd name="textAreaTop" fmla="*/ 0 h 3622680"/>
                <a:gd name="textAreaBottom" fmla="*/ 3623040 h 3622680"/>
              </a:gdLst>
              <a:ahLst/>
              <a:rect l="textAreaLeft" t="textAreaTop" r="textAreaRight" b="textAreaBottom"/>
              <a:pathLst>
                <a:path w="1790" h="2282">
                  <a:moveTo>
                    <a:pt x="132" y="2282"/>
                  </a:moveTo>
                  <a:lnTo>
                    <a:pt x="132" y="2282"/>
                  </a:lnTo>
                  <a:lnTo>
                    <a:pt x="146" y="2260"/>
                  </a:lnTo>
                  <a:lnTo>
                    <a:pt x="162" y="2238"/>
                  </a:lnTo>
                  <a:lnTo>
                    <a:pt x="180" y="2216"/>
                  </a:lnTo>
                  <a:lnTo>
                    <a:pt x="200" y="2196"/>
                  </a:lnTo>
                  <a:lnTo>
                    <a:pt x="242" y="2154"/>
                  </a:lnTo>
                  <a:lnTo>
                    <a:pt x="292" y="2114"/>
                  </a:lnTo>
                  <a:lnTo>
                    <a:pt x="344" y="2074"/>
                  </a:lnTo>
                  <a:lnTo>
                    <a:pt x="402" y="2034"/>
                  </a:lnTo>
                  <a:lnTo>
                    <a:pt x="466" y="1994"/>
                  </a:lnTo>
                  <a:lnTo>
                    <a:pt x="530" y="1956"/>
                  </a:lnTo>
                  <a:lnTo>
                    <a:pt x="600" y="1916"/>
                  </a:lnTo>
                  <a:lnTo>
                    <a:pt x="670" y="1878"/>
                  </a:lnTo>
                  <a:lnTo>
                    <a:pt x="818" y="1800"/>
                  </a:lnTo>
                  <a:lnTo>
                    <a:pt x="968" y="1722"/>
                  </a:lnTo>
                  <a:lnTo>
                    <a:pt x="1118" y="1640"/>
                  </a:lnTo>
                  <a:lnTo>
                    <a:pt x="1190" y="1598"/>
                  </a:lnTo>
                  <a:lnTo>
                    <a:pt x="1262" y="1556"/>
                  </a:lnTo>
                  <a:lnTo>
                    <a:pt x="1330" y="1514"/>
                  </a:lnTo>
                  <a:lnTo>
                    <a:pt x="1396" y="1468"/>
                  </a:lnTo>
                  <a:lnTo>
                    <a:pt x="1460" y="1424"/>
                  </a:lnTo>
                  <a:lnTo>
                    <a:pt x="1518" y="1376"/>
                  </a:lnTo>
                  <a:lnTo>
                    <a:pt x="1574" y="1328"/>
                  </a:lnTo>
                  <a:lnTo>
                    <a:pt x="1598" y="1302"/>
                  </a:lnTo>
                  <a:lnTo>
                    <a:pt x="1624" y="1278"/>
                  </a:lnTo>
                  <a:lnTo>
                    <a:pt x="1646" y="1252"/>
                  </a:lnTo>
                  <a:lnTo>
                    <a:pt x="1668" y="1226"/>
                  </a:lnTo>
                  <a:lnTo>
                    <a:pt x="1688" y="1200"/>
                  </a:lnTo>
                  <a:lnTo>
                    <a:pt x="1706" y="1172"/>
                  </a:lnTo>
                  <a:lnTo>
                    <a:pt x="1722" y="1144"/>
                  </a:lnTo>
                  <a:lnTo>
                    <a:pt x="1738" y="1116"/>
                  </a:lnTo>
                  <a:lnTo>
                    <a:pt x="1750" y="1088"/>
                  </a:lnTo>
                  <a:lnTo>
                    <a:pt x="1762" y="1060"/>
                  </a:lnTo>
                  <a:lnTo>
                    <a:pt x="1772" y="1030"/>
                  </a:lnTo>
                  <a:lnTo>
                    <a:pt x="1780" y="1000"/>
                  </a:lnTo>
                  <a:lnTo>
                    <a:pt x="1786" y="970"/>
                  </a:lnTo>
                  <a:lnTo>
                    <a:pt x="1790" y="938"/>
                  </a:lnTo>
                  <a:lnTo>
                    <a:pt x="1790" y="906"/>
                  </a:lnTo>
                  <a:lnTo>
                    <a:pt x="1790" y="874"/>
                  </a:lnTo>
                  <a:lnTo>
                    <a:pt x="1786" y="840"/>
                  </a:lnTo>
                  <a:lnTo>
                    <a:pt x="1782" y="806"/>
                  </a:lnTo>
                  <a:lnTo>
                    <a:pt x="1782" y="806"/>
                  </a:lnTo>
                  <a:lnTo>
                    <a:pt x="1766" y="742"/>
                  </a:lnTo>
                  <a:lnTo>
                    <a:pt x="1750" y="682"/>
                  </a:lnTo>
                  <a:lnTo>
                    <a:pt x="1730" y="632"/>
                  </a:lnTo>
                  <a:lnTo>
                    <a:pt x="1720" y="608"/>
                  </a:lnTo>
                  <a:lnTo>
                    <a:pt x="1708" y="586"/>
                  </a:lnTo>
                  <a:lnTo>
                    <a:pt x="1696" y="568"/>
                  </a:lnTo>
                  <a:lnTo>
                    <a:pt x="1684" y="548"/>
                  </a:lnTo>
                  <a:lnTo>
                    <a:pt x="1672" y="532"/>
                  </a:lnTo>
                  <a:lnTo>
                    <a:pt x="1658" y="516"/>
                  </a:lnTo>
                  <a:lnTo>
                    <a:pt x="1646" y="502"/>
                  </a:lnTo>
                  <a:lnTo>
                    <a:pt x="1632" y="490"/>
                  </a:lnTo>
                  <a:lnTo>
                    <a:pt x="1616" y="478"/>
                  </a:lnTo>
                  <a:lnTo>
                    <a:pt x="1602" y="470"/>
                  </a:lnTo>
                  <a:lnTo>
                    <a:pt x="1588" y="460"/>
                  </a:lnTo>
                  <a:lnTo>
                    <a:pt x="1572" y="454"/>
                  </a:lnTo>
                  <a:lnTo>
                    <a:pt x="1556" y="448"/>
                  </a:lnTo>
                  <a:lnTo>
                    <a:pt x="1540" y="442"/>
                  </a:lnTo>
                  <a:lnTo>
                    <a:pt x="1506" y="438"/>
                  </a:lnTo>
                  <a:lnTo>
                    <a:pt x="1472" y="436"/>
                  </a:lnTo>
                  <a:lnTo>
                    <a:pt x="1438" y="438"/>
                  </a:lnTo>
                  <a:lnTo>
                    <a:pt x="1402" y="444"/>
                  </a:lnTo>
                  <a:lnTo>
                    <a:pt x="1364" y="456"/>
                  </a:lnTo>
                  <a:lnTo>
                    <a:pt x="1328" y="468"/>
                  </a:lnTo>
                  <a:lnTo>
                    <a:pt x="1290" y="486"/>
                  </a:lnTo>
                  <a:lnTo>
                    <a:pt x="1254" y="504"/>
                  </a:lnTo>
                  <a:lnTo>
                    <a:pt x="1216" y="526"/>
                  </a:lnTo>
                  <a:lnTo>
                    <a:pt x="1180" y="550"/>
                  </a:lnTo>
                  <a:lnTo>
                    <a:pt x="1142" y="576"/>
                  </a:lnTo>
                  <a:lnTo>
                    <a:pt x="1106" y="604"/>
                  </a:lnTo>
                  <a:lnTo>
                    <a:pt x="1070" y="634"/>
                  </a:lnTo>
                  <a:lnTo>
                    <a:pt x="1034" y="664"/>
                  </a:lnTo>
                  <a:lnTo>
                    <a:pt x="968" y="726"/>
                  </a:lnTo>
                  <a:lnTo>
                    <a:pt x="904" y="790"/>
                  </a:lnTo>
                  <a:lnTo>
                    <a:pt x="848" y="854"/>
                  </a:lnTo>
                  <a:lnTo>
                    <a:pt x="798" y="914"/>
                  </a:lnTo>
                  <a:lnTo>
                    <a:pt x="798" y="914"/>
                  </a:lnTo>
                  <a:lnTo>
                    <a:pt x="814" y="870"/>
                  </a:lnTo>
                  <a:lnTo>
                    <a:pt x="828" y="826"/>
                  </a:lnTo>
                  <a:lnTo>
                    <a:pt x="838" y="778"/>
                  </a:lnTo>
                  <a:lnTo>
                    <a:pt x="846" y="730"/>
                  </a:lnTo>
                  <a:lnTo>
                    <a:pt x="854" y="680"/>
                  </a:lnTo>
                  <a:lnTo>
                    <a:pt x="858" y="630"/>
                  </a:lnTo>
                  <a:lnTo>
                    <a:pt x="860" y="580"/>
                  </a:lnTo>
                  <a:lnTo>
                    <a:pt x="860" y="528"/>
                  </a:lnTo>
                  <a:lnTo>
                    <a:pt x="856" y="478"/>
                  </a:lnTo>
                  <a:lnTo>
                    <a:pt x="852" y="428"/>
                  </a:lnTo>
                  <a:lnTo>
                    <a:pt x="846" y="380"/>
                  </a:lnTo>
                  <a:lnTo>
                    <a:pt x="836" y="332"/>
                  </a:lnTo>
                  <a:lnTo>
                    <a:pt x="826" y="288"/>
                  </a:lnTo>
                  <a:lnTo>
                    <a:pt x="812" y="244"/>
                  </a:lnTo>
                  <a:lnTo>
                    <a:pt x="796" y="202"/>
                  </a:lnTo>
                  <a:lnTo>
                    <a:pt x="778" y="164"/>
                  </a:lnTo>
                  <a:lnTo>
                    <a:pt x="758" y="130"/>
                  </a:lnTo>
                  <a:lnTo>
                    <a:pt x="736" y="98"/>
                  </a:lnTo>
                  <a:lnTo>
                    <a:pt x="712" y="70"/>
                  </a:lnTo>
                  <a:lnTo>
                    <a:pt x="686" y="46"/>
                  </a:lnTo>
                  <a:lnTo>
                    <a:pt x="672" y="36"/>
                  </a:lnTo>
                  <a:lnTo>
                    <a:pt x="656" y="28"/>
                  </a:lnTo>
                  <a:lnTo>
                    <a:pt x="642" y="20"/>
                  </a:lnTo>
                  <a:lnTo>
                    <a:pt x="626" y="14"/>
                  </a:lnTo>
                  <a:lnTo>
                    <a:pt x="610" y="8"/>
                  </a:lnTo>
                  <a:lnTo>
                    <a:pt x="592" y="4"/>
                  </a:lnTo>
                  <a:lnTo>
                    <a:pt x="576" y="2"/>
                  </a:lnTo>
                  <a:lnTo>
                    <a:pt x="558" y="0"/>
                  </a:lnTo>
                  <a:lnTo>
                    <a:pt x="540" y="2"/>
                  </a:lnTo>
                  <a:lnTo>
                    <a:pt x="520" y="4"/>
                  </a:lnTo>
                  <a:lnTo>
                    <a:pt x="500" y="6"/>
                  </a:lnTo>
                  <a:lnTo>
                    <a:pt x="480" y="12"/>
                  </a:lnTo>
                  <a:lnTo>
                    <a:pt x="460" y="18"/>
                  </a:lnTo>
                  <a:lnTo>
                    <a:pt x="438" y="28"/>
                  </a:lnTo>
                  <a:lnTo>
                    <a:pt x="418" y="38"/>
                  </a:lnTo>
                  <a:lnTo>
                    <a:pt x="396" y="50"/>
                  </a:lnTo>
                  <a:lnTo>
                    <a:pt x="372" y="64"/>
                  </a:lnTo>
                  <a:lnTo>
                    <a:pt x="350" y="80"/>
                  </a:lnTo>
                  <a:lnTo>
                    <a:pt x="326" y="96"/>
                  </a:lnTo>
                  <a:lnTo>
                    <a:pt x="302" y="116"/>
                  </a:lnTo>
                  <a:lnTo>
                    <a:pt x="252" y="162"/>
                  </a:lnTo>
                  <a:lnTo>
                    <a:pt x="198" y="216"/>
                  </a:lnTo>
                  <a:lnTo>
                    <a:pt x="198" y="216"/>
                  </a:lnTo>
                  <a:lnTo>
                    <a:pt x="174" y="244"/>
                  </a:lnTo>
                  <a:lnTo>
                    <a:pt x="150" y="272"/>
                  </a:lnTo>
                  <a:lnTo>
                    <a:pt x="130" y="302"/>
                  </a:lnTo>
                  <a:lnTo>
                    <a:pt x="110" y="330"/>
                  </a:lnTo>
                  <a:lnTo>
                    <a:pt x="94" y="360"/>
                  </a:lnTo>
                  <a:lnTo>
                    <a:pt x="78" y="390"/>
                  </a:lnTo>
                  <a:lnTo>
                    <a:pt x="64" y="420"/>
                  </a:lnTo>
                  <a:lnTo>
                    <a:pt x="50" y="450"/>
                  </a:lnTo>
                  <a:lnTo>
                    <a:pt x="40" y="482"/>
                  </a:lnTo>
                  <a:lnTo>
                    <a:pt x="30" y="512"/>
                  </a:lnTo>
                  <a:lnTo>
                    <a:pt x="22" y="544"/>
                  </a:lnTo>
                  <a:lnTo>
                    <a:pt x="16" y="574"/>
                  </a:lnTo>
                  <a:lnTo>
                    <a:pt x="10" y="606"/>
                  </a:lnTo>
                  <a:lnTo>
                    <a:pt x="6" y="638"/>
                  </a:lnTo>
                  <a:lnTo>
                    <a:pt x="0" y="702"/>
                  </a:lnTo>
                  <a:lnTo>
                    <a:pt x="0" y="766"/>
                  </a:lnTo>
                  <a:lnTo>
                    <a:pt x="4" y="832"/>
                  </a:lnTo>
                  <a:lnTo>
                    <a:pt x="10" y="898"/>
                  </a:lnTo>
                  <a:lnTo>
                    <a:pt x="20" y="964"/>
                  </a:lnTo>
                  <a:lnTo>
                    <a:pt x="32" y="1032"/>
                  </a:lnTo>
                  <a:lnTo>
                    <a:pt x="46" y="1098"/>
                  </a:lnTo>
                  <a:lnTo>
                    <a:pt x="76" y="1234"/>
                  </a:lnTo>
                  <a:lnTo>
                    <a:pt x="112" y="1370"/>
                  </a:lnTo>
                  <a:lnTo>
                    <a:pt x="144" y="1504"/>
                  </a:lnTo>
                  <a:lnTo>
                    <a:pt x="158" y="1570"/>
                  </a:lnTo>
                  <a:lnTo>
                    <a:pt x="172" y="1638"/>
                  </a:lnTo>
                  <a:lnTo>
                    <a:pt x="184" y="1704"/>
                  </a:lnTo>
                  <a:lnTo>
                    <a:pt x="192" y="1770"/>
                  </a:lnTo>
                  <a:lnTo>
                    <a:pt x="196" y="1834"/>
                  </a:lnTo>
                  <a:lnTo>
                    <a:pt x="198" y="1900"/>
                  </a:lnTo>
                  <a:lnTo>
                    <a:pt x="196" y="1964"/>
                  </a:lnTo>
                  <a:lnTo>
                    <a:pt x="194" y="1994"/>
                  </a:lnTo>
                  <a:lnTo>
                    <a:pt x="190" y="2026"/>
                  </a:lnTo>
                  <a:lnTo>
                    <a:pt x="184" y="2058"/>
                  </a:lnTo>
                  <a:lnTo>
                    <a:pt x="178" y="2088"/>
                  </a:lnTo>
                  <a:lnTo>
                    <a:pt x="170" y="2118"/>
                  </a:lnTo>
                  <a:lnTo>
                    <a:pt x="160" y="2150"/>
                  </a:lnTo>
                  <a:lnTo>
                    <a:pt x="150" y="2180"/>
                  </a:lnTo>
                  <a:lnTo>
                    <a:pt x="138" y="2208"/>
                  </a:lnTo>
                  <a:lnTo>
                    <a:pt x="124" y="2238"/>
                  </a:lnTo>
                  <a:lnTo>
                    <a:pt x="108" y="22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グループ化 185"/>
          <p:cNvGrpSpPr/>
          <p:nvPr/>
        </p:nvGrpSpPr>
        <p:grpSpPr>
          <a:xfrm>
            <a:off x="1095480" y="20726280"/>
            <a:ext cx="9082080" cy="2743200"/>
            <a:chOff x="1095480" y="20726280"/>
            <a:chExt cx="9082080" cy="2743200"/>
          </a:xfrm>
        </p:grpSpPr>
        <p:sp>
          <p:nvSpPr>
            <p:cNvPr id="147" name="Freeform 77"/>
            <p:cNvSpPr/>
            <p:nvPr/>
          </p:nvSpPr>
          <p:spPr>
            <a:xfrm>
              <a:off x="1095480" y="22570920"/>
              <a:ext cx="784080" cy="89856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494" h="566">
                  <a:moveTo>
                    <a:pt x="144" y="150"/>
                  </a:moveTo>
                  <a:lnTo>
                    <a:pt x="144" y="150"/>
                  </a:lnTo>
                  <a:lnTo>
                    <a:pt x="152" y="152"/>
                  </a:lnTo>
                  <a:lnTo>
                    <a:pt x="156" y="152"/>
                  </a:lnTo>
                  <a:lnTo>
                    <a:pt x="158" y="156"/>
                  </a:lnTo>
                  <a:lnTo>
                    <a:pt x="158" y="156"/>
                  </a:lnTo>
                  <a:lnTo>
                    <a:pt x="156" y="162"/>
                  </a:lnTo>
                  <a:lnTo>
                    <a:pt x="154" y="164"/>
                  </a:lnTo>
                  <a:lnTo>
                    <a:pt x="148" y="168"/>
                  </a:lnTo>
                  <a:lnTo>
                    <a:pt x="148" y="168"/>
                  </a:lnTo>
                  <a:lnTo>
                    <a:pt x="148" y="244"/>
                  </a:lnTo>
                  <a:lnTo>
                    <a:pt x="146" y="310"/>
                  </a:lnTo>
                  <a:lnTo>
                    <a:pt x="142" y="368"/>
                  </a:lnTo>
                  <a:lnTo>
                    <a:pt x="134" y="418"/>
                  </a:lnTo>
                  <a:lnTo>
                    <a:pt x="124" y="462"/>
                  </a:lnTo>
                  <a:lnTo>
                    <a:pt x="114" y="500"/>
                  </a:lnTo>
                  <a:lnTo>
                    <a:pt x="100" y="534"/>
                  </a:lnTo>
                  <a:lnTo>
                    <a:pt x="86" y="566"/>
                  </a:lnTo>
                  <a:lnTo>
                    <a:pt x="86" y="566"/>
                  </a:lnTo>
                  <a:lnTo>
                    <a:pt x="40" y="552"/>
                  </a:lnTo>
                  <a:lnTo>
                    <a:pt x="22" y="548"/>
                  </a:lnTo>
                  <a:lnTo>
                    <a:pt x="0" y="544"/>
                  </a:lnTo>
                  <a:lnTo>
                    <a:pt x="0" y="544"/>
                  </a:lnTo>
                  <a:lnTo>
                    <a:pt x="18" y="498"/>
                  </a:lnTo>
                  <a:lnTo>
                    <a:pt x="34" y="450"/>
                  </a:lnTo>
                  <a:lnTo>
                    <a:pt x="46" y="402"/>
                  </a:lnTo>
                  <a:lnTo>
                    <a:pt x="54" y="352"/>
                  </a:lnTo>
                  <a:lnTo>
                    <a:pt x="60" y="302"/>
                  </a:lnTo>
                  <a:lnTo>
                    <a:pt x="60" y="250"/>
                  </a:lnTo>
                  <a:lnTo>
                    <a:pt x="60" y="198"/>
                  </a:lnTo>
                  <a:lnTo>
                    <a:pt x="54" y="146"/>
                  </a:lnTo>
                  <a:lnTo>
                    <a:pt x="144" y="150"/>
                  </a:lnTo>
                  <a:close/>
                  <a:moveTo>
                    <a:pt x="260" y="86"/>
                  </a:moveTo>
                  <a:lnTo>
                    <a:pt x="260" y="86"/>
                  </a:lnTo>
                  <a:lnTo>
                    <a:pt x="282" y="106"/>
                  </a:lnTo>
                  <a:lnTo>
                    <a:pt x="308" y="132"/>
                  </a:lnTo>
                  <a:lnTo>
                    <a:pt x="336" y="166"/>
                  </a:lnTo>
                  <a:lnTo>
                    <a:pt x="370" y="204"/>
                  </a:lnTo>
                  <a:lnTo>
                    <a:pt x="402" y="248"/>
                  </a:lnTo>
                  <a:lnTo>
                    <a:pt x="434" y="296"/>
                  </a:lnTo>
                  <a:lnTo>
                    <a:pt x="466" y="348"/>
                  </a:lnTo>
                  <a:lnTo>
                    <a:pt x="480" y="374"/>
                  </a:lnTo>
                  <a:lnTo>
                    <a:pt x="494" y="402"/>
                  </a:lnTo>
                  <a:lnTo>
                    <a:pt x="494" y="402"/>
                  </a:lnTo>
                  <a:lnTo>
                    <a:pt x="470" y="422"/>
                  </a:lnTo>
                  <a:lnTo>
                    <a:pt x="450" y="442"/>
                  </a:lnTo>
                  <a:lnTo>
                    <a:pt x="424" y="470"/>
                  </a:lnTo>
                  <a:lnTo>
                    <a:pt x="424" y="470"/>
                  </a:lnTo>
                  <a:lnTo>
                    <a:pt x="396" y="410"/>
                  </a:lnTo>
                  <a:lnTo>
                    <a:pt x="366" y="356"/>
                  </a:lnTo>
                  <a:lnTo>
                    <a:pt x="336" y="308"/>
                  </a:lnTo>
                  <a:lnTo>
                    <a:pt x="306" y="266"/>
                  </a:lnTo>
                  <a:lnTo>
                    <a:pt x="276" y="230"/>
                  </a:lnTo>
                  <a:lnTo>
                    <a:pt x="250" y="198"/>
                  </a:lnTo>
                  <a:lnTo>
                    <a:pt x="226" y="174"/>
                  </a:lnTo>
                  <a:lnTo>
                    <a:pt x="206" y="154"/>
                  </a:lnTo>
                  <a:lnTo>
                    <a:pt x="260" y="86"/>
                  </a:lnTo>
                  <a:close/>
                  <a:moveTo>
                    <a:pt x="318" y="52"/>
                  </a:moveTo>
                  <a:lnTo>
                    <a:pt x="318" y="52"/>
                  </a:lnTo>
                  <a:lnTo>
                    <a:pt x="352" y="76"/>
                  </a:lnTo>
                  <a:lnTo>
                    <a:pt x="370" y="92"/>
                  </a:lnTo>
                  <a:lnTo>
                    <a:pt x="386" y="106"/>
                  </a:lnTo>
                  <a:lnTo>
                    <a:pt x="386" y="106"/>
                  </a:lnTo>
                  <a:lnTo>
                    <a:pt x="356" y="152"/>
                  </a:lnTo>
                  <a:lnTo>
                    <a:pt x="356" y="152"/>
                  </a:lnTo>
                  <a:lnTo>
                    <a:pt x="326" y="126"/>
                  </a:lnTo>
                  <a:lnTo>
                    <a:pt x="288" y="96"/>
                  </a:lnTo>
                  <a:lnTo>
                    <a:pt x="318" y="52"/>
                  </a:lnTo>
                  <a:close/>
                  <a:moveTo>
                    <a:pt x="362" y="0"/>
                  </a:moveTo>
                  <a:lnTo>
                    <a:pt x="362" y="0"/>
                  </a:lnTo>
                  <a:lnTo>
                    <a:pt x="398" y="24"/>
                  </a:lnTo>
                  <a:lnTo>
                    <a:pt x="412" y="38"/>
                  </a:lnTo>
                  <a:lnTo>
                    <a:pt x="428" y="52"/>
                  </a:lnTo>
                  <a:lnTo>
                    <a:pt x="428" y="52"/>
                  </a:lnTo>
                  <a:lnTo>
                    <a:pt x="414" y="70"/>
                  </a:lnTo>
                  <a:lnTo>
                    <a:pt x="398" y="94"/>
                  </a:lnTo>
                  <a:lnTo>
                    <a:pt x="398" y="94"/>
                  </a:lnTo>
                  <a:lnTo>
                    <a:pt x="386" y="80"/>
                  </a:lnTo>
                  <a:lnTo>
                    <a:pt x="368" y="66"/>
                  </a:lnTo>
                  <a:lnTo>
                    <a:pt x="334" y="40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16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78"/>
            <p:cNvSpPr/>
            <p:nvPr/>
          </p:nvSpPr>
          <p:spPr>
            <a:xfrm>
              <a:off x="1940040" y="22542480"/>
              <a:ext cx="714240" cy="76176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50" h="480">
                  <a:moveTo>
                    <a:pt x="88" y="0"/>
                  </a:moveTo>
                  <a:lnTo>
                    <a:pt x="88" y="0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100" y="8"/>
                  </a:lnTo>
                  <a:lnTo>
                    <a:pt x="98" y="12"/>
                  </a:lnTo>
                  <a:lnTo>
                    <a:pt x="92" y="18"/>
                  </a:lnTo>
                  <a:lnTo>
                    <a:pt x="168" y="348"/>
                  </a:lnTo>
                  <a:lnTo>
                    <a:pt x="168" y="348"/>
                  </a:lnTo>
                  <a:lnTo>
                    <a:pt x="194" y="330"/>
                  </a:lnTo>
                  <a:lnTo>
                    <a:pt x="224" y="308"/>
                  </a:lnTo>
                  <a:lnTo>
                    <a:pt x="254" y="280"/>
                  </a:lnTo>
                  <a:lnTo>
                    <a:pt x="286" y="246"/>
                  </a:lnTo>
                  <a:lnTo>
                    <a:pt x="316" y="210"/>
                  </a:lnTo>
                  <a:lnTo>
                    <a:pt x="344" y="170"/>
                  </a:lnTo>
                  <a:lnTo>
                    <a:pt x="370" y="126"/>
                  </a:lnTo>
                  <a:lnTo>
                    <a:pt x="380" y="102"/>
                  </a:lnTo>
                  <a:lnTo>
                    <a:pt x="392" y="78"/>
                  </a:lnTo>
                  <a:lnTo>
                    <a:pt x="392" y="78"/>
                  </a:lnTo>
                  <a:lnTo>
                    <a:pt x="418" y="120"/>
                  </a:lnTo>
                  <a:lnTo>
                    <a:pt x="432" y="140"/>
                  </a:lnTo>
                  <a:lnTo>
                    <a:pt x="450" y="160"/>
                  </a:lnTo>
                  <a:lnTo>
                    <a:pt x="450" y="160"/>
                  </a:lnTo>
                  <a:lnTo>
                    <a:pt x="434" y="190"/>
                  </a:lnTo>
                  <a:lnTo>
                    <a:pt x="416" y="222"/>
                  </a:lnTo>
                  <a:lnTo>
                    <a:pt x="392" y="258"/>
                  </a:lnTo>
                  <a:lnTo>
                    <a:pt x="364" y="296"/>
                  </a:lnTo>
                  <a:lnTo>
                    <a:pt x="326" y="338"/>
                  </a:lnTo>
                  <a:lnTo>
                    <a:pt x="282" y="382"/>
                  </a:lnTo>
                  <a:lnTo>
                    <a:pt x="228" y="430"/>
                  </a:lnTo>
                  <a:lnTo>
                    <a:pt x="196" y="454"/>
                  </a:lnTo>
                  <a:lnTo>
                    <a:pt x="160" y="480"/>
                  </a:lnTo>
                  <a:lnTo>
                    <a:pt x="94" y="436"/>
                  </a:lnTo>
                  <a:lnTo>
                    <a:pt x="94" y="436"/>
                  </a:lnTo>
                  <a:lnTo>
                    <a:pt x="88" y="402"/>
                  </a:lnTo>
                  <a:lnTo>
                    <a:pt x="0" y="16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16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79"/>
            <p:cNvSpPr/>
            <p:nvPr/>
          </p:nvSpPr>
          <p:spPr>
            <a:xfrm>
              <a:off x="2733840" y="22361400"/>
              <a:ext cx="742680" cy="784080"/>
            </a:xfrm>
            <a:custGeom>
              <a:avLst/>
              <a:gdLst>
                <a:gd name="textAreaLeft" fmla="*/ 0 w 742680"/>
                <a:gd name="textAreaRight" fmla="*/ 743040 w 74268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468" h="494">
                  <a:moveTo>
                    <a:pt x="32" y="0"/>
                  </a:moveTo>
                  <a:lnTo>
                    <a:pt x="32" y="0"/>
                  </a:lnTo>
                  <a:lnTo>
                    <a:pt x="96" y="20"/>
                  </a:lnTo>
                  <a:lnTo>
                    <a:pt x="138" y="38"/>
                  </a:lnTo>
                  <a:lnTo>
                    <a:pt x="166" y="52"/>
                  </a:lnTo>
                  <a:lnTo>
                    <a:pt x="184" y="64"/>
                  </a:lnTo>
                  <a:lnTo>
                    <a:pt x="184" y="64"/>
                  </a:lnTo>
                  <a:lnTo>
                    <a:pt x="172" y="92"/>
                  </a:lnTo>
                  <a:lnTo>
                    <a:pt x="152" y="154"/>
                  </a:lnTo>
                  <a:lnTo>
                    <a:pt x="152" y="154"/>
                  </a:lnTo>
                  <a:lnTo>
                    <a:pt x="126" y="140"/>
                  </a:lnTo>
                  <a:lnTo>
                    <a:pt x="104" y="128"/>
                  </a:lnTo>
                  <a:lnTo>
                    <a:pt x="62" y="110"/>
                  </a:lnTo>
                  <a:lnTo>
                    <a:pt x="26" y="98"/>
                  </a:lnTo>
                  <a:lnTo>
                    <a:pt x="0" y="92"/>
                  </a:lnTo>
                  <a:lnTo>
                    <a:pt x="32" y="0"/>
                  </a:lnTo>
                  <a:close/>
                  <a:moveTo>
                    <a:pt x="80" y="406"/>
                  </a:moveTo>
                  <a:lnTo>
                    <a:pt x="80" y="406"/>
                  </a:lnTo>
                  <a:lnTo>
                    <a:pt x="106" y="392"/>
                  </a:lnTo>
                  <a:lnTo>
                    <a:pt x="132" y="376"/>
                  </a:lnTo>
                  <a:lnTo>
                    <a:pt x="158" y="360"/>
                  </a:lnTo>
                  <a:lnTo>
                    <a:pt x="182" y="342"/>
                  </a:lnTo>
                  <a:lnTo>
                    <a:pt x="204" y="320"/>
                  </a:lnTo>
                  <a:lnTo>
                    <a:pt x="228" y="300"/>
                  </a:lnTo>
                  <a:lnTo>
                    <a:pt x="250" y="276"/>
                  </a:lnTo>
                  <a:lnTo>
                    <a:pt x="270" y="252"/>
                  </a:lnTo>
                  <a:lnTo>
                    <a:pt x="290" y="226"/>
                  </a:lnTo>
                  <a:lnTo>
                    <a:pt x="310" y="198"/>
                  </a:lnTo>
                  <a:lnTo>
                    <a:pt x="326" y="170"/>
                  </a:lnTo>
                  <a:lnTo>
                    <a:pt x="344" y="140"/>
                  </a:lnTo>
                  <a:lnTo>
                    <a:pt x="358" y="108"/>
                  </a:lnTo>
                  <a:lnTo>
                    <a:pt x="372" y="76"/>
                  </a:lnTo>
                  <a:lnTo>
                    <a:pt x="386" y="44"/>
                  </a:lnTo>
                  <a:lnTo>
                    <a:pt x="396" y="10"/>
                  </a:lnTo>
                  <a:lnTo>
                    <a:pt x="396" y="10"/>
                  </a:lnTo>
                  <a:lnTo>
                    <a:pt x="432" y="48"/>
                  </a:lnTo>
                  <a:lnTo>
                    <a:pt x="448" y="62"/>
                  </a:lnTo>
                  <a:lnTo>
                    <a:pt x="468" y="74"/>
                  </a:lnTo>
                  <a:lnTo>
                    <a:pt x="468" y="74"/>
                  </a:lnTo>
                  <a:lnTo>
                    <a:pt x="450" y="122"/>
                  </a:lnTo>
                  <a:lnTo>
                    <a:pt x="440" y="148"/>
                  </a:lnTo>
                  <a:lnTo>
                    <a:pt x="426" y="176"/>
                  </a:lnTo>
                  <a:lnTo>
                    <a:pt x="412" y="206"/>
                  </a:lnTo>
                  <a:lnTo>
                    <a:pt x="394" y="238"/>
                  </a:lnTo>
                  <a:lnTo>
                    <a:pt x="374" y="270"/>
                  </a:lnTo>
                  <a:lnTo>
                    <a:pt x="350" y="302"/>
                  </a:lnTo>
                  <a:lnTo>
                    <a:pt x="350" y="302"/>
                  </a:lnTo>
                  <a:lnTo>
                    <a:pt x="316" y="344"/>
                  </a:lnTo>
                  <a:lnTo>
                    <a:pt x="272" y="390"/>
                  </a:lnTo>
                  <a:lnTo>
                    <a:pt x="246" y="414"/>
                  </a:lnTo>
                  <a:lnTo>
                    <a:pt x="220" y="436"/>
                  </a:lnTo>
                  <a:lnTo>
                    <a:pt x="194" y="458"/>
                  </a:lnTo>
                  <a:lnTo>
                    <a:pt x="166" y="480"/>
                  </a:lnTo>
                  <a:lnTo>
                    <a:pt x="166" y="480"/>
                  </a:lnTo>
                  <a:lnTo>
                    <a:pt x="166" y="488"/>
                  </a:lnTo>
                  <a:lnTo>
                    <a:pt x="164" y="492"/>
                  </a:lnTo>
                  <a:lnTo>
                    <a:pt x="160" y="494"/>
                  </a:lnTo>
                  <a:lnTo>
                    <a:pt x="160" y="494"/>
                  </a:lnTo>
                  <a:lnTo>
                    <a:pt x="156" y="492"/>
                  </a:lnTo>
                  <a:lnTo>
                    <a:pt x="150" y="488"/>
                  </a:lnTo>
                  <a:lnTo>
                    <a:pt x="80" y="406"/>
                  </a:lnTo>
                  <a:close/>
                </a:path>
              </a:pathLst>
            </a:custGeom>
            <a:solidFill>
              <a:srgbClr val="16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80"/>
            <p:cNvSpPr/>
            <p:nvPr/>
          </p:nvSpPr>
          <p:spPr>
            <a:xfrm>
              <a:off x="3629160" y="22094640"/>
              <a:ext cx="631800" cy="86364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398" h="544">
                  <a:moveTo>
                    <a:pt x="168" y="204"/>
                  </a:moveTo>
                  <a:lnTo>
                    <a:pt x="168" y="204"/>
                  </a:lnTo>
                  <a:lnTo>
                    <a:pt x="222" y="222"/>
                  </a:lnTo>
                  <a:lnTo>
                    <a:pt x="262" y="240"/>
                  </a:lnTo>
                  <a:lnTo>
                    <a:pt x="262" y="240"/>
                  </a:lnTo>
                  <a:lnTo>
                    <a:pt x="272" y="208"/>
                  </a:lnTo>
                  <a:lnTo>
                    <a:pt x="276" y="182"/>
                  </a:lnTo>
                  <a:lnTo>
                    <a:pt x="282" y="144"/>
                  </a:lnTo>
                  <a:lnTo>
                    <a:pt x="158" y="172"/>
                  </a:lnTo>
                  <a:lnTo>
                    <a:pt x="158" y="172"/>
                  </a:lnTo>
                  <a:lnTo>
                    <a:pt x="142" y="212"/>
                  </a:lnTo>
                  <a:lnTo>
                    <a:pt x="124" y="252"/>
                  </a:lnTo>
                  <a:lnTo>
                    <a:pt x="102" y="290"/>
                  </a:lnTo>
                  <a:lnTo>
                    <a:pt x="78" y="326"/>
                  </a:lnTo>
                  <a:lnTo>
                    <a:pt x="78" y="326"/>
                  </a:lnTo>
                  <a:lnTo>
                    <a:pt x="36" y="298"/>
                  </a:lnTo>
                  <a:lnTo>
                    <a:pt x="0" y="280"/>
                  </a:lnTo>
                  <a:lnTo>
                    <a:pt x="0" y="280"/>
                  </a:lnTo>
                  <a:lnTo>
                    <a:pt x="22" y="252"/>
                  </a:lnTo>
                  <a:lnTo>
                    <a:pt x="42" y="222"/>
                  </a:lnTo>
                  <a:lnTo>
                    <a:pt x="58" y="190"/>
                  </a:lnTo>
                  <a:lnTo>
                    <a:pt x="74" y="156"/>
                  </a:lnTo>
                  <a:lnTo>
                    <a:pt x="88" y="120"/>
                  </a:lnTo>
                  <a:lnTo>
                    <a:pt x="98" y="82"/>
                  </a:lnTo>
                  <a:lnTo>
                    <a:pt x="106" y="42"/>
                  </a:lnTo>
                  <a:lnTo>
                    <a:pt x="114" y="0"/>
                  </a:lnTo>
                  <a:lnTo>
                    <a:pt x="202" y="12"/>
                  </a:lnTo>
                  <a:lnTo>
                    <a:pt x="202" y="12"/>
                  </a:lnTo>
                  <a:lnTo>
                    <a:pt x="208" y="12"/>
                  </a:lnTo>
                  <a:lnTo>
                    <a:pt x="212" y="14"/>
                  </a:lnTo>
                  <a:lnTo>
                    <a:pt x="212" y="18"/>
                  </a:lnTo>
                  <a:lnTo>
                    <a:pt x="212" y="18"/>
                  </a:lnTo>
                  <a:lnTo>
                    <a:pt x="212" y="20"/>
                  </a:lnTo>
                  <a:lnTo>
                    <a:pt x="210" y="24"/>
                  </a:lnTo>
                  <a:lnTo>
                    <a:pt x="202" y="26"/>
                  </a:lnTo>
                  <a:lnTo>
                    <a:pt x="202" y="26"/>
                  </a:lnTo>
                  <a:lnTo>
                    <a:pt x="188" y="82"/>
                  </a:lnTo>
                  <a:lnTo>
                    <a:pt x="300" y="56"/>
                  </a:lnTo>
                  <a:lnTo>
                    <a:pt x="300" y="56"/>
                  </a:lnTo>
                  <a:lnTo>
                    <a:pt x="314" y="52"/>
                  </a:lnTo>
                  <a:lnTo>
                    <a:pt x="322" y="48"/>
                  </a:lnTo>
                  <a:lnTo>
                    <a:pt x="336" y="42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74" y="94"/>
                  </a:lnTo>
                  <a:lnTo>
                    <a:pt x="374" y="94"/>
                  </a:lnTo>
                  <a:lnTo>
                    <a:pt x="366" y="156"/>
                  </a:lnTo>
                  <a:lnTo>
                    <a:pt x="358" y="202"/>
                  </a:lnTo>
                  <a:lnTo>
                    <a:pt x="350" y="240"/>
                  </a:lnTo>
                  <a:lnTo>
                    <a:pt x="340" y="278"/>
                  </a:lnTo>
                  <a:lnTo>
                    <a:pt x="340" y="278"/>
                  </a:lnTo>
                  <a:lnTo>
                    <a:pt x="362" y="292"/>
                  </a:lnTo>
                  <a:lnTo>
                    <a:pt x="378" y="304"/>
                  </a:lnTo>
                  <a:lnTo>
                    <a:pt x="398" y="322"/>
                  </a:lnTo>
                  <a:lnTo>
                    <a:pt x="398" y="322"/>
                  </a:lnTo>
                  <a:lnTo>
                    <a:pt x="378" y="366"/>
                  </a:lnTo>
                  <a:lnTo>
                    <a:pt x="364" y="408"/>
                  </a:lnTo>
                  <a:lnTo>
                    <a:pt x="364" y="408"/>
                  </a:lnTo>
                  <a:lnTo>
                    <a:pt x="340" y="386"/>
                  </a:lnTo>
                  <a:lnTo>
                    <a:pt x="306" y="362"/>
                  </a:lnTo>
                  <a:lnTo>
                    <a:pt x="306" y="362"/>
                  </a:lnTo>
                  <a:lnTo>
                    <a:pt x="286" y="398"/>
                  </a:lnTo>
                  <a:lnTo>
                    <a:pt x="266" y="428"/>
                  </a:lnTo>
                  <a:lnTo>
                    <a:pt x="244" y="456"/>
                  </a:lnTo>
                  <a:lnTo>
                    <a:pt x="222" y="480"/>
                  </a:lnTo>
                  <a:lnTo>
                    <a:pt x="202" y="500"/>
                  </a:lnTo>
                  <a:lnTo>
                    <a:pt x="182" y="518"/>
                  </a:lnTo>
                  <a:lnTo>
                    <a:pt x="148" y="544"/>
                  </a:lnTo>
                  <a:lnTo>
                    <a:pt x="148" y="544"/>
                  </a:lnTo>
                  <a:lnTo>
                    <a:pt x="130" y="526"/>
                  </a:lnTo>
                  <a:lnTo>
                    <a:pt x="112" y="508"/>
                  </a:lnTo>
                  <a:lnTo>
                    <a:pt x="94" y="494"/>
                  </a:lnTo>
                  <a:lnTo>
                    <a:pt x="74" y="480"/>
                  </a:lnTo>
                  <a:lnTo>
                    <a:pt x="74" y="480"/>
                  </a:lnTo>
                  <a:lnTo>
                    <a:pt x="98" y="464"/>
                  </a:lnTo>
                  <a:lnTo>
                    <a:pt x="122" y="446"/>
                  </a:lnTo>
                  <a:lnTo>
                    <a:pt x="144" y="426"/>
                  </a:lnTo>
                  <a:lnTo>
                    <a:pt x="166" y="406"/>
                  </a:lnTo>
                  <a:lnTo>
                    <a:pt x="186" y="384"/>
                  </a:lnTo>
                  <a:lnTo>
                    <a:pt x="204" y="360"/>
                  </a:lnTo>
                  <a:lnTo>
                    <a:pt x="220" y="338"/>
                  </a:lnTo>
                  <a:lnTo>
                    <a:pt x="232" y="318"/>
                  </a:lnTo>
                  <a:lnTo>
                    <a:pt x="232" y="318"/>
                  </a:lnTo>
                  <a:lnTo>
                    <a:pt x="202" y="304"/>
                  </a:lnTo>
                  <a:lnTo>
                    <a:pt x="176" y="292"/>
                  </a:lnTo>
                  <a:lnTo>
                    <a:pt x="134" y="276"/>
                  </a:lnTo>
                  <a:lnTo>
                    <a:pt x="168" y="204"/>
                  </a:lnTo>
                  <a:close/>
                </a:path>
              </a:pathLst>
            </a:custGeom>
            <a:solidFill>
              <a:srgbClr val="16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81"/>
            <p:cNvSpPr/>
            <p:nvPr/>
          </p:nvSpPr>
          <p:spPr>
            <a:xfrm>
              <a:off x="4416480" y="21837600"/>
              <a:ext cx="612720" cy="88272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386" h="556">
                  <a:moveTo>
                    <a:pt x="356" y="536"/>
                  </a:moveTo>
                  <a:lnTo>
                    <a:pt x="266" y="556"/>
                  </a:lnTo>
                  <a:lnTo>
                    <a:pt x="206" y="296"/>
                  </a:lnTo>
                  <a:lnTo>
                    <a:pt x="206" y="296"/>
                  </a:lnTo>
                  <a:lnTo>
                    <a:pt x="176" y="326"/>
                  </a:lnTo>
                  <a:lnTo>
                    <a:pt x="146" y="356"/>
                  </a:lnTo>
                  <a:lnTo>
                    <a:pt x="114" y="384"/>
                  </a:lnTo>
                  <a:lnTo>
                    <a:pt x="82" y="410"/>
                  </a:lnTo>
                  <a:lnTo>
                    <a:pt x="82" y="410"/>
                  </a:lnTo>
                  <a:lnTo>
                    <a:pt x="64" y="390"/>
                  </a:lnTo>
                  <a:lnTo>
                    <a:pt x="44" y="372"/>
                  </a:lnTo>
                  <a:lnTo>
                    <a:pt x="22" y="356"/>
                  </a:lnTo>
                  <a:lnTo>
                    <a:pt x="0" y="342"/>
                  </a:lnTo>
                  <a:lnTo>
                    <a:pt x="0" y="342"/>
                  </a:lnTo>
                  <a:lnTo>
                    <a:pt x="34" y="322"/>
                  </a:lnTo>
                  <a:lnTo>
                    <a:pt x="64" y="300"/>
                  </a:lnTo>
                  <a:lnTo>
                    <a:pt x="94" y="276"/>
                  </a:lnTo>
                  <a:lnTo>
                    <a:pt x="120" y="250"/>
                  </a:lnTo>
                  <a:lnTo>
                    <a:pt x="146" y="226"/>
                  </a:lnTo>
                  <a:lnTo>
                    <a:pt x="168" y="200"/>
                  </a:lnTo>
                  <a:lnTo>
                    <a:pt x="188" y="176"/>
                  </a:lnTo>
                  <a:lnTo>
                    <a:pt x="208" y="150"/>
                  </a:lnTo>
                  <a:lnTo>
                    <a:pt x="240" y="102"/>
                  </a:lnTo>
                  <a:lnTo>
                    <a:pt x="264" y="60"/>
                  </a:lnTo>
                  <a:lnTo>
                    <a:pt x="282" y="24"/>
                  </a:lnTo>
                  <a:lnTo>
                    <a:pt x="294" y="0"/>
                  </a:lnTo>
                  <a:lnTo>
                    <a:pt x="376" y="44"/>
                  </a:lnTo>
                  <a:lnTo>
                    <a:pt x="376" y="44"/>
                  </a:lnTo>
                  <a:lnTo>
                    <a:pt x="382" y="48"/>
                  </a:lnTo>
                  <a:lnTo>
                    <a:pt x="386" y="54"/>
                  </a:lnTo>
                  <a:lnTo>
                    <a:pt x="386" y="54"/>
                  </a:lnTo>
                  <a:lnTo>
                    <a:pt x="386" y="56"/>
                  </a:lnTo>
                  <a:lnTo>
                    <a:pt x="384" y="60"/>
                  </a:lnTo>
                  <a:lnTo>
                    <a:pt x="378" y="62"/>
                  </a:lnTo>
                  <a:lnTo>
                    <a:pt x="378" y="62"/>
                  </a:lnTo>
                  <a:lnTo>
                    <a:pt x="368" y="64"/>
                  </a:lnTo>
                  <a:lnTo>
                    <a:pt x="368" y="64"/>
                  </a:lnTo>
                  <a:lnTo>
                    <a:pt x="356" y="86"/>
                  </a:lnTo>
                  <a:lnTo>
                    <a:pt x="344" y="110"/>
                  </a:lnTo>
                  <a:lnTo>
                    <a:pt x="316" y="156"/>
                  </a:lnTo>
                  <a:lnTo>
                    <a:pt x="280" y="206"/>
                  </a:lnTo>
                  <a:lnTo>
                    <a:pt x="356" y="536"/>
                  </a:lnTo>
                  <a:close/>
                </a:path>
              </a:pathLst>
            </a:custGeom>
            <a:solidFill>
              <a:srgbClr val="16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82"/>
            <p:cNvSpPr/>
            <p:nvPr/>
          </p:nvSpPr>
          <p:spPr>
            <a:xfrm>
              <a:off x="5251680" y="21786840"/>
              <a:ext cx="744480" cy="78408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469" h="494">
                  <a:moveTo>
                    <a:pt x="34" y="0"/>
                  </a:moveTo>
                  <a:lnTo>
                    <a:pt x="34" y="0"/>
                  </a:lnTo>
                  <a:lnTo>
                    <a:pt x="97" y="20"/>
                  </a:lnTo>
                  <a:lnTo>
                    <a:pt x="141" y="38"/>
                  </a:lnTo>
                  <a:lnTo>
                    <a:pt x="169" y="52"/>
                  </a:lnTo>
                  <a:lnTo>
                    <a:pt x="185" y="64"/>
                  </a:lnTo>
                  <a:lnTo>
                    <a:pt x="185" y="64"/>
                  </a:lnTo>
                  <a:lnTo>
                    <a:pt x="175" y="92"/>
                  </a:lnTo>
                  <a:lnTo>
                    <a:pt x="153" y="154"/>
                  </a:lnTo>
                  <a:lnTo>
                    <a:pt x="153" y="154"/>
                  </a:lnTo>
                  <a:lnTo>
                    <a:pt x="129" y="140"/>
                  </a:lnTo>
                  <a:lnTo>
                    <a:pt x="105" y="128"/>
                  </a:lnTo>
                  <a:lnTo>
                    <a:pt x="62" y="110"/>
                  </a:lnTo>
                  <a:lnTo>
                    <a:pt x="28" y="98"/>
                  </a:lnTo>
                  <a:lnTo>
                    <a:pt x="0" y="92"/>
                  </a:lnTo>
                  <a:lnTo>
                    <a:pt x="34" y="0"/>
                  </a:lnTo>
                  <a:close/>
                  <a:moveTo>
                    <a:pt x="82" y="406"/>
                  </a:moveTo>
                  <a:lnTo>
                    <a:pt x="82" y="406"/>
                  </a:lnTo>
                  <a:lnTo>
                    <a:pt x="109" y="392"/>
                  </a:lnTo>
                  <a:lnTo>
                    <a:pt x="135" y="376"/>
                  </a:lnTo>
                  <a:lnTo>
                    <a:pt x="159" y="360"/>
                  </a:lnTo>
                  <a:lnTo>
                    <a:pt x="183" y="340"/>
                  </a:lnTo>
                  <a:lnTo>
                    <a:pt x="207" y="320"/>
                  </a:lnTo>
                  <a:lnTo>
                    <a:pt x="229" y="298"/>
                  </a:lnTo>
                  <a:lnTo>
                    <a:pt x="251" y="276"/>
                  </a:lnTo>
                  <a:lnTo>
                    <a:pt x="273" y="252"/>
                  </a:lnTo>
                  <a:lnTo>
                    <a:pt x="293" y="226"/>
                  </a:lnTo>
                  <a:lnTo>
                    <a:pt x="311" y="198"/>
                  </a:lnTo>
                  <a:lnTo>
                    <a:pt x="329" y="170"/>
                  </a:lnTo>
                  <a:lnTo>
                    <a:pt x="345" y="140"/>
                  </a:lnTo>
                  <a:lnTo>
                    <a:pt x="361" y="108"/>
                  </a:lnTo>
                  <a:lnTo>
                    <a:pt x="375" y="76"/>
                  </a:lnTo>
                  <a:lnTo>
                    <a:pt x="387" y="42"/>
                  </a:lnTo>
                  <a:lnTo>
                    <a:pt x="399" y="8"/>
                  </a:lnTo>
                  <a:lnTo>
                    <a:pt x="399" y="8"/>
                  </a:lnTo>
                  <a:lnTo>
                    <a:pt x="435" y="48"/>
                  </a:lnTo>
                  <a:lnTo>
                    <a:pt x="451" y="60"/>
                  </a:lnTo>
                  <a:lnTo>
                    <a:pt x="469" y="74"/>
                  </a:lnTo>
                  <a:lnTo>
                    <a:pt x="469" y="74"/>
                  </a:lnTo>
                  <a:lnTo>
                    <a:pt x="453" y="122"/>
                  </a:lnTo>
                  <a:lnTo>
                    <a:pt x="441" y="148"/>
                  </a:lnTo>
                  <a:lnTo>
                    <a:pt x="429" y="176"/>
                  </a:lnTo>
                  <a:lnTo>
                    <a:pt x="413" y="206"/>
                  </a:lnTo>
                  <a:lnTo>
                    <a:pt x="395" y="238"/>
                  </a:lnTo>
                  <a:lnTo>
                    <a:pt x="375" y="270"/>
                  </a:lnTo>
                  <a:lnTo>
                    <a:pt x="351" y="302"/>
                  </a:lnTo>
                  <a:lnTo>
                    <a:pt x="351" y="302"/>
                  </a:lnTo>
                  <a:lnTo>
                    <a:pt x="317" y="344"/>
                  </a:lnTo>
                  <a:lnTo>
                    <a:pt x="273" y="390"/>
                  </a:lnTo>
                  <a:lnTo>
                    <a:pt x="249" y="414"/>
                  </a:lnTo>
                  <a:lnTo>
                    <a:pt x="223" y="436"/>
                  </a:lnTo>
                  <a:lnTo>
                    <a:pt x="195" y="458"/>
                  </a:lnTo>
                  <a:lnTo>
                    <a:pt x="167" y="478"/>
                  </a:lnTo>
                  <a:lnTo>
                    <a:pt x="167" y="478"/>
                  </a:lnTo>
                  <a:lnTo>
                    <a:pt x="167" y="488"/>
                  </a:lnTo>
                  <a:lnTo>
                    <a:pt x="165" y="492"/>
                  </a:lnTo>
                  <a:lnTo>
                    <a:pt x="163" y="494"/>
                  </a:lnTo>
                  <a:lnTo>
                    <a:pt x="163" y="494"/>
                  </a:lnTo>
                  <a:lnTo>
                    <a:pt x="159" y="492"/>
                  </a:lnTo>
                  <a:lnTo>
                    <a:pt x="153" y="486"/>
                  </a:lnTo>
                  <a:lnTo>
                    <a:pt x="82" y="406"/>
                  </a:lnTo>
                  <a:close/>
                </a:path>
              </a:pathLst>
            </a:custGeom>
            <a:solidFill>
              <a:srgbClr val="16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83"/>
            <p:cNvSpPr/>
            <p:nvPr/>
          </p:nvSpPr>
          <p:spPr>
            <a:xfrm>
              <a:off x="6094440" y="21402360"/>
              <a:ext cx="730080" cy="974520"/>
            </a:xfrm>
            <a:custGeom>
              <a:avLst/>
              <a:gdLst>
                <a:gd name="textAreaLeft" fmla="*/ 0 w 730080"/>
                <a:gd name="textAreaRight" fmla="*/ 730080 w 73008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460" h="614">
                  <a:moveTo>
                    <a:pt x="18" y="374"/>
                  </a:moveTo>
                  <a:lnTo>
                    <a:pt x="0" y="292"/>
                  </a:lnTo>
                  <a:lnTo>
                    <a:pt x="442" y="192"/>
                  </a:lnTo>
                  <a:lnTo>
                    <a:pt x="460" y="274"/>
                  </a:lnTo>
                  <a:lnTo>
                    <a:pt x="292" y="312"/>
                  </a:lnTo>
                  <a:lnTo>
                    <a:pt x="292" y="312"/>
                  </a:lnTo>
                  <a:lnTo>
                    <a:pt x="296" y="348"/>
                  </a:lnTo>
                  <a:lnTo>
                    <a:pt x="298" y="382"/>
                  </a:lnTo>
                  <a:lnTo>
                    <a:pt x="298" y="412"/>
                  </a:lnTo>
                  <a:lnTo>
                    <a:pt x="294" y="442"/>
                  </a:lnTo>
                  <a:lnTo>
                    <a:pt x="288" y="466"/>
                  </a:lnTo>
                  <a:lnTo>
                    <a:pt x="282" y="490"/>
                  </a:lnTo>
                  <a:lnTo>
                    <a:pt x="272" y="512"/>
                  </a:lnTo>
                  <a:lnTo>
                    <a:pt x="262" y="530"/>
                  </a:lnTo>
                  <a:lnTo>
                    <a:pt x="252" y="548"/>
                  </a:lnTo>
                  <a:lnTo>
                    <a:pt x="240" y="562"/>
                  </a:lnTo>
                  <a:lnTo>
                    <a:pt x="228" y="574"/>
                  </a:lnTo>
                  <a:lnTo>
                    <a:pt x="216" y="586"/>
                  </a:lnTo>
                  <a:lnTo>
                    <a:pt x="196" y="602"/>
                  </a:lnTo>
                  <a:lnTo>
                    <a:pt x="180" y="614"/>
                  </a:lnTo>
                  <a:lnTo>
                    <a:pt x="180" y="614"/>
                  </a:lnTo>
                  <a:lnTo>
                    <a:pt x="164" y="598"/>
                  </a:lnTo>
                  <a:lnTo>
                    <a:pt x="142" y="582"/>
                  </a:lnTo>
                  <a:lnTo>
                    <a:pt x="120" y="568"/>
                  </a:lnTo>
                  <a:lnTo>
                    <a:pt x="100" y="558"/>
                  </a:lnTo>
                  <a:lnTo>
                    <a:pt x="100" y="558"/>
                  </a:lnTo>
                  <a:lnTo>
                    <a:pt x="124" y="544"/>
                  </a:lnTo>
                  <a:lnTo>
                    <a:pt x="144" y="528"/>
                  </a:lnTo>
                  <a:lnTo>
                    <a:pt x="162" y="514"/>
                  </a:lnTo>
                  <a:lnTo>
                    <a:pt x="176" y="498"/>
                  </a:lnTo>
                  <a:lnTo>
                    <a:pt x="186" y="482"/>
                  </a:lnTo>
                  <a:lnTo>
                    <a:pt x="196" y="466"/>
                  </a:lnTo>
                  <a:lnTo>
                    <a:pt x="202" y="450"/>
                  </a:lnTo>
                  <a:lnTo>
                    <a:pt x="208" y="434"/>
                  </a:lnTo>
                  <a:lnTo>
                    <a:pt x="210" y="418"/>
                  </a:lnTo>
                  <a:lnTo>
                    <a:pt x="212" y="402"/>
                  </a:lnTo>
                  <a:lnTo>
                    <a:pt x="212" y="374"/>
                  </a:lnTo>
                  <a:lnTo>
                    <a:pt x="210" y="350"/>
                  </a:lnTo>
                  <a:lnTo>
                    <a:pt x="206" y="332"/>
                  </a:lnTo>
                  <a:lnTo>
                    <a:pt x="18" y="374"/>
                  </a:lnTo>
                  <a:close/>
                  <a:moveTo>
                    <a:pt x="372" y="76"/>
                  </a:moveTo>
                  <a:lnTo>
                    <a:pt x="372" y="76"/>
                  </a:lnTo>
                  <a:lnTo>
                    <a:pt x="406" y="98"/>
                  </a:lnTo>
                  <a:lnTo>
                    <a:pt x="438" y="124"/>
                  </a:lnTo>
                  <a:lnTo>
                    <a:pt x="438" y="124"/>
                  </a:lnTo>
                  <a:lnTo>
                    <a:pt x="416" y="174"/>
                  </a:lnTo>
                  <a:lnTo>
                    <a:pt x="416" y="174"/>
                  </a:lnTo>
                  <a:lnTo>
                    <a:pt x="384" y="148"/>
                  </a:lnTo>
                  <a:lnTo>
                    <a:pt x="368" y="138"/>
                  </a:lnTo>
                  <a:lnTo>
                    <a:pt x="352" y="128"/>
                  </a:lnTo>
                  <a:lnTo>
                    <a:pt x="356" y="142"/>
                  </a:lnTo>
                  <a:lnTo>
                    <a:pt x="58" y="210"/>
                  </a:lnTo>
                  <a:lnTo>
                    <a:pt x="40" y="126"/>
                  </a:lnTo>
                  <a:lnTo>
                    <a:pt x="336" y="58"/>
                  </a:lnTo>
                  <a:lnTo>
                    <a:pt x="350" y="120"/>
                  </a:lnTo>
                  <a:lnTo>
                    <a:pt x="372" y="76"/>
                  </a:lnTo>
                  <a:close/>
                  <a:moveTo>
                    <a:pt x="384" y="0"/>
                  </a:moveTo>
                  <a:lnTo>
                    <a:pt x="384" y="0"/>
                  </a:lnTo>
                  <a:lnTo>
                    <a:pt x="418" y="22"/>
                  </a:lnTo>
                  <a:lnTo>
                    <a:pt x="450" y="46"/>
                  </a:lnTo>
                  <a:lnTo>
                    <a:pt x="450" y="46"/>
                  </a:lnTo>
                  <a:lnTo>
                    <a:pt x="440" y="64"/>
                  </a:lnTo>
                  <a:lnTo>
                    <a:pt x="426" y="94"/>
                  </a:lnTo>
                  <a:lnTo>
                    <a:pt x="426" y="94"/>
                  </a:lnTo>
                  <a:lnTo>
                    <a:pt x="394" y="68"/>
                  </a:lnTo>
                  <a:lnTo>
                    <a:pt x="378" y="56"/>
                  </a:lnTo>
                  <a:lnTo>
                    <a:pt x="360" y="46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16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84"/>
            <p:cNvSpPr/>
            <p:nvPr/>
          </p:nvSpPr>
          <p:spPr>
            <a:xfrm>
              <a:off x="6948720" y="21576960"/>
              <a:ext cx="749160" cy="3204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472" h="202">
                  <a:moveTo>
                    <a:pt x="450" y="0"/>
                  </a:moveTo>
                  <a:lnTo>
                    <a:pt x="472" y="98"/>
                  </a:lnTo>
                  <a:lnTo>
                    <a:pt x="22" y="202"/>
                  </a:lnTo>
                  <a:lnTo>
                    <a:pt x="0" y="104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16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85"/>
            <p:cNvSpPr/>
            <p:nvPr/>
          </p:nvSpPr>
          <p:spPr>
            <a:xfrm>
              <a:off x="7764480" y="21113640"/>
              <a:ext cx="695160" cy="85068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438" h="536">
                  <a:moveTo>
                    <a:pt x="330" y="12"/>
                  </a:moveTo>
                  <a:lnTo>
                    <a:pt x="330" y="12"/>
                  </a:lnTo>
                  <a:lnTo>
                    <a:pt x="346" y="8"/>
                  </a:lnTo>
                  <a:lnTo>
                    <a:pt x="364" y="0"/>
                  </a:lnTo>
                  <a:lnTo>
                    <a:pt x="438" y="40"/>
                  </a:lnTo>
                  <a:lnTo>
                    <a:pt x="438" y="40"/>
                  </a:lnTo>
                  <a:lnTo>
                    <a:pt x="432" y="56"/>
                  </a:lnTo>
                  <a:lnTo>
                    <a:pt x="428" y="74"/>
                  </a:lnTo>
                  <a:lnTo>
                    <a:pt x="428" y="74"/>
                  </a:lnTo>
                  <a:lnTo>
                    <a:pt x="414" y="168"/>
                  </a:lnTo>
                  <a:lnTo>
                    <a:pt x="404" y="230"/>
                  </a:lnTo>
                  <a:lnTo>
                    <a:pt x="394" y="276"/>
                  </a:lnTo>
                  <a:lnTo>
                    <a:pt x="378" y="322"/>
                  </a:lnTo>
                  <a:lnTo>
                    <a:pt x="378" y="322"/>
                  </a:lnTo>
                  <a:lnTo>
                    <a:pt x="366" y="348"/>
                  </a:lnTo>
                  <a:lnTo>
                    <a:pt x="354" y="376"/>
                  </a:lnTo>
                  <a:lnTo>
                    <a:pt x="338" y="400"/>
                  </a:lnTo>
                  <a:lnTo>
                    <a:pt x="322" y="426"/>
                  </a:lnTo>
                  <a:lnTo>
                    <a:pt x="302" y="452"/>
                  </a:lnTo>
                  <a:lnTo>
                    <a:pt x="280" y="478"/>
                  </a:lnTo>
                  <a:lnTo>
                    <a:pt x="254" y="506"/>
                  </a:lnTo>
                  <a:lnTo>
                    <a:pt x="224" y="536"/>
                  </a:lnTo>
                  <a:lnTo>
                    <a:pt x="224" y="536"/>
                  </a:lnTo>
                  <a:lnTo>
                    <a:pt x="214" y="526"/>
                  </a:lnTo>
                  <a:lnTo>
                    <a:pt x="200" y="516"/>
                  </a:lnTo>
                  <a:lnTo>
                    <a:pt x="178" y="500"/>
                  </a:lnTo>
                  <a:lnTo>
                    <a:pt x="144" y="480"/>
                  </a:lnTo>
                  <a:lnTo>
                    <a:pt x="144" y="480"/>
                  </a:lnTo>
                  <a:lnTo>
                    <a:pt x="182" y="448"/>
                  </a:lnTo>
                  <a:lnTo>
                    <a:pt x="216" y="414"/>
                  </a:lnTo>
                  <a:lnTo>
                    <a:pt x="230" y="396"/>
                  </a:lnTo>
                  <a:lnTo>
                    <a:pt x="244" y="378"/>
                  </a:lnTo>
                  <a:lnTo>
                    <a:pt x="258" y="358"/>
                  </a:lnTo>
                  <a:lnTo>
                    <a:pt x="270" y="338"/>
                  </a:lnTo>
                  <a:lnTo>
                    <a:pt x="282" y="316"/>
                  </a:lnTo>
                  <a:lnTo>
                    <a:pt x="292" y="292"/>
                  </a:lnTo>
                  <a:lnTo>
                    <a:pt x="302" y="266"/>
                  </a:lnTo>
                  <a:lnTo>
                    <a:pt x="310" y="238"/>
                  </a:lnTo>
                  <a:lnTo>
                    <a:pt x="318" y="208"/>
                  </a:lnTo>
                  <a:lnTo>
                    <a:pt x="324" y="174"/>
                  </a:lnTo>
                  <a:lnTo>
                    <a:pt x="330" y="138"/>
                  </a:lnTo>
                  <a:lnTo>
                    <a:pt x="334" y="100"/>
                  </a:lnTo>
                  <a:lnTo>
                    <a:pt x="18" y="172"/>
                  </a:lnTo>
                  <a:lnTo>
                    <a:pt x="0" y="88"/>
                  </a:lnTo>
                  <a:lnTo>
                    <a:pt x="330" y="12"/>
                  </a:lnTo>
                  <a:close/>
                </a:path>
              </a:pathLst>
            </a:custGeom>
            <a:solidFill>
              <a:srgbClr val="16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86"/>
            <p:cNvSpPr/>
            <p:nvPr/>
          </p:nvSpPr>
          <p:spPr>
            <a:xfrm>
              <a:off x="8736120" y="21113640"/>
              <a:ext cx="625320" cy="654120"/>
            </a:xfrm>
            <a:custGeom>
              <a:avLst/>
              <a:gdLst/>
              <a:ahLst/>
              <a:rect l="l" t="t" r="r" b="b"/>
              <a:pathLst>
                <a:path w="394" h="412">
                  <a:moveTo>
                    <a:pt x="236" y="286"/>
                  </a:moveTo>
                  <a:lnTo>
                    <a:pt x="376" y="254"/>
                  </a:lnTo>
                  <a:lnTo>
                    <a:pt x="394" y="332"/>
                  </a:lnTo>
                  <a:lnTo>
                    <a:pt x="40" y="412"/>
                  </a:lnTo>
                  <a:lnTo>
                    <a:pt x="24" y="334"/>
                  </a:lnTo>
                  <a:lnTo>
                    <a:pt x="160" y="304"/>
                  </a:lnTo>
                  <a:lnTo>
                    <a:pt x="118" y="122"/>
                  </a:lnTo>
                  <a:lnTo>
                    <a:pt x="20" y="144"/>
                  </a:lnTo>
                  <a:lnTo>
                    <a:pt x="0" y="64"/>
                  </a:lnTo>
                  <a:lnTo>
                    <a:pt x="278" y="0"/>
                  </a:lnTo>
                  <a:lnTo>
                    <a:pt x="296" y="80"/>
                  </a:lnTo>
                  <a:lnTo>
                    <a:pt x="194" y="104"/>
                  </a:lnTo>
                  <a:lnTo>
                    <a:pt x="236" y="286"/>
                  </a:lnTo>
                  <a:close/>
                </a:path>
              </a:pathLst>
            </a:custGeom>
            <a:solidFill>
              <a:srgbClr val="16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87"/>
            <p:cNvSpPr/>
            <p:nvPr/>
          </p:nvSpPr>
          <p:spPr>
            <a:xfrm>
              <a:off x="9415800" y="20726280"/>
              <a:ext cx="761760" cy="86364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480" h="544">
                  <a:moveTo>
                    <a:pt x="382" y="12"/>
                  </a:moveTo>
                  <a:lnTo>
                    <a:pt x="382" y="12"/>
                  </a:lnTo>
                  <a:lnTo>
                    <a:pt x="394" y="10"/>
                  </a:lnTo>
                  <a:lnTo>
                    <a:pt x="402" y="6"/>
                  </a:lnTo>
                  <a:lnTo>
                    <a:pt x="410" y="0"/>
                  </a:lnTo>
                  <a:lnTo>
                    <a:pt x="480" y="46"/>
                  </a:lnTo>
                  <a:lnTo>
                    <a:pt x="480" y="46"/>
                  </a:lnTo>
                  <a:lnTo>
                    <a:pt x="468" y="80"/>
                  </a:lnTo>
                  <a:lnTo>
                    <a:pt x="468" y="80"/>
                  </a:lnTo>
                  <a:lnTo>
                    <a:pt x="438" y="162"/>
                  </a:lnTo>
                  <a:lnTo>
                    <a:pt x="412" y="224"/>
                  </a:lnTo>
                  <a:lnTo>
                    <a:pt x="390" y="268"/>
                  </a:lnTo>
                  <a:lnTo>
                    <a:pt x="372" y="300"/>
                  </a:lnTo>
                  <a:lnTo>
                    <a:pt x="372" y="300"/>
                  </a:lnTo>
                  <a:lnTo>
                    <a:pt x="354" y="286"/>
                  </a:lnTo>
                  <a:lnTo>
                    <a:pt x="338" y="274"/>
                  </a:lnTo>
                  <a:lnTo>
                    <a:pt x="320" y="262"/>
                  </a:lnTo>
                  <a:lnTo>
                    <a:pt x="298" y="252"/>
                  </a:lnTo>
                  <a:lnTo>
                    <a:pt x="298" y="252"/>
                  </a:lnTo>
                  <a:lnTo>
                    <a:pt x="320" y="214"/>
                  </a:lnTo>
                  <a:lnTo>
                    <a:pt x="338" y="180"/>
                  </a:lnTo>
                  <a:lnTo>
                    <a:pt x="354" y="146"/>
                  </a:lnTo>
                  <a:lnTo>
                    <a:pt x="368" y="106"/>
                  </a:lnTo>
                  <a:lnTo>
                    <a:pt x="20" y="186"/>
                  </a:lnTo>
                  <a:lnTo>
                    <a:pt x="0" y="100"/>
                  </a:lnTo>
                  <a:lnTo>
                    <a:pt x="382" y="12"/>
                  </a:lnTo>
                  <a:close/>
                  <a:moveTo>
                    <a:pt x="282" y="150"/>
                  </a:moveTo>
                  <a:lnTo>
                    <a:pt x="282" y="150"/>
                  </a:lnTo>
                  <a:lnTo>
                    <a:pt x="288" y="150"/>
                  </a:lnTo>
                  <a:lnTo>
                    <a:pt x="290" y="152"/>
                  </a:lnTo>
                  <a:lnTo>
                    <a:pt x="292" y="154"/>
                  </a:lnTo>
                  <a:lnTo>
                    <a:pt x="292" y="154"/>
                  </a:lnTo>
                  <a:lnTo>
                    <a:pt x="292" y="158"/>
                  </a:lnTo>
                  <a:lnTo>
                    <a:pt x="290" y="162"/>
                  </a:lnTo>
                  <a:lnTo>
                    <a:pt x="286" y="166"/>
                  </a:lnTo>
                  <a:lnTo>
                    <a:pt x="286" y="166"/>
                  </a:lnTo>
                  <a:lnTo>
                    <a:pt x="292" y="214"/>
                  </a:lnTo>
                  <a:lnTo>
                    <a:pt x="298" y="262"/>
                  </a:lnTo>
                  <a:lnTo>
                    <a:pt x="300" y="306"/>
                  </a:lnTo>
                  <a:lnTo>
                    <a:pt x="298" y="344"/>
                  </a:lnTo>
                  <a:lnTo>
                    <a:pt x="298" y="344"/>
                  </a:lnTo>
                  <a:lnTo>
                    <a:pt x="294" y="368"/>
                  </a:lnTo>
                  <a:lnTo>
                    <a:pt x="288" y="394"/>
                  </a:lnTo>
                  <a:lnTo>
                    <a:pt x="278" y="422"/>
                  </a:lnTo>
                  <a:lnTo>
                    <a:pt x="268" y="448"/>
                  </a:lnTo>
                  <a:lnTo>
                    <a:pt x="256" y="474"/>
                  </a:lnTo>
                  <a:lnTo>
                    <a:pt x="240" y="500"/>
                  </a:lnTo>
                  <a:lnTo>
                    <a:pt x="224" y="522"/>
                  </a:lnTo>
                  <a:lnTo>
                    <a:pt x="206" y="544"/>
                  </a:lnTo>
                  <a:lnTo>
                    <a:pt x="206" y="544"/>
                  </a:lnTo>
                  <a:lnTo>
                    <a:pt x="184" y="530"/>
                  </a:lnTo>
                  <a:lnTo>
                    <a:pt x="164" y="520"/>
                  </a:lnTo>
                  <a:lnTo>
                    <a:pt x="120" y="500"/>
                  </a:lnTo>
                  <a:lnTo>
                    <a:pt x="120" y="500"/>
                  </a:lnTo>
                  <a:lnTo>
                    <a:pt x="142" y="474"/>
                  </a:lnTo>
                  <a:lnTo>
                    <a:pt x="164" y="448"/>
                  </a:lnTo>
                  <a:lnTo>
                    <a:pt x="174" y="432"/>
                  </a:lnTo>
                  <a:lnTo>
                    <a:pt x="184" y="416"/>
                  </a:lnTo>
                  <a:lnTo>
                    <a:pt x="192" y="400"/>
                  </a:lnTo>
                  <a:lnTo>
                    <a:pt x="200" y="380"/>
                  </a:lnTo>
                  <a:lnTo>
                    <a:pt x="204" y="360"/>
                  </a:lnTo>
                  <a:lnTo>
                    <a:pt x="208" y="338"/>
                  </a:lnTo>
                  <a:lnTo>
                    <a:pt x="212" y="314"/>
                  </a:lnTo>
                  <a:lnTo>
                    <a:pt x="212" y="288"/>
                  </a:lnTo>
                  <a:lnTo>
                    <a:pt x="210" y="262"/>
                  </a:lnTo>
                  <a:lnTo>
                    <a:pt x="206" y="232"/>
                  </a:lnTo>
                  <a:lnTo>
                    <a:pt x="200" y="200"/>
                  </a:lnTo>
                  <a:lnTo>
                    <a:pt x="192" y="164"/>
                  </a:lnTo>
                  <a:lnTo>
                    <a:pt x="282" y="150"/>
                  </a:lnTo>
                  <a:close/>
                </a:path>
              </a:pathLst>
            </a:custGeom>
            <a:solidFill>
              <a:srgbClr val="16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88"/>
            <p:cNvSpPr/>
            <p:nvPr/>
          </p:nvSpPr>
          <p:spPr>
            <a:xfrm>
              <a:off x="1095480" y="22570920"/>
              <a:ext cx="784080" cy="89856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494" h="566">
                  <a:moveTo>
                    <a:pt x="144" y="150"/>
                  </a:moveTo>
                  <a:lnTo>
                    <a:pt x="144" y="150"/>
                  </a:lnTo>
                  <a:lnTo>
                    <a:pt x="152" y="152"/>
                  </a:lnTo>
                  <a:lnTo>
                    <a:pt x="156" y="152"/>
                  </a:lnTo>
                  <a:lnTo>
                    <a:pt x="158" y="156"/>
                  </a:lnTo>
                  <a:lnTo>
                    <a:pt x="158" y="156"/>
                  </a:lnTo>
                  <a:lnTo>
                    <a:pt x="156" y="162"/>
                  </a:lnTo>
                  <a:lnTo>
                    <a:pt x="154" y="164"/>
                  </a:lnTo>
                  <a:lnTo>
                    <a:pt x="148" y="168"/>
                  </a:lnTo>
                  <a:lnTo>
                    <a:pt x="148" y="168"/>
                  </a:lnTo>
                  <a:lnTo>
                    <a:pt x="148" y="244"/>
                  </a:lnTo>
                  <a:lnTo>
                    <a:pt x="146" y="310"/>
                  </a:lnTo>
                  <a:lnTo>
                    <a:pt x="142" y="368"/>
                  </a:lnTo>
                  <a:lnTo>
                    <a:pt x="134" y="418"/>
                  </a:lnTo>
                  <a:lnTo>
                    <a:pt x="124" y="462"/>
                  </a:lnTo>
                  <a:lnTo>
                    <a:pt x="114" y="500"/>
                  </a:lnTo>
                  <a:lnTo>
                    <a:pt x="100" y="534"/>
                  </a:lnTo>
                  <a:lnTo>
                    <a:pt x="86" y="566"/>
                  </a:lnTo>
                  <a:lnTo>
                    <a:pt x="86" y="566"/>
                  </a:lnTo>
                  <a:lnTo>
                    <a:pt x="40" y="552"/>
                  </a:lnTo>
                  <a:lnTo>
                    <a:pt x="22" y="548"/>
                  </a:lnTo>
                  <a:lnTo>
                    <a:pt x="0" y="544"/>
                  </a:lnTo>
                  <a:lnTo>
                    <a:pt x="0" y="544"/>
                  </a:lnTo>
                  <a:lnTo>
                    <a:pt x="18" y="498"/>
                  </a:lnTo>
                  <a:lnTo>
                    <a:pt x="34" y="450"/>
                  </a:lnTo>
                  <a:lnTo>
                    <a:pt x="46" y="402"/>
                  </a:lnTo>
                  <a:lnTo>
                    <a:pt x="54" y="352"/>
                  </a:lnTo>
                  <a:lnTo>
                    <a:pt x="60" y="302"/>
                  </a:lnTo>
                  <a:lnTo>
                    <a:pt x="60" y="250"/>
                  </a:lnTo>
                  <a:lnTo>
                    <a:pt x="60" y="198"/>
                  </a:lnTo>
                  <a:lnTo>
                    <a:pt x="54" y="146"/>
                  </a:lnTo>
                  <a:lnTo>
                    <a:pt x="144" y="150"/>
                  </a:lnTo>
                  <a:close/>
                  <a:moveTo>
                    <a:pt x="260" y="86"/>
                  </a:moveTo>
                  <a:lnTo>
                    <a:pt x="260" y="86"/>
                  </a:lnTo>
                  <a:lnTo>
                    <a:pt x="282" y="106"/>
                  </a:lnTo>
                  <a:lnTo>
                    <a:pt x="308" y="132"/>
                  </a:lnTo>
                  <a:lnTo>
                    <a:pt x="336" y="166"/>
                  </a:lnTo>
                  <a:lnTo>
                    <a:pt x="370" y="204"/>
                  </a:lnTo>
                  <a:lnTo>
                    <a:pt x="402" y="248"/>
                  </a:lnTo>
                  <a:lnTo>
                    <a:pt x="434" y="296"/>
                  </a:lnTo>
                  <a:lnTo>
                    <a:pt x="466" y="348"/>
                  </a:lnTo>
                  <a:lnTo>
                    <a:pt x="480" y="374"/>
                  </a:lnTo>
                  <a:lnTo>
                    <a:pt x="494" y="402"/>
                  </a:lnTo>
                  <a:lnTo>
                    <a:pt x="494" y="402"/>
                  </a:lnTo>
                  <a:lnTo>
                    <a:pt x="470" y="422"/>
                  </a:lnTo>
                  <a:lnTo>
                    <a:pt x="450" y="442"/>
                  </a:lnTo>
                  <a:lnTo>
                    <a:pt x="424" y="470"/>
                  </a:lnTo>
                  <a:lnTo>
                    <a:pt x="424" y="470"/>
                  </a:lnTo>
                  <a:lnTo>
                    <a:pt x="396" y="410"/>
                  </a:lnTo>
                  <a:lnTo>
                    <a:pt x="366" y="356"/>
                  </a:lnTo>
                  <a:lnTo>
                    <a:pt x="336" y="308"/>
                  </a:lnTo>
                  <a:lnTo>
                    <a:pt x="306" y="266"/>
                  </a:lnTo>
                  <a:lnTo>
                    <a:pt x="276" y="230"/>
                  </a:lnTo>
                  <a:lnTo>
                    <a:pt x="250" y="198"/>
                  </a:lnTo>
                  <a:lnTo>
                    <a:pt x="226" y="174"/>
                  </a:lnTo>
                  <a:lnTo>
                    <a:pt x="206" y="154"/>
                  </a:lnTo>
                  <a:lnTo>
                    <a:pt x="260" y="86"/>
                  </a:lnTo>
                  <a:close/>
                  <a:moveTo>
                    <a:pt x="318" y="52"/>
                  </a:moveTo>
                  <a:lnTo>
                    <a:pt x="318" y="52"/>
                  </a:lnTo>
                  <a:lnTo>
                    <a:pt x="352" y="76"/>
                  </a:lnTo>
                  <a:lnTo>
                    <a:pt x="370" y="92"/>
                  </a:lnTo>
                  <a:lnTo>
                    <a:pt x="386" y="106"/>
                  </a:lnTo>
                  <a:lnTo>
                    <a:pt x="386" y="106"/>
                  </a:lnTo>
                  <a:lnTo>
                    <a:pt x="356" y="152"/>
                  </a:lnTo>
                  <a:lnTo>
                    <a:pt x="356" y="152"/>
                  </a:lnTo>
                  <a:lnTo>
                    <a:pt x="326" y="126"/>
                  </a:lnTo>
                  <a:lnTo>
                    <a:pt x="288" y="96"/>
                  </a:lnTo>
                  <a:lnTo>
                    <a:pt x="318" y="52"/>
                  </a:lnTo>
                  <a:close/>
                  <a:moveTo>
                    <a:pt x="362" y="0"/>
                  </a:moveTo>
                  <a:lnTo>
                    <a:pt x="362" y="0"/>
                  </a:lnTo>
                  <a:lnTo>
                    <a:pt x="398" y="24"/>
                  </a:lnTo>
                  <a:lnTo>
                    <a:pt x="412" y="38"/>
                  </a:lnTo>
                  <a:lnTo>
                    <a:pt x="428" y="52"/>
                  </a:lnTo>
                  <a:lnTo>
                    <a:pt x="428" y="52"/>
                  </a:lnTo>
                  <a:lnTo>
                    <a:pt x="414" y="70"/>
                  </a:lnTo>
                  <a:lnTo>
                    <a:pt x="398" y="94"/>
                  </a:lnTo>
                  <a:lnTo>
                    <a:pt x="398" y="94"/>
                  </a:lnTo>
                  <a:lnTo>
                    <a:pt x="386" y="80"/>
                  </a:lnTo>
                  <a:lnTo>
                    <a:pt x="368" y="66"/>
                  </a:lnTo>
                  <a:lnTo>
                    <a:pt x="334" y="40"/>
                  </a:lnTo>
                  <a:lnTo>
                    <a:pt x="362" y="0"/>
                  </a:lnTo>
                  <a:close/>
                </a:path>
              </a:pathLst>
            </a:custGeom>
            <a:noFill/>
            <a:ln w="187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89"/>
            <p:cNvSpPr/>
            <p:nvPr/>
          </p:nvSpPr>
          <p:spPr>
            <a:xfrm>
              <a:off x="1940040" y="22542480"/>
              <a:ext cx="714240" cy="76176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50" h="480">
                  <a:moveTo>
                    <a:pt x="88" y="0"/>
                  </a:moveTo>
                  <a:lnTo>
                    <a:pt x="88" y="0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100" y="8"/>
                  </a:lnTo>
                  <a:lnTo>
                    <a:pt x="98" y="12"/>
                  </a:lnTo>
                  <a:lnTo>
                    <a:pt x="92" y="18"/>
                  </a:lnTo>
                  <a:lnTo>
                    <a:pt x="168" y="348"/>
                  </a:lnTo>
                  <a:lnTo>
                    <a:pt x="168" y="348"/>
                  </a:lnTo>
                  <a:lnTo>
                    <a:pt x="194" y="330"/>
                  </a:lnTo>
                  <a:lnTo>
                    <a:pt x="224" y="308"/>
                  </a:lnTo>
                  <a:lnTo>
                    <a:pt x="254" y="280"/>
                  </a:lnTo>
                  <a:lnTo>
                    <a:pt x="286" y="246"/>
                  </a:lnTo>
                  <a:lnTo>
                    <a:pt x="316" y="210"/>
                  </a:lnTo>
                  <a:lnTo>
                    <a:pt x="344" y="170"/>
                  </a:lnTo>
                  <a:lnTo>
                    <a:pt x="370" y="126"/>
                  </a:lnTo>
                  <a:lnTo>
                    <a:pt x="380" y="102"/>
                  </a:lnTo>
                  <a:lnTo>
                    <a:pt x="392" y="78"/>
                  </a:lnTo>
                  <a:lnTo>
                    <a:pt x="392" y="78"/>
                  </a:lnTo>
                  <a:lnTo>
                    <a:pt x="418" y="120"/>
                  </a:lnTo>
                  <a:lnTo>
                    <a:pt x="432" y="140"/>
                  </a:lnTo>
                  <a:lnTo>
                    <a:pt x="450" y="160"/>
                  </a:lnTo>
                  <a:lnTo>
                    <a:pt x="450" y="160"/>
                  </a:lnTo>
                  <a:lnTo>
                    <a:pt x="434" y="190"/>
                  </a:lnTo>
                  <a:lnTo>
                    <a:pt x="416" y="222"/>
                  </a:lnTo>
                  <a:lnTo>
                    <a:pt x="392" y="258"/>
                  </a:lnTo>
                  <a:lnTo>
                    <a:pt x="364" y="296"/>
                  </a:lnTo>
                  <a:lnTo>
                    <a:pt x="326" y="338"/>
                  </a:lnTo>
                  <a:lnTo>
                    <a:pt x="282" y="382"/>
                  </a:lnTo>
                  <a:lnTo>
                    <a:pt x="228" y="430"/>
                  </a:lnTo>
                  <a:lnTo>
                    <a:pt x="196" y="454"/>
                  </a:lnTo>
                  <a:lnTo>
                    <a:pt x="160" y="480"/>
                  </a:lnTo>
                  <a:lnTo>
                    <a:pt x="94" y="436"/>
                  </a:lnTo>
                  <a:lnTo>
                    <a:pt x="94" y="436"/>
                  </a:lnTo>
                  <a:lnTo>
                    <a:pt x="88" y="402"/>
                  </a:lnTo>
                  <a:lnTo>
                    <a:pt x="0" y="16"/>
                  </a:lnTo>
                  <a:lnTo>
                    <a:pt x="88" y="0"/>
                  </a:lnTo>
                  <a:close/>
                </a:path>
              </a:pathLst>
            </a:custGeom>
            <a:noFill/>
            <a:ln w="187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90"/>
            <p:cNvSpPr/>
            <p:nvPr/>
          </p:nvSpPr>
          <p:spPr>
            <a:xfrm>
              <a:off x="2733840" y="22361400"/>
              <a:ext cx="742680" cy="784080"/>
            </a:xfrm>
            <a:custGeom>
              <a:avLst/>
              <a:gdLst>
                <a:gd name="textAreaLeft" fmla="*/ 0 w 742680"/>
                <a:gd name="textAreaRight" fmla="*/ 743040 w 74268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468" h="494">
                  <a:moveTo>
                    <a:pt x="32" y="0"/>
                  </a:moveTo>
                  <a:lnTo>
                    <a:pt x="32" y="0"/>
                  </a:lnTo>
                  <a:lnTo>
                    <a:pt x="96" y="20"/>
                  </a:lnTo>
                  <a:lnTo>
                    <a:pt x="138" y="38"/>
                  </a:lnTo>
                  <a:lnTo>
                    <a:pt x="166" y="52"/>
                  </a:lnTo>
                  <a:lnTo>
                    <a:pt x="184" y="64"/>
                  </a:lnTo>
                  <a:lnTo>
                    <a:pt x="184" y="64"/>
                  </a:lnTo>
                  <a:lnTo>
                    <a:pt x="172" y="92"/>
                  </a:lnTo>
                  <a:lnTo>
                    <a:pt x="152" y="154"/>
                  </a:lnTo>
                  <a:lnTo>
                    <a:pt x="152" y="154"/>
                  </a:lnTo>
                  <a:lnTo>
                    <a:pt x="126" y="140"/>
                  </a:lnTo>
                  <a:lnTo>
                    <a:pt x="104" y="128"/>
                  </a:lnTo>
                  <a:lnTo>
                    <a:pt x="62" y="110"/>
                  </a:lnTo>
                  <a:lnTo>
                    <a:pt x="26" y="98"/>
                  </a:lnTo>
                  <a:lnTo>
                    <a:pt x="0" y="92"/>
                  </a:lnTo>
                  <a:lnTo>
                    <a:pt x="32" y="0"/>
                  </a:lnTo>
                  <a:close/>
                  <a:moveTo>
                    <a:pt x="80" y="406"/>
                  </a:moveTo>
                  <a:lnTo>
                    <a:pt x="80" y="406"/>
                  </a:lnTo>
                  <a:lnTo>
                    <a:pt x="106" y="392"/>
                  </a:lnTo>
                  <a:lnTo>
                    <a:pt x="132" y="376"/>
                  </a:lnTo>
                  <a:lnTo>
                    <a:pt x="158" y="360"/>
                  </a:lnTo>
                  <a:lnTo>
                    <a:pt x="182" y="342"/>
                  </a:lnTo>
                  <a:lnTo>
                    <a:pt x="204" y="320"/>
                  </a:lnTo>
                  <a:lnTo>
                    <a:pt x="228" y="300"/>
                  </a:lnTo>
                  <a:lnTo>
                    <a:pt x="250" y="276"/>
                  </a:lnTo>
                  <a:lnTo>
                    <a:pt x="270" y="252"/>
                  </a:lnTo>
                  <a:lnTo>
                    <a:pt x="290" y="226"/>
                  </a:lnTo>
                  <a:lnTo>
                    <a:pt x="310" y="198"/>
                  </a:lnTo>
                  <a:lnTo>
                    <a:pt x="326" y="170"/>
                  </a:lnTo>
                  <a:lnTo>
                    <a:pt x="344" y="140"/>
                  </a:lnTo>
                  <a:lnTo>
                    <a:pt x="358" y="108"/>
                  </a:lnTo>
                  <a:lnTo>
                    <a:pt x="372" y="76"/>
                  </a:lnTo>
                  <a:lnTo>
                    <a:pt x="386" y="44"/>
                  </a:lnTo>
                  <a:lnTo>
                    <a:pt x="396" y="10"/>
                  </a:lnTo>
                  <a:lnTo>
                    <a:pt x="396" y="10"/>
                  </a:lnTo>
                  <a:lnTo>
                    <a:pt x="432" y="48"/>
                  </a:lnTo>
                  <a:lnTo>
                    <a:pt x="448" y="62"/>
                  </a:lnTo>
                  <a:lnTo>
                    <a:pt x="468" y="74"/>
                  </a:lnTo>
                  <a:lnTo>
                    <a:pt x="468" y="74"/>
                  </a:lnTo>
                  <a:lnTo>
                    <a:pt x="450" y="122"/>
                  </a:lnTo>
                  <a:lnTo>
                    <a:pt x="440" y="148"/>
                  </a:lnTo>
                  <a:lnTo>
                    <a:pt x="426" y="176"/>
                  </a:lnTo>
                  <a:lnTo>
                    <a:pt x="412" y="206"/>
                  </a:lnTo>
                  <a:lnTo>
                    <a:pt x="394" y="238"/>
                  </a:lnTo>
                  <a:lnTo>
                    <a:pt x="374" y="270"/>
                  </a:lnTo>
                  <a:lnTo>
                    <a:pt x="350" y="302"/>
                  </a:lnTo>
                  <a:lnTo>
                    <a:pt x="350" y="302"/>
                  </a:lnTo>
                  <a:lnTo>
                    <a:pt x="316" y="344"/>
                  </a:lnTo>
                  <a:lnTo>
                    <a:pt x="272" y="390"/>
                  </a:lnTo>
                  <a:lnTo>
                    <a:pt x="246" y="414"/>
                  </a:lnTo>
                  <a:lnTo>
                    <a:pt x="220" y="436"/>
                  </a:lnTo>
                  <a:lnTo>
                    <a:pt x="194" y="458"/>
                  </a:lnTo>
                  <a:lnTo>
                    <a:pt x="166" y="480"/>
                  </a:lnTo>
                  <a:lnTo>
                    <a:pt x="166" y="480"/>
                  </a:lnTo>
                  <a:lnTo>
                    <a:pt x="166" y="488"/>
                  </a:lnTo>
                  <a:lnTo>
                    <a:pt x="164" y="492"/>
                  </a:lnTo>
                  <a:lnTo>
                    <a:pt x="160" y="494"/>
                  </a:lnTo>
                  <a:lnTo>
                    <a:pt x="160" y="494"/>
                  </a:lnTo>
                  <a:lnTo>
                    <a:pt x="156" y="492"/>
                  </a:lnTo>
                  <a:lnTo>
                    <a:pt x="150" y="488"/>
                  </a:lnTo>
                  <a:lnTo>
                    <a:pt x="80" y="406"/>
                  </a:lnTo>
                  <a:close/>
                </a:path>
              </a:pathLst>
            </a:custGeom>
            <a:noFill/>
            <a:ln w="187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91"/>
            <p:cNvSpPr/>
            <p:nvPr/>
          </p:nvSpPr>
          <p:spPr>
            <a:xfrm>
              <a:off x="3629160" y="22094640"/>
              <a:ext cx="631800" cy="86364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398" h="544">
                  <a:moveTo>
                    <a:pt x="168" y="204"/>
                  </a:moveTo>
                  <a:lnTo>
                    <a:pt x="168" y="204"/>
                  </a:lnTo>
                  <a:lnTo>
                    <a:pt x="222" y="222"/>
                  </a:lnTo>
                  <a:lnTo>
                    <a:pt x="262" y="240"/>
                  </a:lnTo>
                  <a:lnTo>
                    <a:pt x="262" y="240"/>
                  </a:lnTo>
                  <a:lnTo>
                    <a:pt x="272" y="208"/>
                  </a:lnTo>
                  <a:lnTo>
                    <a:pt x="276" y="182"/>
                  </a:lnTo>
                  <a:lnTo>
                    <a:pt x="282" y="144"/>
                  </a:lnTo>
                  <a:lnTo>
                    <a:pt x="158" y="172"/>
                  </a:lnTo>
                  <a:lnTo>
                    <a:pt x="158" y="172"/>
                  </a:lnTo>
                  <a:lnTo>
                    <a:pt x="142" y="212"/>
                  </a:lnTo>
                  <a:lnTo>
                    <a:pt x="124" y="252"/>
                  </a:lnTo>
                  <a:lnTo>
                    <a:pt x="102" y="290"/>
                  </a:lnTo>
                  <a:lnTo>
                    <a:pt x="78" y="326"/>
                  </a:lnTo>
                  <a:lnTo>
                    <a:pt x="78" y="326"/>
                  </a:lnTo>
                  <a:lnTo>
                    <a:pt x="36" y="298"/>
                  </a:lnTo>
                  <a:lnTo>
                    <a:pt x="0" y="280"/>
                  </a:lnTo>
                  <a:lnTo>
                    <a:pt x="0" y="280"/>
                  </a:lnTo>
                  <a:lnTo>
                    <a:pt x="22" y="252"/>
                  </a:lnTo>
                  <a:lnTo>
                    <a:pt x="42" y="222"/>
                  </a:lnTo>
                  <a:lnTo>
                    <a:pt x="58" y="190"/>
                  </a:lnTo>
                  <a:lnTo>
                    <a:pt x="74" y="156"/>
                  </a:lnTo>
                  <a:lnTo>
                    <a:pt x="88" y="120"/>
                  </a:lnTo>
                  <a:lnTo>
                    <a:pt x="98" y="82"/>
                  </a:lnTo>
                  <a:lnTo>
                    <a:pt x="106" y="42"/>
                  </a:lnTo>
                  <a:lnTo>
                    <a:pt x="114" y="0"/>
                  </a:lnTo>
                  <a:lnTo>
                    <a:pt x="202" y="12"/>
                  </a:lnTo>
                  <a:lnTo>
                    <a:pt x="202" y="12"/>
                  </a:lnTo>
                  <a:lnTo>
                    <a:pt x="208" y="12"/>
                  </a:lnTo>
                  <a:lnTo>
                    <a:pt x="212" y="14"/>
                  </a:lnTo>
                  <a:lnTo>
                    <a:pt x="212" y="18"/>
                  </a:lnTo>
                  <a:lnTo>
                    <a:pt x="212" y="18"/>
                  </a:lnTo>
                  <a:lnTo>
                    <a:pt x="212" y="20"/>
                  </a:lnTo>
                  <a:lnTo>
                    <a:pt x="210" y="24"/>
                  </a:lnTo>
                  <a:lnTo>
                    <a:pt x="202" y="26"/>
                  </a:lnTo>
                  <a:lnTo>
                    <a:pt x="202" y="26"/>
                  </a:lnTo>
                  <a:lnTo>
                    <a:pt x="188" y="82"/>
                  </a:lnTo>
                  <a:lnTo>
                    <a:pt x="300" y="56"/>
                  </a:lnTo>
                  <a:lnTo>
                    <a:pt x="300" y="56"/>
                  </a:lnTo>
                  <a:lnTo>
                    <a:pt x="314" y="52"/>
                  </a:lnTo>
                  <a:lnTo>
                    <a:pt x="322" y="48"/>
                  </a:lnTo>
                  <a:lnTo>
                    <a:pt x="336" y="42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74" y="94"/>
                  </a:lnTo>
                  <a:lnTo>
                    <a:pt x="374" y="94"/>
                  </a:lnTo>
                  <a:lnTo>
                    <a:pt x="366" y="156"/>
                  </a:lnTo>
                  <a:lnTo>
                    <a:pt x="358" y="202"/>
                  </a:lnTo>
                  <a:lnTo>
                    <a:pt x="350" y="240"/>
                  </a:lnTo>
                  <a:lnTo>
                    <a:pt x="340" y="278"/>
                  </a:lnTo>
                  <a:lnTo>
                    <a:pt x="340" y="278"/>
                  </a:lnTo>
                  <a:lnTo>
                    <a:pt x="362" y="292"/>
                  </a:lnTo>
                  <a:lnTo>
                    <a:pt x="378" y="304"/>
                  </a:lnTo>
                  <a:lnTo>
                    <a:pt x="398" y="322"/>
                  </a:lnTo>
                  <a:lnTo>
                    <a:pt x="398" y="322"/>
                  </a:lnTo>
                  <a:lnTo>
                    <a:pt x="378" y="366"/>
                  </a:lnTo>
                  <a:lnTo>
                    <a:pt x="364" y="408"/>
                  </a:lnTo>
                  <a:lnTo>
                    <a:pt x="364" y="408"/>
                  </a:lnTo>
                  <a:lnTo>
                    <a:pt x="340" y="386"/>
                  </a:lnTo>
                  <a:lnTo>
                    <a:pt x="306" y="362"/>
                  </a:lnTo>
                  <a:lnTo>
                    <a:pt x="306" y="362"/>
                  </a:lnTo>
                  <a:lnTo>
                    <a:pt x="286" y="398"/>
                  </a:lnTo>
                  <a:lnTo>
                    <a:pt x="266" y="428"/>
                  </a:lnTo>
                  <a:lnTo>
                    <a:pt x="244" y="456"/>
                  </a:lnTo>
                  <a:lnTo>
                    <a:pt x="222" y="480"/>
                  </a:lnTo>
                  <a:lnTo>
                    <a:pt x="202" y="500"/>
                  </a:lnTo>
                  <a:lnTo>
                    <a:pt x="182" y="518"/>
                  </a:lnTo>
                  <a:lnTo>
                    <a:pt x="148" y="544"/>
                  </a:lnTo>
                  <a:lnTo>
                    <a:pt x="148" y="544"/>
                  </a:lnTo>
                  <a:lnTo>
                    <a:pt x="130" y="526"/>
                  </a:lnTo>
                  <a:lnTo>
                    <a:pt x="112" y="508"/>
                  </a:lnTo>
                  <a:lnTo>
                    <a:pt x="94" y="494"/>
                  </a:lnTo>
                  <a:lnTo>
                    <a:pt x="74" y="480"/>
                  </a:lnTo>
                  <a:lnTo>
                    <a:pt x="74" y="480"/>
                  </a:lnTo>
                  <a:lnTo>
                    <a:pt x="98" y="464"/>
                  </a:lnTo>
                  <a:lnTo>
                    <a:pt x="122" y="446"/>
                  </a:lnTo>
                  <a:lnTo>
                    <a:pt x="144" y="426"/>
                  </a:lnTo>
                  <a:lnTo>
                    <a:pt x="166" y="406"/>
                  </a:lnTo>
                  <a:lnTo>
                    <a:pt x="186" y="384"/>
                  </a:lnTo>
                  <a:lnTo>
                    <a:pt x="204" y="360"/>
                  </a:lnTo>
                  <a:lnTo>
                    <a:pt x="220" y="338"/>
                  </a:lnTo>
                  <a:lnTo>
                    <a:pt x="232" y="318"/>
                  </a:lnTo>
                  <a:lnTo>
                    <a:pt x="232" y="318"/>
                  </a:lnTo>
                  <a:lnTo>
                    <a:pt x="202" y="304"/>
                  </a:lnTo>
                  <a:lnTo>
                    <a:pt x="176" y="292"/>
                  </a:lnTo>
                  <a:lnTo>
                    <a:pt x="134" y="276"/>
                  </a:lnTo>
                  <a:lnTo>
                    <a:pt x="168" y="204"/>
                  </a:lnTo>
                  <a:close/>
                </a:path>
              </a:pathLst>
            </a:custGeom>
            <a:noFill/>
            <a:ln w="187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92"/>
            <p:cNvSpPr/>
            <p:nvPr/>
          </p:nvSpPr>
          <p:spPr>
            <a:xfrm>
              <a:off x="4416480" y="21837600"/>
              <a:ext cx="612720" cy="88272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386" h="556">
                  <a:moveTo>
                    <a:pt x="356" y="536"/>
                  </a:moveTo>
                  <a:lnTo>
                    <a:pt x="266" y="556"/>
                  </a:lnTo>
                  <a:lnTo>
                    <a:pt x="206" y="296"/>
                  </a:lnTo>
                  <a:lnTo>
                    <a:pt x="206" y="296"/>
                  </a:lnTo>
                  <a:lnTo>
                    <a:pt x="176" y="326"/>
                  </a:lnTo>
                  <a:lnTo>
                    <a:pt x="146" y="356"/>
                  </a:lnTo>
                  <a:lnTo>
                    <a:pt x="114" y="384"/>
                  </a:lnTo>
                  <a:lnTo>
                    <a:pt x="82" y="410"/>
                  </a:lnTo>
                  <a:lnTo>
                    <a:pt x="82" y="410"/>
                  </a:lnTo>
                  <a:lnTo>
                    <a:pt x="64" y="390"/>
                  </a:lnTo>
                  <a:lnTo>
                    <a:pt x="44" y="372"/>
                  </a:lnTo>
                  <a:lnTo>
                    <a:pt x="22" y="356"/>
                  </a:lnTo>
                  <a:lnTo>
                    <a:pt x="0" y="342"/>
                  </a:lnTo>
                  <a:lnTo>
                    <a:pt x="0" y="342"/>
                  </a:lnTo>
                  <a:lnTo>
                    <a:pt x="34" y="322"/>
                  </a:lnTo>
                  <a:lnTo>
                    <a:pt x="64" y="300"/>
                  </a:lnTo>
                  <a:lnTo>
                    <a:pt x="94" y="276"/>
                  </a:lnTo>
                  <a:lnTo>
                    <a:pt x="120" y="250"/>
                  </a:lnTo>
                  <a:lnTo>
                    <a:pt x="146" y="226"/>
                  </a:lnTo>
                  <a:lnTo>
                    <a:pt x="168" y="200"/>
                  </a:lnTo>
                  <a:lnTo>
                    <a:pt x="188" y="176"/>
                  </a:lnTo>
                  <a:lnTo>
                    <a:pt x="208" y="150"/>
                  </a:lnTo>
                  <a:lnTo>
                    <a:pt x="240" y="102"/>
                  </a:lnTo>
                  <a:lnTo>
                    <a:pt x="264" y="60"/>
                  </a:lnTo>
                  <a:lnTo>
                    <a:pt x="282" y="24"/>
                  </a:lnTo>
                  <a:lnTo>
                    <a:pt x="294" y="0"/>
                  </a:lnTo>
                  <a:lnTo>
                    <a:pt x="376" y="44"/>
                  </a:lnTo>
                  <a:lnTo>
                    <a:pt x="376" y="44"/>
                  </a:lnTo>
                  <a:lnTo>
                    <a:pt x="382" y="48"/>
                  </a:lnTo>
                  <a:lnTo>
                    <a:pt x="386" y="54"/>
                  </a:lnTo>
                  <a:lnTo>
                    <a:pt x="386" y="54"/>
                  </a:lnTo>
                  <a:lnTo>
                    <a:pt x="386" y="56"/>
                  </a:lnTo>
                  <a:lnTo>
                    <a:pt x="384" y="60"/>
                  </a:lnTo>
                  <a:lnTo>
                    <a:pt x="378" y="62"/>
                  </a:lnTo>
                  <a:lnTo>
                    <a:pt x="378" y="62"/>
                  </a:lnTo>
                  <a:lnTo>
                    <a:pt x="368" y="64"/>
                  </a:lnTo>
                  <a:lnTo>
                    <a:pt x="368" y="64"/>
                  </a:lnTo>
                  <a:lnTo>
                    <a:pt x="356" y="86"/>
                  </a:lnTo>
                  <a:lnTo>
                    <a:pt x="344" y="110"/>
                  </a:lnTo>
                  <a:lnTo>
                    <a:pt x="316" y="156"/>
                  </a:lnTo>
                  <a:lnTo>
                    <a:pt x="280" y="206"/>
                  </a:lnTo>
                  <a:lnTo>
                    <a:pt x="356" y="536"/>
                  </a:lnTo>
                  <a:close/>
                </a:path>
              </a:pathLst>
            </a:custGeom>
            <a:noFill/>
            <a:ln w="187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93"/>
            <p:cNvSpPr/>
            <p:nvPr/>
          </p:nvSpPr>
          <p:spPr>
            <a:xfrm>
              <a:off x="5251680" y="21786840"/>
              <a:ext cx="744480" cy="78408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469" h="494">
                  <a:moveTo>
                    <a:pt x="34" y="0"/>
                  </a:moveTo>
                  <a:lnTo>
                    <a:pt x="34" y="0"/>
                  </a:lnTo>
                  <a:lnTo>
                    <a:pt x="97" y="20"/>
                  </a:lnTo>
                  <a:lnTo>
                    <a:pt x="141" y="38"/>
                  </a:lnTo>
                  <a:lnTo>
                    <a:pt x="169" y="52"/>
                  </a:lnTo>
                  <a:lnTo>
                    <a:pt x="185" y="64"/>
                  </a:lnTo>
                  <a:lnTo>
                    <a:pt x="185" y="64"/>
                  </a:lnTo>
                  <a:lnTo>
                    <a:pt x="175" y="92"/>
                  </a:lnTo>
                  <a:lnTo>
                    <a:pt x="153" y="154"/>
                  </a:lnTo>
                  <a:lnTo>
                    <a:pt x="153" y="154"/>
                  </a:lnTo>
                  <a:lnTo>
                    <a:pt x="129" y="140"/>
                  </a:lnTo>
                  <a:lnTo>
                    <a:pt x="105" y="128"/>
                  </a:lnTo>
                  <a:lnTo>
                    <a:pt x="62" y="110"/>
                  </a:lnTo>
                  <a:lnTo>
                    <a:pt x="28" y="98"/>
                  </a:lnTo>
                  <a:lnTo>
                    <a:pt x="0" y="92"/>
                  </a:lnTo>
                  <a:lnTo>
                    <a:pt x="34" y="0"/>
                  </a:lnTo>
                  <a:close/>
                  <a:moveTo>
                    <a:pt x="82" y="406"/>
                  </a:moveTo>
                  <a:lnTo>
                    <a:pt x="82" y="406"/>
                  </a:lnTo>
                  <a:lnTo>
                    <a:pt x="109" y="392"/>
                  </a:lnTo>
                  <a:lnTo>
                    <a:pt x="135" y="376"/>
                  </a:lnTo>
                  <a:lnTo>
                    <a:pt x="159" y="360"/>
                  </a:lnTo>
                  <a:lnTo>
                    <a:pt x="183" y="340"/>
                  </a:lnTo>
                  <a:lnTo>
                    <a:pt x="207" y="320"/>
                  </a:lnTo>
                  <a:lnTo>
                    <a:pt x="229" y="298"/>
                  </a:lnTo>
                  <a:lnTo>
                    <a:pt x="251" y="276"/>
                  </a:lnTo>
                  <a:lnTo>
                    <a:pt x="273" y="252"/>
                  </a:lnTo>
                  <a:lnTo>
                    <a:pt x="293" y="226"/>
                  </a:lnTo>
                  <a:lnTo>
                    <a:pt x="311" y="198"/>
                  </a:lnTo>
                  <a:lnTo>
                    <a:pt x="329" y="170"/>
                  </a:lnTo>
                  <a:lnTo>
                    <a:pt x="345" y="140"/>
                  </a:lnTo>
                  <a:lnTo>
                    <a:pt x="361" y="108"/>
                  </a:lnTo>
                  <a:lnTo>
                    <a:pt x="375" y="76"/>
                  </a:lnTo>
                  <a:lnTo>
                    <a:pt x="387" y="42"/>
                  </a:lnTo>
                  <a:lnTo>
                    <a:pt x="399" y="8"/>
                  </a:lnTo>
                  <a:lnTo>
                    <a:pt x="399" y="8"/>
                  </a:lnTo>
                  <a:lnTo>
                    <a:pt x="435" y="48"/>
                  </a:lnTo>
                  <a:lnTo>
                    <a:pt x="451" y="60"/>
                  </a:lnTo>
                  <a:lnTo>
                    <a:pt x="469" y="74"/>
                  </a:lnTo>
                  <a:lnTo>
                    <a:pt x="469" y="74"/>
                  </a:lnTo>
                  <a:lnTo>
                    <a:pt x="453" y="122"/>
                  </a:lnTo>
                  <a:lnTo>
                    <a:pt x="441" y="148"/>
                  </a:lnTo>
                  <a:lnTo>
                    <a:pt x="429" y="176"/>
                  </a:lnTo>
                  <a:lnTo>
                    <a:pt x="413" y="206"/>
                  </a:lnTo>
                  <a:lnTo>
                    <a:pt x="395" y="238"/>
                  </a:lnTo>
                  <a:lnTo>
                    <a:pt x="375" y="270"/>
                  </a:lnTo>
                  <a:lnTo>
                    <a:pt x="351" y="302"/>
                  </a:lnTo>
                  <a:lnTo>
                    <a:pt x="351" y="302"/>
                  </a:lnTo>
                  <a:lnTo>
                    <a:pt x="317" y="344"/>
                  </a:lnTo>
                  <a:lnTo>
                    <a:pt x="273" y="390"/>
                  </a:lnTo>
                  <a:lnTo>
                    <a:pt x="249" y="414"/>
                  </a:lnTo>
                  <a:lnTo>
                    <a:pt x="223" y="436"/>
                  </a:lnTo>
                  <a:lnTo>
                    <a:pt x="195" y="458"/>
                  </a:lnTo>
                  <a:lnTo>
                    <a:pt x="167" y="478"/>
                  </a:lnTo>
                  <a:lnTo>
                    <a:pt x="167" y="478"/>
                  </a:lnTo>
                  <a:lnTo>
                    <a:pt x="167" y="488"/>
                  </a:lnTo>
                  <a:lnTo>
                    <a:pt x="165" y="492"/>
                  </a:lnTo>
                  <a:lnTo>
                    <a:pt x="163" y="494"/>
                  </a:lnTo>
                  <a:lnTo>
                    <a:pt x="163" y="494"/>
                  </a:lnTo>
                  <a:lnTo>
                    <a:pt x="159" y="492"/>
                  </a:lnTo>
                  <a:lnTo>
                    <a:pt x="153" y="486"/>
                  </a:lnTo>
                  <a:lnTo>
                    <a:pt x="82" y="406"/>
                  </a:lnTo>
                  <a:close/>
                </a:path>
              </a:pathLst>
            </a:custGeom>
            <a:noFill/>
            <a:ln w="187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94"/>
            <p:cNvSpPr/>
            <p:nvPr/>
          </p:nvSpPr>
          <p:spPr>
            <a:xfrm>
              <a:off x="6094440" y="21402360"/>
              <a:ext cx="730080" cy="974520"/>
            </a:xfrm>
            <a:custGeom>
              <a:avLst/>
              <a:gdLst>
                <a:gd name="textAreaLeft" fmla="*/ 0 w 730080"/>
                <a:gd name="textAreaRight" fmla="*/ 730080 w 73008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460" h="614">
                  <a:moveTo>
                    <a:pt x="18" y="374"/>
                  </a:moveTo>
                  <a:lnTo>
                    <a:pt x="0" y="292"/>
                  </a:lnTo>
                  <a:lnTo>
                    <a:pt x="442" y="192"/>
                  </a:lnTo>
                  <a:lnTo>
                    <a:pt x="460" y="274"/>
                  </a:lnTo>
                  <a:lnTo>
                    <a:pt x="292" y="312"/>
                  </a:lnTo>
                  <a:lnTo>
                    <a:pt x="292" y="312"/>
                  </a:lnTo>
                  <a:lnTo>
                    <a:pt x="296" y="348"/>
                  </a:lnTo>
                  <a:lnTo>
                    <a:pt x="298" y="382"/>
                  </a:lnTo>
                  <a:lnTo>
                    <a:pt x="298" y="412"/>
                  </a:lnTo>
                  <a:lnTo>
                    <a:pt x="294" y="442"/>
                  </a:lnTo>
                  <a:lnTo>
                    <a:pt x="288" y="466"/>
                  </a:lnTo>
                  <a:lnTo>
                    <a:pt x="282" y="490"/>
                  </a:lnTo>
                  <a:lnTo>
                    <a:pt x="272" y="512"/>
                  </a:lnTo>
                  <a:lnTo>
                    <a:pt x="262" y="530"/>
                  </a:lnTo>
                  <a:lnTo>
                    <a:pt x="252" y="548"/>
                  </a:lnTo>
                  <a:lnTo>
                    <a:pt x="240" y="562"/>
                  </a:lnTo>
                  <a:lnTo>
                    <a:pt x="228" y="574"/>
                  </a:lnTo>
                  <a:lnTo>
                    <a:pt x="216" y="586"/>
                  </a:lnTo>
                  <a:lnTo>
                    <a:pt x="196" y="602"/>
                  </a:lnTo>
                  <a:lnTo>
                    <a:pt x="180" y="614"/>
                  </a:lnTo>
                  <a:lnTo>
                    <a:pt x="180" y="614"/>
                  </a:lnTo>
                  <a:lnTo>
                    <a:pt x="164" y="598"/>
                  </a:lnTo>
                  <a:lnTo>
                    <a:pt x="142" y="582"/>
                  </a:lnTo>
                  <a:lnTo>
                    <a:pt x="120" y="568"/>
                  </a:lnTo>
                  <a:lnTo>
                    <a:pt x="100" y="558"/>
                  </a:lnTo>
                  <a:lnTo>
                    <a:pt x="100" y="558"/>
                  </a:lnTo>
                  <a:lnTo>
                    <a:pt x="124" y="544"/>
                  </a:lnTo>
                  <a:lnTo>
                    <a:pt x="144" y="528"/>
                  </a:lnTo>
                  <a:lnTo>
                    <a:pt x="162" y="514"/>
                  </a:lnTo>
                  <a:lnTo>
                    <a:pt x="176" y="498"/>
                  </a:lnTo>
                  <a:lnTo>
                    <a:pt x="186" y="482"/>
                  </a:lnTo>
                  <a:lnTo>
                    <a:pt x="196" y="466"/>
                  </a:lnTo>
                  <a:lnTo>
                    <a:pt x="202" y="450"/>
                  </a:lnTo>
                  <a:lnTo>
                    <a:pt x="208" y="434"/>
                  </a:lnTo>
                  <a:lnTo>
                    <a:pt x="210" y="418"/>
                  </a:lnTo>
                  <a:lnTo>
                    <a:pt x="212" y="402"/>
                  </a:lnTo>
                  <a:lnTo>
                    <a:pt x="212" y="374"/>
                  </a:lnTo>
                  <a:lnTo>
                    <a:pt x="210" y="350"/>
                  </a:lnTo>
                  <a:lnTo>
                    <a:pt x="206" y="332"/>
                  </a:lnTo>
                  <a:lnTo>
                    <a:pt x="18" y="374"/>
                  </a:lnTo>
                  <a:close/>
                  <a:moveTo>
                    <a:pt x="372" y="76"/>
                  </a:moveTo>
                  <a:lnTo>
                    <a:pt x="372" y="76"/>
                  </a:lnTo>
                  <a:lnTo>
                    <a:pt x="406" y="98"/>
                  </a:lnTo>
                  <a:lnTo>
                    <a:pt x="438" y="124"/>
                  </a:lnTo>
                  <a:lnTo>
                    <a:pt x="438" y="124"/>
                  </a:lnTo>
                  <a:lnTo>
                    <a:pt x="416" y="174"/>
                  </a:lnTo>
                  <a:lnTo>
                    <a:pt x="416" y="174"/>
                  </a:lnTo>
                  <a:lnTo>
                    <a:pt x="384" y="148"/>
                  </a:lnTo>
                  <a:lnTo>
                    <a:pt x="368" y="138"/>
                  </a:lnTo>
                  <a:lnTo>
                    <a:pt x="352" y="128"/>
                  </a:lnTo>
                  <a:lnTo>
                    <a:pt x="356" y="142"/>
                  </a:lnTo>
                  <a:lnTo>
                    <a:pt x="58" y="210"/>
                  </a:lnTo>
                  <a:lnTo>
                    <a:pt x="40" y="126"/>
                  </a:lnTo>
                  <a:lnTo>
                    <a:pt x="336" y="58"/>
                  </a:lnTo>
                  <a:lnTo>
                    <a:pt x="350" y="120"/>
                  </a:lnTo>
                  <a:lnTo>
                    <a:pt x="372" y="76"/>
                  </a:lnTo>
                  <a:close/>
                  <a:moveTo>
                    <a:pt x="384" y="0"/>
                  </a:moveTo>
                  <a:lnTo>
                    <a:pt x="384" y="0"/>
                  </a:lnTo>
                  <a:lnTo>
                    <a:pt x="418" y="22"/>
                  </a:lnTo>
                  <a:lnTo>
                    <a:pt x="450" y="46"/>
                  </a:lnTo>
                  <a:lnTo>
                    <a:pt x="450" y="46"/>
                  </a:lnTo>
                  <a:lnTo>
                    <a:pt x="440" y="64"/>
                  </a:lnTo>
                  <a:lnTo>
                    <a:pt x="426" y="94"/>
                  </a:lnTo>
                  <a:lnTo>
                    <a:pt x="426" y="94"/>
                  </a:lnTo>
                  <a:lnTo>
                    <a:pt x="394" y="68"/>
                  </a:lnTo>
                  <a:lnTo>
                    <a:pt x="378" y="56"/>
                  </a:lnTo>
                  <a:lnTo>
                    <a:pt x="360" y="46"/>
                  </a:lnTo>
                  <a:lnTo>
                    <a:pt x="384" y="0"/>
                  </a:lnTo>
                  <a:close/>
                </a:path>
              </a:pathLst>
            </a:custGeom>
            <a:noFill/>
            <a:ln w="187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95"/>
            <p:cNvSpPr/>
            <p:nvPr/>
          </p:nvSpPr>
          <p:spPr>
            <a:xfrm>
              <a:off x="6948720" y="21576960"/>
              <a:ext cx="749160" cy="3204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472" h="202">
                  <a:moveTo>
                    <a:pt x="450" y="0"/>
                  </a:moveTo>
                  <a:lnTo>
                    <a:pt x="472" y="98"/>
                  </a:lnTo>
                  <a:lnTo>
                    <a:pt x="22" y="202"/>
                  </a:lnTo>
                  <a:lnTo>
                    <a:pt x="0" y="104"/>
                  </a:lnTo>
                  <a:lnTo>
                    <a:pt x="450" y="0"/>
                  </a:lnTo>
                  <a:close/>
                </a:path>
              </a:pathLst>
            </a:custGeom>
            <a:noFill/>
            <a:ln w="187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96"/>
            <p:cNvSpPr/>
            <p:nvPr/>
          </p:nvSpPr>
          <p:spPr>
            <a:xfrm>
              <a:off x="7764480" y="21113640"/>
              <a:ext cx="695160" cy="85068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438" h="536">
                  <a:moveTo>
                    <a:pt x="330" y="12"/>
                  </a:moveTo>
                  <a:lnTo>
                    <a:pt x="330" y="12"/>
                  </a:lnTo>
                  <a:lnTo>
                    <a:pt x="346" y="8"/>
                  </a:lnTo>
                  <a:lnTo>
                    <a:pt x="364" y="0"/>
                  </a:lnTo>
                  <a:lnTo>
                    <a:pt x="438" y="40"/>
                  </a:lnTo>
                  <a:lnTo>
                    <a:pt x="438" y="40"/>
                  </a:lnTo>
                  <a:lnTo>
                    <a:pt x="432" y="56"/>
                  </a:lnTo>
                  <a:lnTo>
                    <a:pt x="428" y="74"/>
                  </a:lnTo>
                  <a:lnTo>
                    <a:pt x="428" y="74"/>
                  </a:lnTo>
                  <a:lnTo>
                    <a:pt x="414" y="168"/>
                  </a:lnTo>
                  <a:lnTo>
                    <a:pt x="404" y="230"/>
                  </a:lnTo>
                  <a:lnTo>
                    <a:pt x="394" y="276"/>
                  </a:lnTo>
                  <a:lnTo>
                    <a:pt x="378" y="322"/>
                  </a:lnTo>
                  <a:lnTo>
                    <a:pt x="378" y="322"/>
                  </a:lnTo>
                  <a:lnTo>
                    <a:pt x="366" y="348"/>
                  </a:lnTo>
                  <a:lnTo>
                    <a:pt x="354" y="376"/>
                  </a:lnTo>
                  <a:lnTo>
                    <a:pt x="338" y="400"/>
                  </a:lnTo>
                  <a:lnTo>
                    <a:pt x="322" y="426"/>
                  </a:lnTo>
                  <a:lnTo>
                    <a:pt x="302" y="452"/>
                  </a:lnTo>
                  <a:lnTo>
                    <a:pt x="280" y="478"/>
                  </a:lnTo>
                  <a:lnTo>
                    <a:pt x="254" y="506"/>
                  </a:lnTo>
                  <a:lnTo>
                    <a:pt x="224" y="536"/>
                  </a:lnTo>
                  <a:lnTo>
                    <a:pt x="224" y="536"/>
                  </a:lnTo>
                  <a:lnTo>
                    <a:pt x="214" y="526"/>
                  </a:lnTo>
                  <a:lnTo>
                    <a:pt x="200" y="516"/>
                  </a:lnTo>
                  <a:lnTo>
                    <a:pt x="178" y="500"/>
                  </a:lnTo>
                  <a:lnTo>
                    <a:pt x="144" y="480"/>
                  </a:lnTo>
                  <a:lnTo>
                    <a:pt x="144" y="480"/>
                  </a:lnTo>
                  <a:lnTo>
                    <a:pt x="182" y="448"/>
                  </a:lnTo>
                  <a:lnTo>
                    <a:pt x="216" y="414"/>
                  </a:lnTo>
                  <a:lnTo>
                    <a:pt x="230" y="396"/>
                  </a:lnTo>
                  <a:lnTo>
                    <a:pt x="244" y="378"/>
                  </a:lnTo>
                  <a:lnTo>
                    <a:pt x="258" y="358"/>
                  </a:lnTo>
                  <a:lnTo>
                    <a:pt x="270" y="338"/>
                  </a:lnTo>
                  <a:lnTo>
                    <a:pt x="282" y="316"/>
                  </a:lnTo>
                  <a:lnTo>
                    <a:pt x="292" y="292"/>
                  </a:lnTo>
                  <a:lnTo>
                    <a:pt x="302" y="266"/>
                  </a:lnTo>
                  <a:lnTo>
                    <a:pt x="310" y="238"/>
                  </a:lnTo>
                  <a:lnTo>
                    <a:pt x="318" y="208"/>
                  </a:lnTo>
                  <a:lnTo>
                    <a:pt x="324" y="174"/>
                  </a:lnTo>
                  <a:lnTo>
                    <a:pt x="330" y="138"/>
                  </a:lnTo>
                  <a:lnTo>
                    <a:pt x="334" y="100"/>
                  </a:lnTo>
                  <a:lnTo>
                    <a:pt x="18" y="172"/>
                  </a:lnTo>
                  <a:lnTo>
                    <a:pt x="0" y="88"/>
                  </a:lnTo>
                  <a:lnTo>
                    <a:pt x="330" y="12"/>
                  </a:lnTo>
                  <a:close/>
                </a:path>
              </a:pathLst>
            </a:custGeom>
            <a:noFill/>
            <a:ln w="187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97"/>
            <p:cNvSpPr/>
            <p:nvPr/>
          </p:nvSpPr>
          <p:spPr>
            <a:xfrm>
              <a:off x="8736120" y="21113640"/>
              <a:ext cx="625320" cy="654120"/>
            </a:xfrm>
            <a:custGeom>
              <a:avLst/>
              <a:gdLst/>
              <a:ahLst/>
              <a:rect l="l" t="t" r="r" b="b"/>
              <a:pathLst>
                <a:path w="394" h="412">
                  <a:moveTo>
                    <a:pt x="236" y="286"/>
                  </a:moveTo>
                  <a:lnTo>
                    <a:pt x="376" y="254"/>
                  </a:lnTo>
                  <a:lnTo>
                    <a:pt x="394" y="332"/>
                  </a:lnTo>
                  <a:lnTo>
                    <a:pt x="40" y="412"/>
                  </a:lnTo>
                  <a:lnTo>
                    <a:pt x="24" y="334"/>
                  </a:lnTo>
                  <a:lnTo>
                    <a:pt x="160" y="304"/>
                  </a:lnTo>
                  <a:lnTo>
                    <a:pt x="118" y="122"/>
                  </a:lnTo>
                  <a:lnTo>
                    <a:pt x="20" y="144"/>
                  </a:lnTo>
                  <a:lnTo>
                    <a:pt x="0" y="64"/>
                  </a:lnTo>
                  <a:lnTo>
                    <a:pt x="278" y="0"/>
                  </a:lnTo>
                  <a:lnTo>
                    <a:pt x="296" y="80"/>
                  </a:lnTo>
                  <a:lnTo>
                    <a:pt x="194" y="104"/>
                  </a:lnTo>
                  <a:lnTo>
                    <a:pt x="236" y="286"/>
                  </a:lnTo>
                  <a:close/>
                </a:path>
              </a:pathLst>
            </a:custGeom>
            <a:noFill/>
            <a:ln w="187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98"/>
            <p:cNvSpPr/>
            <p:nvPr/>
          </p:nvSpPr>
          <p:spPr>
            <a:xfrm>
              <a:off x="9415800" y="20726280"/>
              <a:ext cx="761760" cy="86364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480" h="544">
                  <a:moveTo>
                    <a:pt x="382" y="12"/>
                  </a:moveTo>
                  <a:lnTo>
                    <a:pt x="382" y="12"/>
                  </a:lnTo>
                  <a:lnTo>
                    <a:pt x="394" y="10"/>
                  </a:lnTo>
                  <a:lnTo>
                    <a:pt x="402" y="6"/>
                  </a:lnTo>
                  <a:lnTo>
                    <a:pt x="410" y="0"/>
                  </a:lnTo>
                  <a:lnTo>
                    <a:pt x="480" y="46"/>
                  </a:lnTo>
                  <a:lnTo>
                    <a:pt x="480" y="46"/>
                  </a:lnTo>
                  <a:lnTo>
                    <a:pt x="468" y="80"/>
                  </a:lnTo>
                  <a:lnTo>
                    <a:pt x="468" y="80"/>
                  </a:lnTo>
                  <a:lnTo>
                    <a:pt x="438" y="162"/>
                  </a:lnTo>
                  <a:lnTo>
                    <a:pt x="412" y="224"/>
                  </a:lnTo>
                  <a:lnTo>
                    <a:pt x="390" y="268"/>
                  </a:lnTo>
                  <a:lnTo>
                    <a:pt x="372" y="300"/>
                  </a:lnTo>
                  <a:lnTo>
                    <a:pt x="372" y="300"/>
                  </a:lnTo>
                  <a:lnTo>
                    <a:pt x="354" y="286"/>
                  </a:lnTo>
                  <a:lnTo>
                    <a:pt x="338" y="274"/>
                  </a:lnTo>
                  <a:lnTo>
                    <a:pt x="320" y="262"/>
                  </a:lnTo>
                  <a:lnTo>
                    <a:pt x="298" y="252"/>
                  </a:lnTo>
                  <a:lnTo>
                    <a:pt x="298" y="252"/>
                  </a:lnTo>
                  <a:lnTo>
                    <a:pt x="320" y="214"/>
                  </a:lnTo>
                  <a:lnTo>
                    <a:pt x="338" y="180"/>
                  </a:lnTo>
                  <a:lnTo>
                    <a:pt x="354" y="146"/>
                  </a:lnTo>
                  <a:lnTo>
                    <a:pt x="368" y="106"/>
                  </a:lnTo>
                  <a:lnTo>
                    <a:pt x="20" y="186"/>
                  </a:lnTo>
                  <a:lnTo>
                    <a:pt x="0" y="100"/>
                  </a:lnTo>
                  <a:lnTo>
                    <a:pt x="382" y="12"/>
                  </a:lnTo>
                  <a:close/>
                  <a:moveTo>
                    <a:pt x="282" y="150"/>
                  </a:moveTo>
                  <a:lnTo>
                    <a:pt x="282" y="150"/>
                  </a:lnTo>
                  <a:lnTo>
                    <a:pt x="288" y="150"/>
                  </a:lnTo>
                  <a:lnTo>
                    <a:pt x="290" y="152"/>
                  </a:lnTo>
                  <a:lnTo>
                    <a:pt x="292" y="154"/>
                  </a:lnTo>
                  <a:lnTo>
                    <a:pt x="292" y="154"/>
                  </a:lnTo>
                  <a:lnTo>
                    <a:pt x="292" y="158"/>
                  </a:lnTo>
                  <a:lnTo>
                    <a:pt x="290" y="162"/>
                  </a:lnTo>
                  <a:lnTo>
                    <a:pt x="286" y="166"/>
                  </a:lnTo>
                  <a:lnTo>
                    <a:pt x="286" y="166"/>
                  </a:lnTo>
                  <a:lnTo>
                    <a:pt x="292" y="214"/>
                  </a:lnTo>
                  <a:lnTo>
                    <a:pt x="298" y="262"/>
                  </a:lnTo>
                  <a:lnTo>
                    <a:pt x="300" y="306"/>
                  </a:lnTo>
                  <a:lnTo>
                    <a:pt x="298" y="344"/>
                  </a:lnTo>
                  <a:lnTo>
                    <a:pt x="298" y="344"/>
                  </a:lnTo>
                  <a:lnTo>
                    <a:pt x="294" y="368"/>
                  </a:lnTo>
                  <a:lnTo>
                    <a:pt x="288" y="394"/>
                  </a:lnTo>
                  <a:lnTo>
                    <a:pt x="278" y="422"/>
                  </a:lnTo>
                  <a:lnTo>
                    <a:pt x="268" y="448"/>
                  </a:lnTo>
                  <a:lnTo>
                    <a:pt x="256" y="474"/>
                  </a:lnTo>
                  <a:lnTo>
                    <a:pt x="240" y="500"/>
                  </a:lnTo>
                  <a:lnTo>
                    <a:pt x="224" y="522"/>
                  </a:lnTo>
                  <a:lnTo>
                    <a:pt x="206" y="544"/>
                  </a:lnTo>
                  <a:lnTo>
                    <a:pt x="206" y="544"/>
                  </a:lnTo>
                  <a:lnTo>
                    <a:pt x="184" y="530"/>
                  </a:lnTo>
                  <a:lnTo>
                    <a:pt x="164" y="520"/>
                  </a:lnTo>
                  <a:lnTo>
                    <a:pt x="120" y="500"/>
                  </a:lnTo>
                  <a:lnTo>
                    <a:pt x="120" y="500"/>
                  </a:lnTo>
                  <a:lnTo>
                    <a:pt x="142" y="474"/>
                  </a:lnTo>
                  <a:lnTo>
                    <a:pt x="164" y="448"/>
                  </a:lnTo>
                  <a:lnTo>
                    <a:pt x="174" y="432"/>
                  </a:lnTo>
                  <a:lnTo>
                    <a:pt x="184" y="416"/>
                  </a:lnTo>
                  <a:lnTo>
                    <a:pt x="192" y="400"/>
                  </a:lnTo>
                  <a:lnTo>
                    <a:pt x="200" y="380"/>
                  </a:lnTo>
                  <a:lnTo>
                    <a:pt x="204" y="360"/>
                  </a:lnTo>
                  <a:lnTo>
                    <a:pt x="208" y="338"/>
                  </a:lnTo>
                  <a:lnTo>
                    <a:pt x="212" y="314"/>
                  </a:lnTo>
                  <a:lnTo>
                    <a:pt x="212" y="288"/>
                  </a:lnTo>
                  <a:lnTo>
                    <a:pt x="210" y="262"/>
                  </a:lnTo>
                  <a:lnTo>
                    <a:pt x="206" y="232"/>
                  </a:lnTo>
                  <a:lnTo>
                    <a:pt x="200" y="200"/>
                  </a:lnTo>
                  <a:lnTo>
                    <a:pt x="192" y="164"/>
                  </a:lnTo>
                  <a:lnTo>
                    <a:pt x="282" y="150"/>
                  </a:lnTo>
                  <a:close/>
                </a:path>
              </a:pathLst>
            </a:custGeom>
            <a:noFill/>
            <a:ln w="187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99"/>
            <p:cNvSpPr/>
            <p:nvPr/>
          </p:nvSpPr>
          <p:spPr>
            <a:xfrm>
              <a:off x="1095480" y="22570920"/>
              <a:ext cx="784080" cy="89856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494" h="566">
                  <a:moveTo>
                    <a:pt x="144" y="150"/>
                  </a:moveTo>
                  <a:lnTo>
                    <a:pt x="144" y="150"/>
                  </a:lnTo>
                  <a:lnTo>
                    <a:pt x="152" y="152"/>
                  </a:lnTo>
                  <a:lnTo>
                    <a:pt x="156" y="152"/>
                  </a:lnTo>
                  <a:lnTo>
                    <a:pt x="158" y="156"/>
                  </a:lnTo>
                  <a:lnTo>
                    <a:pt x="158" y="156"/>
                  </a:lnTo>
                  <a:lnTo>
                    <a:pt x="156" y="162"/>
                  </a:lnTo>
                  <a:lnTo>
                    <a:pt x="154" y="164"/>
                  </a:lnTo>
                  <a:lnTo>
                    <a:pt x="148" y="168"/>
                  </a:lnTo>
                  <a:lnTo>
                    <a:pt x="148" y="168"/>
                  </a:lnTo>
                  <a:lnTo>
                    <a:pt x="148" y="244"/>
                  </a:lnTo>
                  <a:lnTo>
                    <a:pt x="146" y="310"/>
                  </a:lnTo>
                  <a:lnTo>
                    <a:pt x="142" y="368"/>
                  </a:lnTo>
                  <a:lnTo>
                    <a:pt x="134" y="418"/>
                  </a:lnTo>
                  <a:lnTo>
                    <a:pt x="124" y="462"/>
                  </a:lnTo>
                  <a:lnTo>
                    <a:pt x="114" y="500"/>
                  </a:lnTo>
                  <a:lnTo>
                    <a:pt x="100" y="534"/>
                  </a:lnTo>
                  <a:lnTo>
                    <a:pt x="86" y="566"/>
                  </a:lnTo>
                  <a:lnTo>
                    <a:pt x="86" y="566"/>
                  </a:lnTo>
                  <a:lnTo>
                    <a:pt x="40" y="552"/>
                  </a:lnTo>
                  <a:lnTo>
                    <a:pt x="22" y="548"/>
                  </a:lnTo>
                  <a:lnTo>
                    <a:pt x="0" y="544"/>
                  </a:lnTo>
                  <a:lnTo>
                    <a:pt x="0" y="544"/>
                  </a:lnTo>
                  <a:lnTo>
                    <a:pt x="18" y="498"/>
                  </a:lnTo>
                  <a:lnTo>
                    <a:pt x="34" y="450"/>
                  </a:lnTo>
                  <a:lnTo>
                    <a:pt x="46" y="402"/>
                  </a:lnTo>
                  <a:lnTo>
                    <a:pt x="54" y="352"/>
                  </a:lnTo>
                  <a:lnTo>
                    <a:pt x="60" y="302"/>
                  </a:lnTo>
                  <a:lnTo>
                    <a:pt x="60" y="250"/>
                  </a:lnTo>
                  <a:lnTo>
                    <a:pt x="60" y="198"/>
                  </a:lnTo>
                  <a:lnTo>
                    <a:pt x="54" y="146"/>
                  </a:lnTo>
                  <a:lnTo>
                    <a:pt x="144" y="150"/>
                  </a:lnTo>
                  <a:close/>
                  <a:moveTo>
                    <a:pt x="260" y="86"/>
                  </a:moveTo>
                  <a:lnTo>
                    <a:pt x="260" y="86"/>
                  </a:lnTo>
                  <a:lnTo>
                    <a:pt x="282" y="106"/>
                  </a:lnTo>
                  <a:lnTo>
                    <a:pt x="308" y="132"/>
                  </a:lnTo>
                  <a:lnTo>
                    <a:pt x="336" y="166"/>
                  </a:lnTo>
                  <a:lnTo>
                    <a:pt x="370" y="204"/>
                  </a:lnTo>
                  <a:lnTo>
                    <a:pt x="402" y="248"/>
                  </a:lnTo>
                  <a:lnTo>
                    <a:pt x="434" y="296"/>
                  </a:lnTo>
                  <a:lnTo>
                    <a:pt x="466" y="348"/>
                  </a:lnTo>
                  <a:lnTo>
                    <a:pt x="480" y="374"/>
                  </a:lnTo>
                  <a:lnTo>
                    <a:pt x="494" y="402"/>
                  </a:lnTo>
                  <a:lnTo>
                    <a:pt x="494" y="402"/>
                  </a:lnTo>
                  <a:lnTo>
                    <a:pt x="470" y="422"/>
                  </a:lnTo>
                  <a:lnTo>
                    <a:pt x="450" y="442"/>
                  </a:lnTo>
                  <a:lnTo>
                    <a:pt x="424" y="470"/>
                  </a:lnTo>
                  <a:lnTo>
                    <a:pt x="424" y="470"/>
                  </a:lnTo>
                  <a:lnTo>
                    <a:pt x="396" y="410"/>
                  </a:lnTo>
                  <a:lnTo>
                    <a:pt x="366" y="356"/>
                  </a:lnTo>
                  <a:lnTo>
                    <a:pt x="336" y="308"/>
                  </a:lnTo>
                  <a:lnTo>
                    <a:pt x="306" y="266"/>
                  </a:lnTo>
                  <a:lnTo>
                    <a:pt x="276" y="230"/>
                  </a:lnTo>
                  <a:lnTo>
                    <a:pt x="250" y="198"/>
                  </a:lnTo>
                  <a:lnTo>
                    <a:pt x="226" y="174"/>
                  </a:lnTo>
                  <a:lnTo>
                    <a:pt x="206" y="154"/>
                  </a:lnTo>
                  <a:lnTo>
                    <a:pt x="260" y="86"/>
                  </a:lnTo>
                  <a:close/>
                  <a:moveTo>
                    <a:pt x="318" y="52"/>
                  </a:moveTo>
                  <a:lnTo>
                    <a:pt x="318" y="52"/>
                  </a:lnTo>
                  <a:lnTo>
                    <a:pt x="352" y="76"/>
                  </a:lnTo>
                  <a:lnTo>
                    <a:pt x="370" y="92"/>
                  </a:lnTo>
                  <a:lnTo>
                    <a:pt x="386" y="106"/>
                  </a:lnTo>
                  <a:lnTo>
                    <a:pt x="386" y="106"/>
                  </a:lnTo>
                  <a:lnTo>
                    <a:pt x="356" y="152"/>
                  </a:lnTo>
                  <a:lnTo>
                    <a:pt x="356" y="152"/>
                  </a:lnTo>
                  <a:lnTo>
                    <a:pt x="326" y="126"/>
                  </a:lnTo>
                  <a:lnTo>
                    <a:pt x="288" y="96"/>
                  </a:lnTo>
                  <a:lnTo>
                    <a:pt x="318" y="52"/>
                  </a:lnTo>
                  <a:close/>
                  <a:moveTo>
                    <a:pt x="362" y="0"/>
                  </a:moveTo>
                  <a:lnTo>
                    <a:pt x="362" y="0"/>
                  </a:lnTo>
                  <a:lnTo>
                    <a:pt x="398" y="24"/>
                  </a:lnTo>
                  <a:lnTo>
                    <a:pt x="412" y="38"/>
                  </a:lnTo>
                  <a:lnTo>
                    <a:pt x="428" y="52"/>
                  </a:lnTo>
                  <a:lnTo>
                    <a:pt x="428" y="52"/>
                  </a:lnTo>
                  <a:lnTo>
                    <a:pt x="414" y="70"/>
                  </a:lnTo>
                  <a:lnTo>
                    <a:pt x="398" y="94"/>
                  </a:lnTo>
                  <a:lnTo>
                    <a:pt x="398" y="94"/>
                  </a:lnTo>
                  <a:lnTo>
                    <a:pt x="386" y="80"/>
                  </a:lnTo>
                  <a:lnTo>
                    <a:pt x="368" y="66"/>
                  </a:lnTo>
                  <a:lnTo>
                    <a:pt x="334" y="40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00"/>
            <p:cNvSpPr/>
            <p:nvPr/>
          </p:nvSpPr>
          <p:spPr>
            <a:xfrm>
              <a:off x="1940040" y="22542480"/>
              <a:ext cx="714240" cy="76176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50" h="480">
                  <a:moveTo>
                    <a:pt x="88" y="0"/>
                  </a:moveTo>
                  <a:lnTo>
                    <a:pt x="88" y="0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100" y="8"/>
                  </a:lnTo>
                  <a:lnTo>
                    <a:pt x="98" y="12"/>
                  </a:lnTo>
                  <a:lnTo>
                    <a:pt x="92" y="18"/>
                  </a:lnTo>
                  <a:lnTo>
                    <a:pt x="168" y="348"/>
                  </a:lnTo>
                  <a:lnTo>
                    <a:pt x="168" y="348"/>
                  </a:lnTo>
                  <a:lnTo>
                    <a:pt x="194" y="330"/>
                  </a:lnTo>
                  <a:lnTo>
                    <a:pt x="224" y="308"/>
                  </a:lnTo>
                  <a:lnTo>
                    <a:pt x="254" y="280"/>
                  </a:lnTo>
                  <a:lnTo>
                    <a:pt x="286" y="246"/>
                  </a:lnTo>
                  <a:lnTo>
                    <a:pt x="316" y="210"/>
                  </a:lnTo>
                  <a:lnTo>
                    <a:pt x="344" y="170"/>
                  </a:lnTo>
                  <a:lnTo>
                    <a:pt x="370" y="126"/>
                  </a:lnTo>
                  <a:lnTo>
                    <a:pt x="380" y="102"/>
                  </a:lnTo>
                  <a:lnTo>
                    <a:pt x="392" y="78"/>
                  </a:lnTo>
                  <a:lnTo>
                    <a:pt x="392" y="78"/>
                  </a:lnTo>
                  <a:lnTo>
                    <a:pt x="418" y="120"/>
                  </a:lnTo>
                  <a:lnTo>
                    <a:pt x="432" y="140"/>
                  </a:lnTo>
                  <a:lnTo>
                    <a:pt x="450" y="160"/>
                  </a:lnTo>
                  <a:lnTo>
                    <a:pt x="450" y="160"/>
                  </a:lnTo>
                  <a:lnTo>
                    <a:pt x="434" y="190"/>
                  </a:lnTo>
                  <a:lnTo>
                    <a:pt x="416" y="222"/>
                  </a:lnTo>
                  <a:lnTo>
                    <a:pt x="392" y="258"/>
                  </a:lnTo>
                  <a:lnTo>
                    <a:pt x="364" y="296"/>
                  </a:lnTo>
                  <a:lnTo>
                    <a:pt x="326" y="338"/>
                  </a:lnTo>
                  <a:lnTo>
                    <a:pt x="282" y="382"/>
                  </a:lnTo>
                  <a:lnTo>
                    <a:pt x="228" y="430"/>
                  </a:lnTo>
                  <a:lnTo>
                    <a:pt x="196" y="454"/>
                  </a:lnTo>
                  <a:lnTo>
                    <a:pt x="160" y="480"/>
                  </a:lnTo>
                  <a:lnTo>
                    <a:pt x="94" y="436"/>
                  </a:lnTo>
                  <a:lnTo>
                    <a:pt x="94" y="436"/>
                  </a:lnTo>
                  <a:lnTo>
                    <a:pt x="88" y="402"/>
                  </a:lnTo>
                  <a:lnTo>
                    <a:pt x="0" y="16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01"/>
            <p:cNvSpPr/>
            <p:nvPr/>
          </p:nvSpPr>
          <p:spPr>
            <a:xfrm>
              <a:off x="2733840" y="22361400"/>
              <a:ext cx="742680" cy="784080"/>
            </a:xfrm>
            <a:custGeom>
              <a:avLst/>
              <a:gdLst>
                <a:gd name="textAreaLeft" fmla="*/ 0 w 742680"/>
                <a:gd name="textAreaRight" fmla="*/ 743040 w 74268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468" h="494">
                  <a:moveTo>
                    <a:pt x="32" y="0"/>
                  </a:moveTo>
                  <a:lnTo>
                    <a:pt x="32" y="0"/>
                  </a:lnTo>
                  <a:lnTo>
                    <a:pt x="96" y="20"/>
                  </a:lnTo>
                  <a:lnTo>
                    <a:pt x="138" y="38"/>
                  </a:lnTo>
                  <a:lnTo>
                    <a:pt x="166" y="52"/>
                  </a:lnTo>
                  <a:lnTo>
                    <a:pt x="184" y="64"/>
                  </a:lnTo>
                  <a:lnTo>
                    <a:pt x="184" y="64"/>
                  </a:lnTo>
                  <a:lnTo>
                    <a:pt x="172" y="92"/>
                  </a:lnTo>
                  <a:lnTo>
                    <a:pt x="152" y="154"/>
                  </a:lnTo>
                  <a:lnTo>
                    <a:pt x="152" y="154"/>
                  </a:lnTo>
                  <a:lnTo>
                    <a:pt x="126" y="140"/>
                  </a:lnTo>
                  <a:lnTo>
                    <a:pt x="104" y="128"/>
                  </a:lnTo>
                  <a:lnTo>
                    <a:pt x="62" y="110"/>
                  </a:lnTo>
                  <a:lnTo>
                    <a:pt x="26" y="98"/>
                  </a:lnTo>
                  <a:lnTo>
                    <a:pt x="0" y="92"/>
                  </a:lnTo>
                  <a:lnTo>
                    <a:pt x="32" y="0"/>
                  </a:lnTo>
                  <a:close/>
                  <a:moveTo>
                    <a:pt x="80" y="406"/>
                  </a:moveTo>
                  <a:lnTo>
                    <a:pt x="80" y="406"/>
                  </a:lnTo>
                  <a:lnTo>
                    <a:pt x="106" y="392"/>
                  </a:lnTo>
                  <a:lnTo>
                    <a:pt x="132" y="376"/>
                  </a:lnTo>
                  <a:lnTo>
                    <a:pt x="158" y="360"/>
                  </a:lnTo>
                  <a:lnTo>
                    <a:pt x="182" y="342"/>
                  </a:lnTo>
                  <a:lnTo>
                    <a:pt x="204" y="320"/>
                  </a:lnTo>
                  <a:lnTo>
                    <a:pt x="228" y="300"/>
                  </a:lnTo>
                  <a:lnTo>
                    <a:pt x="250" y="276"/>
                  </a:lnTo>
                  <a:lnTo>
                    <a:pt x="270" y="252"/>
                  </a:lnTo>
                  <a:lnTo>
                    <a:pt x="290" y="226"/>
                  </a:lnTo>
                  <a:lnTo>
                    <a:pt x="310" y="198"/>
                  </a:lnTo>
                  <a:lnTo>
                    <a:pt x="326" y="170"/>
                  </a:lnTo>
                  <a:lnTo>
                    <a:pt x="344" y="140"/>
                  </a:lnTo>
                  <a:lnTo>
                    <a:pt x="358" y="108"/>
                  </a:lnTo>
                  <a:lnTo>
                    <a:pt x="372" y="76"/>
                  </a:lnTo>
                  <a:lnTo>
                    <a:pt x="386" y="44"/>
                  </a:lnTo>
                  <a:lnTo>
                    <a:pt x="396" y="10"/>
                  </a:lnTo>
                  <a:lnTo>
                    <a:pt x="396" y="10"/>
                  </a:lnTo>
                  <a:lnTo>
                    <a:pt x="432" y="48"/>
                  </a:lnTo>
                  <a:lnTo>
                    <a:pt x="448" y="62"/>
                  </a:lnTo>
                  <a:lnTo>
                    <a:pt x="468" y="74"/>
                  </a:lnTo>
                  <a:lnTo>
                    <a:pt x="468" y="74"/>
                  </a:lnTo>
                  <a:lnTo>
                    <a:pt x="450" y="122"/>
                  </a:lnTo>
                  <a:lnTo>
                    <a:pt x="440" y="148"/>
                  </a:lnTo>
                  <a:lnTo>
                    <a:pt x="426" y="176"/>
                  </a:lnTo>
                  <a:lnTo>
                    <a:pt x="412" y="206"/>
                  </a:lnTo>
                  <a:lnTo>
                    <a:pt x="394" y="238"/>
                  </a:lnTo>
                  <a:lnTo>
                    <a:pt x="374" y="270"/>
                  </a:lnTo>
                  <a:lnTo>
                    <a:pt x="350" y="302"/>
                  </a:lnTo>
                  <a:lnTo>
                    <a:pt x="350" y="302"/>
                  </a:lnTo>
                  <a:lnTo>
                    <a:pt x="316" y="344"/>
                  </a:lnTo>
                  <a:lnTo>
                    <a:pt x="272" y="390"/>
                  </a:lnTo>
                  <a:lnTo>
                    <a:pt x="246" y="414"/>
                  </a:lnTo>
                  <a:lnTo>
                    <a:pt x="220" y="436"/>
                  </a:lnTo>
                  <a:lnTo>
                    <a:pt x="194" y="458"/>
                  </a:lnTo>
                  <a:lnTo>
                    <a:pt x="166" y="480"/>
                  </a:lnTo>
                  <a:lnTo>
                    <a:pt x="166" y="480"/>
                  </a:lnTo>
                  <a:lnTo>
                    <a:pt x="166" y="488"/>
                  </a:lnTo>
                  <a:lnTo>
                    <a:pt x="164" y="492"/>
                  </a:lnTo>
                  <a:lnTo>
                    <a:pt x="160" y="494"/>
                  </a:lnTo>
                  <a:lnTo>
                    <a:pt x="160" y="494"/>
                  </a:lnTo>
                  <a:lnTo>
                    <a:pt x="156" y="492"/>
                  </a:lnTo>
                  <a:lnTo>
                    <a:pt x="150" y="488"/>
                  </a:lnTo>
                  <a:lnTo>
                    <a:pt x="80" y="406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02"/>
            <p:cNvSpPr/>
            <p:nvPr/>
          </p:nvSpPr>
          <p:spPr>
            <a:xfrm>
              <a:off x="3629160" y="22094640"/>
              <a:ext cx="631800" cy="86364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398" h="544">
                  <a:moveTo>
                    <a:pt x="168" y="204"/>
                  </a:moveTo>
                  <a:lnTo>
                    <a:pt x="168" y="204"/>
                  </a:lnTo>
                  <a:lnTo>
                    <a:pt x="222" y="222"/>
                  </a:lnTo>
                  <a:lnTo>
                    <a:pt x="262" y="240"/>
                  </a:lnTo>
                  <a:lnTo>
                    <a:pt x="262" y="240"/>
                  </a:lnTo>
                  <a:lnTo>
                    <a:pt x="272" y="208"/>
                  </a:lnTo>
                  <a:lnTo>
                    <a:pt x="276" y="182"/>
                  </a:lnTo>
                  <a:lnTo>
                    <a:pt x="282" y="144"/>
                  </a:lnTo>
                  <a:lnTo>
                    <a:pt x="158" y="172"/>
                  </a:lnTo>
                  <a:lnTo>
                    <a:pt x="158" y="172"/>
                  </a:lnTo>
                  <a:lnTo>
                    <a:pt x="142" y="212"/>
                  </a:lnTo>
                  <a:lnTo>
                    <a:pt x="124" y="252"/>
                  </a:lnTo>
                  <a:lnTo>
                    <a:pt x="102" y="290"/>
                  </a:lnTo>
                  <a:lnTo>
                    <a:pt x="78" y="326"/>
                  </a:lnTo>
                  <a:lnTo>
                    <a:pt x="78" y="326"/>
                  </a:lnTo>
                  <a:lnTo>
                    <a:pt x="36" y="298"/>
                  </a:lnTo>
                  <a:lnTo>
                    <a:pt x="0" y="280"/>
                  </a:lnTo>
                  <a:lnTo>
                    <a:pt x="0" y="280"/>
                  </a:lnTo>
                  <a:lnTo>
                    <a:pt x="22" y="252"/>
                  </a:lnTo>
                  <a:lnTo>
                    <a:pt x="42" y="222"/>
                  </a:lnTo>
                  <a:lnTo>
                    <a:pt x="58" y="190"/>
                  </a:lnTo>
                  <a:lnTo>
                    <a:pt x="74" y="156"/>
                  </a:lnTo>
                  <a:lnTo>
                    <a:pt x="88" y="120"/>
                  </a:lnTo>
                  <a:lnTo>
                    <a:pt x="98" y="82"/>
                  </a:lnTo>
                  <a:lnTo>
                    <a:pt x="106" y="42"/>
                  </a:lnTo>
                  <a:lnTo>
                    <a:pt x="114" y="0"/>
                  </a:lnTo>
                  <a:lnTo>
                    <a:pt x="202" y="12"/>
                  </a:lnTo>
                  <a:lnTo>
                    <a:pt x="202" y="12"/>
                  </a:lnTo>
                  <a:lnTo>
                    <a:pt x="208" y="12"/>
                  </a:lnTo>
                  <a:lnTo>
                    <a:pt x="212" y="14"/>
                  </a:lnTo>
                  <a:lnTo>
                    <a:pt x="212" y="18"/>
                  </a:lnTo>
                  <a:lnTo>
                    <a:pt x="212" y="18"/>
                  </a:lnTo>
                  <a:lnTo>
                    <a:pt x="212" y="20"/>
                  </a:lnTo>
                  <a:lnTo>
                    <a:pt x="210" y="24"/>
                  </a:lnTo>
                  <a:lnTo>
                    <a:pt x="202" y="26"/>
                  </a:lnTo>
                  <a:lnTo>
                    <a:pt x="202" y="26"/>
                  </a:lnTo>
                  <a:lnTo>
                    <a:pt x="188" y="82"/>
                  </a:lnTo>
                  <a:lnTo>
                    <a:pt x="300" y="56"/>
                  </a:lnTo>
                  <a:lnTo>
                    <a:pt x="300" y="56"/>
                  </a:lnTo>
                  <a:lnTo>
                    <a:pt x="314" y="52"/>
                  </a:lnTo>
                  <a:lnTo>
                    <a:pt x="322" y="48"/>
                  </a:lnTo>
                  <a:lnTo>
                    <a:pt x="336" y="42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74" y="94"/>
                  </a:lnTo>
                  <a:lnTo>
                    <a:pt x="374" y="94"/>
                  </a:lnTo>
                  <a:lnTo>
                    <a:pt x="366" y="156"/>
                  </a:lnTo>
                  <a:lnTo>
                    <a:pt x="358" y="202"/>
                  </a:lnTo>
                  <a:lnTo>
                    <a:pt x="350" y="240"/>
                  </a:lnTo>
                  <a:lnTo>
                    <a:pt x="340" y="278"/>
                  </a:lnTo>
                  <a:lnTo>
                    <a:pt x="340" y="278"/>
                  </a:lnTo>
                  <a:lnTo>
                    <a:pt x="362" y="292"/>
                  </a:lnTo>
                  <a:lnTo>
                    <a:pt x="378" y="304"/>
                  </a:lnTo>
                  <a:lnTo>
                    <a:pt x="398" y="322"/>
                  </a:lnTo>
                  <a:lnTo>
                    <a:pt x="398" y="322"/>
                  </a:lnTo>
                  <a:lnTo>
                    <a:pt x="378" y="366"/>
                  </a:lnTo>
                  <a:lnTo>
                    <a:pt x="364" y="408"/>
                  </a:lnTo>
                  <a:lnTo>
                    <a:pt x="364" y="408"/>
                  </a:lnTo>
                  <a:lnTo>
                    <a:pt x="340" y="386"/>
                  </a:lnTo>
                  <a:lnTo>
                    <a:pt x="306" y="362"/>
                  </a:lnTo>
                  <a:lnTo>
                    <a:pt x="306" y="362"/>
                  </a:lnTo>
                  <a:lnTo>
                    <a:pt x="286" y="398"/>
                  </a:lnTo>
                  <a:lnTo>
                    <a:pt x="266" y="428"/>
                  </a:lnTo>
                  <a:lnTo>
                    <a:pt x="244" y="456"/>
                  </a:lnTo>
                  <a:lnTo>
                    <a:pt x="222" y="480"/>
                  </a:lnTo>
                  <a:lnTo>
                    <a:pt x="202" y="500"/>
                  </a:lnTo>
                  <a:lnTo>
                    <a:pt x="182" y="518"/>
                  </a:lnTo>
                  <a:lnTo>
                    <a:pt x="148" y="544"/>
                  </a:lnTo>
                  <a:lnTo>
                    <a:pt x="148" y="544"/>
                  </a:lnTo>
                  <a:lnTo>
                    <a:pt x="130" y="526"/>
                  </a:lnTo>
                  <a:lnTo>
                    <a:pt x="112" y="508"/>
                  </a:lnTo>
                  <a:lnTo>
                    <a:pt x="94" y="494"/>
                  </a:lnTo>
                  <a:lnTo>
                    <a:pt x="74" y="480"/>
                  </a:lnTo>
                  <a:lnTo>
                    <a:pt x="74" y="480"/>
                  </a:lnTo>
                  <a:lnTo>
                    <a:pt x="98" y="464"/>
                  </a:lnTo>
                  <a:lnTo>
                    <a:pt x="122" y="446"/>
                  </a:lnTo>
                  <a:lnTo>
                    <a:pt x="144" y="426"/>
                  </a:lnTo>
                  <a:lnTo>
                    <a:pt x="166" y="406"/>
                  </a:lnTo>
                  <a:lnTo>
                    <a:pt x="186" y="384"/>
                  </a:lnTo>
                  <a:lnTo>
                    <a:pt x="204" y="360"/>
                  </a:lnTo>
                  <a:lnTo>
                    <a:pt x="220" y="338"/>
                  </a:lnTo>
                  <a:lnTo>
                    <a:pt x="232" y="318"/>
                  </a:lnTo>
                  <a:lnTo>
                    <a:pt x="232" y="318"/>
                  </a:lnTo>
                  <a:lnTo>
                    <a:pt x="202" y="304"/>
                  </a:lnTo>
                  <a:lnTo>
                    <a:pt x="176" y="292"/>
                  </a:lnTo>
                  <a:lnTo>
                    <a:pt x="134" y="276"/>
                  </a:lnTo>
                  <a:lnTo>
                    <a:pt x="168" y="204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03"/>
            <p:cNvSpPr/>
            <p:nvPr/>
          </p:nvSpPr>
          <p:spPr>
            <a:xfrm>
              <a:off x="4416480" y="21837600"/>
              <a:ext cx="612720" cy="88272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386" h="556">
                  <a:moveTo>
                    <a:pt x="356" y="536"/>
                  </a:moveTo>
                  <a:lnTo>
                    <a:pt x="266" y="556"/>
                  </a:lnTo>
                  <a:lnTo>
                    <a:pt x="206" y="296"/>
                  </a:lnTo>
                  <a:lnTo>
                    <a:pt x="206" y="296"/>
                  </a:lnTo>
                  <a:lnTo>
                    <a:pt x="176" y="326"/>
                  </a:lnTo>
                  <a:lnTo>
                    <a:pt x="146" y="356"/>
                  </a:lnTo>
                  <a:lnTo>
                    <a:pt x="114" y="384"/>
                  </a:lnTo>
                  <a:lnTo>
                    <a:pt x="82" y="410"/>
                  </a:lnTo>
                  <a:lnTo>
                    <a:pt x="82" y="410"/>
                  </a:lnTo>
                  <a:lnTo>
                    <a:pt x="64" y="390"/>
                  </a:lnTo>
                  <a:lnTo>
                    <a:pt x="44" y="372"/>
                  </a:lnTo>
                  <a:lnTo>
                    <a:pt x="22" y="356"/>
                  </a:lnTo>
                  <a:lnTo>
                    <a:pt x="0" y="342"/>
                  </a:lnTo>
                  <a:lnTo>
                    <a:pt x="0" y="342"/>
                  </a:lnTo>
                  <a:lnTo>
                    <a:pt x="34" y="322"/>
                  </a:lnTo>
                  <a:lnTo>
                    <a:pt x="64" y="300"/>
                  </a:lnTo>
                  <a:lnTo>
                    <a:pt x="94" y="276"/>
                  </a:lnTo>
                  <a:lnTo>
                    <a:pt x="120" y="250"/>
                  </a:lnTo>
                  <a:lnTo>
                    <a:pt x="146" y="226"/>
                  </a:lnTo>
                  <a:lnTo>
                    <a:pt x="168" y="200"/>
                  </a:lnTo>
                  <a:lnTo>
                    <a:pt x="188" y="176"/>
                  </a:lnTo>
                  <a:lnTo>
                    <a:pt x="208" y="150"/>
                  </a:lnTo>
                  <a:lnTo>
                    <a:pt x="240" y="102"/>
                  </a:lnTo>
                  <a:lnTo>
                    <a:pt x="264" y="60"/>
                  </a:lnTo>
                  <a:lnTo>
                    <a:pt x="282" y="24"/>
                  </a:lnTo>
                  <a:lnTo>
                    <a:pt x="294" y="0"/>
                  </a:lnTo>
                  <a:lnTo>
                    <a:pt x="376" y="44"/>
                  </a:lnTo>
                  <a:lnTo>
                    <a:pt x="376" y="44"/>
                  </a:lnTo>
                  <a:lnTo>
                    <a:pt x="382" y="48"/>
                  </a:lnTo>
                  <a:lnTo>
                    <a:pt x="386" y="54"/>
                  </a:lnTo>
                  <a:lnTo>
                    <a:pt x="386" y="54"/>
                  </a:lnTo>
                  <a:lnTo>
                    <a:pt x="386" y="56"/>
                  </a:lnTo>
                  <a:lnTo>
                    <a:pt x="384" y="60"/>
                  </a:lnTo>
                  <a:lnTo>
                    <a:pt x="378" y="62"/>
                  </a:lnTo>
                  <a:lnTo>
                    <a:pt x="378" y="62"/>
                  </a:lnTo>
                  <a:lnTo>
                    <a:pt x="368" y="64"/>
                  </a:lnTo>
                  <a:lnTo>
                    <a:pt x="368" y="64"/>
                  </a:lnTo>
                  <a:lnTo>
                    <a:pt x="356" y="86"/>
                  </a:lnTo>
                  <a:lnTo>
                    <a:pt x="344" y="110"/>
                  </a:lnTo>
                  <a:lnTo>
                    <a:pt x="316" y="156"/>
                  </a:lnTo>
                  <a:lnTo>
                    <a:pt x="280" y="206"/>
                  </a:lnTo>
                  <a:lnTo>
                    <a:pt x="356" y="536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04"/>
            <p:cNvSpPr/>
            <p:nvPr/>
          </p:nvSpPr>
          <p:spPr>
            <a:xfrm>
              <a:off x="5251680" y="21786840"/>
              <a:ext cx="744480" cy="78408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469" h="494">
                  <a:moveTo>
                    <a:pt x="34" y="0"/>
                  </a:moveTo>
                  <a:lnTo>
                    <a:pt x="34" y="0"/>
                  </a:lnTo>
                  <a:lnTo>
                    <a:pt x="97" y="20"/>
                  </a:lnTo>
                  <a:lnTo>
                    <a:pt x="141" y="38"/>
                  </a:lnTo>
                  <a:lnTo>
                    <a:pt x="169" y="52"/>
                  </a:lnTo>
                  <a:lnTo>
                    <a:pt x="185" y="64"/>
                  </a:lnTo>
                  <a:lnTo>
                    <a:pt x="185" y="64"/>
                  </a:lnTo>
                  <a:lnTo>
                    <a:pt x="175" y="92"/>
                  </a:lnTo>
                  <a:lnTo>
                    <a:pt x="153" y="154"/>
                  </a:lnTo>
                  <a:lnTo>
                    <a:pt x="153" y="154"/>
                  </a:lnTo>
                  <a:lnTo>
                    <a:pt x="129" y="140"/>
                  </a:lnTo>
                  <a:lnTo>
                    <a:pt x="105" y="128"/>
                  </a:lnTo>
                  <a:lnTo>
                    <a:pt x="62" y="110"/>
                  </a:lnTo>
                  <a:lnTo>
                    <a:pt x="28" y="98"/>
                  </a:lnTo>
                  <a:lnTo>
                    <a:pt x="0" y="92"/>
                  </a:lnTo>
                  <a:lnTo>
                    <a:pt x="34" y="0"/>
                  </a:lnTo>
                  <a:close/>
                  <a:moveTo>
                    <a:pt x="82" y="406"/>
                  </a:moveTo>
                  <a:lnTo>
                    <a:pt x="82" y="406"/>
                  </a:lnTo>
                  <a:lnTo>
                    <a:pt x="109" y="392"/>
                  </a:lnTo>
                  <a:lnTo>
                    <a:pt x="135" y="376"/>
                  </a:lnTo>
                  <a:lnTo>
                    <a:pt x="159" y="360"/>
                  </a:lnTo>
                  <a:lnTo>
                    <a:pt x="183" y="340"/>
                  </a:lnTo>
                  <a:lnTo>
                    <a:pt x="207" y="320"/>
                  </a:lnTo>
                  <a:lnTo>
                    <a:pt x="229" y="298"/>
                  </a:lnTo>
                  <a:lnTo>
                    <a:pt x="251" y="276"/>
                  </a:lnTo>
                  <a:lnTo>
                    <a:pt x="273" y="252"/>
                  </a:lnTo>
                  <a:lnTo>
                    <a:pt x="293" y="226"/>
                  </a:lnTo>
                  <a:lnTo>
                    <a:pt x="311" y="198"/>
                  </a:lnTo>
                  <a:lnTo>
                    <a:pt x="329" y="170"/>
                  </a:lnTo>
                  <a:lnTo>
                    <a:pt x="345" y="140"/>
                  </a:lnTo>
                  <a:lnTo>
                    <a:pt x="361" y="108"/>
                  </a:lnTo>
                  <a:lnTo>
                    <a:pt x="375" y="76"/>
                  </a:lnTo>
                  <a:lnTo>
                    <a:pt x="387" y="42"/>
                  </a:lnTo>
                  <a:lnTo>
                    <a:pt x="399" y="8"/>
                  </a:lnTo>
                  <a:lnTo>
                    <a:pt x="399" y="8"/>
                  </a:lnTo>
                  <a:lnTo>
                    <a:pt x="435" y="48"/>
                  </a:lnTo>
                  <a:lnTo>
                    <a:pt x="451" y="60"/>
                  </a:lnTo>
                  <a:lnTo>
                    <a:pt x="469" y="74"/>
                  </a:lnTo>
                  <a:lnTo>
                    <a:pt x="469" y="74"/>
                  </a:lnTo>
                  <a:lnTo>
                    <a:pt x="453" y="122"/>
                  </a:lnTo>
                  <a:lnTo>
                    <a:pt x="441" y="148"/>
                  </a:lnTo>
                  <a:lnTo>
                    <a:pt x="429" y="176"/>
                  </a:lnTo>
                  <a:lnTo>
                    <a:pt x="413" y="206"/>
                  </a:lnTo>
                  <a:lnTo>
                    <a:pt x="395" y="238"/>
                  </a:lnTo>
                  <a:lnTo>
                    <a:pt x="375" y="270"/>
                  </a:lnTo>
                  <a:lnTo>
                    <a:pt x="351" y="302"/>
                  </a:lnTo>
                  <a:lnTo>
                    <a:pt x="351" y="302"/>
                  </a:lnTo>
                  <a:lnTo>
                    <a:pt x="317" y="344"/>
                  </a:lnTo>
                  <a:lnTo>
                    <a:pt x="273" y="390"/>
                  </a:lnTo>
                  <a:lnTo>
                    <a:pt x="249" y="414"/>
                  </a:lnTo>
                  <a:lnTo>
                    <a:pt x="223" y="436"/>
                  </a:lnTo>
                  <a:lnTo>
                    <a:pt x="195" y="458"/>
                  </a:lnTo>
                  <a:lnTo>
                    <a:pt x="167" y="478"/>
                  </a:lnTo>
                  <a:lnTo>
                    <a:pt x="167" y="478"/>
                  </a:lnTo>
                  <a:lnTo>
                    <a:pt x="167" y="488"/>
                  </a:lnTo>
                  <a:lnTo>
                    <a:pt x="165" y="492"/>
                  </a:lnTo>
                  <a:lnTo>
                    <a:pt x="163" y="494"/>
                  </a:lnTo>
                  <a:lnTo>
                    <a:pt x="163" y="494"/>
                  </a:lnTo>
                  <a:lnTo>
                    <a:pt x="159" y="492"/>
                  </a:lnTo>
                  <a:lnTo>
                    <a:pt x="153" y="486"/>
                  </a:lnTo>
                  <a:lnTo>
                    <a:pt x="82" y="406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05"/>
            <p:cNvSpPr/>
            <p:nvPr/>
          </p:nvSpPr>
          <p:spPr>
            <a:xfrm>
              <a:off x="6094440" y="21402360"/>
              <a:ext cx="730080" cy="974520"/>
            </a:xfrm>
            <a:custGeom>
              <a:avLst/>
              <a:gdLst>
                <a:gd name="textAreaLeft" fmla="*/ 0 w 730080"/>
                <a:gd name="textAreaRight" fmla="*/ 730080 w 73008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460" h="614">
                  <a:moveTo>
                    <a:pt x="18" y="374"/>
                  </a:moveTo>
                  <a:lnTo>
                    <a:pt x="0" y="292"/>
                  </a:lnTo>
                  <a:lnTo>
                    <a:pt x="442" y="192"/>
                  </a:lnTo>
                  <a:lnTo>
                    <a:pt x="460" y="274"/>
                  </a:lnTo>
                  <a:lnTo>
                    <a:pt x="292" y="312"/>
                  </a:lnTo>
                  <a:lnTo>
                    <a:pt x="292" y="312"/>
                  </a:lnTo>
                  <a:lnTo>
                    <a:pt x="296" y="348"/>
                  </a:lnTo>
                  <a:lnTo>
                    <a:pt x="298" y="382"/>
                  </a:lnTo>
                  <a:lnTo>
                    <a:pt x="298" y="412"/>
                  </a:lnTo>
                  <a:lnTo>
                    <a:pt x="294" y="442"/>
                  </a:lnTo>
                  <a:lnTo>
                    <a:pt x="288" y="466"/>
                  </a:lnTo>
                  <a:lnTo>
                    <a:pt x="282" y="490"/>
                  </a:lnTo>
                  <a:lnTo>
                    <a:pt x="272" y="512"/>
                  </a:lnTo>
                  <a:lnTo>
                    <a:pt x="262" y="530"/>
                  </a:lnTo>
                  <a:lnTo>
                    <a:pt x="252" y="548"/>
                  </a:lnTo>
                  <a:lnTo>
                    <a:pt x="240" y="562"/>
                  </a:lnTo>
                  <a:lnTo>
                    <a:pt x="228" y="574"/>
                  </a:lnTo>
                  <a:lnTo>
                    <a:pt x="216" y="586"/>
                  </a:lnTo>
                  <a:lnTo>
                    <a:pt x="196" y="602"/>
                  </a:lnTo>
                  <a:lnTo>
                    <a:pt x="180" y="614"/>
                  </a:lnTo>
                  <a:lnTo>
                    <a:pt x="180" y="614"/>
                  </a:lnTo>
                  <a:lnTo>
                    <a:pt x="164" y="598"/>
                  </a:lnTo>
                  <a:lnTo>
                    <a:pt x="142" y="582"/>
                  </a:lnTo>
                  <a:lnTo>
                    <a:pt x="120" y="568"/>
                  </a:lnTo>
                  <a:lnTo>
                    <a:pt x="100" y="558"/>
                  </a:lnTo>
                  <a:lnTo>
                    <a:pt x="100" y="558"/>
                  </a:lnTo>
                  <a:lnTo>
                    <a:pt x="124" y="544"/>
                  </a:lnTo>
                  <a:lnTo>
                    <a:pt x="144" y="528"/>
                  </a:lnTo>
                  <a:lnTo>
                    <a:pt x="162" y="514"/>
                  </a:lnTo>
                  <a:lnTo>
                    <a:pt x="176" y="498"/>
                  </a:lnTo>
                  <a:lnTo>
                    <a:pt x="186" y="482"/>
                  </a:lnTo>
                  <a:lnTo>
                    <a:pt x="196" y="466"/>
                  </a:lnTo>
                  <a:lnTo>
                    <a:pt x="202" y="450"/>
                  </a:lnTo>
                  <a:lnTo>
                    <a:pt x="208" y="434"/>
                  </a:lnTo>
                  <a:lnTo>
                    <a:pt x="210" y="418"/>
                  </a:lnTo>
                  <a:lnTo>
                    <a:pt x="212" y="402"/>
                  </a:lnTo>
                  <a:lnTo>
                    <a:pt x="212" y="374"/>
                  </a:lnTo>
                  <a:lnTo>
                    <a:pt x="210" y="350"/>
                  </a:lnTo>
                  <a:lnTo>
                    <a:pt x="206" y="332"/>
                  </a:lnTo>
                  <a:lnTo>
                    <a:pt x="18" y="374"/>
                  </a:lnTo>
                  <a:close/>
                  <a:moveTo>
                    <a:pt x="372" y="76"/>
                  </a:moveTo>
                  <a:lnTo>
                    <a:pt x="372" y="76"/>
                  </a:lnTo>
                  <a:lnTo>
                    <a:pt x="406" y="98"/>
                  </a:lnTo>
                  <a:lnTo>
                    <a:pt x="438" y="124"/>
                  </a:lnTo>
                  <a:lnTo>
                    <a:pt x="438" y="124"/>
                  </a:lnTo>
                  <a:lnTo>
                    <a:pt x="416" y="174"/>
                  </a:lnTo>
                  <a:lnTo>
                    <a:pt x="416" y="174"/>
                  </a:lnTo>
                  <a:lnTo>
                    <a:pt x="384" y="148"/>
                  </a:lnTo>
                  <a:lnTo>
                    <a:pt x="368" y="138"/>
                  </a:lnTo>
                  <a:lnTo>
                    <a:pt x="352" y="128"/>
                  </a:lnTo>
                  <a:lnTo>
                    <a:pt x="356" y="142"/>
                  </a:lnTo>
                  <a:lnTo>
                    <a:pt x="58" y="210"/>
                  </a:lnTo>
                  <a:lnTo>
                    <a:pt x="40" y="126"/>
                  </a:lnTo>
                  <a:lnTo>
                    <a:pt x="336" y="58"/>
                  </a:lnTo>
                  <a:lnTo>
                    <a:pt x="350" y="120"/>
                  </a:lnTo>
                  <a:lnTo>
                    <a:pt x="372" y="76"/>
                  </a:lnTo>
                  <a:close/>
                  <a:moveTo>
                    <a:pt x="384" y="0"/>
                  </a:moveTo>
                  <a:lnTo>
                    <a:pt x="384" y="0"/>
                  </a:lnTo>
                  <a:lnTo>
                    <a:pt x="418" y="22"/>
                  </a:lnTo>
                  <a:lnTo>
                    <a:pt x="450" y="46"/>
                  </a:lnTo>
                  <a:lnTo>
                    <a:pt x="450" y="46"/>
                  </a:lnTo>
                  <a:lnTo>
                    <a:pt x="440" y="64"/>
                  </a:lnTo>
                  <a:lnTo>
                    <a:pt x="426" y="94"/>
                  </a:lnTo>
                  <a:lnTo>
                    <a:pt x="426" y="94"/>
                  </a:lnTo>
                  <a:lnTo>
                    <a:pt x="394" y="68"/>
                  </a:lnTo>
                  <a:lnTo>
                    <a:pt x="378" y="56"/>
                  </a:lnTo>
                  <a:lnTo>
                    <a:pt x="360" y="46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06"/>
            <p:cNvSpPr/>
            <p:nvPr/>
          </p:nvSpPr>
          <p:spPr>
            <a:xfrm>
              <a:off x="6948720" y="21576960"/>
              <a:ext cx="749160" cy="3204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472" h="202">
                  <a:moveTo>
                    <a:pt x="450" y="0"/>
                  </a:moveTo>
                  <a:lnTo>
                    <a:pt x="472" y="98"/>
                  </a:lnTo>
                  <a:lnTo>
                    <a:pt x="22" y="202"/>
                  </a:lnTo>
                  <a:lnTo>
                    <a:pt x="0" y="104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7"/>
            <p:cNvSpPr/>
            <p:nvPr/>
          </p:nvSpPr>
          <p:spPr>
            <a:xfrm>
              <a:off x="7764480" y="21113640"/>
              <a:ext cx="695160" cy="85068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438" h="536">
                  <a:moveTo>
                    <a:pt x="330" y="12"/>
                  </a:moveTo>
                  <a:lnTo>
                    <a:pt x="330" y="12"/>
                  </a:lnTo>
                  <a:lnTo>
                    <a:pt x="346" y="8"/>
                  </a:lnTo>
                  <a:lnTo>
                    <a:pt x="364" y="0"/>
                  </a:lnTo>
                  <a:lnTo>
                    <a:pt x="438" y="40"/>
                  </a:lnTo>
                  <a:lnTo>
                    <a:pt x="438" y="40"/>
                  </a:lnTo>
                  <a:lnTo>
                    <a:pt x="432" y="56"/>
                  </a:lnTo>
                  <a:lnTo>
                    <a:pt x="428" y="74"/>
                  </a:lnTo>
                  <a:lnTo>
                    <a:pt x="428" y="74"/>
                  </a:lnTo>
                  <a:lnTo>
                    <a:pt x="414" y="168"/>
                  </a:lnTo>
                  <a:lnTo>
                    <a:pt x="404" y="230"/>
                  </a:lnTo>
                  <a:lnTo>
                    <a:pt x="394" y="276"/>
                  </a:lnTo>
                  <a:lnTo>
                    <a:pt x="378" y="322"/>
                  </a:lnTo>
                  <a:lnTo>
                    <a:pt x="378" y="322"/>
                  </a:lnTo>
                  <a:lnTo>
                    <a:pt x="366" y="348"/>
                  </a:lnTo>
                  <a:lnTo>
                    <a:pt x="354" y="376"/>
                  </a:lnTo>
                  <a:lnTo>
                    <a:pt x="338" y="400"/>
                  </a:lnTo>
                  <a:lnTo>
                    <a:pt x="322" y="426"/>
                  </a:lnTo>
                  <a:lnTo>
                    <a:pt x="302" y="452"/>
                  </a:lnTo>
                  <a:lnTo>
                    <a:pt x="280" y="478"/>
                  </a:lnTo>
                  <a:lnTo>
                    <a:pt x="254" y="506"/>
                  </a:lnTo>
                  <a:lnTo>
                    <a:pt x="224" y="536"/>
                  </a:lnTo>
                  <a:lnTo>
                    <a:pt x="224" y="536"/>
                  </a:lnTo>
                  <a:lnTo>
                    <a:pt x="214" y="526"/>
                  </a:lnTo>
                  <a:lnTo>
                    <a:pt x="200" y="516"/>
                  </a:lnTo>
                  <a:lnTo>
                    <a:pt x="178" y="500"/>
                  </a:lnTo>
                  <a:lnTo>
                    <a:pt x="144" y="480"/>
                  </a:lnTo>
                  <a:lnTo>
                    <a:pt x="144" y="480"/>
                  </a:lnTo>
                  <a:lnTo>
                    <a:pt x="182" y="448"/>
                  </a:lnTo>
                  <a:lnTo>
                    <a:pt x="216" y="414"/>
                  </a:lnTo>
                  <a:lnTo>
                    <a:pt x="230" y="396"/>
                  </a:lnTo>
                  <a:lnTo>
                    <a:pt x="244" y="378"/>
                  </a:lnTo>
                  <a:lnTo>
                    <a:pt x="258" y="358"/>
                  </a:lnTo>
                  <a:lnTo>
                    <a:pt x="270" y="338"/>
                  </a:lnTo>
                  <a:lnTo>
                    <a:pt x="282" y="316"/>
                  </a:lnTo>
                  <a:lnTo>
                    <a:pt x="292" y="292"/>
                  </a:lnTo>
                  <a:lnTo>
                    <a:pt x="302" y="266"/>
                  </a:lnTo>
                  <a:lnTo>
                    <a:pt x="310" y="238"/>
                  </a:lnTo>
                  <a:lnTo>
                    <a:pt x="318" y="208"/>
                  </a:lnTo>
                  <a:lnTo>
                    <a:pt x="324" y="174"/>
                  </a:lnTo>
                  <a:lnTo>
                    <a:pt x="330" y="138"/>
                  </a:lnTo>
                  <a:lnTo>
                    <a:pt x="334" y="100"/>
                  </a:lnTo>
                  <a:lnTo>
                    <a:pt x="18" y="172"/>
                  </a:lnTo>
                  <a:lnTo>
                    <a:pt x="0" y="88"/>
                  </a:lnTo>
                  <a:lnTo>
                    <a:pt x="330" y="12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08"/>
            <p:cNvSpPr/>
            <p:nvPr/>
          </p:nvSpPr>
          <p:spPr>
            <a:xfrm>
              <a:off x="8736120" y="21113640"/>
              <a:ext cx="625320" cy="654120"/>
            </a:xfrm>
            <a:custGeom>
              <a:avLst/>
              <a:gdLst/>
              <a:ahLst/>
              <a:rect l="l" t="t" r="r" b="b"/>
              <a:pathLst>
                <a:path w="394" h="412">
                  <a:moveTo>
                    <a:pt x="236" y="286"/>
                  </a:moveTo>
                  <a:lnTo>
                    <a:pt x="376" y="254"/>
                  </a:lnTo>
                  <a:lnTo>
                    <a:pt x="394" y="332"/>
                  </a:lnTo>
                  <a:lnTo>
                    <a:pt x="40" y="412"/>
                  </a:lnTo>
                  <a:lnTo>
                    <a:pt x="24" y="334"/>
                  </a:lnTo>
                  <a:lnTo>
                    <a:pt x="160" y="304"/>
                  </a:lnTo>
                  <a:lnTo>
                    <a:pt x="118" y="122"/>
                  </a:lnTo>
                  <a:lnTo>
                    <a:pt x="20" y="144"/>
                  </a:lnTo>
                  <a:lnTo>
                    <a:pt x="0" y="64"/>
                  </a:lnTo>
                  <a:lnTo>
                    <a:pt x="278" y="0"/>
                  </a:lnTo>
                  <a:lnTo>
                    <a:pt x="296" y="80"/>
                  </a:lnTo>
                  <a:lnTo>
                    <a:pt x="194" y="104"/>
                  </a:lnTo>
                  <a:lnTo>
                    <a:pt x="236" y="286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09"/>
            <p:cNvSpPr/>
            <p:nvPr/>
          </p:nvSpPr>
          <p:spPr>
            <a:xfrm>
              <a:off x="9415800" y="20726280"/>
              <a:ext cx="761760" cy="86364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480" h="544">
                  <a:moveTo>
                    <a:pt x="382" y="12"/>
                  </a:moveTo>
                  <a:lnTo>
                    <a:pt x="382" y="12"/>
                  </a:lnTo>
                  <a:lnTo>
                    <a:pt x="394" y="10"/>
                  </a:lnTo>
                  <a:lnTo>
                    <a:pt x="402" y="6"/>
                  </a:lnTo>
                  <a:lnTo>
                    <a:pt x="410" y="0"/>
                  </a:lnTo>
                  <a:lnTo>
                    <a:pt x="480" y="46"/>
                  </a:lnTo>
                  <a:lnTo>
                    <a:pt x="480" y="46"/>
                  </a:lnTo>
                  <a:lnTo>
                    <a:pt x="468" y="80"/>
                  </a:lnTo>
                  <a:lnTo>
                    <a:pt x="468" y="80"/>
                  </a:lnTo>
                  <a:lnTo>
                    <a:pt x="438" y="162"/>
                  </a:lnTo>
                  <a:lnTo>
                    <a:pt x="412" y="224"/>
                  </a:lnTo>
                  <a:lnTo>
                    <a:pt x="390" y="268"/>
                  </a:lnTo>
                  <a:lnTo>
                    <a:pt x="372" y="300"/>
                  </a:lnTo>
                  <a:lnTo>
                    <a:pt x="372" y="300"/>
                  </a:lnTo>
                  <a:lnTo>
                    <a:pt x="354" y="286"/>
                  </a:lnTo>
                  <a:lnTo>
                    <a:pt x="338" y="274"/>
                  </a:lnTo>
                  <a:lnTo>
                    <a:pt x="320" y="262"/>
                  </a:lnTo>
                  <a:lnTo>
                    <a:pt x="298" y="252"/>
                  </a:lnTo>
                  <a:lnTo>
                    <a:pt x="298" y="252"/>
                  </a:lnTo>
                  <a:lnTo>
                    <a:pt x="320" y="214"/>
                  </a:lnTo>
                  <a:lnTo>
                    <a:pt x="338" y="180"/>
                  </a:lnTo>
                  <a:lnTo>
                    <a:pt x="354" y="146"/>
                  </a:lnTo>
                  <a:lnTo>
                    <a:pt x="368" y="106"/>
                  </a:lnTo>
                  <a:lnTo>
                    <a:pt x="20" y="186"/>
                  </a:lnTo>
                  <a:lnTo>
                    <a:pt x="0" y="100"/>
                  </a:lnTo>
                  <a:lnTo>
                    <a:pt x="382" y="12"/>
                  </a:lnTo>
                  <a:close/>
                  <a:moveTo>
                    <a:pt x="282" y="150"/>
                  </a:moveTo>
                  <a:lnTo>
                    <a:pt x="282" y="150"/>
                  </a:lnTo>
                  <a:lnTo>
                    <a:pt x="288" y="150"/>
                  </a:lnTo>
                  <a:lnTo>
                    <a:pt x="290" y="152"/>
                  </a:lnTo>
                  <a:lnTo>
                    <a:pt x="292" y="154"/>
                  </a:lnTo>
                  <a:lnTo>
                    <a:pt x="292" y="154"/>
                  </a:lnTo>
                  <a:lnTo>
                    <a:pt x="292" y="158"/>
                  </a:lnTo>
                  <a:lnTo>
                    <a:pt x="290" y="162"/>
                  </a:lnTo>
                  <a:lnTo>
                    <a:pt x="286" y="166"/>
                  </a:lnTo>
                  <a:lnTo>
                    <a:pt x="286" y="166"/>
                  </a:lnTo>
                  <a:lnTo>
                    <a:pt x="292" y="214"/>
                  </a:lnTo>
                  <a:lnTo>
                    <a:pt x="298" y="262"/>
                  </a:lnTo>
                  <a:lnTo>
                    <a:pt x="300" y="306"/>
                  </a:lnTo>
                  <a:lnTo>
                    <a:pt x="298" y="344"/>
                  </a:lnTo>
                  <a:lnTo>
                    <a:pt x="298" y="344"/>
                  </a:lnTo>
                  <a:lnTo>
                    <a:pt x="294" y="368"/>
                  </a:lnTo>
                  <a:lnTo>
                    <a:pt x="288" y="394"/>
                  </a:lnTo>
                  <a:lnTo>
                    <a:pt x="278" y="422"/>
                  </a:lnTo>
                  <a:lnTo>
                    <a:pt x="268" y="448"/>
                  </a:lnTo>
                  <a:lnTo>
                    <a:pt x="256" y="474"/>
                  </a:lnTo>
                  <a:lnTo>
                    <a:pt x="240" y="500"/>
                  </a:lnTo>
                  <a:lnTo>
                    <a:pt x="224" y="522"/>
                  </a:lnTo>
                  <a:lnTo>
                    <a:pt x="206" y="544"/>
                  </a:lnTo>
                  <a:lnTo>
                    <a:pt x="206" y="544"/>
                  </a:lnTo>
                  <a:lnTo>
                    <a:pt x="184" y="530"/>
                  </a:lnTo>
                  <a:lnTo>
                    <a:pt x="164" y="520"/>
                  </a:lnTo>
                  <a:lnTo>
                    <a:pt x="120" y="500"/>
                  </a:lnTo>
                  <a:lnTo>
                    <a:pt x="120" y="500"/>
                  </a:lnTo>
                  <a:lnTo>
                    <a:pt x="142" y="474"/>
                  </a:lnTo>
                  <a:lnTo>
                    <a:pt x="164" y="448"/>
                  </a:lnTo>
                  <a:lnTo>
                    <a:pt x="174" y="432"/>
                  </a:lnTo>
                  <a:lnTo>
                    <a:pt x="184" y="416"/>
                  </a:lnTo>
                  <a:lnTo>
                    <a:pt x="192" y="400"/>
                  </a:lnTo>
                  <a:lnTo>
                    <a:pt x="200" y="380"/>
                  </a:lnTo>
                  <a:lnTo>
                    <a:pt x="204" y="360"/>
                  </a:lnTo>
                  <a:lnTo>
                    <a:pt x="208" y="338"/>
                  </a:lnTo>
                  <a:lnTo>
                    <a:pt x="212" y="314"/>
                  </a:lnTo>
                  <a:lnTo>
                    <a:pt x="212" y="288"/>
                  </a:lnTo>
                  <a:lnTo>
                    <a:pt x="210" y="262"/>
                  </a:lnTo>
                  <a:lnTo>
                    <a:pt x="206" y="232"/>
                  </a:lnTo>
                  <a:lnTo>
                    <a:pt x="200" y="200"/>
                  </a:lnTo>
                  <a:lnTo>
                    <a:pt x="192" y="164"/>
                  </a:lnTo>
                  <a:lnTo>
                    <a:pt x="282" y="150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グループ化 219"/>
          <p:cNvGrpSpPr/>
          <p:nvPr/>
        </p:nvGrpSpPr>
        <p:grpSpPr>
          <a:xfrm>
            <a:off x="711360" y="8040600"/>
            <a:ext cx="8847000" cy="9221760"/>
            <a:chOff x="711360" y="8040600"/>
            <a:chExt cx="8847000" cy="9221760"/>
          </a:xfrm>
        </p:grpSpPr>
        <p:sp>
          <p:nvSpPr>
            <p:cNvPr id="181" name="Freeform 110"/>
            <p:cNvSpPr/>
            <p:nvPr/>
          </p:nvSpPr>
          <p:spPr>
            <a:xfrm>
              <a:off x="711360" y="8599320"/>
              <a:ext cx="3324240" cy="2905200"/>
            </a:xfrm>
            <a:custGeom>
              <a:avLst/>
              <a:gdLst>
                <a:gd name="textAreaLeft" fmla="*/ 0 w 3324240"/>
                <a:gd name="textAreaRight" fmla="*/ 3324600 w 3324240"/>
                <a:gd name="textAreaTop" fmla="*/ 0 h 2905200"/>
                <a:gd name="textAreaBottom" fmla="*/ 2905200 h 2905200"/>
              </a:gdLst>
              <a:ahLst/>
              <a:rect l="textAreaLeft" t="textAreaTop" r="textAreaRight" b="textAreaBottom"/>
              <a:pathLst>
                <a:path w="2094" h="1830">
                  <a:moveTo>
                    <a:pt x="1762" y="0"/>
                  </a:moveTo>
                  <a:lnTo>
                    <a:pt x="1762" y="0"/>
                  </a:lnTo>
                  <a:lnTo>
                    <a:pt x="1910" y="8"/>
                  </a:lnTo>
                  <a:lnTo>
                    <a:pt x="1988" y="10"/>
                  </a:lnTo>
                  <a:lnTo>
                    <a:pt x="1988" y="10"/>
                  </a:lnTo>
                  <a:lnTo>
                    <a:pt x="2016" y="66"/>
                  </a:lnTo>
                  <a:lnTo>
                    <a:pt x="2040" y="120"/>
                  </a:lnTo>
                  <a:lnTo>
                    <a:pt x="2058" y="176"/>
                  </a:lnTo>
                  <a:lnTo>
                    <a:pt x="2074" y="232"/>
                  </a:lnTo>
                  <a:lnTo>
                    <a:pt x="2074" y="232"/>
                  </a:lnTo>
                  <a:lnTo>
                    <a:pt x="2082" y="268"/>
                  </a:lnTo>
                  <a:lnTo>
                    <a:pt x="2086" y="302"/>
                  </a:lnTo>
                  <a:lnTo>
                    <a:pt x="2090" y="336"/>
                  </a:lnTo>
                  <a:lnTo>
                    <a:pt x="2094" y="370"/>
                  </a:lnTo>
                  <a:lnTo>
                    <a:pt x="2094" y="404"/>
                  </a:lnTo>
                  <a:lnTo>
                    <a:pt x="2094" y="438"/>
                  </a:lnTo>
                  <a:lnTo>
                    <a:pt x="2090" y="472"/>
                  </a:lnTo>
                  <a:lnTo>
                    <a:pt x="2086" y="506"/>
                  </a:lnTo>
                  <a:lnTo>
                    <a:pt x="2086" y="506"/>
                  </a:lnTo>
                  <a:lnTo>
                    <a:pt x="2048" y="562"/>
                  </a:lnTo>
                  <a:lnTo>
                    <a:pt x="2008" y="626"/>
                  </a:lnTo>
                  <a:lnTo>
                    <a:pt x="2008" y="626"/>
                  </a:lnTo>
                  <a:lnTo>
                    <a:pt x="1968" y="698"/>
                  </a:lnTo>
                  <a:lnTo>
                    <a:pt x="1922" y="786"/>
                  </a:lnTo>
                  <a:lnTo>
                    <a:pt x="1922" y="786"/>
                  </a:lnTo>
                  <a:lnTo>
                    <a:pt x="1878" y="882"/>
                  </a:lnTo>
                  <a:lnTo>
                    <a:pt x="1834" y="982"/>
                  </a:lnTo>
                  <a:lnTo>
                    <a:pt x="1834" y="982"/>
                  </a:lnTo>
                  <a:lnTo>
                    <a:pt x="1800" y="1064"/>
                  </a:lnTo>
                  <a:lnTo>
                    <a:pt x="1768" y="1146"/>
                  </a:lnTo>
                  <a:lnTo>
                    <a:pt x="1736" y="1226"/>
                  </a:lnTo>
                  <a:lnTo>
                    <a:pt x="1708" y="1308"/>
                  </a:lnTo>
                  <a:lnTo>
                    <a:pt x="1680" y="1388"/>
                  </a:lnTo>
                  <a:lnTo>
                    <a:pt x="1654" y="1470"/>
                  </a:lnTo>
                  <a:lnTo>
                    <a:pt x="1628" y="1550"/>
                  </a:lnTo>
                  <a:lnTo>
                    <a:pt x="1606" y="1632"/>
                  </a:lnTo>
                  <a:lnTo>
                    <a:pt x="1380" y="1830"/>
                  </a:lnTo>
                  <a:lnTo>
                    <a:pt x="1260" y="1418"/>
                  </a:lnTo>
                  <a:lnTo>
                    <a:pt x="1260" y="1418"/>
                  </a:lnTo>
                  <a:lnTo>
                    <a:pt x="1230" y="1328"/>
                  </a:lnTo>
                  <a:lnTo>
                    <a:pt x="1202" y="1244"/>
                  </a:lnTo>
                  <a:lnTo>
                    <a:pt x="1174" y="1170"/>
                  </a:lnTo>
                  <a:lnTo>
                    <a:pt x="1144" y="1102"/>
                  </a:lnTo>
                  <a:lnTo>
                    <a:pt x="1144" y="1102"/>
                  </a:lnTo>
                  <a:lnTo>
                    <a:pt x="1114" y="1044"/>
                  </a:lnTo>
                  <a:lnTo>
                    <a:pt x="1084" y="992"/>
                  </a:lnTo>
                  <a:lnTo>
                    <a:pt x="1052" y="944"/>
                  </a:lnTo>
                  <a:lnTo>
                    <a:pt x="1020" y="902"/>
                  </a:lnTo>
                  <a:lnTo>
                    <a:pt x="1020" y="902"/>
                  </a:lnTo>
                  <a:lnTo>
                    <a:pt x="986" y="864"/>
                  </a:lnTo>
                  <a:lnTo>
                    <a:pt x="946" y="826"/>
                  </a:lnTo>
                  <a:lnTo>
                    <a:pt x="902" y="786"/>
                  </a:lnTo>
                  <a:lnTo>
                    <a:pt x="852" y="748"/>
                  </a:lnTo>
                  <a:lnTo>
                    <a:pt x="852" y="748"/>
                  </a:lnTo>
                  <a:lnTo>
                    <a:pt x="810" y="736"/>
                  </a:lnTo>
                  <a:lnTo>
                    <a:pt x="768" y="726"/>
                  </a:lnTo>
                  <a:lnTo>
                    <a:pt x="728" y="718"/>
                  </a:lnTo>
                  <a:lnTo>
                    <a:pt x="686" y="712"/>
                  </a:lnTo>
                  <a:lnTo>
                    <a:pt x="644" y="706"/>
                  </a:lnTo>
                  <a:lnTo>
                    <a:pt x="602" y="702"/>
                  </a:lnTo>
                  <a:lnTo>
                    <a:pt x="560" y="698"/>
                  </a:lnTo>
                  <a:lnTo>
                    <a:pt x="518" y="698"/>
                  </a:lnTo>
                  <a:lnTo>
                    <a:pt x="476" y="698"/>
                  </a:lnTo>
                  <a:lnTo>
                    <a:pt x="434" y="698"/>
                  </a:lnTo>
                  <a:lnTo>
                    <a:pt x="392" y="702"/>
                  </a:lnTo>
                  <a:lnTo>
                    <a:pt x="350" y="706"/>
                  </a:lnTo>
                  <a:lnTo>
                    <a:pt x="306" y="710"/>
                  </a:lnTo>
                  <a:lnTo>
                    <a:pt x="264" y="718"/>
                  </a:lnTo>
                  <a:lnTo>
                    <a:pt x="220" y="726"/>
                  </a:lnTo>
                  <a:lnTo>
                    <a:pt x="178" y="734"/>
                  </a:lnTo>
                  <a:lnTo>
                    <a:pt x="178" y="734"/>
                  </a:lnTo>
                  <a:lnTo>
                    <a:pt x="134" y="746"/>
                  </a:lnTo>
                  <a:lnTo>
                    <a:pt x="90" y="760"/>
                  </a:lnTo>
                  <a:lnTo>
                    <a:pt x="46" y="776"/>
                  </a:lnTo>
                  <a:lnTo>
                    <a:pt x="0" y="794"/>
                  </a:lnTo>
                  <a:lnTo>
                    <a:pt x="0" y="794"/>
                  </a:lnTo>
                  <a:lnTo>
                    <a:pt x="36" y="696"/>
                  </a:lnTo>
                  <a:lnTo>
                    <a:pt x="64" y="612"/>
                  </a:lnTo>
                  <a:lnTo>
                    <a:pt x="86" y="544"/>
                  </a:lnTo>
                  <a:lnTo>
                    <a:pt x="100" y="488"/>
                  </a:lnTo>
                  <a:lnTo>
                    <a:pt x="100" y="488"/>
                  </a:lnTo>
                  <a:lnTo>
                    <a:pt x="140" y="456"/>
                  </a:lnTo>
                  <a:lnTo>
                    <a:pt x="180" y="426"/>
                  </a:lnTo>
                  <a:lnTo>
                    <a:pt x="220" y="400"/>
                  </a:lnTo>
                  <a:lnTo>
                    <a:pt x="262" y="376"/>
                  </a:lnTo>
                  <a:lnTo>
                    <a:pt x="306" y="356"/>
                  </a:lnTo>
                  <a:lnTo>
                    <a:pt x="350" y="338"/>
                  </a:lnTo>
                  <a:lnTo>
                    <a:pt x="394" y="322"/>
                  </a:lnTo>
                  <a:lnTo>
                    <a:pt x="440" y="310"/>
                  </a:lnTo>
                  <a:lnTo>
                    <a:pt x="440" y="310"/>
                  </a:lnTo>
                  <a:lnTo>
                    <a:pt x="484" y="302"/>
                  </a:lnTo>
                  <a:lnTo>
                    <a:pt x="528" y="294"/>
                  </a:lnTo>
                  <a:lnTo>
                    <a:pt x="574" y="290"/>
                  </a:lnTo>
                  <a:lnTo>
                    <a:pt x="620" y="288"/>
                  </a:lnTo>
                  <a:lnTo>
                    <a:pt x="666" y="290"/>
                  </a:lnTo>
                  <a:lnTo>
                    <a:pt x="714" y="292"/>
                  </a:lnTo>
                  <a:lnTo>
                    <a:pt x="762" y="298"/>
                  </a:lnTo>
                  <a:lnTo>
                    <a:pt x="810" y="304"/>
                  </a:lnTo>
                  <a:lnTo>
                    <a:pt x="810" y="304"/>
                  </a:lnTo>
                  <a:lnTo>
                    <a:pt x="860" y="314"/>
                  </a:lnTo>
                  <a:lnTo>
                    <a:pt x="912" y="328"/>
                  </a:lnTo>
                  <a:lnTo>
                    <a:pt x="970" y="344"/>
                  </a:lnTo>
                  <a:lnTo>
                    <a:pt x="1030" y="364"/>
                  </a:lnTo>
                  <a:lnTo>
                    <a:pt x="1030" y="364"/>
                  </a:lnTo>
                  <a:lnTo>
                    <a:pt x="1094" y="388"/>
                  </a:lnTo>
                  <a:lnTo>
                    <a:pt x="1162" y="414"/>
                  </a:lnTo>
                  <a:lnTo>
                    <a:pt x="1232" y="444"/>
                  </a:lnTo>
                  <a:lnTo>
                    <a:pt x="1304" y="478"/>
                  </a:lnTo>
                  <a:lnTo>
                    <a:pt x="1304" y="478"/>
                  </a:lnTo>
                  <a:lnTo>
                    <a:pt x="1328" y="562"/>
                  </a:lnTo>
                  <a:lnTo>
                    <a:pt x="1328" y="562"/>
                  </a:lnTo>
                  <a:lnTo>
                    <a:pt x="1336" y="602"/>
                  </a:lnTo>
                  <a:lnTo>
                    <a:pt x="1348" y="668"/>
                  </a:lnTo>
                  <a:lnTo>
                    <a:pt x="1384" y="882"/>
                  </a:lnTo>
                  <a:lnTo>
                    <a:pt x="1384" y="882"/>
                  </a:lnTo>
                  <a:lnTo>
                    <a:pt x="1428" y="1156"/>
                  </a:lnTo>
                  <a:lnTo>
                    <a:pt x="1472" y="1448"/>
                  </a:lnTo>
                  <a:lnTo>
                    <a:pt x="1472" y="1448"/>
                  </a:lnTo>
                  <a:lnTo>
                    <a:pt x="1522" y="1326"/>
                  </a:lnTo>
                  <a:lnTo>
                    <a:pt x="1570" y="1210"/>
                  </a:lnTo>
                  <a:lnTo>
                    <a:pt x="1618" y="1104"/>
                  </a:lnTo>
                  <a:lnTo>
                    <a:pt x="1666" y="1006"/>
                  </a:lnTo>
                  <a:lnTo>
                    <a:pt x="1716" y="918"/>
                  </a:lnTo>
                  <a:lnTo>
                    <a:pt x="1764" y="838"/>
                  </a:lnTo>
                  <a:lnTo>
                    <a:pt x="1812" y="766"/>
                  </a:lnTo>
                  <a:lnTo>
                    <a:pt x="1836" y="732"/>
                  </a:lnTo>
                  <a:lnTo>
                    <a:pt x="1860" y="702"/>
                  </a:lnTo>
                  <a:lnTo>
                    <a:pt x="1790" y="434"/>
                  </a:lnTo>
                  <a:lnTo>
                    <a:pt x="1628" y="498"/>
                  </a:lnTo>
                  <a:lnTo>
                    <a:pt x="1628" y="498"/>
                  </a:lnTo>
                  <a:lnTo>
                    <a:pt x="1642" y="434"/>
                  </a:lnTo>
                  <a:lnTo>
                    <a:pt x="1666" y="338"/>
                  </a:lnTo>
                  <a:lnTo>
                    <a:pt x="1666" y="338"/>
                  </a:lnTo>
                  <a:lnTo>
                    <a:pt x="1704" y="198"/>
                  </a:lnTo>
                  <a:lnTo>
                    <a:pt x="1762" y="0"/>
                  </a:lnTo>
                  <a:lnTo>
                    <a:pt x="1762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11"/>
            <p:cNvSpPr/>
            <p:nvPr/>
          </p:nvSpPr>
          <p:spPr>
            <a:xfrm>
              <a:off x="4372200" y="9040680"/>
              <a:ext cx="1303200" cy="1326960"/>
            </a:xfrm>
            <a:custGeom>
              <a:avLst/>
              <a:gdLst>
                <a:gd name="textAreaLeft" fmla="*/ 0 w 1303200"/>
                <a:gd name="textAreaRight" fmla="*/ 1303560 w 1303200"/>
                <a:gd name="textAreaTop" fmla="*/ 0 h 1326960"/>
                <a:gd name="textAreaBottom" fmla="*/ 1327320 h 1326960"/>
              </a:gdLst>
              <a:ahLst/>
              <a:rect l="textAreaLeft" t="textAreaTop" r="textAreaRight" b="textAreaBottom"/>
              <a:pathLst>
                <a:path w="821" h="836">
                  <a:moveTo>
                    <a:pt x="174" y="8"/>
                  </a:moveTo>
                  <a:lnTo>
                    <a:pt x="174" y="8"/>
                  </a:lnTo>
                  <a:lnTo>
                    <a:pt x="334" y="2"/>
                  </a:lnTo>
                  <a:lnTo>
                    <a:pt x="334" y="2"/>
                  </a:lnTo>
                  <a:lnTo>
                    <a:pt x="446" y="0"/>
                  </a:lnTo>
                  <a:lnTo>
                    <a:pt x="484" y="0"/>
                  </a:lnTo>
                  <a:lnTo>
                    <a:pt x="512" y="2"/>
                  </a:lnTo>
                  <a:lnTo>
                    <a:pt x="512" y="2"/>
                  </a:lnTo>
                  <a:lnTo>
                    <a:pt x="532" y="6"/>
                  </a:lnTo>
                  <a:lnTo>
                    <a:pt x="554" y="12"/>
                  </a:lnTo>
                  <a:lnTo>
                    <a:pt x="576" y="20"/>
                  </a:lnTo>
                  <a:lnTo>
                    <a:pt x="598" y="32"/>
                  </a:lnTo>
                  <a:lnTo>
                    <a:pt x="598" y="32"/>
                  </a:lnTo>
                  <a:lnTo>
                    <a:pt x="618" y="46"/>
                  </a:lnTo>
                  <a:lnTo>
                    <a:pt x="639" y="64"/>
                  </a:lnTo>
                  <a:lnTo>
                    <a:pt x="657" y="86"/>
                  </a:lnTo>
                  <a:lnTo>
                    <a:pt x="673" y="112"/>
                  </a:lnTo>
                  <a:lnTo>
                    <a:pt x="673" y="112"/>
                  </a:lnTo>
                  <a:lnTo>
                    <a:pt x="689" y="144"/>
                  </a:lnTo>
                  <a:lnTo>
                    <a:pt x="703" y="180"/>
                  </a:lnTo>
                  <a:lnTo>
                    <a:pt x="717" y="222"/>
                  </a:lnTo>
                  <a:lnTo>
                    <a:pt x="729" y="270"/>
                  </a:lnTo>
                  <a:lnTo>
                    <a:pt x="787" y="534"/>
                  </a:lnTo>
                  <a:lnTo>
                    <a:pt x="787" y="534"/>
                  </a:lnTo>
                  <a:lnTo>
                    <a:pt x="801" y="584"/>
                  </a:lnTo>
                  <a:lnTo>
                    <a:pt x="821" y="642"/>
                  </a:lnTo>
                  <a:lnTo>
                    <a:pt x="821" y="642"/>
                  </a:lnTo>
                  <a:lnTo>
                    <a:pt x="775" y="662"/>
                  </a:lnTo>
                  <a:lnTo>
                    <a:pt x="715" y="694"/>
                  </a:lnTo>
                  <a:lnTo>
                    <a:pt x="641" y="734"/>
                  </a:lnTo>
                  <a:lnTo>
                    <a:pt x="550" y="786"/>
                  </a:lnTo>
                  <a:lnTo>
                    <a:pt x="550" y="786"/>
                  </a:lnTo>
                  <a:lnTo>
                    <a:pt x="540" y="718"/>
                  </a:lnTo>
                  <a:lnTo>
                    <a:pt x="526" y="638"/>
                  </a:lnTo>
                  <a:lnTo>
                    <a:pt x="508" y="546"/>
                  </a:lnTo>
                  <a:lnTo>
                    <a:pt x="486" y="444"/>
                  </a:lnTo>
                  <a:lnTo>
                    <a:pt x="486" y="444"/>
                  </a:lnTo>
                  <a:lnTo>
                    <a:pt x="478" y="464"/>
                  </a:lnTo>
                  <a:lnTo>
                    <a:pt x="466" y="490"/>
                  </a:lnTo>
                  <a:lnTo>
                    <a:pt x="426" y="570"/>
                  </a:lnTo>
                  <a:lnTo>
                    <a:pt x="426" y="570"/>
                  </a:lnTo>
                  <a:lnTo>
                    <a:pt x="364" y="686"/>
                  </a:lnTo>
                  <a:lnTo>
                    <a:pt x="280" y="836"/>
                  </a:lnTo>
                  <a:lnTo>
                    <a:pt x="280" y="836"/>
                  </a:lnTo>
                  <a:lnTo>
                    <a:pt x="230" y="834"/>
                  </a:lnTo>
                  <a:lnTo>
                    <a:pt x="186" y="830"/>
                  </a:lnTo>
                  <a:lnTo>
                    <a:pt x="148" y="824"/>
                  </a:lnTo>
                  <a:lnTo>
                    <a:pt x="116" y="818"/>
                  </a:lnTo>
                  <a:lnTo>
                    <a:pt x="116" y="818"/>
                  </a:lnTo>
                  <a:lnTo>
                    <a:pt x="76" y="716"/>
                  </a:lnTo>
                  <a:lnTo>
                    <a:pt x="76" y="716"/>
                  </a:lnTo>
                  <a:lnTo>
                    <a:pt x="58" y="662"/>
                  </a:lnTo>
                  <a:lnTo>
                    <a:pt x="42" y="612"/>
                  </a:lnTo>
                  <a:lnTo>
                    <a:pt x="26" y="562"/>
                  </a:lnTo>
                  <a:lnTo>
                    <a:pt x="16" y="516"/>
                  </a:lnTo>
                  <a:lnTo>
                    <a:pt x="16" y="516"/>
                  </a:lnTo>
                  <a:lnTo>
                    <a:pt x="8" y="484"/>
                  </a:lnTo>
                  <a:lnTo>
                    <a:pt x="4" y="452"/>
                  </a:lnTo>
                  <a:lnTo>
                    <a:pt x="0" y="422"/>
                  </a:lnTo>
                  <a:lnTo>
                    <a:pt x="0" y="392"/>
                  </a:lnTo>
                  <a:lnTo>
                    <a:pt x="0" y="364"/>
                  </a:lnTo>
                  <a:lnTo>
                    <a:pt x="4" y="336"/>
                  </a:lnTo>
                  <a:lnTo>
                    <a:pt x="8" y="310"/>
                  </a:lnTo>
                  <a:lnTo>
                    <a:pt x="14" y="284"/>
                  </a:lnTo>
                  <a:lnTo>
                    <a:pt x="14" y="284"/>
                  </a:lnTo>
                  <a:lnTo>
                    <a:pt x="24" y="258"/>
                  </a:lnTo>
                  <a:lnTo>
                    <a:pt x="36" y="228"/>
                  </a:lnTo>
                  <a:lnTo>
                    <a:pt x="52" y="198"/>
                  </a:lnTo>
                  <a:lnTo>
                    <a:pt x="70" y="164"/>
                  </a:lnTo>
                  <a:lnTo>
                    <a:pt x="90" y="128"/>
                  </a:lnTo>
                  <a:lnTo>
                    <a:pt x="116" y="90"/>
                  </a:lnTo>
                  <a:lnTo>
                    <a:pt x="144" y="50"/>
                  </a:lnTo>
                  <a:lnTo>
                    <a:pt x="174" y="8"/>
                  </a:lnTo>
                  <a:lnTo>
                    <a:pt x="174" y="8"/>
                  </a:lnTo>
                  <a:close/>
                  <a:moveTo>
                    <a:pt x="222" y="224"/>
                  </a:moveTo>
                  <a:lnTo>
                    <a:pt x="322" y="572"/>
                  </a:lnTo>
                  <a:lnTo>
                    <a:pt x="322" y="572"/>
                  </a:lnTo>
                  <a:lnTo>
                    <a:pt x="356" y="504"/>
                  </a:lnTo>
                  <a:lnTo>
                    <a:pt x="386" y="428"/>
                  </a:lnTo>
                  <a:lnTo>
                    <a:pt x="386" y="428"/>
                  </a:lnTo>
                  <a:lnTo>
                    <a:pt x="412" y="350"/>
                  </a:lnTo>
                  <a:lnTo>
                    <a:pt x="434" y="280"/>
                  </a:lnTo>
                  <a:lnTo>
                    <a:pt x="434" y="280"/>
                  </a:lnTo>
                  <a:lnTo>
                    <a:pt x="416" y="266"/>
                  </a:lnTo>
                  <a:lnTo>
                    <a:pt x="396" y="254"/>
                  </a:lnTo>
                  <a:lnTo>
                    <a:pt x="374" y="244"/>
                  </a:lnTo>
                  <a:lnTo>
                    <a:pt x="350" y="236"/>
                  </a:lnTo>
                  <a:lnTo>
                    <a:pt x="322" y="230"/>
                  </a:lnTo>
                  <a:lnTo>
                    <a:pt x="290" y="226"/>
                  </a:lnTo>
                  <a:lnTo>
                    <a:pt x="258" y="224"/>
                  </a:lnTo>
                  <a:lnTo>
                    <a:pt x="222" y="224"/>
                  </a:lnTo>
                  <a:lnTo>
                    <a:pt x="222" y="22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12"/>
            <p:cNvSpPr/>
            <p:nvPr/>
          </p:nvSpPr>
          <p:spPr>
            <a:xfrm>
              <a:off x="5672160" y="8040600"/>
              <a:ext cx="961920" cy="19652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1965240"/>
                <a:gd name="textAreaBottom" fmla="*/ 1965600 h 1965240"/>
              </a:gdLst>
              <a:ahLst/>
              <a:rect l="textAreaLeft" t="textAreaTop" r="textAreaRight" b="textAreaBottom"/>
              <a:pathLst>
                <a:path w="606" h="1238">
                  <a:moveTo>
                    <a:pt x="0" y="148"/>
                  </a:moveTo>
                  <a:lnTo>
                    <a:pt x="156" y="64"/>
                  </a:lnTo>
                  <a:lnTo>
                    <a:pt x="272" y="0"/>
                  </a:lnTo>
                  <a:lnTo>
                    <a:pt x="392" y="670"/>
                  </a:lnTo>
                  <a:lnTo>
                    <a:pt x="440" y="934"/>
                  </a:lnTo>
                  <a:lnTo>
                    <a:pt x="440" y="934"/>
                  </a:lnTo>
                  <a:lnTo>
                    <a:pt x="518" y="966"/>
                  </a:lnTo>
                  <a:lnTo>
                    <a:pt x="604" y="996"/>
                  </a:lnTo>
                  <a:lnTo>
                    <a:pt x="606" y="1002"/>
                  </a:lnTo>
                  <a:lnTo>
                    <a:pt x="606" y="1002"/>
                  </a:lnTo>
                  <a:lnTo>
                    <a:pt x="568" y="1064"/>
                  </a:lnTo>
                  <a:lnTo>
                    <a:pt x="536" y="1122"/>
                  </a:lnTo>
                  <a:lnTo>
                    <a:pt x="508" y="1182"/>
                  </a:lnTo>
                  <a:lnTo>
                    <a:pt x="482" y="1238"/>
                  </a:lnTo>
                  <a:lnTo>
                    <a:pt x="482" y="1238"/>
                  </a:lnTo>
                  <a:lnTo>
                    <a:pt x="452" y="1238"/>
                  </a:lnTo>
                  <a:lnTo>
                    <a:pt x="424" y="1234"/>
                  </a:lnTo>
                  <a:lnTo>
                    <a:pt x="396" y="1230"/>
                  </a:lnTo>
                  <a:lnTo>
                    <a:pt x="370" y="1222"/>
                  </a:lnTo>
                  <a:lnTo>
                    <a:pt x="346" y="1214"/>
                  </a:lnTo>
                  <a:lnTo>
                    <a:pt x="324" y="1202"/>
                  </a:lnTo>
                  <a:lnTo>
                    <a:pt x="302" y="1188"/>
                  </a:lnTo>
                  <a:lnTo>
                    <a:pt x="282" y="1172"/>
                  </a:lnTo>
                  <a:lnTo>
                    <a:pt x="282" y="1172"/>
                  </a:lnTo>
                  <a:lnTo>
                    <a:pt x="264" y="1154"/>
                  </a:lnTo>
                  <a:lnTo>
                    <a:pt x="248" y="1134"/>
                  </a:lnTo>
                  <a:lnTo>
                    <a:pt x="232" y="1112"/>
                  </a:lnTo>
                  <a:lnTo>
                    <a:pt x="218" y="1086"/>
                  </a:lnTo>
                  <a:lnTo>
                    <a:pt x="204" y="1060"/>
                  </a:lnTo>
                  <a:lnTo>
                    <a:pt x="192" y="1032"/>
                  </a:lnTo>
                  <a:lnTo>
                    <a:pt x="182" y="1000"/>
                  </a:lnTo>
                  <a:lnTo>
                    <a:pt x="174" y="966"/>
                  </a:lnTo>
                  <a:lnTo>
                    <a:pt x="174" y="966"/>
                  </a:lnTo>
                  <a:lnTo>
                    <a:pt x="158" y="894"/>
                  </a:lnTo>
                  <a:lnTo>
                    <a:pt x="138" y="786"/>
                  </a:lnTo>
                  <a:lnTo>
                    <a:pt x="138" y="786"/>
                  </a:lnTo>
                  <a:lnTo>
                    <a:pt x="92" y="566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13"/>
            <p:cNvSpPr/>
            <p:nvPr/>
          </p:nvSpPr>
          <p:spPr>
            <a:xfrm>
              <a:off x="6729480" y="8440560"/>
              <a:ext cx="1056960" cy="1317600"/>
            </a:xfrm>
            <a:custGeom>
              <a:avLst/>
              <a:gdLst>
                <a:gd name="textAreaLeft" fmla="*/ 0 w 1056960"/>
                <a:gd name="textAreaRight" fmla="*/ 1057320 w 1056960"/>
                <a:gd name="textAreaTop" fmla="*/ 0 h 1317600"/>
                <a:gd name="textAreaBottom" fmla="*/ 1317960 h 1317600"/>
              </a:gdLst>
              <a:ahLst/>
              <a:rect l="textAreaLeft" t="textAreaTop" r="textAreaRight" b="textAreaBottom"/>
              <a:pathLst>
                <a:path w="666" h="830">
                  <a:moveTo>
                    <a:pt x="0" y="256"/>
                  </a:moveTo>
                  <a:lnTo>
                    <a:pt x="150" y="40"/>
                  </a:lnTo>
                  <a:lnTo>
                    <a:pt x="382" y="4"/>
                  </a:lnTo>
                  <a:lnTo>
                    <a:pt x="382" y="4"/>
                  </a:lnTo>
                  <a:lnTo>
                    <a:pt x="410" y="2"/>
                  </a:lnTo>
                  <a:lnTo>
                    <a:pt x="436" y="0"/>
                  </a:lnTo>
                  <a:lnTo>
                    <a:pt x="460" y="0"/>
                  </a:lnTo>
                  <a:lnTo>
                    <a:pt x="482" y="2"/>
                  </a:lnTo>
                  <a:lnTo>
                    <a:pt x="502" y="6"/>
                  </a:lnTo>
                  <a:lnTo>
                    <a:pt x="520" y="12"/>
                  </a:lnTo>
                  <a:lnTo>
                    <a:pt x="536" y="18"/>
                  </a:lnTo>
                  <a:lnTo>
                    <a:pt x="552" y="26"/>
                  </a:lnTo>
                  <a:lnTo>
                    <a:pt x="552" y="26"/>
                  </a:lnTo>
                  <a:lnTo>
                    <a:pt x="566" y="36"/>
                  </a:lnTo>
                  <a:lnTo>
                    <a:pt x="578" y="48"/>
                  </a:lnTo>
                  <a:lnTo>
                    <a:pt x="590" y="58"/>
                  </a:lnTo>
                  <a:lnTo>
                    <a:pt x="600" y="70"/>
                  </a:lnTo>
                  <a:lnTo>
                    <a:pt x="608" y="84"/>
                  </a:lnTo>
                  <a:lnTo>
                    <a:pt x="616" y="96"/>
                  </a:lnTo>
                  <a:lnTo>
                    <a:pt x="620" y="110"/>
                  </a:lnTo>
                  <a:lnTo>
                    <a:pt x="626" y="126"/>
                  </a:lnTo>
                  <a:lnTo>
                    <a:pt x="626" y="126"/>
                  </a:lnTo>
                  <a:lnTo>
                    <a:pt x="630" y="156"/>
                  </a:lnTo>
                  <a:lnTo>
                    <a:pt x="634" y="194"/>
                  </a:lnTo>
                  <a:lnTo>
                    <a:pt x="634" y="194"/>
                  </a:lnTo>
                  <a:lnTo>
                    <a:pt x="638" y="256"/>
                  </a:lnTo>
                  <a:lnTo>
                    <a:pt x="648" y="344"/>
                  </a:lnTo>
                  <a:lnTo>
                    <a:pt x="648" y="344"/>
                  </a:lnTo>
                  <a:lnTo>
                    <a:pt x="600" y="384"/>
                  </a:lnTo>
                  <a:lnTo>
                    <a:pt x="558" y="418"/>
                  </a:lnTo>
                  <a:lnTo>
                    <a:pt x="522" y="442"/>
                  </a:lnTo>
                  <a:lnTo>
                    <a:pt x="490" y="458"/>
                  </a:lnTo>
                  <a:lnTo>
                    <a:pt x="490" y="458"/>
                  </a:lnTo>
                  <a:lnTo>
                    <a:pt x="460" y="470"/>
                  </a:lnTo>
                  <a:lnTo>
                    <a:pt x="432" y="480"/>
                  </a:lnTo>
                  <a:lnTo>
                    <a:pt x="404" y="490"/>
                  </a:lnTo>
                  <a:lnTo>
                    <a:pt x="376" y="498"/>
                  </a:lnTo>
                  <a:lnTo>
                    <a:pt x="376" y="498"/>
                  </a:lnTo>
                  <a:lnTo>
                    <a:pt x="352" y="502"/>
                  </a:lnTo>
                  <a:lnTo>
                    <a:pt x="322" y="504"/>
                  </a:lnTo>
                  <a:lnTo>
                    <a:pt x="322" y="504"/>
                  </a:lnTo>
                  <a:lnTo>
                    <a:pt x="348" y="526"/>
                  </a:lnTo>
                  <a:lnTo>
                    <a:pt x="374" y="542"/>
                  </a:lnTo>
                  <a:lnTo>
                    <a:pt x="400" y="558"/>
                  </a:lnTo>
                  <a:lnTo>
                    <a:pt x="422" y="568"/>
                  </a:lnTo>
                  <a:lnTo>
                    <a:pt x="446" y="576"/>
                  </a:lnTo>
                  <a:lnTo>
                    <a:pt x="468" y="580"/>
                  </a:lnTo>
                  <a:lnTo>
                    <a:pt x="490" y="580"/>
                  </a:lnTo>
                  <a:lnTo>
                    <a:pt x="510" y="576"/>
                  </a:lnTo>
                  <a:lnTo>
                    <a:pt x="510" y="576"/>
                  </a:lnTo>
                  <a:lnTo>
                    <a:pt x="532" y="570"/>
                  </a:lnTo>
                  <a:lnTo>
                    <a:pt x="554" y="562"/>
                  </a:lnTo>
                  <a:lnTo>
                    <a:pt x="574" y="550"/>
                  </a:lnTo>
                  <a:lnTo>
                    <a:pt x="594" y="538"/>
                  </a:lnTo>
                  <a:lnTo>
                    <a:pt x="612" y="522"/>
                  </a:lnTo>
                  <a:lnTo>
                    <a:pt x="628" y="504"/>
                  </a:lnTo>
                  <a:lnTo>
                    <a:pt x="644" y="484"/>
                  </a:lnTo>
                  <a:lnTo>
                    <a:pt x="660" y="462"/>
                  </a:lnTo>
                  <a:lnTo>
                    <a:pt x="666" y="460"/>
                  </a:lnTo>
                  <a:lnTo>
                    <a:pt x="666" y="460"/>
                  </a:lnTo>
                  <a:lnTo>
                    <a:pt x="662" y="498"/>
                  </a:lnTo>
                  <a:lnTo>
                    <a:pt x="658" y="532"/>
                  </a:lnTo>
                  <a:lnTo>
                    <a:pt x="652" y="564"/>
                  </a:lnTo>
                  <a:lnTo>
                    <a:pt x="644" y="596"/>
                  </a:lnTo>
                  <a:lnTo>
                    <a:pt x="634" y="624"/>
                  </a:lnTo>
                  <a:lnTo>
                    <a:pt x="622" y="652"/>
                  </a:lnTo>
                  <a:lnTo>
                    <a:pt x="610" y="676"/>
                  </a:lnTo>
                  <a:lnTo>
                    <a:pt x="594" y="700"/>
                  </a:lnTo>
                  <a:lnTo>
                    <a:pt x="578" y="720"/>
                  </a:lnTo>
                  <a:lnTo>
                    <a:pt x="560" y="740"/>
                  </a:lnTo>
                  <a:lnTo>
                    <a:pt x="540" y="758"/>
                  </a:lnTo>
                  <a:lnTo>
                    <a:pt x="520" y="772"/>
                  </a:lnTo>
                  <a:lnTo>
                    <a:pt x="496" y="786"/>
                  </a:lnTo>
                  <a:lnTo>
                    <a:pt x="472" y="798"/>
                  </a:lnTo>
                  <a:lnTo>
                    <a:pt x="446" y="806"/>
                  </a:lnTo>
                  <a:lnTo>
                    <a:pt x="418" y="814"/>
                  </a:lnTo>
                  <a:lnTo>
                    <a:pt x="418" y="814"/>
                  </a:lnTo>
                  <a:lnTo>
                    <a:pt x="390" y="820"/>
                  </a:lnTo>
                  <a:lnTo>
                    <a:pt x="362" y="826"/>
                  </a:lnTo>
                  <a:lnTo>
                    <a:pt x="338" y="828"/>
                  </a:lnTo>
                  <a:lnTo>
                    <a:pt x="314" y="830"/>
                  </a:lnTo>
                  <a:lnTo>
                    <a:pt x="292" y="830"/>
                  </a:lnTo>
                  <a:lnTo>
                    <a:pt x="272" y="828"/>
                  </a:lnTo>
                  <a:lnTo>
                    <a:pt x="254" y="824"/>
                  </a:lnTo>
                  <a:lnTo>
                    <a:pt x="238" y="820"/>
                  </a:lnTo>
                  <a:lnTo>
                    <a:pt x="238" y="820"/>
                  </a:lnTo>
                  <a:lnTo>
                    <a:pt x="224" y="814"/>
                  </a:lnTo>
                  <a:lnTo>
                    <a:pt x="208" y="806"/>
                  </a:lnTo>
                  <a:lnTo>
                    <a:pt x="194" y="798"/>
                  </a:lnTo>
                  <a:lnTo>
                    <a:pt x="182" y="788"/>
                  </a:lnTo>
                  <a:lnTo>
                    <a:pt x="168" y="778"/>
                  </a:lnTo>
                  <a:lnTo>
                    <a:pt x="156" y="766"/>
                  </a:lnTo>
                  <a:lnTo>
                    <a:pt x="134" y="738"/>
                  </a:lnTo>
                  <a:lnTo>
                    <a:pt x="134" y="738"/>
                  </a:lnTo>
                  <a:lnTo>
                    <a:pt x="122" y="722"/>
                  </a:lnTo>
                  <a:lnTo>
                    <a:pt x="112" y="700"/>
                  </a:lnTo>
                  <a:lnTo>
                    <a:pt x="100" y="676"/>
                  </a:lnTo>
                  <a:lnTo>
                    <a:pt x="90" y="648"/>
                  </a:lnTo>
                  <a:lnTo>
                    <a:pt x="78" y="618"/>
                  </a:lnTo>
                  <a:lnTo>
                    <a:pt x="68" y="582"/>
                  </a:lnTo>
                  <a:lnTo>
                    <a:pt x="48" y="500"/>
                  </a:lnTo>
                  <a:lnTo>
                    <a:pt x="16" y="344"/>
                  </a:lnTo>
                  <a:lnTo>
                    <a:pt x="0" y="256"/>
                  </a:lnTo>
                  <a:close/>
                  <a:moveTo>
                    <a:pt x="258" y="206"/>
                  </a:moveTo>
                  <a:lnTo>
                    <a:pt x="288" y="430"/>
                  </a:lnTo>
                  <a:lnTo>
                    <a:pt x="288" y="430"/>
                  </a:lnTo>
                  <a:lnTo>
                    <a:pt x="364" y="410"/>
                  </a:lnTo>
                  <a:lnTo>
                    <a:pt x="444" y="386"/>
                  </a:lnTo>
                  <a:lnTo>
                    <a:pt x="444" y="386"/>
                  </a:lnTo>
                  <a:lnTo>
                    <a:pt x="432" y="330"/>
                  </a:lnTo>
                  <a:lnTo>
                    <a:pt x="432" y="330"/>
                  </a:lnTo>
                  <a:lnTo>
                    <a:pt x="428" y="312"/>
                  </a:lnTo>
                  <a:lnTo>
                    <a:pt x="422" y="294"/>
                  </a:lnTo>
                  <a:lnTo>
                    <a:pt x="416" y="280"/>
                  </a:lnTo>
                  <a:lnTo>
                    <a:pt x="408" y="266"/>
                  </a:lnTo>
                  <a:lnTo>
                    <a:pt x="398" y="252"/>
                  </a:lnTo>
                  <a:lnTo>
                    <a:pt x="390" y="242"/>
                  </a:lnTo>
                  <a:lnTo>
                    <a:pt x="380" y="232"/>
                  </a:lnTo>
                  <a:lnTo>
                    <a:pt x="368" y="224"/>
                  </a:lnTo>
                  <a:lnTo>
                    <a:pt x="368" y="224"/>
                  </a:lnTo>
                  <a:lnTo>
                    <a:pt x="356" y="218"/>
                  </a:lnTo>
                  <a:lnTo>
                    <a:pt x="342" y="212"/>
                  </a:lnTo>
                  <a:lnTo>
                    <a:pt x="330" y="208"/>
                  </a:lnTo>
                  <a:lnTo>
                    <a:pt x="316" y="204"/>
                  </a:lnTo>
                  <a:lnTo>
                    <a:pt x="302" y="202"/>
                  </a:lnTo>
                  <a:lnTo>
                    <a:pt x="288" y="202"/>
                  </a:lnTo>
                  <a:lnTo>
                    <a:pt x="274" y="202"/>
                  </a:lnTo>
                  <a:lnTo>
                    <a:pt x="258" y="206"/>
                  </a:lnTo>
                  <a:lnTo>
                    <a:pt x="258" y="20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114"/>
            <p:cNvSpPr/>
            <p:nvPr/>
          </p:nvSpPr>
          <p:spPr>
            <a:xfrm>
              <a:off x="7942320" y="8091360"/>
              <a:ext cx="1285560" cy="1466640"/>
            </a:xfrm>
            <a:custGeom>
              <a:avLst/>
              <a:gdLst>
                <a:gd name="textAreaLeft" fmla="*/ 0 w 1285560"/>
                <a:gd name="textAreaRight" fmla="*/ 1285920 w 1285560"/>
                <a:gd name="textAreaTop" fmla="*/ 0 h 1466640"/>
                <a:gd name="textAreaBottom" fmla="*/ 1467000 h 1466640"/>
              </a:gdLst>
              <a:ahLst/>
              <a:rect l="textAreaLeft" t="textAreaTop" r="textAreaRight" b="textAreaBottom"/>
              <a:pathLst>
                <a:path w="810" h="924">
                  <a:moveTo>
                    <a:pt x="188" y="102"/>
                  </a:moveTo>
                  <a:lnTo>
                    <a:pt x="264" y="56"/>
                  </a:lnTo>
                  <a:lnTo>
                    <a:pt x="292" y="174"/>
                  </a:lnTo>
                  <a:lnTo>
                    <a:pt x="292" y="174"/>
                  </a:lnTo>
                  <a:lnTo>
                    <a:pt x="364" y="102"/>
                  </a:lnTo>
                  <a:lnTo>
                    <a:pt x="364" y="102"/>
                  </a:lnTo>
                  <a:lnTo>
                    <a:pt x="398" y="68"/>
                  </a:lnTo>
                  <a:lnTo>
                    <a:pt x="458" y="4"/>
                  </a:lnTo>
                  <a:lnTo>
                    <a:pt x="458" y="4"/>
                  </a:lnTo>
                  <a:lnTo>
                    <a:pt x="498" y="2"/>
                  </a:lnTo>
                  <a:lnTo>
                    <a:pt x="532" y="0"/>
                  </a:lnTo>
                  <a:lnTo>
                    <a:pt x="560" y="2"/>
                  </a:lnTo>
                  <a:lnTo>
                    <a:pt x="586" y="4"/>
                  </a:lnTo>
                  <a:lnTo>
                    <a:pt x="586" y="4"/>
                  </a:lnTo>
                  <a:lnTo>
                    <a:pt x="608" y="10"/>
                  </a:lnTo>
                  <a:lnTo>
                    <a:pt x="628" y="18"/>
                  </a:lnTo>
                  <a:lnTo>
                    <a:pt x="646" y="28"/>
                  </a:lnTo>
                  <a:lnTo>
                    <a:pt x="664" y="40"/>
                  </a:lnTo>
                  <a:lnTo>
                    <a:pt x="664" y="40"/>
                  </a:lnTo>
                  <a:lnTo>
                    <a:pt x="680" y="54"/>
                  </a:lnTo>
                  <a:lnTo>
                    <a:pt x="692" y="70"/>
                  </a:lnTo>
                  <a:lnTo>
                    <a:pt x="704" y="84"/>
                  </a:lnTo>
                  <a:lnTo>
                    <a:pt x="714" y="100"/>
                  </a:lnTo>
                  <a:lnTo>
                    <a:pt x="714" y="100"/>
                  </a:lnTo>
                  <a:lnTo>
                    <a:pt x="722" y="116"/>
                  </a:lnTo>
                  <a:lnTo>
                    <a:pt x="730" y="138"/>
                  </a:lnTo>
                  <a:lnTo>
                    <a:pt x="738" y="166"/>
                  </a:lnTo>
                  <a:lnTo>
                    <a:pt x="746" y="200"/>
                  </a:lnTo>
                  <a:lnTo>
                    <a:pt x="746" y="200"/>
                  </a:lnTo>
                  <a:lnTo>
                    <a:pt x="756" y="244"/>
                  </a:lnTo>
                  <a:lnTo>
                    <a:pt x="764" y="292"/>
                  </a:lnTo>
                  <a:lnTo>
                    <a:pt x="772" y="346"/>
                  </a:lnTo>
                  <a:lnTo>
                    <a:pt x="778" y="402"/>
                  </a:lnTo>
                  <a:lnTo>
                    <a:pt x="778" y="402"/>
                  </a:lnTo>
                  <a:lnTo>
                    <a:pt x="784" y="464"/>
                  </a:lnTo>
                  <a:lnTo>
                    <a:pt x="792" y="518"/>
                  </a:lnTo>
                  <a:lnTo>
                    <a:pt x="800" y="570"/>
                  </a:lnTo>
                  <a:lnTo>
                    <a:pt x="810" y="616"/>
                  </a:lnTo>
                  <a:lnTo>
                    <a:pt x="678" y="760"/>
                  </a:lnTo>
                  <a:lnTo>
                    <a:pt x="658" y="782"/>
                  </a:lnTo>
                  <a:lnTo>
                    <a:pt x="658" y="782"/>
                  </a:lnTo>
                  <a:lnTo>
                    <a:pt x="630" y="812"/>
                  </a:lnTo>
                  <a:lnTo>
                    <a:pt x="606" y="838"/>
                  </a:lnTo>
                  <a:lnTo>
                    <a:pt x="584" y="860"/>
                  </a:lnTo>
                  <a:lnTo>
                    <a:pt x="562" y="876"/>
                  </a:lnTo>
                  <a:lnTo>
                    <a:pt x="562" y="876"/>
                  </a:lnTo>
                  <a:lnTo>
                    <a:pt x="556" y="752"/>
                  </a:lnTo>
                  <a:lnTo>
                    <a:pt x="548" y="644"/>
                  </a:lnTo>
                  <a:lnTo>
                    <a:pt x="542" y="596"/>
                  </a:lnTo>
                  <a:lnTo>
                    <a:pt x="536" y="552"/>
                  </a:lnTo>
                  <a:lnTo>
                    <a:pt x="528" y="512"/>
                  </a:lnTo>
                  <a:lnTo>
                    <a:pt x="520" y="474"/>
                  </a:lnTo>
                  <a:lnTo>
                    <a:pt x="520" y="474"/>
                  </a:lnTo>
                  <a:lnTo>
                    <a:pt x="510" y="432"/>
                  </a:lnTo>
                  <a:lnTo>
                    <a:pt x="496" y="392"/>
                  </a:lnTo>
                  <a:lnTo>
                    <a:pt x="482" y="354"/>
                  </a:lnTo>
                  <a:lnTo>
                    <a:pt x="466" y="318"/>
                  </a:lnTo>
                  <a:lnTo>
                    <a:pt x="448" y="284"/>
                  </a:lnTo>
                  <a:lnTo>
                    <a:pt x="426" y="252"/>
                  </a:lnTo>
                  <a:lnTo>
                    <a:pt x="404" y="220"/>
                  </a:lnTo>
                  <a:lnTo>
                    <a:pt x="380" y="192"/>
                  </a:lnTo>
                  <a:lnTo>
                    <a:pt x="380" y="192"/>
                  </a:lnTo>
                  <a:lnTo>
                    <a:pt x="358" y="232"/>
                  </a:lnTo>
                  <a:lnTo>
                    <a:pt x="346" y="252"/>
                  </a:lnTo>
                  <a:lnTo>
                    <a:pt x="320" y="298"/>
                  </a:lnTo>
                  <a:lnTo>
                    <a:pt x="446" y="814"/>
                  </a:lnTo>
                  <a:lnTo>
                    <a:pt x="446" y="814"/>
                  </a:lnTo>
                  <a:lnTo>
                    <a:pt x="376" y="834"/>
                  </a:lnTo>
                  <a:lnTo>
                    <a:pt x="308" y="860"/>
                  </a:lnTo>
                  <a:lnTo>
                    <a:pt x="238" y="890"/>
                  </a:lnTo>
                  <a:lnTo>
                    <a:pt x="168" y="924"/>
                  </a:lnTo>
                  <a:lnTo>
                    <a:pt x="168" y="924"/>
                  </a:lnTo>
                  <a:lnTo>
                    <a:pt x="154" y="862"/>
                  </a:lnTo>
                  <a:lnTo>
                    <a:pt x="154" y="862"/>
                  </a:lnTo>
                  <a:lnTo>
                    <a:pt x="142" y="794"/>
                  </a:lnTo>
                  <a:lnTo>
                    <a:pt x="136" y="774"/>
                  </a:lnTo>
                  <a:lnTo>
                    <a:pt x="136" y="774"/>
                  </a:lnTo>
                  <a:lnTo>
                    <a:pt x="122" y="722"/>
                  </a:lnTo>
                  <a:lnTo>
                    <a:pt x="72" y="510"/>
                  </a:lnTo>
                  <a:lnTo>
                    <a:pt x="72" y="510"/>
                  </a:lnTo>
                  <a:lnTo>
                    <a:pt x="34" y="358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22" y="208"/>
                  </a:lnTo>
                  <a:lnTo>
                    <a:pt x="22" y="208"/>
                  </a:lnTo>
                  <a:lnTo>
                    <a:pt x="52" y="190"/>
                  </a:lnTo>
                  <a:lnTo>
                    <a:pt x="52" y="190"/>
                  </a:lnTo>
                  <a:lnTo>
                    <a:pt x="88" y="166"/>
                  </a:lnTo>
                  <a:lnTo>
                    <a:pt x="188" y="10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15"/>
            <p:cNvSpPr/>
            <p:nvPr/>
          </p:nvSpPr>
          <p:spPr>
            <a:xfrm>
              <a:off x="1467000" y="12993480"/>
              <a:ext cx="920520" cy="33948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580" h="214">
                  <a:moveTo>
                    <a:pt x="16" y="214"/>
                  </a:moveTo>
                  <a:lnTo>
                    <a:pt x="0" y="138"/>
                  </a:lnTo>
                  <a:lnTo>
                    <a:pt x="556" y="0"/>
                  </a:lnTo>
                  <a:lnTo>
                    <a:pt x="580" y="104"/>
                  </a:lnTo>
                  <a:lnTo>
                    <a:pt x="16" y="2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16"/>
            <p:cNvSpPr/>
            <p:nvPr/>
          </p:nvSpPr>
          <p:spPr>
            <a:xfrm>
              <a:off x="2530440" y="12148920"/>
              <a:ext cx="898200" cy="1469880"/>
            </a:xfrm>
            <a:custGeom>
              <a:avLst/>
              <a:gdLst>
                <a:gd name="textAreaLeft" fmla="*/ 0 w 898200"/>
                <a:gd name="textAreaRight" fmla="*/ 898560 w 898200"/>
                <a:gd name="textAreaTop" fmla="*/ 0 h 1469880"/>
                <a:gd name="textAreaBottom" fmla="*/ 1470240 h 1469880"/>
              </a:gdLst>
              <a:ahLst/>
              <a:rect l="textAreaLeft" t="textAreaTop" r="textAreaRight" b="textAreaBottom"/>
              <a:pathLst>
                <a:path w="566" h="926">
                  <a:moveTo>
                    <a:pt x="36" y="164"/>
                  </a:moveTo>
                  <a:lnTo>
                    <a:pt x="18" y="90"/>
                  </a:lnTo>
                  <a:lnTo>
                    <a:pt x="18" y="90"/>
                  </a:lnTo>
                  <a:lnTo>
                    <a:pt x="96" y="64"/>
                  </a:lnTo>
                  <a:lnTo>
                    <a:pt x="96" y="64"/>
                  </a:lnTo>
                  <a:lnTo>
                    <a:pt x="196" y="26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76" y="30"/>
                  </a:lnTo>
                  <a:lnTo>
                    <a:pt x="276" y="30"/>
                  </a:lnTo>
                  <a:lnTo>
                    <a:pt x="284" y="68"/>
                  </a:lnTo>
                  <a:lnTo>
                    <a:pt x="292" y="126"/>
                  </a:lnTo>
                  <a:lnTo>
                    <a:pt x="292" y="126"/>
                  </a:lnTo>
                  <a:lnTo>
                    <a:pt x="334" y="118"/>
                  </a:lnTo>
                  <a:lnTo>
                    <a:pt x="400" y="104"/>
                  </a:lnTo>
                  <a:lnTo>
                    <a:pt x="400" y="104"/>
                  </a:lnTo>
                  <a:lnTo>
                    <a:pt x="446" y="92"/>
                  </a:lnTo>
                  <a:lnTo>
                    <a:pt x="474" y="84"/>
                  </a:lnTo>
                  <a:lnTo>
                    <a:pt x="474" y="84"/>
                  </a:lnTo>
                  <a:lnTo>
                    <a:pt x="482" y="204"/>
                  </a:lnTo>
                  <a:lnTo>
                    <a:pt x="484" y="262"/>
                  </a:lnTo>
                  <a:lnTo>
                    <a:pt x="484" y="262"/>
                  </a:lnTo>
                  <a:lnTo>
                    <a:pt x="454" y="274"/>
                  </a:lnTo>
                  <a:lnTo>
                    <a:pt x="418" y="286"/>
                  </a:lnTo>
                  <a:lnTo>
                    <a:pt x="330" y="312"/>
                  </a:lnTo>
                  <a:lnTo>
                    <a:pt x="330" y="312"/>
                  </a:lnTo>
                  <a:lnTo>
                    <a:pt x="352" y="426"/>
                  </a:lnTo>
                  <a:lnTo>
                    <a:pt x="368" y="496"/>
                  </a:lnTo>
                  <a:lnTo>
                    <a:pt x="368" y="496"/>
                  </a:lnTo>
                  <a:lnTo>
                    <a:pt x="378" y="532"/>
                  </a:lnTo>
                  <a:lnTo>
                    <a:pt x="384" y="548"/>
                  </a:lnTo>
                  <a:lnTo>
                    <a:pt x="392" y="564"/>
                  </a:lnTo>
                  <a:lnTo>
                    <a:pt x="400" y="578"/>
                  </a:lnTo>
                  <a:lnTo>
                    <a:pt x="410" y="590"/>
                  </a:lnTo>
                  <a:lnTo>
                    <a:pt x="420" y="602"/>
                  </a:lnTo>
                  <a:lnTo>
                    <a:pt x="432" y="612"/>
                  </a:lnTo>
                  <a:lnTo>
                    <a:pt x="432" y="612"/>
                  </a:lnTo>
                  <a:lnTo>
                    <a:pt x="442" y="620"/>
                  </a:lnTo>
                  <a:lnTo>
                    <a:pt x="456" y="628"/>
                  </a:lnTo>
                  <a:lnTo>
                    <a:pt x="470" y="636"/>
                  </a:lnTo>
                  <a:lnTo>
                    <a:pt x="486" y="642"/>
                  </a:lnTo>
                  <a:lnTo>
                    <a:pt x="504" y="646"/>
                  </a:lnTo>
                  <a:lnTo>
                    <a:pt x="524" y="650"/>
                  </a:lnTo>
                  <a:lnTo>
                    <a:pt x="566" y="656"/>
                  </a:lnTo>
                  <a:lnTo>
                    <a:pt x="474" y="926"/>
                  </a:lnTo>
                  <a:lnTo>
                    <a:pt x="474" y="926"/>
                  </a:lnTo>
                  <a:lnTo>
                    <a:pt x="438" y="922"/>
                  </a:lnTo>
                  <a:lnTo>
                    <a:pt x="404" y="918"/>
                  </a:lnTo>
                  <a:lnTo>
                    <a:pt x="372" y="912"/>
                  </a:lnTo>
                  <a:lnTo>
                    <a:pt x="342" y="904"/>
                  </a:lnTo>
                  <a:lnTo>
                    <a:pt x="314" y="896"/>
                  </a:lnTo>
                  <a:lnTo>
                    <a:pt x="286" y="884"/>
                  </a:lnTo>
                  <a:lnTo>
                    <a:pt x="262" y="872"/>
                  </a:lnTo>
                  <a:lnTo>
                    <a:pt x="240" y="858"/>
                  </a:lnTo>
                  <a:lnTo>
                    <a:pt x="218" y="842"/>
                  </a:lnTo>
                  <a:lnTo>
                    <a:pt x="200" y="824"/>
                  </a:lnTo>
                  <a:lnTo>
                    <a:pt x="184" y="806"/>
                  </a:lnTo>
                  <a:lnTo>
                    <a:pt x="168" y="786"/>
                  </a:lnTo>
                  <a:lnTo>
                    <a:pt x="154" y="762"/>
                  </a:lnTo>
                  <a:lnTo>
                    <a:pt x="144" y="740"/>
                  </a:lnTo>
                  <a:lnTo>
                    <a:pt x="134" y="714"/>
                  </a:lnTo>
                  <a:lnTo>
                    <a:pt x="126" y="686"/>
                  </a:lnTo>
                  <a:lnTo>
                    <a:pt x="126" y="686"/>
                  </a:lnTo>
                  <a:lnTo>
                    <a:pt x="118" y="632"/>
                  </a:lnTo>
                  <a:lnTo>
                    <a:pt x="106" y="542"/>
                  </a:lnTo>
                  <a:lnTo>
                    <a:pt x="106" y="542"/>
                  </a:lnTo>
                  <a:lnTo>
                    <a:pt x="94" y="450"/>
                  </a:lnTo>
                  <a:lnTo>
                    <a:pt x="84" y="392"/>
                  </a:lnTo>
                  <a:lnTo>
                    <a:pt x="84" y="392"/>
                  </a:lnTo>
                  <a:lnTo>
                    <a:pt x="44" y="406"/>
                  </a:lnTo>
                  <a:lnTo>
                    <a:pt x="0" y="424"/>
                  </a:lnTo>
                  <a:lnTo>
                    <a:pt x="52" y="238"/>
                  </a:lnTo>
                  <a:lnTo>
                    <a:pt x="48" y="220"/>
                  </a:lnTo>
                  <a:lnTo>
                    <a:pt x="36" y="16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17"/>
            <p:cNvSpPr/>
            <p:nvPr/>
          </p:nvSpPr>
          <p:spPr>
            <a:xfrm>
              <a:off x="3498840" y="11475720"/>
              <a:ext cx="914400" cy="1981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76" h="1248">
                  <a:moveTo>
                    <a:pt x="122" y="4"/>
                  </a:moveTo>
                  <a:lnTo>
                    <a:pt x="122" y="4"/>
                  </a:lnTo>
                  <a:lnTo>
                    <a:pt x="136" y="2"/>
                  </a:lnTo>
                  <a:lnTo>
                    <a:pt x="152" y="0"/>
                  </a:lnTo>
                  <a:lnTo>
                    <a:pt x="168" y="0"/>
                  </a:lnTo>
                  <a:lnTo>
                    <a:pt x="184" y="2"/>
                  </a:lnTo>
                  <a:lnTo>
                    <a:pt x="198" y="6"/>
                  </a:lnTo>
                  <a:lnTo>
                    <a:pt x="214" y="10"/>
                  </a:lnTo>
                  <a:lnTo>
                    <a:pt x="228" y="18"/>
                  </a:lnTo>
                  <a:lnTo>
                    <a:pt x="242" y="26"/>
                  </a:lnTo>
                  <a:lnTo>
                    <a:pt x="242" y="26"/>
                  </a:lnTo>
                  <a:lnTo>
                    <a:pt x="256" y="34"/>
                  </a:lnTo>
                  <a:lnTo>
                    <a:pt x="268" y="46"/>
                  </a:lnTo>
                  <a:lnTo>
                    <a:pt x="278" y="58"/>
                  </a:lnTo>
                  <a:lnTo>
                    <a:pt x="288" y="70"/>
                  </a:lnTo>
                  <a:lnTo>
                    <a:pt x="298" y="84"/>
                  </a:lnTo>
                  <a:lnTo>
                    <a:pt x="304" y="100"/>
                  </a:lnTo>
                  <a:lnTo>
                    <a:pt x="310" y="116"/>
                  </a:lnTo>
                  <a:lnTo>
                    <a:pt x="316" y="134"/>
                  </a:lnTo>
                  <a:lnTo>
                    <a:pt x="316" y="134"/>
                  </a:lnTo>
                  <a:lnTo>
                    <a:pt x="318" y="150"/>
                  </a:lnTo>
                  <a:lnTo>
                    <a:pt x="320" y="166"/>
                  </a:lnTo>
                  <a:lnTo>
                    <a:pt x="320" y="182"/>
                  </a:lnTo>
                  <a:lnTo>
                    <a:pt x="318" y="198"/>
                  </a:lnTo>
                  <a:lnTo>
                    <a:pt x="316" y="214"/>
                  </a:lnTo>
                  <a:lnTo>
                    <a:pt x="312" y="230"/>
                  </a:lnTo>
                  <a:lnTo>
                    <a:pt x="304" y="246"/>
                  </a:lnTo>
                  <a:lnTo>
                    <a:pt x="298" y="260"/>
                  </a:lnTo>
                  <a:lnTo>
                    <a:pt x="298" y="260"/>
                  </a:lnTo>
                  <a:lnTo>
                    <a:pt x="288" y="274"/>
                  </a:lnTo>
                  <a:lnTo>
                    <a:pt x="278" y="288"/>
                  </a:lnTo>
                  <a:lnTo>
                    <a:pt x="266" y="298"/>
                  </a:lnTo>
                  <a:lnTo>
                    <a:pt x="254" y="308"/>
                  </a:lnTo>
                  <a:lnTo>
                    <a:pt x="242" y="316"/>
                  </a:lnTo>
                  <a:lnTo>
                    <a:pt x="228" y="324"/>
                  </a:lnTo>
                  <a:lnTo>
                    <a:pt x="214" y="330"/>
                  </a:lnTo>
                  <a:lnTo>
                    <a:pt x="198" y="334"/>
                  </a:lnTo>
                  <a:lnTo>
                    <a:pt x="198" y="334"/>
                  </a:lnTo>
                  <a:lnTo>
                    <a:pt x="182" y="338"/>
                  </a:lnTo>
                  <a:lnTo>
                    <a:pt x="168" y="338"/>
                  </a:lnTo>
                  <a:lnTo>
                    <a:pt x="152" y="338"/>
                  </a:lnTo>
                  <a:lnTo>
                    <a:pt x="136" y="336"/>
                  </a:lnTo>
                  <a:lnTo>
                    <a:pt x="122" y="332"/>
                  </a:lnTo>
                  <a:lnTo>
                    <a:pt x="106" y="328"/>
                  </a:lnTo>
                  <a:lnTo>
                    <a:pt x="92" y="320"/>
                  </a:lnTo>
                  <a:lnTo>
                    <a:pt x="78" y="312"/>
                  </a:lnTo>
                  <a:lnTo>
                    <a:pt x="78" y="312"/>
                  </a:lnTo>
                  <a:lnTo>
                    <a:pt x="64" y="302"/>
                  </a:lnTo>
                  <a:lnTo>
                    <a:pt x="52" y="290"/>
                  </a:lnTo>
                  <a:lnTo>
                    <a:pt x="42" y="280"/>
                  </a:lnTo>
                  <a:lnTo>
                    <a:pt x="32" y="266"/>
                  </a:lnTo>
                  <a:lnTo>
                    <a:pt x="22" y="252"/>
                  </a:lnTo>
                  <a:lnTo>
                    <a:pt x="16" y="238"/>
                  </a:lnTo>
                  <a:lnTo>
                    <a:pt x="10" y="222"/>
                  </a:lnTo>
                  <a:lnTo>
                    <a:pt x="6" y="206"/>
                  </a:lnTo>
                  <a:lnTo>
                    <a:pt x="6" y="206"/>
                  </a:lnTo>
                  <a:lnTo>
                    <a:pt x="2" y="190"/>
                  </a:lnTo>
                  <a:lnTo>
                    <a:pt x="0" y="172"/>
                  </a:lnTo>
                  <a:lnTo>
                    <a:pt x="0" y="156"/>
                  </a:lnTo>
                  <a:lnTo>
                    <a:pt x="2" y="140"/>
                  </a:lnTo>
                  <a:lnTo>
                    <a:pt x="4" y="124"/>
                  </a:lnTo>
                  <a:lnTo>
                    <a:pt x="10" y="108"/>
                  </a:lnTo>
                  <a:lnTo>
                    <a:pt x="16" y="94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32" y="64"/>
                  </a:lnTo>
                  <a:lnTo>
                    <a:pt x="42" y="52"/>
                  </a:lnTo>
                  <a:lnTo>
                    <a:pt x="52" y="40"/>
                  </a:lnTo>
                  <a:lnTo>
                    <a:pt x="64" y="30"/>
                  </a:lnTo>
                  <a:lnTo>
                    <a:pt x="78" y="22"/>
                  </a:lnTo>
                  <a:lnTo>
                    <a:pt x="90" y="14"/>
                  </a:lnTo>
                  <a:lnTo>
                    <a:pt x="106" y="8"/>
                  </a:lnTo>
                  <a:lnTo>
                    <a:pt x="122" y="4"/>
                  </a:lnTo>
                  <a:lnTo>
                    <a:pt x="122" y="4"/>
                  </a:lnTo>
                  <a:close/>
                  <a:moveTo>
                    <a:pt x="26" y="724"/>
                  </a:moveTo>
                  <a:lnTo>
                    <a:pt x="22" y="608"/>
                  </a:lnTo>
                  <a:lnTo>
                    <a:pt x="22" y="608"/>
                  </a:lnTo>
                  <a:lnTo>
                    <a:pt x="64" y="588"/>
                  </a:lnTo>
                  <a:lnTo>
                    <a:pt x="106" y="566"/>
                  </a:lnTo>
                  <a:lnTo>
                    <a:pt x="148" y="542"/>
                  </a:lnTo>
                  <a:lnTo>
                    <a:pt x="194" y="514"/>
                  </a:lnTo>
                  <a:lnTo>
                    <a:pt x="238" y="484"/>
                  </a:lnTo>
                  <a:lnTo>
                    <a:pt x="284" y="452"/>
                  </a:lnTo>
                  <a:lnTo>
                    <a:pt x="332" y="416"/>
                  </a:lnTo>
                  <a:lnTo>
                    <a:pt x="380" y="376"/>
                  </a:lnTo>
                  <a:lnTo>
                    <a:pt x="416" y="534"/>
                  </a:lnTo>
                  <a:lnTo>
                    <a:pt x="430" y="602"/>
                  </a:lnTo>
                  <a:lnTo>
                    <a:pt x="430" y="602"/>
                  </a:lnTo>
                  <a:lnTo>
                    <a:pt x="436" y="626"/>
                  </a:lnTo>
                  <a:lnTo>
                    <a:pt x="436" y="626"/>
                  </a:lnTo>
                  <a:lnTo>
                    <a:pt x="456" y="708"/>
                  </a:lnTo>
                  <a:lnTo>
                    <a:pt x="456" y="708"/>
                  </a:lnTo>
                  <a:lnTo>
                    <a:pt x="466" y="746"/>
                  </a:lnTo>
                  <a:lnTo>
                    <a:pt x="508" y="902"/>
                  </a:lnTo>
                  <a:lnTo>
                    <a:pt x="508" y="902"/>
                  </a:lnTo>
                  <a:lnTo>
                    <a:pt x="576" y="1128"/>
                  </a:lnTo>
                  <a:lnTo>
                    <a:pt x="576" y="1128"/>
                  </a:lnTo>
                  <a:lnTo>
                    <a:pt x="420" y="1196"/>
                  </a:lnTo>
                  <a:lnTo>
                    <a:pt x="348" y="1224"/>
                  </a:lnTo>
                  <a:lnTo>
                    <a:pt x="284" y="1248"/>
                  </a:lnTo>
                  <a:lnTo>
                    <a:pt x="284" y="1248"/>
                  </a:lnTo>
                  <a:lnTo>
                    <a:pt x="274" y="1184"/>
                  </a:lnTo>
                  <a:lnTo>
                    <a:pt x="260" y="1106"/>
                  </a:lnTo>
                  <a:lnTo>
                    <a:pt x="240" y="1014"/>
                  </a:lnTo>
                  <a:lnTo>
                    <a:pt x="216" y="908"/>
                  </a:lnTo>
                  <a:lnTo>
                    <a:pt x="160" y="684"/>
                  </a:lnTo>
                  <a:lnTo>
                    <a:pt x="160" y="684"/>
                  </a:lnTo>
                  <a:lnTo>
                    <a:pt x="144" y="694"/>
                  </a:lnTo>
                  <a:lnTo>
                    <a:pt x="126" y="704"/>
                  </a:lnTo>
                  <a:lnTo>
                    <a:pt x="108" y="712"/>
                  </a:lnTo>
                  <a:lnTo>
                    <a:pt x="88" y="716"/>
                  </a:lnTo>
                  <a:lnTo>
                    <a:pt x="88" y="716"/>
                  </a:lnTo>
                  <a:lnTo>
                    <a:pt x="58" y="722"/>
                  </a:lnTo>
                  <a:lnTo>
                    <a:pt x="26" y="724"/>
                  </a:lnTo>
                  <a:lnTo>
                    <a:pt x="26" y="72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18"/>
            <p:cNvSpPr/>
            <p:nvPr/>
          </p:nvSpPr>
          <p:spPr>
            <a:xfrm>
              <a:off x="4518000" y="11787120"/>
              <a:ext cx="1287360" cy="1463400"/>
            </a:xfrm>
            <a:custGeom>
              <a:avLst/>
              <a:gdLst>
                <a:gd name="textAreaLeft" fmla="*/ 0 w 1287360"/>
                <a:gd name="textAreaRight" fmla="*/ 1287720 w 1287360"/>
                <a:gd name="textAreaTop" fmla="*/ 0 h 1463400"/>
                <a:gd name="textAreaBottom" fmla="*/ 1463760 h 1463400"/>
              </a:gdLst>
              <a:ahLst/>
              <a:rect l="textAreaLeft" t="textAreaTop" r="textAreaRight" b="textAreaBottom"/>
              <a:pathLst>
                <a:path w="811" h="922">
                  <a:moveTo>
                    <a:pt x="188" y="100"/>
                  </a:moveTo>
                  <a:lnTo>
                    <a:pt x="264" y="54"/>
                  </a:lnTo>
                  <a:lnTo>
                    <a:pt x="292" y="172"/>
                  </a:lnTo>
                  <a:lnTo>
                    <a:pt x="292" y="172"/>
                  </a:lnTo>
                  <a:lnTo>
                    <a:pt x="364" y="100"/>
                  </a:lnTo>
                  <a:lnTo>
                    <a:pt x="364" y="100"/>
                  </a:lnTo>
                  <a:lnTo>
                    <a:pt x="398" y="66"/>
                  </a:lnTo>
                  <a:lnTo>
                    <a:pt x="460" y="4"/>
                  </a:lnTo>
                  <a:lnTo>
                    <a:pt x="460" y="4"/>
                  </a:lnTo>
                  <a:lnTo>
                    <a:pt x="498" y="0"/>
                  </a:lnTo>
                  <a:lnTo>
                    <a:pt x="532" y="0"/>
                  </a:lnTo>
                  <a:lnTo>
                    <a:pt x="563" y="0"/>
                  </a:lnTo>
                  <a:lnTo>
                    <a:pt x="587" y="4"/>
                  </a:lnTo>
                  <a:lnTo>
                    <a:pt x="587" y="4"/>
                  </a:lnTo>
                  <a:lnTo>
                    <a:pt x="609" y="8"/>
                  </a:lnTo>
                  <a:lnTo>
                    <a:pt x="629" y="16"/>
                  </a:lnTo>
                  <a:lnTo>
                    <a:pt x="647" y="26"/>
                  </a:lnTo>
                  <a:lnTo>
                    <a:pt x="665" y="40"/>
                  </a:lnTo>
                  <a:lnTo>
                    <a:pt x="665" y="40"/>
                  </a:lnTo>
                  <a:lnTo>
                    <a:pt x="681" y="54"/>
                  </a:lnTo>
                  <a:lnTo>
                    <a:pt x="695" y="68"/>
                  </a:lnTo>
                  <a:lnTo>
                    <a:pt x="705" y="84"/>
                  </a:lnTo>
                  <a:lnTo>
                    <a:pt x="715" y="98"/>
                  </a:lnTo>
                  <a:lnTo>
                    <a:pt x="715" y="98"/>
                  </a:lnTo>
                  <a:lnTo>
                    <a:pt x="723" y="116"/>
                  </a:lnTo>
                  <a:lnTo>
                    <a:pt x="731" y="138"/>
                  </a:lnTo>
                  <a:lnTo>
                    <a:pt x="739" y="166"/>
                  </a:lnTo>
                  <a:lnTo>
                    <a:pt x="747" y="198"/>
                  </a:lnTo>
                  <a:lnTo>
                    <a:pt x="747" y="198"/>
                  </a:lnTo>
                  <a:lnTo>
                    <a:pt x="757" y="242"/>
                  </a:lnTo>
                  <a:lnTo>
                    <a:pt x="765" y="292"/>
                  </a:lnTo>
                  <a:lnTo>
                    <a:pt x="773" y="344"/>
                  </a:lnTo>
                  <a:lnTo>
                    <a:pt x="779" y="402"/>
                  </a:lnTo>
                  <a:lnTo>
                    <a:pt x="779" y="402"/>
                  </a:lnTo>
                  <a:lnTo>
                    <a:pt x="785" y="462"/>
                  </a:lnTo>
                  <a:lnTo>
                    <a:pt x="793" y="518"/>
                  </a:lnTo>
                  <a:lnTo>
                    <a:pt x="801" y="570"/>
                  </a:lnTo>
                  <a:lnTo>
                    <a:pt x="811" y="616"/>
                  </a:lnTo>
                  <a:lnTo>
                    <a:pt x="679" y="758"/>
                  </a:lnTo>
                  <a:lnTo>
                    <a:pt x="659" y="782"/>
                  </a:lnTo>
                  <a:lnTo>
                    <a:pt x="659" y="782"/>
                  </a:lnTo>
                  <a:lnTo>
                    <a:pt x="633" y="812"/>
                  </a:lnTo>
                  <a:lnTo>
                    <a:pt x="607" y="838"/>
                  </a:lnTo>
                  <a:lnTo>
                    <a:pt x="585" y="858"/>
                  </a:lnTo>
                  <a:lnTo>
                    <a:pt x="563" y="874"/>
                  </a:lnTo>
                  <a:lnTo>
                    <a:pt x="563" y="874"/>
                  </a:lnTo>
                  <a:lnTo>
                    <a:pt x="557" y="752"/>
                  </a:lnTo>
                  <a:lnTo>
                    <a:pt x="549" y="644"/>
                  </a:lnTo>
                  <a:lnTo>
                    <a:pt x="542" y="596"/>
                  </a:lnTo>
                  <a:lnTo>
                    <a:pt x="536" y="550"/>
                  </a:lnTo>
                  <a:lnTo>
                    <a:pt x="528" y="510"/>
                  </a:lnTo>
                  <a:lnTo>
                    <a:pt x="520" y="472"/>
                  </a:lnTo>
                  <a:lnTo>
                    <a:pt x="520" y="472"/>
                  </a:lnTo>
                  <a:lnTo>
                    <a:pt x="510" y="432"/>
                  </a:lnTo>
                  <a:lnTo>
                    <a:pt x="498" y="392"/>
                  </a:lnTo>
                  <a:lnTo>
                    <a:pt x="482" y="354"/>
                  </a:lnTo>
                  <a:lnTo>
                    <a:pt x="466" y="318"/>
                  </a:lnTo>
                  <a:lnTo>
                    <a:pt x="448" y="284"/>
                  </a:lnTo>
                  <a:lnTo>
                    <a:pt x="428" y="250"/>
                  </a:lnTo>
                  <a:lnTo>
                    <a:pt x="404" y="220"/>
                  </a:lnTo>
                  <a:lnTo>
                    <a:pt x="380" y="190"/>
                  </a:lnTo>
                  <a:lnTo>
                    <a:pt x="380" y="190"/>
                  </a:lnTo>
                  <a:lnTo>
                    <a:pt x="358" y="230"/>
                  </a:lnTo>
                  <a:lnTo>
                    <a:pt x="346" y="252"/>
                  </a:lnTo>
                  <a:lnTo>
                    <a:pt x="320" y="296"/>
                  </a:lnTo>
                  <a:lnTo>
                    <a:pt x="446" y="812"/>
                  </a:lnTo>
                  <a:lnTo>
                    <a:pt x="446" y="812"/>
                  </a:lnTo>
                  <a:lnTo>
                    <a:pt x="378" y="832"/>
                  </a:lnTo>
                  <a:lnTo>
                    <a:pt x="308" y="858"/>
                  </a:lnTo>
                  <a:lnTo>
                    <a:pt x="238" y="888"/>
                  </a:lnTo>
                  <a:lnTo>
                    <a:pt x="168" y="922"/>
                  </a:lnTo>
                  <a:lnTo>
                    <a:pt x="168" y="922"/>
                  </a:lnTo>
                  <a:lnTo>
                    <a:pt x="156" y="860"/>
                  </a:lnTo>
                  <a:lnTo>
                    <a:pt x="156" y="860"/>
                  </a:lnTo>
                  <a:lnTo>
                    <a:pt x="142" y="794"/>
                  </a:lnTo>
                  <a:lnTo>
                    <a:pt x="136" y="772"/>
                  </a:lnTo>
                  <a:lnTo>
                    <a:pt x="136" y="772"/>
                  </a:lnTo>
                  <a:lnTo>
                    <a:pt x="122" y="720"/>
                  </a:lnTo>
                  <a:lnTo>
                    <a:pt x="72" y="508"/>
                  </a:lnTo>
                  <a:lnTo>
                    <a:pt x="72" y="508"/>
                  </a:lnTo>
                  <a:lnTo>
                    <a:pt x="36" y="356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22" y="208"/>
                  </a:lnTo>
                  <a:lnTo>
                    <a:pt x="22" y="208"/>
                  </a:lnTo>
                  <a:lnTo>
                    <a:pt x="52" y="188"/>
                  </a:lnTo>
                  <a:lnTo>
                    <a:pt x="52" y="188"/>
                  </a:lnTo>
                  <a:lnTo>
                    <a:pt x="88" y="166"/>
                  </a:lnTo>
                  <a:lnTo>
                    <a:pt x="188" y="10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19"/>
            <p:cNvSpPr/>
            <p:nvPr/>
          </p:nvSpPr>
          <p:spPr>
            <a:xfrm>
              <a:off x="5989680" y="11507760"/>
              <a:ext cx="1056960" cy="1317600"/>
            </a:xfrm>
            <a:custGeom>
              <a:avLst/>
              <a:gdLst>
                <a:gd name="textAreaLeft" fmla="*/ 0 w 1056960"/>
                <a:gd name="textAreaRight" fmla="*/ 1057320 w 1056960"/>
                <a:gd name="textAreaTop" fmla="*/ 0 h 1317600"/>
                <a:gd name="textAreaBottom" fmla="*/ 1317960 h 1317600"/>
              </a:gdLst>
              <a:ahLst/>
              <a:rect l="textAreaLeft" t="textAreaTop" r="textAreaRight" b="textAreaBottom"/>
              <a:pathLst>
                <a:path w="666" h="830">
                  <a:moveTo>
                    <a:pt x="0" y="256"/>
                  </a:moveTo>
                  <a:lnTo>
                    <a:pt x="152" y="40"/>
                  </a:lnTo>
                  <a:lnTo>
                    <a:pt x="384" y="4"/>
                  </a:lnTo>
                  <a:lnTo>
                    <a:pt x="384" y="4"/>
                  </a:lnTo>
                  <a:lnTo>
                    <a:pt x="410" y="2"/>
                  </a:lnTo>
                  <a:lnTo>
                    <a:pt x="436" y="0"/>
                  </a:lnTo>
                  <a:lnTo>
                    <a:pt x="460" y="0"/>
                  </a:lnTo>
                  <a:lnTo>
                    <a:pt x="482" y="2"/>
                  </a:lnTo>
                  <a:lnTo>
                    <a:pt x="502" y="6"/>
                  </a:lnTo>
                  <a:lnTo>
                    <a:pt x="520" y="10"/>
                  </a:lnTo>
                  <a:lnTo>
                    <a:pt x="538" y="18"/>
                  </a:lnTo>
                  <a:lnTo>
                    <a:pt x="552" y="26"/>
                  </a:lnTo>
                  <a:lnTo>
                    <a:pt x="552" y="26"/>
                  </a:lnTo>
                  <a:lnTo>
                    <a:pt x="566" y="36"/>
                  </a:lnTo>
                  <a:lnTo>
                    <a:pt x="580" y="48"/>
                  </a:lnTo>
                  <a:lnTo>
                    <a:pt x="590" y="58"/>
                  </a:lnTo>
                  <a:lnTo>
                    <a:pt x="600" y="70"/>
                  </a:lnTo>
                  <a:lnTo>
                    <a:pt x="608" y="82"/>
                  </a:lnTo>
                  <a:lnTo>
                    <a:pt x="616" y="96"/>
                  </a:lnTo>
                  <a:lnTo>
                    <a:pt x="622" y="110"/>
                  </a:lnTo>
                  <a:lnTo>
                    <a:pt x="626" y="124"/>
                  </a:lnTo>
                  <a:lnTo>
                    <a:pt x="626" y="124"/>
                  </a:lnTo>
                  <a:lnTo>
                    <a:pt x="630" y="154"/>
                  </a:lnTo>
                  <a:lnTo>
                    <a:pt x="634" y="194"/>
                  </a:lnTo>
                  <a:lnTo>
                    <a:pt x="634" y="194"/>
                  </a:lnTo>
                  <a:lnTo>
                    <a:pt x="640" y="256"/>
                  </a:lnTo>
                  <a:lnTo>
                    <a:pt x="648" y="342"/>
                  </a:lnTo>
                  <a:lnTo>
                    <a:pt x="648" y="342"/>
                  </a:lnTo>
                  <a:lnTo>
                    <a:pt x="602" y="384"/>
                  </a:lnTo>
                  <a:lnTo>
                    <a:pt x="558" y="416"/>
                  </a:lnTo>
                  <a:lnTo>
                    <a:pt x="522" y="442"/>
                  </a:lnTo>
                  <a:lnTo>
                    <a:pt x="490" y="458"/>
                  </a:lnTo>
                  <a:lnTo>
                    <a:pt x="490" y="458"/>
                  </a:lnTo>
                  <a:lnTo>
                    <a:pt x="462" y="470"/>
                  </a:lnTo>
                  <a:lnTo>
                    <a:pt x="432" y="480"/>
                  </a:lnTo>
                  <a:lnTo>
                    <a:pt x="404" y="490"/>
                  </a:lnTo>
                  <a:lnTo>
                    <a:pt x="376" y="496"/>
                  </a:lnTo>
                  <a:lnTo>
                    <a:pt x="376" y="496"/>
                  </a:lnTo>
                  <a:lnTo>
                    <a:pt x="352" y="500"/>
                  </a:lnTo>
                  <a:lnTo>
                    <a:pt x="322" y="504"/>
                  </a:lnTo>
                  <a:lnTo>
                    <a:pt x="322" y="504"/>
                  </a:lnTo>
                  <a:lnTo>
                    <a:pt x="348" y="524"/>
                  </a:lnTo>
                  <a:lnTo>
                    <a:pt x="374" y="542"/>
                  </a:lnTo>
                  <a:lnTo>
                    <a:pt x="400" y="556"/>
                  </a:lnTo>
                  <a:lnTo>
                    <a:pt x="424" y="568"/>
                  </a:lnTo>
                  <a:lnTo>
                    <a:pt x="446" y="574"/>
                  </a:lnTo>
                  <a:lnTo>
                    <a:pt x="468" y="578"/>
                  </a:lnTo>
                  <a:lnTo>
                    <a:pt x="490" y="578"/>
                  </a:lnTo>
                  <a:lnTo>
                    <a:pt x="510" y="576"/>
                  </a:lnTo>
                  <a:lnTo>
                    <a:pt x="510" y="576"/>
                  </a:lnTo>
                  <a:lnTo>
                    <a:pt x="532" y="570"/>
                  </a:lnTo>
                  <a:lnTo>
                    <a:pt x="554" y="560"/>
                  </a:lnTo>
                  <a:lnTo>
                    <a:pt x="574" y="550"/>
                  </a:lnTo>
                  <a:lnTo>
                    <a:pt x="594" y="536"/>
                  </a:lnTo>
                  <a:lnTo>
                    <a:pt x="612" y="522"/>
                  </a:lnTo>
                  <a:lnTo>
                    <a:pt x="630" y="504"/>
                  </a:lnTo>
                  <a:lnTo>
                    <a:pt x="646" y="484"/>
                  </a:lnTo>
                  <a:lnTo>
                    <a:pt x="660" y="462"/>
                  </a:lnTo>
                  <a:lnTo>
                    <a:pt x="666" y="460"/>
                  </a:lnTo>
                  <a:lnTo>
                    <a:pt x="666" y="460"/>
                  </a:lnTo>
                  <a:lnTo>
                    <a:pt x="664" y="496"/>
                  </a:lnTo>
                  <a:lnTo>
                    <a:pt x="658" y="532"/>
                  </a:lnTo>
                  <a:lnTo>
                    <a:pt x="652" y="564"/>
                  </a:lnTo>
                  <a:lnTo>
                    <a:pt x="644" y="594"/>
                  </a:lnTo>
                  <a:lnTo>
                    <a:pt x="634" y="624"/>
                  </a:lnTo>
                  <a:lnTo>
                    <a:pt x="622" y="650"/>
                  </a:lnTo>
                  <a:lnTo>
                    <a:pt x="610" y="676"/>
                  </a:lnTo>
                  <a:lnTo>
                    <a:pt x="596" y="698"/>
                  </a:lnTo>
                  <a:lnTo>
                    <a:pt x="578" y="720"/>
                  </a:lnTo>
                  <a:lnTo>
                    <a:pt x="560" y="740"/>
                  </a:lnTo>
                  <a:lnTo>
                    <a:pt x="542" y="756"/>
                  </a:lnTo>
                  <a:lnTo>
                    <a:pt x="520" y="772"/>
                  </a:lnTo>
                  <a:lnTo>
                    <a:pt x="498" y="786"/>
                  </a:lnTo>
                  <a:lnTo>
                    <a:pt x="472" y="796"/>
                  </a:lnTo>
                  <a:lnTo>
                    <a:pt x="446" y="806"/>
                  </a:lnTo>
                  <a:lnTo>
                    <a:pt x="418" y="814"/>
                  </a:lnTo>
                  <a:lnTo>
                    <a:pt x="418" y="814"/>
                  </a:lnTo>
                  <a:lnTo>
                    <a:pt x="390" y="820"/>
                  </a:lnTo>
                  <a:lnTo>
                    <a:pt x="364" y="824"/>
                  </a:lnTo>
                  <a:lnTo>
                    <a:pt x="338" y="828"/>
                  </a:lnTo>
                  <a:lnTo>
                    <a:pt x="314" y="830"/>
                  </a:lnTo>
                  <a:lnTo>
                    <a:pt x="294" y="830"/>
                  </a:lnTo>
                  <a:lnTo>
                    <a:pt x="274" y="828"/>
                  </a:lnTo>
                  <a:lnTo>
                    <a:pt x="256" y="824"/>
                  </a:lnTo>
                  <a:lnTo>
                    <a:pt x="238" y="820"/>
                  </a:lnTo>
                  <a:lnTo>
                    <a:pt x="238" y="820"/>
                  </a:lnTo>
                  <a:lnTo>
                    <a:pt x="224" y="812"/>
                  </a:lnTo>
                  <a:lnTo>
                    <a:pt x="210" y="806"/>
                  </a:lnTo>
                  <a:lnTo>
                    <a:pt x="196" y="798"/>
                  </a:lnTo>
                  <a:lnTo>
                    <a:pt x="182" y="788"/>
                  </a:lnTo>
                  <a:lnTo>
                    <a:pt x="168" y="776"/>
                  </a:lnTo>
                  <a:lnTo>
                    <a:pt x="156" y="764"/>
                  </a:lnTo>
                  <a:lnTo>
                    <a:pt x="134" y="736"/>
                  </a:lnTo>
                  <a:lnTo>
                    <a:pt x="134" y="736"/>
                  </a:lnTo>
                  <a:lnTo>
                    <a:pt x="122" y="720"/>
                  </a:lnTo>
                  <a:lnTo>
                    <a:pt x="112" y="700"/>
                  </a:lnTo>
                  <a:lnTo>
                    <a:pt x="102" y="676"/>
                  </a:lnTo>
                  <a:lnTo>
                    <a:pt x="90" y="648"/>
                  </a:lnTo>
                  <a:lnTo>
                    <a:pt x="80" y="616"/>
                  </a:lnTo>
                  <a:lnTo>
                    <a:pt x="68" y="582"/>
                  </a:lnTo>
                  <a:lnTo>
                    <a:pt x="48" y="498"/>
                  </a:lnTo>
                  <a:lnTo>
                    <a:pt x="16" y="344"/>
                  </a:lnTo>
                  <a:lnTo>
                    <a:pt x="0" y="256"/>
                  </a:lnTo>
                  <a:close/>
                  <a:moveTo>
                    <a:pt x="258" y="204"/>
                  </a:moveTo>
                  <a:lnTo>
                    <a:pt x="288" y="428"/>
                  </a:lnTo>
                  <a:lnTo>
                    <a:pt x="288" y="428"/>
                  </a:lnTo>
                  <a:lnTo>
                    <a:pt x="364" y="410"/>
                  </a:lnTo>
                  <a:lnTo>
                    <a:pt x="444" y="386"/>
                  </a:lnTo>
                  <a:lnTo>
                    <a:pt x="444" y="386"/>
                  </a:lnTo>
                  <a:lnTo>
                    <a:pt x="434" y="330"/>
                  </a:lnTo>
                  <a:lnTo>
                    <a:pt x="434" y="330"/>
                  </a:lnTo>
                  <a:lnTo>
                    <a:pt x="428" y="310"/>
                  </a:lnTo>
                  <a:lnTo>
                    <a:pt x="422" y="294"/>
                  </a:lnTo>
                  <a:lnTo>
                    <a:pt x="416" y="278"/>
                  </a:lnTo>
                  <a:lnTo>
                    <a:pt x="408" y="264"/>
                  </a:lnTo>
                  <a:lnTo>
                    <a:pt x="400" y="252"/>
                  </a:lnTo>
                  <a:lnTo>
                    <a:pt x="390" y="242"/>
                  </a:lnTo>
                  <a:lnTo>
                    <a:pt x="380" y="232"/>
                  </a:lnTo>
                  <a:lnTo>
                    <a:pt x="368" y="224"/>
                  </a:lnTo>
                  <a:lnTo>
                    <a:pt x="368" y="224"/>
                  </a:lnTo>
                  <a:lnTo>
                    <a:pt x="356" y="216"/>
                  </a:lnTo>
                  <a:lnTo>
                    <a:pt x="344" y="210"/>
                  </a:lnTo>
                  <a:lnTo>
                    <a:pt x="330" y="206"/>
                  </a:lnTo>
                  <a:lnTo>
                    <a:pt x="316" y="204"/>
                  </a:lnTo>
                  <a:lnTo>
                    <a:pt x="302" y="202"/>
                  </a:lnTo>
                  <a:lnTo>
                    <a:pt x="288" y="202"/>
                  </a:lnTo>
                  <a:lnTo>
                    <a:pt x="274" y="202"/>
                  </a:lnTo>
                  <a:lnTo>
                    <a:pt x="258" y="204"/>
                  </a:lnTo>
                  <a:lnTo>
                    <a:pt x="258" y="20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20"/>
            <p:cNvSpPr/>
            <p:nvPr/>
          </p:nvSpPr>
          <p:spPr>
            <a:xfrm>
              <a:off x="7148520" y="10590120"/>
              <a:ext cx="365040" cy="812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230" h="512">
                  <a:moveTo>
                    <a:pt x="0" y="512"/>
                  </a:moveTo>
                  <a:lnTo>
                    <a:pt x="108" y="44"/>
                  </a:lnTo>
                  <a:lnTo>
                    <a:pt x="230" y="0"/>
                  </a:lnTo>
                  <a:lnTo>
                    <a:pt x="70" y="484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21"/>
            <p:cNvSpPr/>
            <p:nvPr/>
          </p:nvSpPr>
          <p:spPr>
            <a:xfrm>
              <a:off x="8256600" y="10894680"/>
              <a:ext cx="1301760" cy="1390680"/>
            </a:xfrm>
            <a:custGeom>
              <a:avLst/>
              <a:gdLst>
                <a:gd name="textAreaLeft" fmla="*/ 0 w 1301760"/>
                <a:gd name="textAreaRight" fmla="*/ 1302120 w 1301760"/>
                <a:gd name="textAreaTop" fmla="*/ 0 h 1390680"/>
                <a:gd name="textAreaBottom" fmla="*/ 1391040 h 1390680"/>
              </a:gdLst>
              <a:ahLst/>
              <a:rect l="textAreaLeft" t="textAreaTop" r="textAreaRight" b="textAreaBottom"/>
              <a:pathLst>
                <a:path w="820" h="876">
                  <a:moveTo>
                    <a:pt x="182" y="82"/>
                  </a:moveTo>
                  <a:lnTo>
                    <a:pt x="182" y="82"/>
                  </a:lnTo>
                  <a:lnTo>
                    <a:pt x="330" y="58"/>
                  </a:lnTo>
                  <a:lnTo>
                    <a:pt x="330" y="58"/>
                  </a:lnTo>
                  <a:lnTo>
                    <a:pt x="406" y="44"/>
                  </a:lnTo>
                  <a:lnTo>
                    <a:pt x="480" y="30"/>
                  </a:lnTo>
                  <a:lnTo>
                    <a:pt x="554" y="16"/>
                  </a:lnTo>
                  <a:lnTo>
                    <a:pt x="626" y="0"/>
                  </a:lnTo>
                  <a:lnTo>
                    <a:pt x="626" y="0"/>
                  </a:lnTo>
                  <a:lnTo>
                    <a:pt x="622" y="70"/>
                  </a:lnTo>
                  <a:lnTo>
                    <a:pt x="622" y="70"/>
                  </a:lnTo>
                  <a:lnTo>
                    <a:pt x="620" y="122"/>
                  </a:lnTo>
                  <a:lnTo>
                    <a:pt x="622" y="166"/>
                  </a:lnTo>
                  <a:lnTo>
                    <a:pt x="624" y="204"/>
                  </a:lnTo>
                  <a:lnTo>
                    <a:pt x="628" y="232"/>
                  </a:lnTo>
                  <a:lnTo>
                    <a:pt x="628" y="232"/>
                  </a:lnTo>
                  <a:lnTo>
                    <a:pt x="598" y="230"/>
                  </a:lnTo>
                  <a:lnTo>
                    <a:pt x="562" y="228"/>
                  </a:lnTo>
                  <a:lnTo>
                    <a:pt x="520" y="228"/>
                  </a:lnTo>
                  <a:lnTo>
                    <a:pt x="474" y="230"/>
                  </a:lnTo>
                  <a:lnTo>
                    <a:pt x="420" y="234"/>
                  </a:lnTo>
                  <a:lnTo>
                    <a:pt x="362" y="238"/>
                  </a:lnTo>
                  <a:lnTo>
                    <a:pt x="228" y="256"/>
                  </a:lnTo>
                  <a:lnTo>
                    <a:pt x="228" y="256"/>
                  </a:lnTo>
                  <a:lnTo>
                    <a:pt x="236" y="270"/>
                  </a:lnTo>
                  <a:lnTo>
                    <a:pt x="248" y="282"/>
                  </a:lnTo>
                  <a:lnTo>
                    <a:pt x="260" y="294"/>
                  </a:lnTo>
                  <a:lnTo>
                    <a:pt x="272" y="304"/>
                  </a:lnTo>
                  <a:lnTo>
                    <a:pt x="286" y="312"/>
                  </a:lnTo>
                  <a:lnTo>
                    <a:pt x="302" y="320"/>
                  </a:lnTo>
                  <a:lnTo>
                    <a:pt x="318" y="326"/>
                  </a:lnTo>
                  <a:lnTo>
                    <a:pt x="336" y="330"/>
                  </a:lnTo>
                  <a:lnTo>
                    <a:pt x="356" y="334"/>
                  </a:lnTo>
                  <a:lnTo>
                    <a:pt x="376" y="336"/>
                  </a:lnTo>
                  <a:lnTo>
                    <a:pt x="398" y="338"/>
                  </a:lnTo>
                  <a:lnTo>
                    <a:pt x="420" y="336"/>
                  </a:lnTo>
                  <a:lnTo>
                    <a:pt x="468" y="332"/>
                  </a:lnTo>
                  <a:lnTo>
                    <a:pt x="522" y="320"/>
                  </a:lnTo>
                  <a:lnTo>
                    <a:pt x="522" y="320"/>
                  </a:lnTo>
                  <a:lnTo>
                    <a:pt x="578" y="308"/>
                  </a:lnTo>
                  <a:lnTo>
                    <a:pt x="624" y="300"/>
                  </a:lnTo>
                  <a:lnTo>
                    <a:pt x="660" y="294"/>
                  </a:lnTo>
                  <a:lnTo>
                    <a:pt x="688" y="294"/>
                  </a:lnTo>
                  <a:lnTo>
                    <a:pt x="688" y="294"/>
                  </a:lnTo>
                  <a:lnTo>
                    <a:pt x="710" y="296"/>
                  </a:lnTo>
                  <a:lnTo>
                    <a:pt x="730" y="302"/>
                  </a:lnTo>
                  <a:lnTo>
                    <a:pt x="748" y="310"/>
                  </a:lnTo>
                  <a:lnTo>
                    <a:pt x="766" y="322"/>
                  </a:lnTo>
                  <a:lnTo>
                    <a:pt x="766" y="322"/>
                  </a:lnTo>
                  <a:lnTo>
                    <a:pt x="780" y="338"/>
                  </a:lnTo>
                  <a:lnTo>
                    <a:pt x="792" y="360"/>
                  </a:lnTo>
                  <a:lnTo>
                    <a:pt x="804" y="384"/>
                  </a:lnTo>
                  <a:lnTo>
                    <a:pt x="812" y="414"/>
                  </a:lnTo>
                  <a:lnTo>
                    <a:pt x="812" y="414"/>
                  </a:lnTo>
                  <a:lnTo>
                    <a:pt x="818" y="448"/>
                  </a:lnTo>
                  <a:lnTo>
                    <a:pt x="820" y="482"/>
                  </a:lnTo>
                  <a:lnTo>
                    <a:pt x="820" y="516"/>
                  </a:lnTo>
                  <a:lnTo>
                    <a:pt x="816" y="552"/>
                  </a:lnTo>
                  <a:lnTo>
                    <a:pt x="816" y="552"/>
                  </a:lnTo>
                  <a:lnTo>
                    <a:pt x="808" y="586"/>
                  </a:lnTo>
                  <a:lnTo>
                    <a:pt x="798" y="618"/>
                  </a:lnTo>
                  <a:lnTo>
                    <a:pt x="786" y="646"/>
                  </a:lnTo>
                  <a:lnTo>
                    <a:pt x="772" y="672"/>
                  </a:lnTo>
                  <a:lnTo>
                    <a:pt x="772" y="672"/>
                  </a:lnTo>
                  <a:lnTo>
                    <a:pt x="764" y="684"/>
                  </a:lnTo>
                  <a:lnTo>
                    <a:pt x="754" y="696"/>
                  </a:lnTo>
                  <a:lnTo>
                    <a:pt x="742" y="710"/>
                  </a:lnTo>
                  <a:lnTo>
                    <a:pt x="728" y="722"/>
                  </a:lnTo>
                  <a:lnTo>
                    <a:pt x="694" y="748"/>
                  </a:lnTo>
                  <a:lnTo>
                    <a:pt x="652" y="776"/>
                  </a:lnTo>
                  <a:lnTo>
                    <a:pt x="652" y="776"/>
                  </a:lnTo>
                  <a:lnTo>
                    <a:pt x="606" y="802"/>
                  </a:lnTo>
                  <a:lnTo>
                    <a:pt x="558" y="824"/>
                  </a:lnTo>
                  <a:lnTo>
                    <a:pt x="508" y="842"/>
                  </a:lnTo>
                  <a:lnTo>
                    <a:pt x="456" y="856"/>
                  </a:lnTo>
                  <a:lnTo>
                    <a:pt x="456" y="856"/>
                  </a:lnTo>
                  <a:lnTo>
                    <a:pt x="410" y="866"/>
                  </a:lnTo>
                  <a:lnTo>
                    <a:pt x="364" y="872"/>
                  </a:lnTo>
                  <a:lnTo>
                    <a:pt x="322" y="876"/>
                  </a:lnTo>
                  <a:lnTo>
                    <a:pt x="280" y="876"/>
                  </a:lnTo>
                  <a:lnTo>
                    <a:pt x="240" y="874"/>
                  </a:lnTo>
                  <a:lnTo>
                    <a:pt x="200" y="868"/>
                  </a:lnTo>
                  <a:lnTo>
                    <a:pt x="162" y="860"/>
                  </a:lnTo>
                  <a:lnTo>
                    <a:pt x="126" y="848"/>
                  </a:lnTo>
                  <a:lnTo>
                    <a:pt x="126" y="848"/>
                  </a:lnTo>
                  <a:lnTo>
                    <a:pt x="130" y="784"/>
                  </a:lnTo>
                  <a:lnTo>
                    <a:pt x="142" y="706"/>
                  </a:lnTo>
                  <a:lnTo>
                    <a:pt x="142" y="706"/>
                  </a:lnTo>
                  <a:lnTo>
                    <a:pt x="178" y="712"/>
                  </a:lnTo>
                  <a:lnTo>
                    <a:pt x="216" y="716"/>
                  </a:lnTo>
                  <a:lnTo>
                    <a:pt x="254" y="718"/>
                  </a:lnTo>
                  <a:lnTo>
                    <a:pt x="292" y="718"/>
                  </a:lnTo>
                  <a:lnTo>
                    <a:pt x="332" y="716"/>
                  </a:lnTo>
                  <a:lnTo>
                    <a:pt x="372" y="712"/>
                  </a:lnTo>
                  <a:lnTo>
                    <a:pt x="414" y="704"/>
                  </a:lnTo>
                  <a:lnTo>
                    <a:pt x="454" y="696"/>
                  </a:lnTo>
                  <a:lnTo>
                    <a:pt x="454" y="696"/>
                  </a:lnTo>
                  <a:lnTo>
                    <a:pt x="476" y="690"/>
                  </a:lnTo>
                  <a:lnTo>
                    <a:pt x="498" y="682"/>
                  </a:lnTo>
                  <a:lnTo>
                    <a:pt x="518" y="674"/>
                  </a:lnTo>
                  <a:lnTo>
                    <a:pt x="536" y="664"/>
                  </a:lnTo>
                  <a:lnTo>
                    <a:pt x="554" y="652"/>
                  </a:lnTo>
                  <a:lnTo>
                    <a:pt x="572" y="638"/>
                  </a:lnTo>
                  <a:lnTo>
                    <a:pt x="590" y="622"/>
                  </a:lnTo>
                  <a:lnTo>
                    <a:pt x="604" y="606"/>
                  </a:lnTo>
                  <a:lnTo>
                    <a:pt x="604" y="606"/>
                  </a:lnTo>
                  <a:lnTo>
                    <a:pt x="590" y="600"/>
                  </a:lnTo>
                  <a:lnTo>
                    <a:pt x="574" y="596"/>
                  </a:lnTo>
                  <a:lnTo>
                    <a:pt x="560" y="592"/>
                  </a:lnTo>
                  <a:lnTo>
                    <a:pt x="544" y="590"/>
                  </a:lnTo>
                  <a:lnTo>
                    <a:pt x="528" y="588"/>
                  </a:lnTo>
                  <a:lnTo>
                    <a:pt x="514" y="590"/>
                  </a:lnTo>
                  <a:lnTo>
                    <a:pt x="498" y="592"/>
                  </a:lnTo>
                  <a:lnTo>
                    <a:pt x="484" y="594"/>
                  </a:lnTo>
                  <a:lnTo>
                    <a:pt x="484" y="594"/>
                  </a:lnTo>
                  <a:lnTo>
                    <a:pt x="452" y="602"/>
                  </a:lnTo>
                  <a:lnTo>
                    <a:pt x="452" y="602"/>
                  </a:lnTo>
                  <a:lnTo>
                    <a:pt x="406" y="616"/>
                  </a:lnTo>
                  <a:lnTo>
                    <a:pt x="406" y="616"/>
                  </a:lnTo>
                  <a:lnTo>
                    <a:pt x="364" y="624"/>
                  </a:lnTo>
                  <a:lnTo>
                    <a:pt x="326" y="630"/>
                  </a:lnTo>
                  <a:lnTo>
                    <a:pt x="290" y="634"/>
                  </a:lnTo>
                  <a:lnTo>
                    <a:pt x="256" y="636"/>
                  </a:lnTo>
                  <a:lnTo>
                    <a:pt x="222" y="636"/>
                  </a:lnTo>
                  <a:lnTo>
                    <a:pt x="192" y="634"/>
                  </a:lnTo>
                  <a:lnTo>
                    <a:pt x="164" y="628"/>
                  </a:lnTo>
                  <a:lnTo>
                    <a:pt x="138" y="622"/>
                  </a:lnTo>
                  <a:lnTo>
                    <a:pt x="138" y="622"/>
                  </a:lnTo>
                  <a:lnTo>
                    <a:pt x="114" y="612"/>
                  </a:lnTo>
                  <a:lnTo>
                    <a:pt x="94" y="600"/>
                  </a:lnTo>
                  <a:lnTo>
                    <a:pt x="74" y="584"/>
                  </a:lnTo>
                  <a:lnTo>
                    <a:pt x="56" y="566"/>
                  </a:lnTo>
                  <a:lnTo>
                    <a:pt x="42" y="544"/>
                  </a:lnTo>
                  <a:lnTo>
                    <a:pt x="28" y="520"/>
                  </a:lnTo>
                  <a:lnTo>
                    <a:pt x="18" y="492"/>
                  </a:lnTo>
                  <a:lnTo>
                    <a:pt x="10" y="460"/>
                  </a:lnTo>
                  <a:lnTo>
                    <a:pt x="10" y="460"/>
                  </a:lnTo>
                  <a:lnTo>
                    <a:pt x="4" y="436"/>
                  </a:lnTo>
                  <a:lnTo>
                    <a:pt x="0" y="410"/>
                  </a:lnTo>
                  <a:lnTo>
                    <a:pt x="0" y="386"/>
                  </a:lnTo>
                  <a:lnTo>
                    <a:pt x="0" y="364"/>
                  </a:lnTo>
                  <a:lnTo>
                    <a:pt x="2" y="340"/>
                  </a:lnTo>
                  <a:lnTo>
                    <a:pt x="8" y="318"/>
                  </a:lnTo>
                  <a:lnTo>
                    <a:pt x="14" y="298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2" y="256"/>
                  </a:lnTo>
                  <a:lnTo>
                    <a:pt x="44" y="234"/>
                  </a:lnTo>
                  <a:lnTo>
                    <a:pt x="60" y="212"/>
                  </a:lnTo>
                  <a:lnTo>
                    <a:pt x="80" y="188"/>
                  </a:lnTo>
                  <a:lnTo>
                    <a:pt x="100" y="162"/>
                  </a:lnTo>
                  <a:lnTo>
                    <a:pt x="124" y="136"/>
                  </a:lnTo>
                  <a:lnTo>
                    <a:pt x="182" y="82"/>
                  </a:lnTo>
                  <a:lnTo>
                    <a:pt x="182" y="8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22"/>
            <p:cNvSpPr/>
            <p:nvPr/>
          </p:nvSpPr>
          <p:spPr>
            <a:xfrm>
              <a:off x="711360" y="8599320"/>
              <a:ext cx="3324240" cy="2905200"/>
            </a:xfrm>
            <a:custGeom>
              <a:avLst/>
              <a:gdLst>
                <a:gd name="textAreaLeft" fmla="*/ 0 w 3324240"/>
                <a:gd name="textAreaRight" fmla="*/ 3324600 w 3324240"/>
                <a:gd name="textAreaTop" fmla="*/ 0 h 2905200"/>
                <a:gd name="textAreaBottom" fmla="*/ 2905200 h 2905200"/>
              </a:gdLst>
              <a:ahLst/>
              <a:rect l="textAreaLeft" t="textAreaTop" r="textAreaRight" b="textAreaBottom"/>
              <a:pathLst>
                <a:path w="2094" h="1830">
                  <a:moveTo>
                    <a:pt x="1762" y="0"/>
                  </a:moveTo>
                  <a:lnTo>
                    <a:pt x="1762" y="0"/>
                  </a:lnTo>
                  <a:lnTo>
                    <a:pt x="1910" y="8"/>
                  </a:lnTo>
                  <a:lnTo>
                    <a:pt x="1988" y="10"/>
                  </a:lnTo>
                  <a:lnTo>
                    <a:pt x="1988" y="10"/>
                  </a:lnTo>
                  <a:lnTo>
                    <a:pt x="2016" y="66"/>
                  </a:lnTo>
                  <a:lnTo>
                    <a:pt x="2040" y="120"/>
                  </a:lnTo>
                  <a:lnTo>
                    <a:pt x="2058" y="176"/>
                  </a:lnTo>
                  <a:lnTo>
                    <a:pt x="2074" y="232"/>
                  </a:lnTo>
                  <a:lnTo>
                    <a:pt x="2074" y="232"/>
                  </a:lnTo>
                  <a:lnTo>
                    <a:pt x="2082" y="268"/>
                  </a:lnTo>
                  <a:lnTo>
                    <a:pt x="2086" y="302"/>
                  </a:lnTo>
                  <a:lnTo>
                    <a:pt x="2090" y="336"/>
                  </a:lnTo>
                  <a:lnTo>
                    <a:pt x="2094" y="370"/>
                  </a:lnTo>
                  <a:lnTo>
                    <a:pt x="2094" y="404"/>
                  </a:lnTo>
                  <a:lnTo>
                    <a:pt x="2094" y="438"/>
                  </a:lnTo>
                  <a:lnTo>
                    <a:pt x="2090" y="472"/>
                  </a:lnTo>
                  <a:lnTo>
                    <a:pt x="2086" y="506"/>
                  </a:lnTo>
                  <a:lnTo>
                    <a:pt x="2086" y="506"/>
                  </a:lnTo>
                  <a:lnTo>
                    <a:pt x="2048" y="562"/>
                  </a:lnTo>
                  <a:lnTo>
                    <a:pt x="2008" y="626"/>
                  </a:lnTo>
                  <a:lnTo>
                    <a:pt x="2008" y="626"/>
                  </a:lnTo>
                  <a:lnTo>
                    <a:pt x="1968" y="698"/>
                  </a:lnTo>
                  <a:lnTo>
                    <a:pt x="1922" y="786"/>
                  </a:lnTo>
                  <a:lnTo>
                    <a:pt x="1922" y="786"/>
                  </a:lnTo>
                  <a:lnTo>
                    <a:pt x="1878" y="882"/>
                  </a:lnTo>
                  <a:lnTo>
                    <a:pt x="1834" y="982"/>
                  </a:lnTo>
                  <a:lnTo>
                    <a:pt x="1834" y="982"/>
                  </a:lnTo>
                  <a:lnTo>
                    <a:pt x="1800" y="1064"/>
                  </a:lnTo>
                  <a:lnTo>
                    <a:pt x="1768" y="1146"/>
                  </a:lnTo>
                  <a:lnTo>
                    <a:pt x="1736" y="1226"/>
                  </a:lnTo>
                  <a:lnTo>
                    <a:pt x="1708" y="1308"/>
                  </a:lnTo>
                  <a:lnTo>
                    <a:pt x="1680" y="1388"/>
                  </a:lnTo>
                  <a:lnTo>
                    <a:pt x="1654" y="1470"/>
                  </a:lnTo>
                  <a:lnTo>
                    <a:pt x="1628" y="1550"/>
                  </a:lnTo>
                  <a:lnTo>
                    <a:pt x="1606" y="1632"/>
                  </a:lnTo>
                  <a:lnTo>
                    <a:pt x="1380" y="1830"/>
                  </a:lnTo>
                  <a:lnTo>
                    <a:pt x="1260" y="1418"/>
                  </a:lnTo>
                  <a:lnTo>
                    <a:pt x="1260" y="1418"/>
                  </a:lnTo>
                  <a:lnTo>
                    <a:pt x="1230" y="1328"/>
                  </a:lnTo>
                  <a:lnTo>
                    <a:pt x="1202" y="1244"/>
                  </a:lnTo>
                  <a:lnTo>
                    <a:pt x="1174" y="1170"/>
                  </a:lnTo>
                  <a:lnTo>
                    <a:pt x="1144" y="1102"/>
                  </a:lnTo>
                  <a:lnTo>
                    <a:pt x="1144" y="1102"/>
                  </a:lnTo>
                  <a:lnTo>
                    <a:pt x="1114" y="1044"/>
                  </a:lnTo>
                  <a:lnTo>
                    <a:pt x="1084" y="992"/>
                  </a:lnTo>
                  <a:lnTo>
                    <a:pt x="1052" y="944"/>
                  </a:lnTo>
                  <a:lnTo>
                    <a:pt x="1020" y="902"/>
                  </a:lnTo>
                  <a:lnTo>
                    <a:pt x="1020" y="902"/>
                  </a:lnTo>
                  <a:lnTo>
                    <a:pt x="986" y="864"/>
                  </a:lnTo>
                  <a:lnTo>
                    <a:pt x="946" y="826"/>
                  </a:lnTo>
                  <a:lnTo>
                    <a:pt x="902" y="786"/>
                  </a:lnTo>
                  <a:lnTo>
                    <a:pt x="852" y="748"/>
                  </a:lnTo>
                  <a:lnTo>
                    <a:pt x="852" y="748"/>
                  </a:lnTo>
                  <a:lnTo>
                    <a:pt x="810" y="736"/>
                  </a:lnTo>
                  <a:lnTo>
                    <a:pt x="768" y="726"/>
                  </a:lnTo>
                  <a:lnTo>
                    <a:pt x="728" y="718"/>
                  </a:lnTo>
                  <a:lnTo>
                    <a:pt x="686" y="712"/>
                  </a:lnTo>
                  <a:lnTo>
                    <a:pt x="644" y="706"/>
                  </a:lnTo>
                  <a:lnTo>
                    <a:pt x="602" y="702"/>
                  </a:lnTo>
                  <a:lnTo>
                    <a:pt x="560" y="698"/>
                  </a:lnTo>
                  <a:lnTo>
                    <a:pt x="518" y="698"/>
                  </a:lnTo>
                  <a:lnTo>
                    <a:pt x="476" y="698"/>
                  </a:lnTo>
                  <a:lnTo>
                    <a:pt x="434" y="698"/>
                  </a:lnTo>
                  <a:lnTo>
                    <a:pt x="392" y="702"/>
                  </a:lnTo>
                  <a:lnTo>
                    <a:pt x="350" y="706"/>
                  </a:lnTo>
                  <a:lnTo>
                    <a:pt x="306" y="710"/>
                  </a:lnTo>
                  <a:lnTo>
                    <a:pt x="264" y="718"/>
                  </a:lnTo>
                  <a:lnTo>
                    <a:pt x="220" y="726"/>
                  </a:lnTo>
                  <a:lnTo>
                    <a:pt x="178" y="734"/>
                  </a:lnTo>
                  <a:lnTo>
                    <a:pt x="178" y="734"/>
                  </a:lnTo>
                  <a:lnTo>
                    <a:pt x="134" y="746"/>
                  </a:lnTo>
                  <a:lnTo>
                    <a:pt x="90" y="760"/>
                  </a:lnTo>
                  <a:lnTo>
                    <a:pt x="46" y="776"/>
                  </a:lnTo>
                  <a:lnTo>
                    <a:pt x="0" y="794"/>
                  </a:lnTo>
                  <a:lnTo>
                    <a:pt x="0" y="794"/>
                  </a:lnTo>
                  <a:lnTo>
                    <a:pt x="36" y="696"/>
                  </a:lnTo>
                  <a:lnTo>
                    <a:pt x="64" y="612"/>
                  </a:lnTo>
                  <a:lnTo>
                    <a:pt x="86" y="544"/>
                  </a:lnTo>
                  <a:lnTo>
                    <a:pt x="100" y="488"/>
                  </a:lnTo>
                  <a:lnTo>
                    <a:pt x="100" y="488"/>
                  </a:lnTo>
                  <a:lnTo>
                    <a:pt x="140" y="456"/>
                  </a:lnTo>
                  <a:lnTo>
                    <a:pt x="180" y="426"/>
                  </a:lnTo>
                  <a:lnTo>
                    <a:pt x="220" y="400"/>
                  </a:lnTo>
                  <a:lnTo>
                    <a:pt x="262" y="376"/>
                  </a:lnTo>
                  <a:lnTo>
                    <a:pt x="306" y="356"/>
                  </a:lnTo>
                  <a:lnTo>
                    <a:pt x="350" y="338"/>
                  </a:lnTo>
                  <a:lnTo>
                    <a:pt x="394" y="322"/>
                  </a:lnTo>
                  <a:lnTo>
                    <a:pt x="440" y="310"/>
                  </a:lnTo>
                  <a:lnTo>
                    <a:pt x="440" y="310"/>
                  </a:lnTo>
                  <a:lnTo>
                    <a:pt x="484" y="302"/>
                  </a:lnTo>
                  <a:lnTo>
                    <a:pt x="528" y="294"/>
                  </a:lnTo>
                  <a:lnTo>
                    <a:pt x="574" y="290"/>
                  </a:lnTo>
                  <a:lnTo>
                    <a:pt x="620" y="288"/>
                  </a:lnTo>
                  <a:lnTo>
                    <a:pt x="666" y="290"/>
                  </a:lnTo>
                  <a:lnTo>
                    <a:pt x="714" y="292"/>
                  </a:lnTo>
                  <a:lnTo>
                    <a:pt x="762" y="298"/>
                  </a:lnTo>
                  <a:lnTo>
                    <a:pt x="810" y="304"/>
                  </a:lnTo>
                  <a:lnTo>
                    <a:pt x="810" y="304"/>
                  </a:lnTo>
                  <a:lnTo>
                    <a:pt x="860" y="314"/>
                  </a:lnTo>
                  <a:lnTo>
                    <a:pt x="912" y="328"/>
                  </a:lnTo>
                  <a:lnTo>
                    <a:pt x="970" y="344"/>
                  </a:lnTo>
                  <a:lnTo>
                    <a:pt x="1030" y="364"/>
                  </a:lnTo>
                  <a:lnTo>
                    <a:pt x="1030" y="364"/>
                  </a:lnTo>
                  <a:lnTo>
                    <a:pt x="1094" y="388"/>
                  </a:lnTo>
                  <a:lnTo>
                    <a:pt x="1162" y="414"/>
                  </a:lnTo>
                  <a:lnTo>
                    <a:pt x="1232" y="444"/>
                  </a:lnTo>
                  <a:lnTo>
                    <a:pt x="1304" y="478"/>
                  </a:lnTo>
                  <a:lnTo>
                    <a:pt x="1304" y="478"/>
                  </a:lnTo>
                  <a:lnTo>
                    <a:pt x="1328" y="562"/>
                  </a:lnTo>
                  <a:lnTo>
                    <a:pt x="1328" y="562"/>
                  </a:lnTo>
                  <a:lnTo>
                    <a:pt x="1336" y="602"/>
                  </a:lnTo>
                  <a:lnTo>
                    <a:pt x="1348" y="668"/>
                  </a:lnTo>
                  <a:lnTo>
                    <a:pt x="1384" y="882"/>
                  </a:lnTo>
                  <a:lnTo>
                    <a:pt x="1384" y="882"/>
                  </a:lnTo>
                  <a:lnTo>
                    <a:pt x="1428" y="1156"/>
                  </a:lnTo>
                  <a:lnTo>
                    <a:pt x="1472" y="1448"/>
                  </a:lnTo>
                  <a:lnTo>
                    <a:pt x="1472" y="1448"/>
                  </a:lnTo>
                  <a:lnTo>
                    <a:pt x="1522" y="1326"/>
                  </a:lnTo>
                  <a:lnTo>
                    <a:pt x="1570" y="1210"/>
                  </a:lnTo>
                  <a:lnTo>
                    <a:pt x="1618" y="1104"/>
                  </a:lnTo>
                  <a:lnTo>
                    <a:pt x="1666" y="1006"/>
                  </a:lnTo>
                  <a:lnTo>
                    <a:pt x="1716" y="918"/>
                  </a:lnTo>
                  <a:lnTo>
                    <a:pt x="1764" y="838"/>
                  </a:lnTo>
                  <a:lnTo>
                    <a:pt x="1812" y="766"/>
                  </a:lnTo>
                  <a:lnTo>
                    <a:pt x="1836" y="732"/>
                  </a:lnTo>
                  <a:lnTo>
                    <a:pt x="1860" y="702"/>
                  </a:lnTo>
                  <a:lnTo>
                    <a:pt x="1790" y="434"/>
                  </a:lnTo>
                  <a:lnTo>
                    <a:pt x="1628" y="498"/>
                  </a:lnTo>
                  <a:lnTo>
                    <a:pt x="1628" y="498"/>
                  </a:lnTo>
                  <a:lnTo>
                    <a:pt x="1642" y="434"/>
                  </a:lnTo>
                  <a:lnTo>
                    <a:pt x="1666" y="338"/>
                  </a:lnTo>
                  <a:lnTo>
                    <a:pt x="1666" y="338"/>
                  </a:lnTo>
                  <a:lnTo>
                    <a:pt x="1704" y="198"/>
                  </a:lnTo>
                  <a:lnTo>
                    <a:pt x="1762" y="0"/>
                  </a:lnTo>
                  <a:lnTo>
                    <a:pt x="1762" y="0"/>
                  </a:lnTo>
                  <a:close/>
                </a:path>
              </a:pathLst>
            </a:custGeom>
            <a:noFill/>
            <a:ln w="536400">
              <a:solidFill>
                <a:srgbClr val="e843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23"/>
            <p:cNvSpPr/>
            <p:nvPr/>
          </p:nvSpPr>
          <p:spPr>
            <a:xfrm>
              <a:off x="4372200" y="9040680"/>
              <a:ext cx="1303200" cy="1326960"/>
            </a:xfrm>
            <a:custGeom>
              <a:avLst/>
              <a:gdLst>
                <a:gd name="textAreaLeft" fmla="*/ 0 w 1303200"/>
                <a:gd name="textAreaRight" fmla="*/ 1303560 w 1303200"/>
                <a:gd name="textAreaTop" fmla="*/ 0 h 1326960"/>
                <a:gd name="textAreaBottom" fmla="*/ 1327320 h 1326960"/>
              </a:gdLst>
              <a:ahLst/>
              <a:rect l="textAreaLeft" t="textAreaTop" r="textAreaRight" b="textAreaBottom"/>
              <a:pathLst>
                <a:path w="821" h="836">
                  <a:moveTo>
                    <a:pt x="174" y="8"/>
                  </a:moveTo>
                  <a:lnTo>
                    <a:pt x="174" y="8"/>
                  </a:lnTo>
                  <a:lnTo>
                    <a:pt x="334" y="2"/>
                  </a:lnTo>
                  <a:lnTo>
                    <a:pt x="334" y="2"/>
                  </a:lnTo>
                  <a:lnTo>
                    <a:pt x="446" y="0"/>
                  </a:lnTo>
                  <a:lnTo>
                    <a:pt x="484" y="0"/>
                  </a:lnTo>
                  <a:lnTo>
                    <a:pt x="512" y="2"/>
                  </a:lnTo>
                  <a:lnTo>
                    <a:pt x="512" y="2"/>
                  </a:lnTo>
                  <a:lnTo>
                    <a:pt x="532" y="6"/>
                  </a:lnTo>
                  <a:lnTo>
                    <a:pt x="554" y="12"/>
                  </a:lnTo>
                  <a:lnTo>
                    <a:pt x="576" y="20"/>
                  </a:lnTo>
                  <a:lnTo>
                    <a:pt x="598" y="32"/>
                  </a:lnTo>
                  <a:lnTo>
                    <a:pt x="598" y="32"/>
                  </a:lnTo>
                  <a:lnTo>
                    <a:pt x="618" y="46"/>
                  </a:lnTo>
                  <a:lnTo>
                    <a:pt x="639" y="64"/>
                  </a:lnTo>
                  <a:lnTo>
                    <a:pt x="657" y="86"/>
                  </a:lnTo>
                  <a:lnTo>
                    <a:pt x="673" y="112"/>
                  </a:lnTo>
                  <a:lnTo>
                    <a:pt x="673" y="112"/>
                  </a:lnTo>
                  <a:lnTo>
                    <a:pt x="689" y="144"/>
                  </a:lnTo>
                  <a:lnTo>
                    <a:pt x="703" y="180"/>
                  </a:lnTo>
                  <a:lnTo>
                    <a:pt x="717" y="222"/>
                  </a:lnTo>
                  <a:lnTo>
                    <a:pt x="729" y="270"/>
                  </a:lnTo>
                  <a:lnTo>
                    <a:pt x="787" y="534"/>
                  </a:lnTo>
                  <a:lnTo>
                    <a:pt x="787" y="534"/>
                  </a:lnTo>
                  <a:lnTo>
                    <a:pt x="801" y="584"/>
                  </a:lnTo>
                  <a:lnTo>
                    <a:pt x="821" y="642"/>
                  </a:lnTo>
                  <a:lnTo>
                    <a:pt x="821" y="642"/>
                  </a:lnTo>
                  <a:lnTo>
                    <a:pt x="775" y="662"/>
                  </a:lnTo>
                  <a:lnTo>
                    <a:pt x="715" y="694"/>
                  </a:lnTo>
                  <a:lnTo>
                    <a:pt x="641" y="734"/>
                  </a:lnTo>
                  <a:lnTo>
                    <a:pt x="550" y="786"/>
                  </a:lnTo>
                  <a:lnTo>
                    <a:pt x="550" y="786"/>
                  </a:lnTo>
                  <a:lnTo>
                    <a:pt x="540" y="718"/>
                  </a:lnTo>
                  <a:lnTo>
                    <a:pt x="526" y="638"/>
                  </a:lnTo>
                  <a:lnTo>
                    <a:pt x="508" y="546"/>
                  </a:lnTo>
                  <a:lnTo>
                    <a:pt x="486" y="444"/>
                  </a:lnTo>
                  <a:lnTo>
                    <a:pt x="486" y="444"/>
                  </a:lnTo>
                  <a:lnTo>
                    <a:pt x="478" y="464"/>
                  </a:lnTo>
                  <a:lnTo>
                    <a:pt x="466" y="490"/>
                  </a:lnTo>
                  <a:lnTo>
                    <a:pt x="426" y="570"/>
                  </a:lnTo>
                  <a:lnTo>
                    <a:pt x="426" y="570"/>
                  </a:lnTo>
                  <a:lnTo>
                    <a:pt x="364" y="686"/>
                  </a:lnTo>
                  <a:lnTo>
                    <a:pt x="280" y="836"/>
                  </a:lnTo>
                  <a:lnTo>
                    <a:pt x="280" y="836"/>
                  </a:lnTo>
                  <a:lnTo>
                    <a:pt x="230" y="834"/>
                  </a:lnTo>
                  <a:lnTo>
                    <a:pt x="186" y="830"/>
                  </a:lnTo>
                  <a:lnTo>
                    <a:pt x="148" y="824"/>
                  </a:lnTo>
                  <a:lnTo>
                    <a:pt x="116" y="818"/>
                  </a:lnTo>
                  <a:lnTo>
                    <a:pt x="116" y="818"/>
                  </a:lnTo>
                  <a:lnTo>
                    <a:pt x="76" y="716"/>
                  </a:lnTo>
                  <a:lnTo>
                    <a:pt x="76" y="716"/>
                  </a:lnTo>
                  <a:lnTo>
                    <a:pt x="58" y="662"/>
                  </a:lnTo>
                  <a:lnTo>
                    <a:pt x="42" y="612"/>
                  </a:lnTo>
                  <a:lnTo>
                    <a:pt x="26" y="562"/>
                  </a:lnTo>
                  <a:lnTo>
                    <a:pt x="16" y="516"/>
                  </a:lnTo>
                  <a:lnTo>
                    <a:pt x="16" y="516"/>
                  </a:lnTo>
                  <a:lnTo>
                    <a:pt x="8" y="484"/>
                  </a:lnTo>
                  <a:lnTo>
                    <a:pt x="4" y="452"/>
                  </a:lnTo>
                  <a:lnTo>
                    <a:pt x="0" y="422"/>
                  </a:lnTo>
                  <a:lnTo>
                    <a:pt x="0" y="392"/>
                  </a:lnTo>
                  <a:lnTo>
                    <a:pt x="0" y="364"/>
                  </a:lnTo>
                  <a:lnTo>
                    <a:pt x="4" y="336"/>
                  </a:lnTo>
                  <a:lnTo>
                    <a:pt x="8" y="310"/>
                  </a:lnTo>
                  <a:lnTo>
                    <a:pt x="14" y="284"/>
                  </a:lnTo>
                  <a:lnTo>
                    <a:pt x="14" y="284"/>
                  </a:lnTo>
                  <a:lnTo>
                    <a:pt x="24" y="258"/>
                  </a:lnTo>
                  <a:lnTo>
                    <a:pt x="36" y="228"/>
                  </a:lnTo>
                  <a:lnTo>
                    <a:pt x="52" y="198"/>
                  </a:lnTo>
                  <a:lnTo>
                    <a:pt x="70" y="164"/>
                  </a:lnTo>
                  <a:lnTo>
                    <a:pt x="90" y="128"/>
                  </a:lnTo>
                  <a:lnTo>
                    <a:pt x="116" y="90"/>
                  </a:lnTo>
                  <a:lnTo>
                    <a:pt x="144" y="50"/>
                  </a:lnTo>
                  <a:lnTo>
                    <a:pt x="174" y="8"/>
                  </a:lnTo>
                  <a:lnTo>
                    <a:pt x="174" y="8"/>
                  </a:lnTo>
                  <a:close/>
                  <a:moveTo>
                    <a:pt x="222" y="224"/>
                  </a:moveTo>
                  <a:lnTo>
                    <a:pt x="322" y="572"/>
                  </a:lnTo>
                  <a:lnTo>
                    <a:pt x="322" y="572"/>
                  </a:lnTo>
                  <a:lnTo>
                    <a:pt x="356" y="504"/>
                  </a:lnTo>
                  <a:lnTo>
                    <a:pt x="386" y="428"/>
                  </a:lnTo>
                  <a:lnTo>
                    <a:pt x="386" y="428"/>
                  </a:lnTo>
                  <a:lnTo>
                    <a:pt x="412" y="350"/>
                  </a:lnTo>
                  <a:lnTo>
                    <a:pt x="434" y="280"/>
                  </a:lnTo>
                  <a:lnTo>
                    <a:pt x="434" y="280"/>
                  </a:lnTo>
                  <a:lnTo>
                    <a:pt x="416" y="266"/>
                  </a:lnTo>
                  <a:lnTo>
                    <a:pt x="396" y="254"/>
                  </a:lnTo>
                  <a:lnTo>
                    <a:pt x="374" y="244"/>
                  </a:lnTo>
                  <a:lnTo>
                    <a:pt x="350" y="236"/>
                  </a:lnTo>
                  <a:lnTo>
                    <a:pt x="322" y="230"/>
                  </a:lnTo>
                  <a:lnTo>
                    <a:pt x="290" y="226"/>
                  </a:lnTo>
                  <a:lnTo>
                    <a:pt x="258" y="224"/>
                  </a:lnTo>
                  <a:lnTo>
                    <a:pt x="222" y="224"/>
                  </a:lnTo>
                  <a:lnTo>
                    <a:pt x="222" y="224"/>
                  </a:lnTo>
                  <a:close/>
                </a:path>
              </a:pathLst>
            </a:custGeom>
            <a:noFill/>
            <a:ln w="536400">
              <a:solidFill>
                <a:srgbClr val="e843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24"/>
            <p:cNvSpPr/>
            <p:nvPr/>
          </p:nvSpPr>
          <p:spPr>
            <a:xfrm>
              <a:off x="5672160" y="8040600"/>
              <a:ext cx="961920" cy="19652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1965240"/>
                <a:gd name="textAreaBottom" fmla="*/ 1965600 h 1965240"/>
              </a:gdLst>
              <a:ahLst/>
              <a:rect l="textAreaLeft" t="textAreaTop" r="textAreaRight" b="textAreaBottom"/>
              <a:pathLst>
                <a:path w="606" h="1238">
                  <a:moveTo>
                    <a:pt x="0" y="148"/>
                  </a:moveTo>
                  <a:lnTo>
                    <a:pt x="156" y="64"/>
                  </a:lnTo>
                  <a:lnTo>
                    <a:pt x="272" y="0"/>
                  </a:lnTo>
                  <a:lnTo>
                    <a:pt x="392" y="670"/>
                  </a:lnTo>
                  <a:lnTo>
                    <a:pt x="440" y="934"/>
                  </a:lnTo>
                  <a:lnTo>
                    <a:pt x="440" y="934"/>
                  </a:lnTo>
                  <a:lnTo>
                    <a:pt x="518" y="966"/>
                  </a:lnTo>
                  <a:lnTo>
                    <a:pt x="604" y="996"/>
                  </a:lnTo>
                  <a:lnTo>
                    <a:pt x="606" y="1002"/>
                  </a:lnTo>
                  <a:lnTo>
                    <a:pt x="606" y="1002"/>
                  </a:lnTo>
                  <a:lnTo>
                    <a:pt x="568" y="1064"/>
                  </a:lnTo>
                  <a:lnTo>
                    <a:pt x="536" y="1122"/>
                  </a:lnTo>
                  <a:lnTo>
                    <a:pt x="508" y="1182"/>
                  </a:lnTo>
                  <a:lnTo>
                    <a:pt x="482" y="1238"/>
                  </a:lnTo>
                  <a:lnTo>
                    <a:pt x="482" y="1238"/>
                  </a:lnTo>
                  <a:lnTo>
                    <a:pt x="452" y="1238"/>
                  </a:lnTo>
                  <a:lnTo>
                    <a:pt x="424" y="1234"/>
                  </a:lnTo>
                  <a:lnTo>
                    <a:pt x="396" y="1230"/>
                  </a:lnTo>
                  <a:lnTo>
                    <a:pt x="370" y="1222"/>
                  </a:lnTo>
                  <a:lnTo>
                    <a:pt x="346" y="1214"/>
                  </a:lnTo>
                  <a:lnTo>
                    <a:pt x="324" y="1202"/>
                  </a:lnTo>
                  <a:lnTo>
                    <a:pt x="302" y="1188"/>
                  </a:lnTo>
                  <a:lnTo>
                    <a:pt x="282" y="1172"/>
                  </a:lnTo>
                  <a:lnTo>
                    <a:pt x="282" y="1172"/>
                  </a:lnTo>
                  <a:lnTo>
                    <a:pt x="264" y="1154"/>
                  </a:lnTo>
                  <a:lnTo>
                    <a:pt x="248" y="1134"/>
                  </a:lnTo>
                  <a:lnTo>
                    <a:pt x="232" y="1112"/>
                  </a:lnTo>
                  <a:lnTo>
                    <a:pt x="218" y="1086"/>
                  </a:lnTo>
                  <a:lnTo>
                    <a:pt x="204" y="1060"/>
                  </a:lnTo>
                  <a:lnTo>
                    <a:pt x="192" y="1032"/>
                  </a:lnTo>
                  <a:lnTo>
                    <a:pt x="182" y="1000"/>
                  </a:lnTo>
                  <a:lnTo>
                    <a:pt x="174" y="966"/>
                  </a:lnTo>
                  <a:lnTo>
                    <a:pt x="174" y="966"/>
                  </a:lnTo>
                  <a:lnTo>
                    <a:pt x="158" y="894"/>
                  </a:lnTo>
                  <a:lnTo>
                    <a:pt x="138" y="786"/>
                  </a:lnTo>
                  <a:lnTo>
                    <a:pt x="138" y="786"/>
                  </a:lnTo>
                  <a:lnTo>
                    <a:pt x="92" y="566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noFill/>
            <a:ln w="536400">
              <a:solidFill>
                <a:srgbClr val="e843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25"/>
            <p:cNvSpPr/>
            <p:nvPr/>
          </p:nvSpPr>
          <p:spPr>
            <a:xfrm>
              <a:off x="6729480" y="8440560"/>
              <a:ext cx="1056960" cy="1317600"/>
            </a:xfrm>
            <a:custGeom>
              <a:avLst/>
              <a:gdLst>
                <a:gd name="textAreaLeft" fmla="*/ 0 w 1056960"/>
                <a:gd name="textAreaRight" fmla="*/ 1057320 w 1056960"/>
                <a:gd name="textAreaTop" fmla="*/ 0 h 1317600"/>
                <a:gd name="textAreaBottom" fmla="*/ 1317960 h 1317600"/>
              </a:gdLst>
              <a:ahLst/>
              <a:rect l="textAreaLeft" t="textAreaTop" r="textAreaRight" b="textAreaBottom"/>
              <a:pathLst>
                <a:path w="666" h="830">
                  <a:moveTo>
                    <a:pt x="0" y="256"/>
                  </a:moveTo>
                  <a:lnTo>
                    <a:pt x="150" y="40"/>
                  </a:lnTo>
                  <a:lnTo>
                    <a:pt x="382" y="4"/>
                  </a:lnTo>
                  <a:lnTo>
                    <a:pt x="382" y="4"/>
                  </a:lnTo>
                  <a:lnTo>
                    <a:pt x="410" y="2"/>
                  </a:lnTo>
                  <a:lnTo>
                    <a:pt x="436" y="0"/>
                  </a:lnTo>
                  <a:lnTo>
                    <a:pt x="460" y="0"/>
                  </a:lnTo>
                  <a:lnTo>
                    <a:pt x="482" y="2"/>
                  </a:lnTo>
                  <a:lnTo>
                    <a:pt x="502" y="6"/>
                  </a:lnTo>
                  <a:lnTo>
                    <a:pt x="520" y="12"/>
                  </a:lnTo>
                  <a:lnTo>
                    <a:pt x="536" y="18"/>
                  </a:lnTo>
                  <a:lnTo>
                    <a:pt x="552" y="26"/>
                  </a:lnTo>
                  <a:lnTo>
                    <a:pt x="552" y="26"/>
                  </a:lnTo>
                  <a:lnTo>
                    <a:pt x="566" y="36"/>
                  </a:lnTo>
                  <a:lnTo>
                    <a:pt x="578" y="48"/>
                  </a:lnTo>
                  <a:lnTo>
                    <a:pt x="590" y="58"/>
                  </a:lnTo>
                  <a:lnTo>
                    <a:pt x="600" y="70"/>
                  </a:lnTo>
                  <a:lnTo>
                    <a:pt x="608" y="84"/>
                  </a:lnTo>
                  <a:lnTo>
                    <a:pt x="616" y="96"/>
                  </a:lnTo>
                  <a:lnTo>
                    <a:pt x="620" y="110"/>
                  </a:lnTo>
                  <a:lnTo>
                    <a:pt x="626" y="126"/>
                  </a:lnTo>
                  <a:lnTo>
                    <a:pt x="626" y="126"/>
                  </a:lnTo>
                  <a:lnTo>
                    <a:pt x="630" y="156"/>
                  </a:lnTo>
                  <a:lnTo>
                    <a:pt x="634" y="194"/>
                  </a:lnTo>
                  <a:lnTo>
                    <a:pt x="634" y="194"/>
                  </a:lnTo>
                  <a:lnTo>
                    <a:pt x="638" y="256"/>
                  </a:lnTo>
                  <a:lnTo>
                    <a:pt x="648" y="344"/>
                  </a:lnTo>
                  <a:lnTo>
                    <a:pt x="648" y="344"/>
                  </a:lnTo>
                  <a:lnTo>
                    <a:pt x="600" y="384"/>
                  </a:lnTo>
                  <a:lnTo>
                    <a:pt x="558" y="418"/>
                  </a:lnTo>
                  <a:lnTo>
                    <a:pt x="522" y="442"/>
                  </a:lnTo>
                  <a:lnTo>
                    <a:pt x="490" y="458"/>
                  </a:lnTo>
                  <a:lnTo>
                    <a:pt x="490" y="458"/>
                  </a:lnTo>
                  <a:lnTo>
                    <a:pt x="460" y="470"/>
                  </a:lnTo>
                  <a:lnTo>
                    <a:pt x="432" y="480"/>
                  </a:lnTo>
                  <a:lnTo>
                    <a:pt x="404" y="490"/>
                  </a:lnTo>
                  <a:lnTo>
                    <a:pt x="376" y="498"/>
                  </a:lnTo>
                  <a:lnTo>
                    <a:pt x="376" y="498"/>
                  </a:lnTo>
                  <a:lnTo>
                    <a:pt x="352" y="502"/>
                  </a:lnTo>
                  <a:lnTo>
                    <a:pt x="322" y="504"/>
                  </a:lnTo>
                  <a:lnTo>
                    <a:pt x="322" y="504"/>
                  </a:lnTo>
                  <a:lnTo>
                    <a:pt x="348" y="526"/>
                  </a:lnTo>
                  <a:lnTo>
                    <a:pt x="374" y="542"/>
                  </a:lnTo>
                  <a:lnTo>
                    <a:pt x="400" y="558"/>
                  </a:lnTo>
                  <a:lnTo>
                    <a:pt x="422" y="568"/>
                  </a:lnTo>
                  <a:lnTo>
                    <a:pt x="446" y="576"/>
                  </a:lnTo>
                  <a:lnTo>
                    <a:pt x="468" y="580"/>
                  </a:lnTo>
                  <a:lnTo>
                    <a:pt x="490" y="580"/>
                  </a:lnTo>
                  <a:lnTo>
                    <a:pt x="510" y="576"/>
                  </a:lnTo>
                  <a:lnTo>
                    <a:pt x="510" y="576"/>
                  </a:lnTo>
                  <a:lnTo>
                    <a:pt x="532" y="570"/>
                  </a:lnTo>
                  <a:lnTo>
                    <a:pt x="554" y="562"/>
                  </a:lnTo>
                  <a:lnTo>
                    <a:pt x="574" y="550"/>
                  </a:lnTo>
                  <a:lnTo>
                    <a:pt x="594" y="538"/>
                  </a:lnTo>
                  <a:lnTo>
                    <a:pt x="612" y="522"/>
                  </a:lnTo>
                  <a:lnTo>
                    <a:pt x="628" y="504"/>
                  </a:lnTo>
                  <a:lnTo>
                    <a:pt x="644" y="484"/>
                  </a:lnTo>
                  <a:lnTo>
                    <a:pt x="660" y="462"/>
                  </a:lnTo>
                  <a:lnTo>
                    <a:pt x="666" y="460"/>
                  </a:lnTo>
                  <a:lnTo>
                    <a:pt x="666" y="460"/>
                  </a:lnTo>
                  <a:lnTo>
                    <a:pt x="662" y="498"/>
                  </a:lnTo>
                  <a:lnTo>
                    <a:pt x="658" y="532"/>
                  </a:lnTo>
                  <a:lnTo>
                    <a:pt x="652" y="564"/>
                  </a:lnTo>
                  <a:lnTo>
                    <a:pt x="644" y="596"/>
                  </a:lnTo>
                  <a:lnTo>
                    <a:pt x="634" y="624"/>
                  </a:lnTo>
                  <a:lnTo>
                    <a:pt x="622" y="652"/>
                  </a:lnTo>
                  <a:lnTo>
                    <a:pt x="610" y="676"/>
                  </a:lnTo>
                  <a:lnTo>
                    <a:pt x="594" y="700"/>
                  </a:lnTo>
                  <a:lnTo>
                    <a:pt x="578" y="720"/>
                  </a:lnTo>
                  <a:lnTo>
                    <a:pt x="560" y="740"/>
                  </a:lnTo>
                  <a:lnTo>
                    <a:pt x="540" y="758"/>
                  </a:lnTo>
                  <a:lnTo>
                    <a:pt x="520" y="772"/>
                  </a:lnTo>
                  <a:lnTo>
                    <a:pt x="496" y="786"/>
                  </a:lnTo>
                  <a:lnTo>
                    <a:pt x="472" y="798"/>
                  </a:lnTo>
                  <a:lnTo>
                    <a:pt x="446" y="806"/>
                  </a:lnTo>
                  <a:lnTo>
                    <a:pt x="418" y="814"/>
                  </a:lnTo>
                  <a:lnTo>
                    <a:pt x="418" y="814"/>
                  </a:lnTo>
                  <a:lnTo>
                    <a:pt x="390" y="820"/>
                  </a:lnTo>
                  <a:lnTo>
                    <a:pt x="362" y="826"/>
                  </a:lnTo>
                  <a:lnTo>
                    <a:pt x="338" y="828"/>
                  </a:lnTo>
                  <a:lnTo>
                    <a:pt x="314" y="830"/>
                  </a:lnTo>
                  <a:lnTo>
                    <a:pt x="292" y="830"/>
                  </a:lnTo>
                  <a:lnTo>
                    <a:pt x="272" y="828"/>
                  </a:lnTo>
                  <a:lnTo>
                    <a:pt x="254" y="824"/>
                  </a:lnTo>
                  <a:lnTo>
                    <a:pt x="238" y="820"/>
                  </a:lnTo>
                  <a:lnTo>
                    <a:pt x="238" y="820"/>
                  </a:lnTo>
                  <a:lnTo>
                    <a:pt x="224" y="814"/>
                  </a:lnTo>
                  <a:lnTo>
                    <a:pt x="208" y="806"/>
                  </a:lnTo>
                  <a:lnTo>
                    <a:pt x="194" y="798"/>
                  </a:lnTo>
                  <a:lnTo>
                    <a:pt x="182" y="788"/>
                  </a:lnTo>
                  <a:lnTo>
                    <a:pt x="168" y="778"/>
                  </a:lnTo>
                  <a:lnTo>
                    <a:pt x="156" y="766"/>
                  </a:lnTo>
                  <a:lnTo>
                    <a:pt x="134" y="738"/>
                  </a:lnTo>
                  <a:lnTo>
                    <a:pt x="134" y="738"/>
                  </a:lnTo>
                  <a:lnTo>
                    <a:pt x="122" y="722"/>
                  </a:lnTo>
                  <a:lnTo>
                    <a:pt x="112" y="700"/>
                  </a:lnTo>
                  <a:lnTo>
                    <a:pt x="100" y="676"/>
                  </a:lnTo>
                  <a:lnTo>
                    <a:pt x="90" y="648"/>
                  </a:lnTo>
                  <a:lnTo>
                    <a:pt x="78" y="618"/>
                  </a:lnTo>
                  <a:lnTo>
                    <a:pt x="68" y="582"/>
                  </a:lnTo>
                  <a:lnTo>
                    <a:pt x="48" y="500"/>
                  </a:lnTo>
                  <a:lnTo>
                    <a:pt x="16" y="344"/>
                  </a:lnTo>
                  <a:lnTo>
                    <a:pt x="0" y="256"/>
                  </a:lnTo>
                  <a:close/>
                  <a:moveTo>
                    <a:pt x="258" y="206"/>
                  </a:moveTo>
                  <a:lnTo>
                    <a:pt x="288" y="430"/>
                  </a:lnTo>
                  <a:lnTo>
                    <a:pt x="288" y="430"/>
                  </a:lnTo>
                  <a:lnTo>
                    <a:pt x="364" y="410"/>
                  </a:lnTo>
                  <a:lnTo>
                    <a:pt x="444" y="386"/>
                  </a:lnTo>
                  <a:lnTo>
                    <a:pt x="444" y="386"/>
                  </a:lnTo>
                  <a:lnTo>
                    <a:pt x="432" y="330"/>
                  </a:lnTo>
                  <a:lnTo>
                    <a:pt x="432" y="330"/>
                  </a:lnTo>
                  <a:lnTo>
                    <a:pt x="428" y="312"/>
                  </a:lnTo>
                  <a:lnTo>
                    <a:pt x="422" y="294"/>
                  </a:lnTo>
                  <a:lnTo>
                    <a:pt x="416" y="280"/>
                  </a:lnTo>
                  <a:lnTo>
                    <a:pt x="408" y="266"/>
                  </a:lnTo>
                  <a:lnTo>
                    <a:pt x="398" y="252"/>
                  </a:lnTo>
                  <a:lnTo>
                    <a:pt x="390" y="242"/>
                  </a:lnTo>
                  <a:lnTo>
                    <a:pt x="380" y="232"/>
                  </a:lnTo>
                  <a:lnTo>
                    <a:pt x="368" y="224"/>
                  </a:lnTo>
                  <a:lnTo>
                    <a:pt x="368" y="224"/>
                  </a:lnTo>
                  <a:lnTo>
                    <a:pt x="356" y="218"/>
                  </a:lnTo>
                  <a:lnTo>
                    <a:pt x="342" y="212"/>
                  </a:lnTo>
                  <a:lnTo>
                    <a:pt x="330" y="208"/>
                  </a:lnTo>
                  <a:lnTo>
                    <a:pt x="316" y="204"/>
                  </a:lnTo>
                  <a:lnTo>
                    <a:pt x="302" y="202"/>
                  </a:lnTo>
                  <a:lnTo>
                    <a:pt x="288" y="202"/>
                  </a:lnTo>
                  <a:lnTo>
                    <a:pt x="274" y="202"/>
                  </a:lnTo>
                  <a:lnTo>
                    <a:pt x="258" y="206"/>
                  </a:lnTo>
                  <a:lnTo>
                    <a:pt x="258" y="206"/>
                  </a:lnTo>
                  <a:close/>
                </a:path>
              </a:pathLst>
            </a:custGeom>
            <a:noFill/>
            <a:ln w="536400">
              <a:solidFill>
                <a:srgbClr val="e843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26"/>
            <p:cNvSpPr/>
            <p:nvPr/>
          </p:nvSpPr>
          <p:spPr>
            <a:xfrm>
              <a:off x="7942320" y="8091360"/>
              <a:ext cx="1285560" cy="1466640"/>
            </a:xfrm>
            <a:custGeom>
              <a:avLst/>
              <a:gdLst>
                <a:gd name="textAreaLeft" fmla="*/ 0 w 1285560"/>
                <a:gd name="textAreaRight" fmla="*/ 1285920 w 1285560"/>
                <a:gd name="textAreaTop" fmla="*/ 0 h 1466640"/>
                <a:gd name="textAreaBottom" fmla="*/ 1467000 h 1466640"/>
              </a:gdLst>
              <a:ahLst/>
              <a:rect l="textAreaLeft" t="textAreaTop" r="textAreaRight" b="textAreaBottom"/>
              <a:pathLst>
                <a:path w="810" h="924">
                  <a:moveTo>
                    <a:pt x="188" y="102"/>
                  </a:moveTo>
                  <a:lnTo>
                    <a:pt x="264" y="56"/>
                  </a:lnTo>
                  <a:lnTo>
                    <a:pt x="292" y="174"/>
                  </a:lnTo>
                  <a:lnTo>
                    <a:pt x="292" y="174"/>
                  </a:lnTo>
                  <a:lnTo>
                    <a:pt x="364" y="102"/>
                  </a:lnTo>
                  <a:lnTo>
                    <a:pt x="364" y="102"/>
                  </a:lnTo>
                  <a:lnTo>
                    <a:pt x="398" y="68"/>
                  </a:lnTo>
                  <a:lnTo>
                    <a:pt x="458" y="4"/>
                  </a:lnTo>
                  <a:lnTo>
                    <a:pt x="458" y="4"/>
                  </a:lnTo>
                  <a:lnTo>
                    <a:pt x="498" y="2"/>
                  </a:lnTo>
                  <a:lnTo>
                    <a:pt x="532" y="0"/>
                  </a:lnTo>
                  <a:lnTo>
                    <a:pt x="560" y="2"/>
                  </a:lnTo>
                  <a:lnTo>
                    <a:pt x="586" y="4"/>
                  </a:lnTo>
                  <a:lnTo>
                    <a:pt x="586" y="4"/>
                  </a:lnTo>
                  <a:lnTo>
                    <a:pt x="608" y="10"/>
                  </a:lnTo>
                  <a:lnTo>
                    <a:pt x="628" y="18"/>
                  </a:lnTo>
                  <a:lnTo>
                    <a:pt x="646" y="28"/>
                  </a:lnTo>
                  <a:lnTo>
                    <a:pt x="664" y="40"/>
                  </a:lnTo>
                  <a:lnTo>
                    <a:pt x="664" y="40"/>
                  </a:lnTo>
                  <a:lnTo>
                    <a:pt x="680" y="54"/>
                  </a:lnTo>
                  <a:lnTo>
                    <a:pt x="692" y="70"/>
                  </a:lnTo>
                  <a:lnTo>
                    <a:pt x="704" y="84"/>
                  </a:lnTo>
                  <a:lnTo>
                    <a:pt x="714" y="100"/>
                  </a:lnTo>
                  <a:lnTo>
                    <a:pt x="714" y="100"/>
                  </a:lnTo>
                  <a:lnTo>
                    <a:pt x="722" y="116"/>
                  </a:lnTo>
                  <a:lnTo>
                    <a:pt x="730" y="138"/>
                  </a:lnTo>
                  <a:lnTo>
                    <a:pt x="738" y="166"/>
                  </a:lnTo>
                  <a:lnTo>
                    <a:pt x="746" y="200"/>
                  </a:lnTo>
                  <a:lnTo>
                    <a:pt x="746" y="200"/>
                  </a:lnTo>
                  <a:lnTo>
                    <a:pt x="756" y="244"/>
                  </a:lnTo>
                  <a:lnTo>
                    <a:pt x="764" y="292"/>
                  </a:lnTo>
                  <a:lnTo>
                    <a:pt x="772" y="346"/>
                  </a:lnTo>
                  <a:lnTo>
                    <a:pt x="778" y="402"/>
                  </a:lnTo>
                  <a:lnTo>
                    <a:pt x="778" y="402"/>
                  </a:lnTo>
                  <a:lnTo>
                    <a:pt x="784" y="464"/>
                  </a:lnTo>
                  <a:lnTo>
                    <a:pt x="792" y="518"/>
                  </a:lnTo>
                  <a:lnTo>
                    <a:pt x="800" y="570"/>
                  </a:lnTo>
                  <a:lnTo>
                    <a:pt x="810" y="616"/>
                  </a:lnTo>
                  <a:lnTo>
                    <a:pt x="678" y="760"/>
                  </a:lnTo>
                  <a:lnTo>
                    <a:pt x="658" y="782"/>
                  </a:lnTo>
                  <a:lnTo>
                    <a:pt x="658" y="782"/>
                  </a:lnTo>
                  <a:lnTo>
                    <a:pt x="630" y="812"/>
                  </a:lnTo>
                  <a:lnTo>
                    <a:pt x="606" y="838"/>
                  </a:lnTo>
                  <a:lnTo>
                    <a:pt x="584" y="860"/>
                  </a:lnTo>
                  <a:lnTo>
                    <a:pt x="562" y="876"/>
                  </a:lnTo>
                  <a:lnTo>
                    <a:pt x="562" y="876"/>
                  </a:lnTo>
                  <a:lnTo>
                    <a:pt x="556" y="752"/>
                  </a:lnTo>
                  <a:lnTo>
                    <a:pt x="548" y="644"/>
                  </a:lnTo>
                  <a:lnTo>
                    <a:pt x="542" y="596"/>
                  </a:lnTo>
                  <a:lnTo>
                    <a:pt x="536" y="552"/>
                  </a:lnTo>
                  <a:lnTo>
                    <a:pt x="528" y="512"/>
                  </a:lnTo>
                  <a:lnTo>
                    <a:pt x="520" y="474"/>
                  </a:lnTo>
                  <a:lnTo>
                    <a:pt x="520" y="474"/>
                  </a:lnTo>
                  <a:lnTo>
                    <a:pt x="510" y="432"/>
                  </a:lnTo>
                  <a:lnTo>
                    <a:pt x="496" y="392"/>
                  </a:lnTo>
                  <a:lnTo>
                    <a:pt x="482" y="354"/>
                  </a:lnTo>
                  <a:lnTo>
                    <a:pt x="466" y="318"/>
                  </a:lnTo>
                  <a:lnTo>
                    <a:pt x="448" y="284"/>
                  </a:lnTo>
                  <a:lnTo>
                    <a:pt x="426" y="252"/>
                  </a:lnTo>
                  <a:lnTo>
                    <a:pt x="404" y="220"/>
                  </a:lnTo>
                  <a:lnTo>
                    <a:pt x="380" y="192"/>
                  </a:lnTo>
                  <a:lnTo>
                    <a:pt x="380" y="192"/>
                  </a:lnTo>
                  <a:lnTo>
                    <a:pt x="358" y="232"/>
                  </a:lnTo>
                  <a:lnTo>
                    <a:pt x="346" y="252"/>
                  </a:lnTo>
                  <a:lnTo>
                    <a:pt x="320" y="298"/>
                  </a:lnTo>
                  <a:lnTo>
                    <a:pt x="446" y="814"/>
                  </a:lnTo>
                  <a:lnTo>
                    <a:pt x="446" y="814"/>
                  </a:lnTo>
                  <a:lnTo>
                    <a:pt x="376" y="834"/>
                  </a:lnTo>
                  <a:lnTo>
                    <a:pt x="308" y="860"/>
                  </a:lnTo>
                  <a:lnTo>
                    <a:pt x="238" y="890"/>
                  </a:lnTo>
                  <a:lnTo>
                    <a:pt x="168" y="924"/>
                  </a:lnTo>
                  <a:lnTo>
                    <a:pt x="168" y="924"/>
                  </a:lnTo>
                  <a:lnTo>
                    <a:pt x="154" y="862"/>
                  </a:lnTo>
                  <a:lnTo>
                    <a:pt x="154" y="862"/>
                  </a:lnTo>
                  <a:lnTo>
                    <a:pt x="142" y="794"/>
                  </a:lnTo>
                  <a:lnTo>
                    <a:pt x="136" y="774"/>
                  </a:lnTo>
                  <a:lnTo>
                    <a:pt x="136" y="774"/>
                  </a:lnTo>
                  <a:lnTo>
                    <a:pt x="122" y="722"/>
                  </a:lnTo>
                  <a:lnTo>
                    <a:pt x="72" y="510"/>
                  </a:lnTo>
                  <a:lnTo>
                    <a:pt x="72" y="510"/>
                  </a:lnTo>
                  <a:lnTo>
                    <a:pt x="34" y="358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22" y="208"/>
                  </a:lnTo>
                  <a:lnTo>
                    <a:pt x="22" y="208"/>
                  </a:lnTo>
                  <a:lnTo>
                    <a:pt x="52" y="190"/>
                  </a:lnTo>
                  <a:lnTo>
                    <a:pt x="52" y="190"/>
                  </a:lnTo>
                  <a:lnTo>
                    <a:pt x="88" y="166"/>
                  </a:lnTo>
                  <a:lnTo>
                    <a:pt x="188" y="102"/>
                  </a:lnTo>
                  <a:close/>
                </a:path>
              </a:pathLst>
            </a:custGeom>
            <a:noFill/>
            <a:ln w="536400">
              <a:solidFill>
                <a:srgbClr val="e843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27"/>
            <p:cNvSpPr/>
            <p:nvPr/>
          </p:nvSpPr>
          <p:spPr>
            <a:xfrm>
              <a:off x="1467000" y="12993480"/>
              <a:ext cx="920520" cy="33948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580" h="214">
                  <a:moveTo>
                    <a:pt x="16" y="214"/>
                  </a:moveTo>
                  <a:lnTo>
                    <a:pt x="0" y="138"/>
                  </a:lnTo>
                  <a:lnTo>
                    <a:pt x="556" y="0"/>
                  </a:lnTo>
                  <a:lnTo>
                    <a:pt x="580" y="104"/>
                  </a:lnTo>
                  <a:lnTo>
                    <a:pt x="16" y="214"/>
                  </a:lnTo>
                  <a:close/>
                </a:path>
              </a:pathLst>
            </a:custGeom>
            <a:noFill/>
            <a:ln w="536400">
              <a:solidFill>
                <a:srgbClr val="e843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28"/>
            <p:cNvSpPr/>
            <p:nvPr/>
          </p:nvSpPr>
          <p:spPr>
            <a:xfrm>
              <a:off x="2530440" y="12148920"/>
              <a:ext cx="898200" cy="1469880"/>
            </a:xfrm>
            <a:custGeom>
              <a:avLst/>
              <a:gdLst>
                <a:gd name="textAreaLeft" fmla="*/ 0 w 898200"/>
                <a:gd name="textAreaRight" fmla="*/ 898560 w 898200"/>
                <a:gd name="textAreaTop" fmla="*/ 0 h 1469880"/>
                <a:gd name="textAreaBottom" fmla="*/ 1470240 h 1469880"/>
              </a:gdLst>
              <a:ahLst/>
              <a:rect l="textAreaLeft" t="textAreaTop" r="textAreaRight" b="textAreaBottom"/>
              <a:pathLst>
                <a:path w="566" h="926">
                  <a:moveTo>
                    <a:pt x="36" y="164"/>
                  </a:moveTo>
                  <a:lnTo>
                    <a:pt x="18" y="90"/>
                  </a:lnTo>
                  <a:lnTo>
                    <a:pt x="18" y="90"/>
                  </a:lnTo>
                  <a:lnTo>
                    <a:pt x="96" y="64"/>
                  </a:lnTo>
                  <a:lnTo>
                    <a:pt x="96" y="64"/>
                  </a:lnTo>
                  <a:lnTo>
                    <a:pt x="196" y="26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76" y="30"/>
                  </a:lnTo>
                  <a:lnTo>
                    <a:pt x="276" y="30"/>
                  </a:lnTo>
                  <a:lnTo>
                    <a:pt x="284" y="68"/>
                  </a:lnTo>
                  <a:lnTo>
                    <a:pt x="292" y="126"/>
                  </a:lnTo>
                  <a:lnTo>
                    <a:pt x="292" y="126"/>
                  </a:lnTo>
                  <a:lnTo>
                    <a:pt x="334" y="118"/>
                  </a:lnTo>
                  <a:lnTo>
                    <a:pt x="400" y="104"/>
                  </a:lnTo>
                  <a:lnTo>
                    <a:pt x="400" y="104"/>
                  </a:lnTo>
                  <a:lnTo>
                    <a:pt x="446" y="92"/>
                  </a:lnTo>
                  <a:lnTo>
                    <a:pt x="474" y="84"/>
                  </a:lnTo>
                  <a:lnTo>
                    <a:pt x="474" y="84"/>
                  </a:lnTo>
                  <a:lnTo>
                    <a:pt x="482" y="204"/>
                  </a:lnTo>
                  <a:lnTo>
                    <a:pt x="484" y="262"/>
                  </a:lnTo>
                  <a:lnTo>
                    <a:pt x="484" y="262"/>
                  </a:lnTo>
                  <a:lnTo>
                    <a:pt x="454" y="274"/>
                  </a:lnTo>
                  <a:lnTo>
                    <a:pt x="418" y="286"/>
                  </a:lnTo>
                  <a:lnTo>
                    <a:pt x="330" y="312"/>
                  </a:lnTo>
                  <a:lnTo>
                    <a:pt x="330" y="312"/>
                  </a:lnTo>
                  <a:lnTo>
                    <a:pt x="352" y="426"/>
                  </a:lnTo>
                  <a:lnTo>
                    <a:pt x="368" y="496"/>
                  </a:lnTo>
                  <a:lnTo>
                    <a:pt x="368" y="496"/>
                  </a:lnTo>
                  <a:lnTo>
                    <a:pt x="378" y="532"/>
                  </a:lnTo>
                  <a:lnTo>
                    <a:pt x="384" y="548"/>
                  </a:lnTo>
                  <a:lnTo>
                    <a:pt x="392" y="564"/>
                  </a:lnTo>
                  <a:lnTo>
                    <a:pt x="400" y="578"/>
                  </a:lnTo>
                  <a:lnTo>
                    <a:pt x="410" y="590"/>
                  </a:lnTo>
                  <a:lnTo>
                    <a:pt x="420" y="602"/>
                  </a:lnTo>
                  <a:lnTo>
                    <a:pt x="432" y="612"/>
                  </a:lnTo>
                  <a:lnTo>
                    <a:pt x="432" y="612"/>
                  </a:lnTo>
                  <a:lnTo>
                    <a:pt x="442" y="620"/>
                  </a:lnTo>
                  <a:lnTo>
                    <a:pt x="456" y="628"/>
                  </a:lnTo>
                  <a:lnTo>
                    <a:pt x="470" y="636"/>
                  </a:lnTo>
                  <a:lnTo>
                    <a:pt x="486" y="642"/>
                  </a:lnTo>
                  <a:lnTo>
                    <a:pt x="504" y="646"/>
                  </a:lnTo>
                  <a:lnTo>
                    <a:pt x="524" y="650"/>
                  </a:lnTo>
                  <a:lnTo>
                    <a:pt x="566" y="656"/>
                  </a:lnTo>
                  <a:lnTo>
                    <a:pt x="474" y="926"/>
                  </a:lnTo>
                  <a:lnTo>
                    <a:pt x="474" y="926"/>
                  </a:lnTo>
                  <a:lnTo>
                    <a:pt x="438" y="922"/>
                  </a:lnTo>
                  <a:lnTo>
                    <a:pt x="404" y="918"/>
                  </a:lnTo>
                  <a:lnTo>
                    <a:pt x="372" y="912"/>
                  </a:lnTo>
                  <a:lnTo>
                    <a:pt x="342" y="904"/>
                  </a:lnTo>
                  <a:lnTo>
                    <a:pt x="314" y="896"/>
                  </a:lnTo>
                  <a:lnTo>
                    <a:pt x="286" y="884"/>
                  </a:lnTo>
                  <a:lnTo>
                    <a:pt x="262" y="872"/>
                  </a:lnTo>
                  <a:lnTo>
                    <a:pt x="240" y="858"/>
                  </a:lnTo>
                  <a:lnTo>
                    <a:pt x="218" y="842"/>
                  </a:lnTo>
                  <a:lnTo>
                    <a:pt x="200" y="824"/>
                  </a:lnTo>
                  <a:lnTo>
                    <a:pt x="184" y="806"/>
                  </a:lnTo>
                  <a:lnTo>
                    <a:pt x="168" y="786"/>
                  </a:lnTo>
                  <a:lnTo>
                    <a:pt x="154" y="762"/>
                  </a:lnTo>
                  <a:lnTo>
                    <a:pt x="144" y="740"/>
                  </a:lnTo>
                  <a:lnTo>
                    <a:pt x="134" y="714"/>
                  </a:lnTo>
                  <a:lnTo>
                    <a:pt x="126" y="686"/>
                  </a:lnTo>
                  <a:lnTo>
                    <a:pt x="126" y="686"/>
                  </a:lnTo>
                  <a:lnTo>
                    <a:pt x="118" y="632"/>
                  </a:lnTo>
                  <a:lnTo>
                    <a:pt x="106" y="542"/>
                  </a:lnTo>
                  <a:lnTo>
                    <a:pt x="106" y="542"/>
                  </a:lnTo>
                  <a:lnTo>
                    <a:pt x="94" y="450"/>
                  </a:lnTo>
                  <a:lnTo>
                    <a:pt x="84" y="392"/>
                  </a:lnTo>
                  <a:lnTo>
                    <a:pt x="84" y="392"/>
                  </a:lnTo>
                  <a:lnTo>
                    <a:pt x="44" y="406"/>
                  </a:lnTo>
                  <a:lnTo>
                    <a:pt x="0" y="424"/>
                  </a:lnTo>
                  <a:lnTo>
                    <a:pt x="52" y="238"/>
                  </a:lnTo>
                  <a:lnTo>
                    <a:pt x="48" y="220"/>
                  </a:lnTo>
                  <a:lnTo>
                    <a:pt x="36" y="164"/>
                  </a:lnTo>
                  <a:close/>
                </a:path>
              </a:pathLst>
            </a:custGeom>
            <a:noFill/>
            <a:ln w="536400">
              <a:solidFill>
                <a:srgbClr val="e843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29"/>
            <p:cNvSpPr/>
            <p:nvPr/>
          </p:nvSpPr>
          <p:spPr>
            <a:xfrm>
              <a:off x="3498840" y="11475720"/>
              <a:ext cx="914400" cy="1981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76" h="1248">
                  <a:moveTo>
                    <a:pt x="122" y="4"/>
                  </a:moveTo>
                  <a:lnTo>
                    <a:pt x="122" y="4"/>
                  </a:lnTo>
                  <a:lnTo>
                    <a:pt x="136" y="2"/>
                  </a:lnTo>
                  <a:lnTo>
                    <a:pt x="152" y="0"/>
                  </a:lnTo>
                  <a:lnTo>
                    <a:pt x="168" y="0"/>
                  </a:lnTo>
                  <a:lnTo>
                    <a:pt x="184" y="2"/>
                  </a:lnTo>
                  <a:lnTo>
                    <a:pt x="198" y="6"/>
                  </a:lnTo>
                  <a:lnTo>
                    <a:pt x="214" y="10"/>
                  </a:lnTo>
                  <a:lnTo>
                    <a:pt x="228" y="18"/>
                  </a:lnTo>
                  <a:lnTo>
                    <a:pt x="242" y="26"/>
                  </a:lnTo>
                  <a:lnTo>
                    <a:pt x="242" y="26"/>
                  </a:lnTo>
                  <a:lnTo>
                    <a:pt x="256" y="34"/>
                  </a:lnTo>
                  <a:lnTo>
                    <a:pt x="268" y="46"/>
                  </a:lnTo>
                  <a:lnTo>
                    <a:pt x="278" y="58"/>
                  </a:lnTo>
                  <a:lnTo>
                    <a:pt x="288" y="70"/>
                  </a:lnTo>
                  <a:lnTo>
                    <a:pt x="298" y="84"/>
                  </a:lnTo>
                  <a:lnTo>
                    <a:pt x="304" y="100"/>
                  </a:lnTo>
                  <a:lnTo>
                    <a:pt x="310" y="116"/>
                  </a:lnTo>
                  <a:lnTo>
                    <a:pt x="316" y="134"/>
                  </a:lnTo>
                  <a:lnTo>
                    <a:pt x="316" y="134"/>
                  </a:lnTo>
                  <a:lnTo>
                    <a:pt x="318" y="150"/>
                  </a:lnTo>
                  <a:lnTo>
                    <a:pt x="320" y="166"/>
                  </a:lnTo>
                  <a:lnTo>
                    <a:pt x="320" y="182"/>
                  </a:lnTo>
                  <a:lnTo>
                    <a:pt x="318" y="198"/>
                  </a:lnTo>
                  <a:lnTo>
                    <a:pt x="316" y="214"/>
                  </a:lnTo>
                  <a:lnTo>
                    <a:pt x="312" y="230"/>
                  </a:lnTo>
                  <a:lnTo>
                    <a:pt x="304" y="246"/>
                  </a:lnTo>
                  <a:lnTo>
                    <a:pt x="298" y="260"/>
                  </a:lnTo>
                  <a:lnTo>
                    <a:pt x="298" y="260"/>
                  </a:lnTo>
                  <a:lnTo>
                    <a:pt x="288" y="274"/>
                  </a:lnTo>
                  <a:lnTo>
                    <a:pt x="278" y="288"/>
                  </a:lnTo>
                  <a:lnTo>
                    <a:pt x="266" y="298"/>
                  </a:lnTo>
                  <a:lnTo>
                    <a:pt x="254" y="308"/>
                  </a:lnTo>
                  <a:lnTo>
                    <a:pt x="242" y="316"/>
                  </a:lnTo>
                  <a:lnTo>
                    <a:pt x="228" y="324"/>
                  </a:lnTo>
                  <a:lnTo>
                    <a:pt x="214" y="330"/>
                  </a:lnTo>
                  <a:lnTo>
                    <a:pt x="198" y="334"/>
                  </a:lnTo>
                  <a:lnTo>
                    <a:pt x="198" y="334"/>
                  </a:lnTo>
                  <a:lnTo>
                    <a:pt x="182" y="338"/>
                  </a:lnTo>
                  <a:lnTo>
                    <a:pt x="168" y="338"/>
                  </a:lnTo>
                  <a:lnTo>
                    <a:pt x="152" y="338"/>
                  </a:lnTo>
                  <a:lnTo>
                    <a:pt x="136" y="336"/>
                  </a:lnTo>
                  <a:lnTo>
                    <a:pt x="122" y="332"/>
                  </a:lnTo>
                  <a:lnTo>
                    <a:pt x="106" y="328"/>
                  </a:lnTo>
                  <a:lnTo>
                    <a:pt x="92" y="320"/>
                  </a:lnTo>
                  <a:lnTo>
                    <a:pt x="78" y="312"/>
                  </a:lnTo>
                  <a:lnTo>
                    <a:pt x="78" y="312"/>
                  </a:lnTo>
                  <a:lnTo>
                    <a:pt x="64" y="302"/>
                  </a:lnTo>
                  <a:lnTo>
                    <a:pt x="52" y="290"/>
                  </a:lnTo>
                  <a:lnTo>
                    <a:pt x="42" y="280"/>
                  </a:lnTo>
                  <a:lnTo>
                    <a:pt x="32" y="266"/>
                  </a:lnTo>
                  <a:lnTo>
                    <a:pt x="22" y="252"/>
                  </a:lnTo>
                  <a:lnTo>
                    <a:pt x="16" y="238"/>
                  </a:lnTo>
                  <a:lnTo>
                    <a:pt x="10" y="222"/>
                  </a:lnTo>
                  <a:lnTo>
                    <a:pt x="6" y="206"/>
                  </a:lnTo>
                  <a:lnTo>
                    <a:pt x="6" y="206"/>
                  </a:lnTo>
                  <a:lnTo>
                    <a:pt x="2" y="190"/>
                  </a:lnTo>
                  <a:lnTo>
                    <a:pt x="0" y="172"/>
                  </a:lnTo>
                  <a:lnTo>
                    <a:pt x="0" y="156"/>
                  </a:lnTo>
                  <a:lnTo>
                    <a:pt x="2" y="140"/>
                  </a:lnTo>
                  <a:lnTo>
                    <a:pt x="4" y="124"/>
                  </a:lnTo>
                  <a:lnTo>
                    <a:pt x="10" y="108"/>
                  </a:lnTo>
                  <a:lnTo>
                    <a:pt x="16" y="94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32" y="64"/>
                  </a:lnTo>
                  <a:lnTo>
                    <a:pt x="42" y="52"/>
                  </a:lnTo>
                  <a:lnTo>
                    <a:pt x="52" y="40"/>
                  </a:lnTo>
                  <a:lnTo>
                    <a:pt x="64" y="30"/>
                  </a:lnTo>
                  <a:lnTo>
                    <a:pt x="78" y="22"/>
                  </a:lnTo>
                  <a:lnTo>
                    <a:pt x="90" y="14"/>
                  </a:lnTo>
                  <a:lnTo>
                    <a:pt x="106" y="8"/>
                  </a:lnTo>
                  <a:lnTo>
                    <a:pt x="122" y="4"/>
                  </a:lnTo>
                  <a:lnTo>
                    <a:pt x="122" y="4"/>
                  </a:lnTo>
                  <a:close/>
                  <a:moveTo>
                    <a:pt x="26" y="724"/>
                  </a:moveTo>
                  <a:lnTo>
                    <a:pt x="22" y="608"/>
                  </a:lnTo>
                  <a:lnTo>
                    <a:pt x="22" y="608"/>
                  </a:lnTo>
                  <a:lnTo>
                    <a:pt x="64" y="588"/>
                  </a:lnTo>
                  <a:lnTo>
                    <a:pt x="106" y="566"/>
                  </a:lnTo>
                  <a:lnTo>
                    <a:pt x="148" y="542"/>
                  </a:lnTo>
                  <a:lnTo>
                    <a:pt x="194" y="514"/>
                  </a:lnTo>
                  <a:lnTo>
                    <a:pt x="238" y="484"/>
                  </a:lnTo>
                  <a:lnTo>
                    <a:pt x="284" y="452"/>
                  </a:lnTo>
                  <a:lnTo>
                    <a:pt x="332" y="416"/>
                  </a:lnTo>
                  <a:lnTo>
                    <a:pt x="380" y="376"/>
                  </a:lnTo>
                  <a:lnTo>
                    <a:pt x="416" y="534"/>
                  </a:lnTo>
                  <a:lnTo>
                    <a:pt x="430" y="602"/>
                  </a:lnTo>
                  <a:lnTo>
                    <a:pt x="430" y="602"/>
                  </a:lnTo>
                  <a:lnTo>
                    <a:pt x="436" y="626"/>
                  </a:lnTo>
                  <a:lnTo>
                    <a:pt x="436" y="626"/>
                  </a:lnTo>
                  <a:lnTo>
                    <a:pt x="456" y="708"/>
                  </a:lnTo>
                  <a:lnTo>
                    <a:pt x="456" y="708"/>
                  </a:lnTo>
                  <a:lnTo>
                    <a:pt x="466" y="746"/>
                  </a:lnTo>
                  <a:lnTo>
                    <a:pt x="508" y="902"/>
                  </a:lnTo>
                  <a:lnTo>
                    <a:pt x="508" y="902"/>
                  </a:lnTo>
                  <a:lnTo>
                    <a:pt x="576" y="1128"/>
                  </a:lnTo>
                  <a:lnTo>
                    <a:pt x="576" y="1128"/>
                  </a:lnTo>
                  <a:lnTo>
                    <a:pt x="420" y="1196"/>
                  </a:lnTo>
                  <a:lnTo>
                    <a:pt x="348" y="1224"/>
                  </a:lnTo>
                  <a:lnTo>
                    <a:pt x="284" y="1248"/>
                  </a:lnTo>
                  <a:lnTo>
                    <a:pt x="284" y="1248"/>
                  </a:lnTo>
                  <a:lnTo>
                    <a:pt x="274" y="1184"/>
                  </a:lnTo>
                  <a:lnTo>
                    <a:pt x="260" y="1106"/>
                  </a:lnTo>
                  <a:lnTo>
                    <a:pt x="240" y="1014"/>
                  </a:lnTo>
                  <a:lnTo>
                    <a:pt x="216" y="908"/>
                  </a:lnTo>
                  <a:lnTo>
                    <a:pt x="160" y="684"/>
                  </a:lnTo>
                  <a:lnTo>
                    <a:pt x="160" y="684"/>
                  </a:lnTo>
                  <a:lnTo>
                    <a:pt x="144" y="694"/>
                  </a:lnTo>
                  <a:lnTo>
                    <a:pt x="126" y="704"/>
                  </a:lnTo>
                  <a:lnTo>
                    <a:pt x="108" y="712"/>
                  </a:lnTo>
                  <a:lnTo>
                    <a:pt x="88" y="716"/>
                  </a:lnTo>
                  <a:lnTo>
                    <a:pt x="88" y="716"/>
                  </a:lnTo>
                  <a:lnTo>
                    <a:pt x="58" y="722"/>
                  </a:lnTo>
                  <a:lnTo>
                    <a:pt x="26" y="724"/>
                  </a:lnTo>
                  <a:lnTo>
                    <a:pt x="26" y="724"/>
                  </a:lnTo>
                  <a:close/>
                </a:path>
              </a:pathLst>
            </a:custGeom>
            <a:noFill/>
            <a:ln w="536400">
              <a:solidFill>
                <a:srgbClr val="e843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30"/>
            <p:cNvSpPr/>
            <p:nvPr/>
          </p:nvSpPr>
          <p:spPr>
            <a:xfrm>
              <a:off x="4518000" y="11787120"/>
              <a:ext cx="1287360" cy="1463400"/>
            </a:xfrm>
            <a:custGeom>
              <a:avLst/>
              <a:gdLst>
                <a:gd name="textAreaLeft" fmla="*/ 0 w 1287360"/>
                <a:gd name="textAreaRight" fmla="*/ 1287720 w 1287360"/>
                <a:gd name="textAreaTop" fmla="*/ 0 h 1463400"/>
                <a:gd name="textAreaBottom" fmla="*/ 1463760 h 1463400"/>
              </a:gdLst>
              <a:ahLst/>
              <a:rect l="textAreaLeft" t="textAreaTop" r="textAreaRight" b="textAreaBottom"/>
              <a:pathLst>
                <a:path w="811" h="922">
                  <a:moveTo>
                    <a:pt x="188" y="100"/>
                  </a:moveTo>
                  <a:lnTo>
                    <a:pt x="264" y="54"/>
                  </a:lnTo>
                  <a:lnTo>
                    <a:pt x="292" y="172"/>
                  </a:lnTo>
                  <a:lnTo>
                    <a:pt x="292" y="172"/>
                  </a:lnTo>
                  <a:lnTo>
                    <a:pt x="364" y="100"/>
                  </a:lnTo>
                  <a:lnTo>
                    <a:pt x="364" y="100"/>
                  </a:lnTo>
                  <a:lnTo>
                    <a:pt x="398" y="66"/>
                  </a:lnTo>
                  <a:lnTo>
                    <a:pt x="460" y="4"/>
                  </a:lnTo>
                  <a:lnTo>
                    <a:pt x="460" y="4"/>
                  </a:lnTo>
                  <a:lnTo>
                    <a:pt x="498" y="0"/>
                  </a:lnTo>
                  <a:lnTo>
                    <a:pt x="532" y="0"/>
                  </a:lnTo>
                  <a:lnTo>
                    <a:pt x="563" y="0"/>
                  </a:lnTo>
                  <a:lnTo>
                    <a:pt x="587" y="4"/>
                  </a:lnTo>
                  <a:lnTo>
                    <a:pt x="587" y="4"/>
                  </a:lnTo>
                  <a:lnTo>
                    <a:pt x="609" y="8"/>
                  </a:lnTo>
                  <a:lnTo>
                    <a:pt x="629" y="16"/>
                  </a:lnTo>
                  <a:lnTo>
                    <a:pt x="647" y="26"/>
                  </a:lnTo>
                  <a:lnTo>
                    <a:pt x="665" y="40"/>
                  </a:lnTo>
                  <a:lnTo>
                    <a:pt x="665" y="40"/>
                  </a:lnTo>
                  <a:lnTo>
                    <a:pt x="681" y="54"/>
                  </a:lnTo>
                  <a:lnTo>
                    <a:pt x="695" y="68"/>
                  </a:lnTo>
                  <a:lnTo>
                    <a:pt x="705" y="84"/>
                  </a:lnTo>
                  <a:lnTo>
                    <a:pt x="715" y="98"/>
                  </a:lnTo>
                  <a:lnTo>
                    <a:pt x="715" y="98"/>
                  </a:lnTo>
                  <a:lnTo>
                    <a:pt x="723" y="116"/>
                  </a:lnTo>
                  <a:lnTo>
                    <a:pt x="731" y="138"/>
                  </a:lnTo>
                  <a:lnTo>
                    <a:pt x="739" y="166"/>
                  </a:lnTo>
                  <a:lnTo>
                    <a:pt x="747" y="198"/>
                  </a:lnTo>
                  <a:lnTo>
                    <a:pt x="747" y="198"/>
                  </a:lnTo>
                  <a:lnTo>
                    <a:pt x="757" y="242"/>
                  </a:lnTo>
                  <a:lnTo>
                    <a:pt x="765" y="292"/>
                  </a:lnTo>
                  <a:lnTo>
                    <a:pt x="773" y="344"/>
                  </a:lnTo>
                  <a:lnTo>
                    <a:pt x="779" y="402"/>
                  </a:lnTo>
                  <a:lnTo>
                    <a:pt x="779" y="402"/>
                  </a:lnTo>
                  <a:lnTo>
                    <a:pt x="785" y="462"/>
                  </a:lnTo>
                  <a:lnTo>
                    <a:pt x="793" y="518"/>
                  </a:lnTo>
                  <a:lnTo>
                    <a:pt x="801" y="570"/>
                  </a:lnTo>
                  <a:lnTo>
                    <a:pt x="811" y="616"/>
                  </a:lnTo>
                  <a:lnTo>
                    <a:pt x="679" y="758"/>
                  </a:lnTo>
                  <a:lnTo>
                    <a:pt x="659" y="782"/>
                  </a:lnTo>
                  <a:lnTo>
                    <a:pt x="659" y="782"/>
                  </a:lnTo>
                  <a:lnTo>
                    <a:pt x="633" y="812"/>
                  </a:lnTo>
                  <a:lnTo>
                    <a:pt x="607" y="838"/>
                  </a:lnTo>
                  <a:lnTo>
                    <a:pt x="585" y="858"/>
                  </a:lnTo>
                  <a:lnTo>
                    <a:pt x="563" y="874"/>
                  </a:lnTo>
                  <a:lnTo>
                    <a:pt x="563" y="874"/>
                  </a:lnTo>
                  <a:lnTo>
                    <a:pt x="557" y="752"/>
                  </a:lnTo>
                  <a:lnTo>
                    <a:pt x="549" y="644"/>
                  </a:lnTo>
                  <a:lnTo>
                    <a:pt x="542" y="596"/>
                  </a:lnTo>
                  <a:lnTo>
                    <a:pt x="536" y="550"/>
                  </a:lnTo>
                  <a:lnTo>
                    <a:pt x="528" y="510"/>
                  </a:lnTo>
                  <a:lnTo>
                    <a:pt x="520" y="472"/>
                  </a:lnTo>
                  <a:lnTo>
                    <a:pt x="520" y="472"/>
                  </a:lnTo>
                  <a:lnTo>
                    <a:pt x="510" y="432"/>
                  </a:lnTo>
                  <a:lnTo>
                    <a:pt x="498" y="392"/>
                  </a:lnTo>
                  <a:lnTo>
                    <a:pt x="482" y="354"/>
                  </a:lnTo>
                  <a:lnTo>
                    <a:pt x="466" y="318"/>
                  </a:lnTo>
                  <a:lnTo>
                    <a:pt x="448" y="284"/>
                  </a:lnTo>
                  <a:lnTo>
                    <a:pt x="428" y="250"/>
                  </a:lnTo>
                  <a:lnTo>
                    <a:pt x="404" y="220"/>
                  </a:lnTo>
                  <a:lnTo>
                    <a:pt x="380" y="190"/>
                  </a:lnTo>
                  <a:lnTo>
                    <a:pt x="380" y="190"/>
                  </a:lnTo>
                  <a:lnTo>
                    <a:pt x="358" y="230"/>
                  </a:lnTo>
                  <a:lnTo>
                    <a:pt x="346" y="252"/>
                  </a:lnTo>
                  <a:lnTo>
                    <a:pt x="320" y="296"/>
                  </a:lnTo>
                  <a:lnTo>
                    <a:pt x="446" y="812"/>
                  </a:lnTo>
                  <a:lnTo>
                    <a:pt x="446" y="812"/>
                  </a:lnTo>
                  <a:lnTo>
                    <a:pt x="378" y="832"/>
                  </a:lnTo>
                  <a:lnTo>
                    <a:pt x="308" y="858"/>
                  </a:lnTo>
                  <a:lnTo>
                    <a:pt x="238" y="888"/>
                  </a:lnTo>
                  <a:lnTo>
                    <a:pt x="168" y="922"/>
                  </a:lnTo>
                  <a:lnTo>
                    <a:pt x="168" y="922"/>
                  </a:lnTo>
                  <a:lnTo>
                    <a:pt x="156" y="860"/>
                  </a:lnTo>
                  <a:lnTo>
                    <a:pt x="156" y="860"/>
                  </a:lnTo>
                  <a:lnTo>
                    <a:pt x="142" y="794"/>
                  </a:lnTo>
                  <a:lnTo>
                    <a:pt x="136" y="772"/>
                  </a:lnTo>
                  <a:lnTo>
                    <a:pt x="136" y="772"/>
                  </a:lnTo>
                  <a:lnTo>
                    <a:pt x="122" y="720"/>
                  </a:lnTo>
                  <a:lnTo>
                    <a:pt x="72" y="508"/>
                  </a:lnTo>
                  <a:lnTo>
                    <a:pt x="72" y="508"/>
                  </a:lnTo>
                  <a:lnTo>
                    <a:pt x="36" y="356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22" y="208"/>
                  </a:lnTo>
                  <a:lnTo>
                    <a:pt x="22" y="208"/>
                  </a:lnTo>
                  <a:lnTo>
                    <a:pt x="52" y="188"/>
                  </a:lnTo>
                  <a:lnTo>
                    <a:pt x="52" y="188"/>
                  </a:lnTo>
                  <a:lnTo>
                    <a:pt x="88" y="166"/>
                  </a:lnTo>
                  <a:lnTo>
                    <a:pt x="188" y="100"/>
                  </a:lnTo>
                  <a:close/>
                </a:path>
              </a:pathLst>
            </a:custGeom>
            <a:noFill/>
            <a:ln w="536400">
              <a:solidFill>
                <a:srgbClr val="e843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31"/>
            <p:cNvSpPr/>
            <p:nvPr/>
          </p:nvSpPr>
          <p:spPr>
            <a:xfrm>
              <a:off x="5989680" y="11507760"/>
              <a:ext cx="1056960" cy="1317600"/>
            </a:xfrm>
            <a:custGeom>
              <a:avLst/>
              <a:gdLst>
                <a:gd name="textAreaLeft" fmla="*/ 0 w 1056960"/>
                <a:gd name="textAreaRight" fmla="*/ 1057320 w 1056960"/>
                <a:gd name="textAreaTop" fmla="*/ 0 h 1317600"/>
                <a:gd name="textAreaBottom" fmla="*/ 1317960 h 1317600"/>
              </a:gdLst>
              <a:ahLst/>
              <a:rect l="textAreaLeft" t="textAreaTop" r="textAreaRight" b="textAreaBottom"/>
              <a:pathLst>
                <a:path w="666" h="830">
                  <a:moveTo>
                    <a:pt x="0" y="256"/>
                  </a:moveTo>
                  <a:lnTo>
                    <a:pt x="152" y="40"/>
                  </a:lnTo>
                  <a:lnTo>
                    <a:pt x="384" y="4"/>
                  </a:lnTo>
                  <a:lnTo>
                    <a:pt x="384" y="4"/>
                  </a:lnTo>
                  <a:lnTo>
                    <a:pt x="410" y="2"/>
                  </a:lnTo>
                  <a:lnTo>
                    <a:pt x="436" y="0"/>
                  </a:lnTo>
                  <a:lnTo>
                    <a:pt x="460" y="0"/>
                  </a:lnTo>
                  <a:lnTo>
                    <a:pt x="482" y="2"/>
                  </a:lnTo>
                  <a:lnTo>
                    <a:pt x="502" y="6"/>
                  </a:lnTo>
                  <a:lnTo>
                    <a:pt x="520" y="10"/>
                  </a:lnTo>
                  <a:lnTo>
                    <a:pt x="538" y="18"/>
                  </a:lnTo>
                  <a:lnTo>
                    <a:pt x="552" y="26"/>
                  </a:lnTo>
                  <a:lnTo>
                    <a:pt x="552" y="26"/>
                  </a:lnTo>
                  <a:lnTo>
                    <a:pt x="566" y="36"/>
                  </a:lnTo>
                  <a:lnTo>
                    <a:pt x="580" y="48"/>
                  </a:lnTo>
                  <a:lnTo>
                    <a:pt x="590" y="58"/>
                  </a:lnTo>
                  <a:lnTo>
                    <a:pt x="600" y="70"/>
                  </a:lnTo>
                  <a:lnTo>
                    <a:pt x="608" y="82"/>
                  </a:lnTo>
                  <a:lnTo>
                    <a:pt x="616" y="96"/>
                  </a:lnTo>
                  <a:lnTo>
                    <a:pt x="622" y="110"/>
                  </a:lnTo>
                  <a:lnTo>
                    <a:pt x="626" y="124"/>
                  </a:lnTo>
                  <a:lnTo>
                    <a:pt x="626" y="124"/>
                  </a:lnTo>
                  <a:lnTo>
                    <a:pt x="630" y="154"/>
                  </a:lnTo>
                  <a:lnTo>
                    <a:pt x="634" y="194"/>
                  </a:lnTo>
                  <a:lnTo>
                    <a:pt x="634" y="194"/>
                  </a:lnTo>
                  <a:lnTo>
                    <a:pt x="640" y="256"/>
                  </a:lnTo>
                  <a:lnTo>
                    <a:pt x="648" y="342"/>
                  </a:lnTo>
                  <a:lnTo>
                    <a:pt x="648" y="342"/>
                  </a:lnTo>
                  <a:lnTo>
                    <a:pt x="602" y="384"/>
                  </a:lnTo>
                  <a:lnTo>
                    <a:pt x="558" y="416"/>
                  </a:lnTo>
                  <a:lnTo>
                    <a:pt x="522" y="442"/>
                  </a:lnTo>
                  <a:lnTo>
                    <a:pt x="490" y="458"/>
                  </a:lnTo>
                  <a:lnTo>
                    <a:pt x="490" y="458"/>
                  </a:lnTo>
                  <a:lnTo>
                    <a:pt x="462" y="470"/>
                  </a:lnTo>
                  <a:lnTo>
                    <a:pt x="432" y="480"/>
                  </a:lnTo>
                  <a:lnTo>
                    <a:pt x="404" y="490"/>
                  </a:lnTo>
                  <a:lnTo>
                    <a:pt x="376" y="496"/>
                  </a:lnTo>
                  <a:lnTo>
                    <a:pt x="376" y="496"/>
                  </a:lnTo>
                  <a:lnTo>
                    <a:pt x="352" y="500"/>
                  </a:lnTo>
                  <a:lnTo>
                    <a:pt x="322" y="504"/>
                  </a:lnTo>
                  <a:lnTo>
                    <a:pt x="322" y="504"/>
                  </a:lnTo>
                  <a:lnTo>
                    <a:pt x="348" y="524"/>
                  </a:lnTo>
                  <a:lnTo>
                    <a:pt x="374" y="542"/>
                  </a:lnTo>
                  <a:lnTo>
                    <a:pt x="400" y="556"/>
                  </a:lnTo>
                  <a:lnTo>
                    <a:pt x="424" y="568"/>
                  </a:lnTo>
                  <a:lnTo>
                    <a:pt x="446" y="574"/>
                  </a:lnTo>
                  <a:lnTo>
                    <a:pt x="468" y="578"/>
                  </a:lnTo>
                  <a:lnTo>
                    <a:pt x="490" y="578"/>
                  </a:lnTo>
                  <a:lnTo>
                    <a:pt x="510" y="576"/>
                  </a:lnTo>
                  <a:lnTo>
                    <a:pt x="510" y="576"/>
                  </a:lnTo>
                  <a:lnTo>
                    <a:pt x="532" y="570"/>
                  </a:lnTo>
                  <a:lnTo>
                    <a:pt x="554" y="560"/>
                  </a:lnTo>
                  <a:lnTo>
                    <a:pt x="574" y="550"/>
                  </a:lnTo>
                  <a:lnTo>
                    <a:pt x="594" y="536"/>
                  </a:lnTo>
                  <a:lnTo>
                    <a:pt x="612" y="522"/>
                  </a:lnTo>
                  <a:lnTo>
                    <a:pt x="630" y="504"/>
                  </a:lnTo>
                  <a:lnTo>
                    <a:pt x="646" y="484"/>
                  </a:lnTo>
                  <a:lnTo>
                    <a:pt x="660" y="462"/>
                  </a:lnTo>
                  <a:lnTo>
                    <a:pt x="666" y="460"/>
                  </a:lnTo>
                  <a:lnTo>
                    <a:pt x="666" y="460"/>
                  </a:lnTo>
                  <a:lnTo>
                    <a:pt x="664" y="496"/>
                  </a:lnTo>
                  <a:lnTo>
                    <a:pt x="658" y="532"/>
                  </a:lnTo>
                  <a:lnTo>
                    <a:pt x="652" y="564"/>
                  </a:lnTo>
                  <a:lnTo>
                    <a:pt x="644" y="594"/>
                  </a:lnTo>
                  <a:lnTo>
                    <a:pt x="634" y="624"/>
                  </a:lnTo>
                  <a:lnTo>
                    <a:pt x="622" y="650"/>
                  </a:lnTo>
                  <a:lnTo>
                    <a:pt x="610" y="676"/>
                  </a:lnTo>
                  <a:lnTo>
                    <a:pt x="596" y="698"/>
                  </a:lnTo>
                  <a:lnTo>
                    <a:pt x="578" y="720"/>
                  </a:lnTo>
                  <a:lnTo>
                    <a:pt x="560" y="740"/>
                  </a:lnTo>
                  <a:lnTo>
                    <a:pt x="542" y="756"/>
                  </a:lnTo>
                  <a:lnTo>
                    <a:pt x="520" y="772"/>
                  </a:lnTo>
                  <a:lnTo>
                    <a:pt x="498" y="786"/>
                  </a:lnTo>
                  <a:lnTo>
                    <a:pt x="472" y="796"/>
                  </a:lnTo>
                  <a:lnTo>
                    <a:pt x="446" y="806"/>
                  </a:lnTo>
                  <a:lnTo>
                    <a:pt x="418" y="814"/>
                  </a:lnTo>
                  <a:lnTo>
                    <a:pt x="418" y="814"/>
                  </a:lnTo>
                  <a:lnTo>
                    <a:pt x="390" y="820"/>
                  </a:lnTo>
                  <a:lnTo>
                    <a:pt x="364" y="824"/>
                  </a:lnTo>
                  <a:lnTo>
                    <a:pt x="338" y="828"/>
                  </a:lnTo>
                  <a:lnTo>
                    <a:pt x="314" y="830"/>
                  </a:lnTo>
                  <a:lnTo>
                    <a:pt x="294" y="830"/>
                  </a:lnTo>
                  <a:lnTo>
                    <a:pt x="274" y="828"/>
                  </a:lnTo>
                  <a:lnTo>
                    <a:pt x="256" y="824"/>
                  </a:lnTo>
                  <a:lnTo>
                    <a:pt x="238" y="820"/>
                  </a:lnTo>
                  <a:lnTo>
                    <a:pt x="238" y="820"/>
                  </a:lnTo>
                  <a:lnTo>
                    <a:pt x="224" y="812"/>
                  </a:lnTo>
                  <a:lnTo>
                    <a:pt x="210" y="806"/>
                  </a:lnTo>
                  <a:lnTo>
                    <a:pt x="196" y="798"/>
                  </a:lnTo>
                  <a:lnTo>
                    <a:pt x="182" y="788"/>
                  </a:lnTo>
                  <a:lnTo>
                    <a:pt x="168" y="776"/>
                  </a:lnTo>
                  <a:lnTo>
                    <a:pt x="156" y="764"/>
                  </a:lnTo>
                  <a:lnTo>
                    <a:pt x="134" y="736"/>
                  </a:lnTo>
                  <a:lnTo>
                    <a:pt x="134" y="736"/>
                  </a:lnTo>
                  <a:lnTo>
                    <a:pt x="122" y="720"/>
                  </a:lnTo>
                  <a:lnTo>
                    <a:pt x="112" y="700"/>
                  </a:lnTo>
                  <a:lnTo>
                    <a:pt x="102" y="676"/>
                  </a:lnTo>
                  <a:lnTo>
                    <a:pt x="90" y="648"/>
                  </a:lnTo>
                  <a:lnTo>
                    <a:pt x="80" y="616"/>
                  </a:lnTo>
                  <a:lnTo>
                    <a:pt x="68" y="582"/>
                  </a:lnTo>
                  <a:lnTo>
                    <a:pt x="48" y="498"/>
                  </a:lnTo>
                  <a:lnTo>
                    <a:pt x="16" y="344"/>
                  </a:lnTo>
                  <a:lnTo>
                    <a:pt x="0" y="256"/>
                  </a:lnTo>
                  <a:close/>
                  <a:moveTo>
                    <a:pt x="258" y="204"/>
                  </a:moveTo>
                  <a:lnTo>
                    <a:pt x="288" y="428"/>
                  </a:lnTo>
                  <a:lnTo>
                    <a:pt x="288" y="428"/>
                  </a:lnTo>
                  <a:lnTo>
                    <a:pt x="364" y="410"/>
                  </a:lnTo>
                  <a:lnTo>
                    <a:pt x="444" y="386"/>
                  </a:lnTo>
                  <a:lnTo>
                    <a:pt x="444" y="386"/>
                  </a:lnTo>
                  <a:lnTo>
                    <a:pt x="434" y="330"/>
                  </a:lnTo>
                  <a:lnTo>
                    <a:pt x="434" y="330"/>
                  </a:lnTo>
                  <a:lnTo>
                    <a:pt x="428" y="310"/>
                  </a:lnTo>
                  <a:lnTo>
                    <a:pt x="422" y="294"/>
                  </a:lnTo>
                  <a:lnTo>
                    <a:pt x="416" y="278"/>
                  </a:lnTo>
                  <a:lnTo>
                    <a:pt x="408" y="264"/>
                  </a:lnTo>
                  <a:lnTo>
                    <a:pt x="400" y="252"/>
                  </a:lnTo>
                  <a:lnTo>
                    <a:pt x="390" y="242"/>
                  </a:lnTo>
                  <a:lnTo>
                    <a:pt x="380" y="232"/>
                  </a:lnTo>
                  <a:lnTo>
                    <a:pt x="368" y="224"/>
                  </a:lnTo>
                  <a:lnTo>
                    <a:pt x="368" y="224"/>
                  </a:lnTo>
                  <a:lnTo>
                    <a:pt x="356" y="216"/>
                  </a:lnTo>
                  <a:lnTo>
                    <a:pt x="344" y="210"/>
                  </a:lnTo>
                  <a:lnTo>
                    <a:pt x="330" y="206"/>
                  </a:lnTo>
                  <a:lnTo>
                    <a:pt x="316" y="204"/>
                  </a:lnTo>
                  <a:lnTo>
                    <a:pt x="302" y="202"/>
                  </a:lnTo>
                  <a:lnTo>
                    <a:pt x="288" y="202"/>
                  </a:lnTo>
                  <a:lnTo>
                    <a:pt x="274" y="202"/>
                  </a:lnTo>
                  <a:lnTo>
                    <a:pt x="258" y="204"/>
                  </a:lnTo>
                  <a:lnTo>
                    <a:pt x="258" y="204"/>
                  </a:lnTo>
                  <a:close/>
                </a:path>
              </a:pathLst>
            </a:custGeom>
            <a:noFill/>
            <a:ln w="536400">
              <a:solidFill>
                <a:srgbClr val="e843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32"/>
            <p:cNvSpPr/>
            <p:nvPr/>
          </p:nvSpPr>
          <p:spPr>
            <a:xfrm>
              <a:off x="7148520" y="10590120"/>
              <a:ext cx="365040" cy="812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230" h="512">
                  <a:moveTo>
                    <a:pt x="0" y="512"/>
                  </a:moveTo>
                  <a:lnTo>
                    <a:pt x="108" y="44"/>
                  </a:lnTo>
                  <a:lnTo>
                    <a:pt x="230" y="0"/>
                  </a:lnTo>
                  <a:lnTo>
                    <a:pt x="70" y="484"/>
                  </a:lnTo>
                  <a:lnTo>
                    <a:pt x="0" y="512"/>
                  </a:lnTo>
                  <a:close/>
                </a:path>
              </a:pathLst>
            </a:custGeom>
            <a:noFill/>
            <a:ln w="536400">
              <a:solidFill>
                <a:srgbClr val="e843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33"/>
            <p:cNvSpPr/>
            <p:nvPr/>
          </p:nvSpPr>
          <p:spPr>
            <a:xfrm>
              <a:off x="8256600" y="10894680"/>
              <a:ext cx="1301760" cy="1390680"/>
            </a:xfrm>
            <a:custGeom>
              <a:avLst/>
              <a:gdLst>
                <a:gd name="textAreaLeft" fmla="*/ 0 w 1301760"/>
                <a:gd name="textAreaRight" fmla="*/ 1302120 w 1301760"/>
                <a:gd name="textAreaTop" fmla="*/ 0 h 1390680"/>
                <a:gd name="textAreaBottom" fmla="*/ 1391040 h 1390680"/>
              </a:gdLst>
              <a:ahLst/>
              <a:rect l="textAreaLeft" t="textAreaTop" r="textAreaRight" b="textAreaBottom"/>
              <a:pathLst>
                <a:path w="820" h="876">
                  <a:moveTo>
                    <a:pt x="182" y="82"/>
                  </a:moveTo>
                  <a:lnTo>
                    <a:pt x="182" y="82"/>
                  </a:lnTo>
                  <a:lnTo>
                    <a:pt x="330" y="58"/>
                  </a:lnTo>
                  <a:lnTo>
                    <a:pt x="330" y="58"/>
                  </a:lnTo>
                  <a:lnTo>
                    <a:pt x="406" y="44"/>
                  </a:lnTo>
                  <a:lnTo>
                    <a:pt x="480" y="30"/>
                  </a:lnTo>
                  <a:lnTo>
                    <a:pt x="554" y="16"/>
                  </a:lnTo>
                  <a:lnTo>
                    <a:pt x="626" y="0"/>
                  </a:lnTo>
                  <a:lnTo>
                    <a:pt x="626" y="0"/>
                  </a:lnTo>
                  <a:lnTo>
                    <a:pt x="622" y="70"/>
                  </a:lnTo>
                  <a:lnTo>
                    <a:pt x="622" y="70"/>
                  </a:lnTo>
                  <a:lnTo>
                    <a:pt x="620" y="122"/>
                  </a:lnTo>
                  <a:lnTo>
                    <a:pt x="622" y="166"/>
                  </a:lnTo>
                  <a:lnTo>
                    <a:pt x="624" y="204"/>
                  </a:lnTo>
                  <a:lnTo>
                    <a:pt x="628" y="232"/>
                  </a:lnTo>
                  <a:lnTo>
                    <a:pt x="628" y="232"/>
                  </a:lnTo>
                  <a:lnTo>
                    <a:pt x="598" y="230"/>
                  </a:lnTo>
                  <a:lnTo>
                    <a:pt x="562" y="228"/>
                  </a:lnTo>
                  <a:lnTo>
                    <a:pt x="520" y="228"/>
                  </a:lnTo>
                  <a:lnTo>
                    <a:pt x="474" y="230"/>
                  </a:lnTo>
                  <a:lnTo>
                    <a:pt x="420" y="234"/>
                  </a:lnTo>
                  <a:lnTo>
                    <a:pt x="362" y="238"/>
                  </a:lnTo>
                  <a:lnTo>
                    <a:pt x="228" y="256"/>
                  </a:lnTo>
                  <a:lnTo>
                    <a:pt x="228" y="256"/>
                  </a:lnTo>
                  <a:lnTo>
                    <a:pt x="236" y="270"/>
                  </a:lnTo>
                  <a:lnTo>
                    <a:pt x="248" y="282"/>
                  </a:lnTo>
                  <a:lnTo>
                    <a:pt x="260" y="294"/>
                  </a:lnTo>
                  <a:lnTo>
                    <a:pt x="272" y="304"/>
                  </a:lnTo>
                  <a:lnTo>
                    <a:pt x="286" y="312"/>
                  </a:lnTo>
                  <a:lnTo>
                    <a:pt x="302" y="320"/>
                  </a:lnTo>
                  <a:lnTo>
                    <a:pt x="318" y="326"/>
                  </a:lnTo>
                  <a:lnTo>
                    <a:pt x="336" y="330"/>
                  </a:lnTo>
                  <a:lnTo>
                    <a:pt x="356" y="334"/>
                  </a:lnTo>
                  <a:lnTo>
                    <a:pt x="376" y="336"/>
                  </a:lnTo>
                  <a:lnTo>
                    <a:pt x="398" y="338"/>
                  </a:lnTo>
                  <a:lnTo>
                    <a:pt x="420" y="336"/>
                  </a:lnTo>
                  <a:lnTo>
                    <a:pt x="468" y="332"/>
                  </a:lnTo>
                  <a:lnTo>
                    <a:pt x="522" y="320"/>
                  </a:lnTo>
                  <a:lnTo>
                    <a:pt x="522" y="320"/>
                  </a:lnTo>
                  <a:lnTo>
                    <a:pt x="578" y="308"/>
                  </a:lnTo>
                  <a:lnTo>
                    <a:pt x="624" y="300"/>
                  </a:lnTo>
                  <a:lnTo>
                    <a:pt x="660" y="294"/>
                  </a:lnTo>
                  <a:lnTo>
                    <a:pt x="688" y="294"/>
                  </a:lnTo>
                  <a:lnTo>
                    <a:pt x="688" y="294"/>
                  </a:lnTo>
                  <a:lnTo>
                    <a:pt x="710" y="296"/>
                  </a:lnTo>
                  <a:lnTo>
                    <a:pt x="730" y="302"/>
                  </a:lnTo>
                  <a:lnTo>
                    <a:pt x="748" y="310"/>
                  </a:lnTo>
                  <a:lnTo>
                    <a:pt x="766" y="322"/>
                  </a:lnTo>
                  <a:lnTo>
                    <a:pt x="766" y="322"/>
                  </a:lnTo>
                  <a:lnTo>
                    <a:pt x="780" y="338"/>
                  </a:lnTo>
                  <a:lnTo>
                    <a:pt x="792" y="360"/>
                  </a:lnTo>
                  <a:lnTo>
                    <a:pt x="804" y="384"/>
                  </a:lnTo>
                  <a:lnTo>
                    <a:pt x="812" y="414"/>
                  </a:lnTo>
                  <a:lnTo>
                    <a:pt x="812" y="414"/>
                  </a:lnTo>
                  <a:lnTo>
                    <a:pt x="818" y="448"/>
                  </a:lnTo>
                  <a:lnTo>
                    <a:pt x="820" y="482"/>
                  </a:lnTo>
                  <a:lnTo>
                    <a:pt x="820" y="516"/>
                  </a:lnTo>
                  <a:lnTo>
                    <a:pt x="816" y="552"/>
                  </a:lnTo>
                  <a:lnTo>
                    <a:pt x="816" y="552"/>
                  </a:lnTo>
                  <a:lnTo>
                    <a:pt x="808" y="586"/>
                  </a:lnTo>
                  <a:lnTo>
                    <a:pt x="798" y="618"/>
                  </a:lnTo>
                  <a:lnTo>
                    <a:pt x="786" y="646"/>
                  </a:lnTo>
                  <a:lnTo>
                    <a:pt x="772" y="672"/>
                  </a:lnTo>
                  <a:lnTo>
                    <a:pt x="772" y="672"/>
                  </a:lnTo>
                  <a:lnTo>
                    <a:pt x="764" y="684"/>
                  </a:lnTo>
                  <a:lnTo>
                    <a:pt x="754" y="696"/>
                  </a:lnTo>
                  <a:lnTo>
                    <a:pt x="742" y="710"/>
                  </a:lnTo>
                  <a:lnTo>
                    <a:pt x="728" y="722"/>
                  </a:lnTo>
                  <a:lnTo>
                    <a:pt x="694" y="748"/>
                  </a:lnTo>
                  <a:lnTo>
                    <a:pt x="652" y="776"/>
                  </a:lnTo>
                  <a:lnTo>
                    <a:pt x="652" y="776"/>
                  </a:lnTo>
                  <a:lnTo>
                    <a:pt x="606" y="802"/>
                  </a:lnTo>
                  <a:lnTo>
                    <a:pt x="558" y="824"/>
                  </a:lnTo>
                  <a:lnTo>
                    <a:pt x="508" y="842"/>
                  </a:lnTo>
                  <a:lnTo>
                    <a:pt x="456" y="856"/>
                  </a:lnTo>
                  <a:lnTo>
                    <a:pt x="456" y="856"/>
                  </a:lnTo>
                  <a:lnTo>
                    <a:pt x="410" y="866"/>
                  </a:lnTo>
                  <a:lnTo>
                    <a:pt x="364" y="872"/>
                  </a:lnTo>
                  <a:lnTo>
                    <a:pt x="322" y="876"/>
                  </a:lnTo>
                  <a:lnTo>
                    <a:pt x="280" y="876"/>
                  </a:lnTo>
                  <a:lnTo>
                    <a:pt x="240" y="874"/>
                  </a:lnTo>
                  <a:lnTo>
                    <a:pt x="200" y="868"/>
                  </a:lnTo>
                  <a:lnTo>
                    <a:pt x="162" y="860"/>
                  </a:lnTo>
                  <a:lnTo>
                    <a:pt x="126" y="848"/>
                  </a:lnTo>
                  <a:lnTo>
                    <a:pt x="126" y="848"/>
                  </a:lnTo>
                  <a:lnTo>
                    <a:pt x="130" y="784"/>
                  </a:lnTo>
                  <a:lnTo>
                    <a:pt x="142" y="706"/>
                  </a:lnTo>
                  <a:lnTo>
                    <a:pt x="142" y="706"/>
                  </a:lnTo>
                  <a:lnTo>
                    <a:pt x="178" y="712"/>
                  </a:lnTo>
                  <a:lnTo>
                    <a:pt x="216" y="716"/>
                  </a:lnTo>
                  <a:lnTo>
                    <a:pt x="254" y="718"/>
                  </a:lnTo>
                  <a:lnTo>
                    <a:pt x="292" y="718"/>
                  </a:lnTo>
                  <a:lnTo>
                    <a:pt x="332" y="716"/>
                  </a:lnTo>
                  <a:lnTo>
                    <a:pt x="372" y="712"/>
                  </a:lnTo>
                  <a:lnTo>
                    <a:pt x="414" y="704"/>
                  </a:lnTo>
                  <a:lnTo>
                    <a:pt x="454" y="696"/>
                  </a:lnTo>
                  <a:lnTo>
                    <a:pt x="454" y="696"/>
                  </a:lnTo>
                  <a:lnTo>
                    <a:pt x="476" y="690"/>
                  </a:lnTo>
                  <a:lnTo>
                    <a:pt x="498" y="682"/>
                  </a:lnTo>
                  <a:lnTo>
                    <a:pt x="518" y="674"/>
                  </a:lnTo>
                  <a:lnTo>
                    <a:pt x="536" y="664"/>
                  </a:lnTo>
                  <a:lnTo>
                    <a:pt x="554" y="652"/>
                  </a:lnTo>
                  <a:lnTo>
                    <a:pt x="572" y="638"/>
                  </a:lnTo>
                  <a:lnTo>
                    <a:pt x="590" y="622"/>
                  </a:lnTo>
                  <a:lnTo>
                    <a:pt x="604" y="606"/>
                  </a:lnTo>
                  <a:lnTo>
                    <a:pt x="604" y="606"/>
                  </a:lnTo>
                  <a:lnTo>
                    <a:pt x="590" y="600"/>
                  </a:lnTo>
                  <a:lnTo>
                    <a:pt x="574" y="596"/>
                  </a:lnTo>
                  <a:lnTo>
                    <a:pt x="560" y="592"/>
                  </a:lnTo>
                  <a:lnTo>
                    <a:pt x="544" y="590"/>
                  </a:lnTo>
                  <a:lnTo>
                    <a:pt x="528" y="588"/>
                  </a:lnTo>
                  <a:lnTo>
                    <a:pt x="514" y="590"/>
                  </a:lnTo>
                  <a:lnTo>
                    <a:pt x="498" y="592"/>
                  </a:lnTo>
                  <a:lnTo>
                    <a:pt x="484" y="594"/>
                  </a:lnTo>
                  <a:lnTo>
                    <a:pt x="484" y="594"/>
                  </a:lnTo>
                  <a:lnTo>
                    <a:pt x="452" y="602"/>
                  </a:lnTo>
                  <a:lnTo>
                    <a:pt x="452" y="602"/>
                  </a:lnTo>
                  <a:lnTo>
                    <a:pt x="406" y="616"/>
                  </a:lnTo>
                  <a:lnTo>
                    <a:pt x="406" y="616"/>
                  </a:lnTo>
                  <a:lnTo>
                    <a:pt x="364" y="624"/>
                  </a:lnTo>
                  <a:lnTo>
                    <a:pt x="326" y="630"/>
                  </a:lnTo>
                  <a:lnTo>
                    <a:pt x="290" y="634"/>
                  </a:lnTo>
                  <a:lnTo>
                    <a:pt x="256" y="636"/>
                  </a:lnTo>
                  <a:lnTo>
                    <a:pt x="222" y="636"/>
                  </a:lnTo>
                  <a:lnTo>
                    <a:pt x="192" y="634"/>
                  </a:lnTo>
                  <a:lnTo>
                    <a:pt x="164" y="628"/>
                  </a:lnTo>
                  <a:lnTo>
                    <a:pt x="138" y="622"/>
                  </a:lnTo>
                  <a:lnTo>
                    <a:pt x="138" y="622"/>
                  </a:lnTo>
                  <a:lnTo>
                    <a:pt x="114" y="612"/>
                  </a:lnTo>
                  <a:lnTo>
                    <a:pt x="94" y="600"/>
                  </a:lnTo>
                  <a:lnTo>
                    <a:pt x="74" y="584"/>
                  </a:lnTo>
                  <a:lnTo>
                    <a:pt x="56" y="566"/>
                  </a:lnTo>
                  <a:lnTo>
                    <a:pt x="42" y="544"/>
                  </a:lnTo>
                  <a:lnTo>
                    <a:pt x="28" y="520"/>
                  </a:lnTo>
                  <a:lnTo>
                    <a:pt x="18" y="492"/>
                  </a:lnTo>
                  <a:lnTo>
                    <a:pt x="10" y="460"/>
                  </a:lnTo>
                  <a:lnTo>
                    <a:pt x="10" y="460"/>
                  </a:lnTo>
                  <a:lnTo>
                    <a:pt x="4" y="436"/>
                  </a:lnTo>
                  <a:lnTo>
                    <a:pt x="0" y="410"/>
                  </a:lnTo>
                  <a:lnTo>
                    <a:pt x="0" y="386"/>
                  </a:lnTo>
                  <a:lnTo>
                    <a:pt x="0" y="364"/>
                  </a:lnTo>
                  <a:lnTo>
                    <a:pt x="2" y="340"/>
                  </a:lnTo>
                  <a:lnTo>
                    <a:pt x="8" y="318"/>
                  </a:lnTo>
                  <a:lnTo>
                    <a:pt x="14" y="298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2" y="256"/>
                  </a:lnTo>
                  <a:lnTo>
                    <a:pt x="44" y="234"/>
                  </a:lnTo>
                  <a:lnTo>
                    <a:pt x="60" y="212"/>
                  </a:lnTo>
                  <a:lnTo>
                    <a:pt x="80" y="188"/>
                  </a:lnTo>
                  <a:lnTo>
                    <a:pt x="100" y="162"/>
                  </a:lnTo>
                  <a:lnTo>
                    <a:pt x="124" y="136"/>
                  </a:lnTo>
                  <a:lnTo>
                    <a:pt x="182" y="82"/>
                  </a:lnTo>
                  <a:lnTo>
                    <a:pt x="182" y="82"/>
                  </a:lnTo>
                  <a:close/>
                </a:path>
              </a:pathLst>
            </a:custGeom>
            <a:noFill/>
            <a:ln w="536400">
              <a:solidFill>
                <a:srgbClr val="e843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34"/>
            <p:cNvSpPr/>
            <p:nvPr/>
          </p:nvSpPr>
          <p:spPr>
            <a:xfrm>
              <a:off x="711360" y="8599320"/>
              <a:ext cx="3324240" cy="2905200"/>
            </a:xfrm>
            <a:custGeom>
              <a:avLst/>
              <a:gdLst>
                <a:gd name="textAreaLeft" fmla="*/ 0 w 3324240"/>
                <a:gd name="textAreaRight" fmla="*/ 3324600 w 3324240"/>
                <a:gd name="textAreaTop" fmla="*/ 0 h 2905200"/>
                <a:gd name="textAreaBottom" fmla="*/ 2905200 h 2905200"/>
              </a:gdLst>
              <a:ahLst/>
              <a:rect l="textAreaLeft" t="textAreaTop" r="textAreaRight" b="textAreaBottom"/>
              <a:pathLst>
                <a:path w="2094" h="1830">
                  <a:moveTo>
                    <a:pt x="1762" y="0"/>
                  </a:moveTo>
                  <a:lnTo>
                    <a:pt x="1762" y="0"/>
                  </a:lnTo>
                  <a:lnTo>
                    <a:pt x="1910" y="8"/>
                  </a:lnTo>
                  <a:lnTo>
                    <a:pt x="1988" y="10"/>
                  </a:lnTo>
                  <a:lnTo>
                    <a:pt x="1988" y="10"/>
                  </a:lnTo>
                  <a:lnTo>
                    <a:pt x="2016" y="66"/>
                  </a:lnTo>
                  <a:lnTo>
                    <a:pt x="2040" y="120"/>
                  </a:lnTo>
                  <a:lnTo>
                    <a:pt x="2058" y="176"/>
                  </a:lnTo>
                  <a:lnTo>
                    <a:pt x="2074" y="232"/>
                  </a:lnTo>
                  <a:lnTo>
                    <a:pt x="2074" y="232"/>
                  </a:lnTo>
                  <a:lnTo>
                    <a:pt x="2082" y="268"/>
                  </a:lnTo>
                  <a:lnTo>
                    <a:pt x="2086" y="302"/>
                  </a:lnTo>
                  <a:lnTo>
                    <a:pt x="2090" y="336"/>
                  </a:lnTo>
                  <a:lnTo>
                    <a:pt x="2094" y="370"/>
                  </a:lnTo>
                  <a:lnTo>
                    <a:pt x="2094" y="404"/>
                  </a:lnTo>
                  <a:lnTo>
                    <a:pt x="2094" y="438"/>
                  </a:lnTo>
                  <a:lnTo>
                    <a:pt x="2090" y="472"/>
                  </a:lnTo>
                  <a:lnTo>
                    <a:pt x="2086" y="506"/>
                  </a:lnTo>
                  <a:lnTo>
                    <a:pt x="2086" y="506"/>
                  </a:lnTo>
                  <a:lnTo>
                    <a:pt x="2048" y="562"/>
                  </a:lnTo>
                  <a:lnTo>
                    <a:pt x="2008" y="626"/>
                  </a:lnTo>
                  <a:lnTo>
                    <a:pt x="2008" y="626"/>
                  </a:lnTo>
                  <a:lnTo>
                    <a:pt x="1968" y="698"/>
                  </a:lnTo>
                  <a:lnTo>
                    <a:pt x="1922" y="786"/>
                  </a:lnTo>
                  <a:lnTo>
                    <a:pt x="1922" y="786"/>
                  </a:lnTo>
                  <a:lnTo>
                    <a:pt x="1878" y="882"/>
                  </a:lnTo>
                  <a:lnTo>
                    <a:pt x="1834" y="982"/>
                  </a:lnTo>
                  <a:lnTo>
                    <a:pt x="1834" y="982"/>
                  </a:lnTo>
                  <a:lnTo>
                    <a:pt x="1800" y="1064"/>
                  </a:lnTo>
                  <a:lnTo>
                    <a:pt x="1768" y="1146"/>
                  </a:lnTo>
                  <a:lnTo>
                    <a:pt x="1736" y="1226"/>
                  </a:lnTo>
                  <a:lnTo>
                    <a:pt x="1708" y="1308"/>
                  </a:lnTo>
                  <a:lnTo>
                    <a:pt x="1680" y="1388"/>
                  </a:lnTo>
                  <a:lnTo>
                    <a:pt x="1654" y="1470"/>
                  </a:lnTo>
                  <a:lnTo>
                    <a:pt x="1628" y="1550"/>
                  </a:lnTo>
                  <a:lnTo>
                    <a:pt x="1606" y="1632"/>
                  </a:lnTo>
                  <a:lnTo>
                    <a:pt x="1380" y="1830"/>
                  </a:lnTo>
                  <a:lnTo>
                    <a:pt x="1260" y="1418"/>
                  </a:lnTo>
                  <a:lnTo>
                    <a:pt x="1260" y="1418"/>
                  </a:lnTo>
                  <a:lnTo>
                    <a:pt x="1230" y="1328"/>
                  </a:lnTo>
                  <a:lnTo>
                    <a:pt x="1202" y="1244"/>
                  </a:lnTo>
                  <a:lnTo>
                    <a:pt x="1174" y="1170"/>
                  </a:lnTo>
                  <a:lnTo>
                    <a:pt x="1144" y="1102"/>
                  </a:lnTo>
                  <a:lnTo>
                    <a:pt x="1144" y="1102"/>
                  </a:lnTo>
                  <a:lnTo>
                    <a:pt x="1114" y="1044"/>
                  </a:lnTo>
                  <a:lnTo>
                    <a:pt x="1084" y="992"/>
                  </a:lnTo>
                  <a:lnTo>
                    <a:pt x="1052" y="944"/>
                  </a:lnTo>
                  <a:lnTo>
                    <a:pt x="1020" y="902"/>
                  </a:lnTo>
                  <a:lnTo>
                    <a:pt x="1020" y="902"/>
                  </a:lnTo>
                  <a:lnTo>
                    <a:pt x="986" y="864"/>
                  </a:lnTo>
                  <a:lnTo>
                    <a:pt x="946" y="826"/>
                  </a:lnTo>
                  <a:lnTo>
                    <a:pt x="902" y="786"/>
                  </a:lnTo>
                  <a:lnTo>
                    <a:pt x="852" y="748"/>
                  </a:lnTo>
                  <a:lnTo>
                    <a:pt x="852" y="748"/>
                  </a:lnTo>
                  <a:lnTo>
                    <a:pt x="810" y="736"/>
                  </a:lnTo>
                  <a:lnTo>
                    <a:pt x="768" y="726"/>
                  </a:lnTo>
                  <a:lnTo>
                    <a:pt x="728" y="718"/>
                  </a:lnTo>
                  <a:lnTo>
                    <a:pt x="686" y="712"/>
                  </a:lnTo>
                  <a:lnTo>
                    <a:pt x="644" y="706"/>
                  </a:lnTo>
                  <a:lnTo>
                    <a:pt x="602" y="702"/>
                  </a:lnTo>
                  <a:lnTo>
                    <a:pt x="560" y="698"/>
                  </a:lnTo>
                  <a:lnTo>
                    <a:pt x="518" y="698"/>
                  </a:lnTo>
                  <a:lnTo>
                    <a:pt x="476" y="698"/>
                  </a:lnTo>
                  <a:lnTo>
                    <a:pt x="434" y="698"/>
                  </a:lnTo>
                  <a:lnTo>
                    <a:pt x="392" y="702"/>
                  </a:lnTo>
                  <a:lnTo>
                    <a:pt x="350" y="706"/>
                  </a:lnTo>
                  <a:lnTo>
                    <a:pt x="306" y="710"/>
                  </a:lnTo>
                  <a:lnTo>
                    <a:pt x="264" y="718"/>
                  </a:lnTo>
                  <a:lnTo>
                    <a:pt x="220" y="726"/>
                  </a:lnTo>
                  <a:lnTo>
                    <a:pt x="178" y="734"/>
                  </a:lnTo>
                  <a:lnTo>
                    <a:pt x="178" y="734"/>
                  </a:lnTo>
                  <a:lnTo>
                    <a:pt x="134" y="746"/>
                  </a:lnTo>
                  <a:lnTo>
                    <a:pt x="90" y="760"/>
                  </a:lnTo>
                  <a:lnTo>
                    <a:pt x="46" y="776"/>
                  </a:lnTo>
                  <a:lnTo>
                    <a:pt x="0" y="794"/>
                  </a:lnTo>
                  <a:lnTo>
                    <a:pt x="0" y="794"/>
                  </a:lnTo>
                  <a:lnTo>
                    <a:pt x="36" y="696"/>
                  </a:lnTo>
                  <a:lnTo>
                    <a:pt x="64" y="612"/>
                  </a:lnTo>
                  <a:lnTo>
                    <a:pt x="86" y="544"/>
                  </a:lnTo>
                  <a:lnTo>
                    <a:pt x="100" y="488"/>
                  </a:lnTo>
                  <a:lnTo>
                    <a:pt x="100" y="488"/>
                  </a:lnTo>
                  <a:lnTo>
                    <a:pt x="140" y="456"/>
                  </a:lnTo>
                  <a:lnTo>
                    <a:pt x="180" y="426"/>
                  </a:lnTo>
                  <a:lnTo>
                    <a:pt x="220" y="400"/>
                  </a:lnTo>
                  <a:lnTo>
                    <a:pt x="262" y="376"/>
                  </a:lnTo>
                  <a:lnTo>
                    <a:pt x="306" y="356"/>
                  </a:lnTo>
                  <a:lnTo>
                    <a:pt x="350" y="338"/>
                  </a:lnTo>
                  <a:lnTo>
                    <a:pt x="394" y="322"/>
                  </a:lnTo>
                  <a:lnTo>
                    <a:pt x="440" y="310"/>
                  </a:lnTo>
                  <a:lnTo>
                    <a:pt x="440" y="310"/>
                  </a:lnTo>
                  <a:lnTo>
                    <a:pt x="484" y="302"/>
                  </a:lnTo>
                  <a:lnTo>
                    <a:pt x="528" y="294"/>
                  </a:lnTo>
                  <a:lnTo>
                    <a:pt x="574" y="290"/>
                  </a:lnTo>
                  <a:lnTo>
                    <a:pt x="620" y="288"/>
                  </a:lnTo>
                  <a:lnTo>
                    <a:pt x="666" y="290"/>
                  </a:lnTo>
                  <a:lnTo>
                    <a:pt x="714" y="292"/>
                  </a:lnTo>
                  <a:lnTo>
                    <a:pt x="762" y="298"/>
                  </a:lnTo>
                  <a:lnTo>
                    <a:pt x="810" y="304"/>
                  </a:lnTo>
                  <a:lnTo>
                    <a:pt x="810" y="304"/>
                  </a:lnTo>
                  <a:lnTo>
                    <a:pt x="860" y="314"/>
                  </a:lnTo>
                  <a:lnTo>
                    <a:pt x="912" y="328"/>
                  </a:lnTo>
                  <a:lnTo>
                    <a:pt x="970" y="344"/>
                  </a:lnTo>
                  <a:lnTo>
                    <a:pt x="1030" y="364"/>
                  </a:lnTo>
                  <a:lnTo>
                    <a:pt x="1030" y="364"/>
                  </a:lnTo>
                  <a:lnTo>
                    <a:pt x="1094" y="388"/>
                  </a:lnTo>
                  <a:lnTo>
                    <a:pt x="1162" y="414"/>
                  </a:lnTo>
                  <a:lnTo>
                    <a:pt x="1232" y="444"/>
                  </a:lnTo>
                  <a:lnTo>
                    <a:pt x="1304" y="478"/>
                  </a:lnTo>
                  <a:lnTo>
                    <a:pt x="1304" y="478"/>
                  </a:lnTo>
                  <a:lnTo>
                    <a:pt x="1328" y="562"/>
                  </a:lnTo>
                  <a:lnTo>
                    <a:pt x="1328" y="562"/>
                  </a:lnTo>
                  <a:lnTo>
                    <a:pt x="1336" y="602"/>
                  </a:lnTo>
                  <a:lnTo>
                    <a:pt x="1348" y="668"/>
                  </a:lnTo>
                  <a:lnTo>
                    <a:pt x="1384" y="882"/>
                  </a:lnTo>
                  <a:lnTo>
                    <a:pt x="1384" y="882"/>
                  </a:lnTo>
                  <a:lnTo>
                    <a:pt x="1428" y="1156"/>
                  </a:lnTo>
                  <a:lnTo>
                    <a:pt x="1472" y="1448"/>
                  </a:lnTo>
                  <a:lnTo>
                    <a:pt x="1472" y="1448"/>
                  </a:lnTo>
                  <a:lnTo>
                    <a:pt x="1522" y="1326"/>
                  </a:lnTo>
                  <a:lnTo>
                    <a:pt x="1570" y="1210"/>
                  </a:lnTo>
                  <a:lnTo>
                    <a:pt x="1618" y="1104"/>
                  </a:lnTo>
                  <a:lnTo>
                    <a:pt x="1666" y="1006"/>
                  </a:lnTo>
                  <a:lnTo>
                    <a:pt x="1716" y="918"/>
                  </a:lnTo>
                  <a:lnTo>
                    <a:pt x="1764" y="838"/>
                  </a:lnTo>
                  <a:lnTo>
                    <a:pt x="1812" y="766"/>
                  </a:lnTo>
                  <a:lnTo>
                    <a:pt x="1836" y="732"/>
                  </a:lnTo>
                  <a:lnTo>
                    <a:pt x="1860" y="702"/>
                  </a:lnTo>
                  <a:lnTo>
                    <a:pt x="1790" y="434"/>
                  </a:lnTo>
                  <a:lnTo>
                    <a:pt x="1628" y="498"/>
                  </a:lnTo>
                  <a:lnTo>
                    <a:pt x="1628" y="498"/>
                  </a:lnTo>
                  <a:lnTo>
                    <a:pt x="1642" y="434"/>
                  </a:lnTo>
                  <a:lnTo>
                    <a:pt x="1666" y="338"/>
                  </a:lnTo>
                  <a:lnTo>
                    <a:pt x="1666" y="338"/>
                  </a:lnTo>
                  <a:lnTo>
                    <a:pt x="1704" y="198"/>
                  </a:lnTo>
                  <a:lnTo>
                    <a:pt x="1762" y="0"/>
                  </a:lnTo>
                  <a:lnTo>
                    <a:pt x="1762" y="0"/>
                  </a:lnTo>
                  <a:close/>
                </a:path>
              </a:pathLst>
            </a:custGeom>
            <a:noFill/>
            <a:ln w="495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35"/>
            <p:cNvSpPr/>
            <p:nvPr/>
          </p:nvSpPr>
          <p:spPr>
            <a:xfrm>
              <a:off x="4372200" y="9040680"/>
              <a:ext cx="1303200" cy="1326960"/>
            </a:xfrm>
            <a:custGeom>
              <a:avLst/>
              <a:gdLst>
                <a:gd name="textAreaLeft" fmla="*/ 0 w 1303200"/>
                <a:gd name="textAreaRight" fmla="*/ 1303560 w 1303200"/>
                <a:gd name="textAreaTop" fmla="*/ 0 h 1326960"/>
                <a:gd name="textAreaBottom" fmla="*/ 1327320 h 1326960"/>
              </a:gdLst>
              <a:ahLst/>
              <a:rect l="textAreaLeft" t="textAreaTop" r="textAreaRight" b="textAreaBottom"/>
              <a:pathLst>
                <a:path w="821" h="836">
                  <a:moveTo>
                    <a:pt x="174" y="8"/>
                  </a:moveTo>
                  <a:lnTo>
                    <a:pt x="174" y="8"/>
                  </a:lnTo>
                  <a:lnTo>
                    <a:pt x="334" y="2"/>
                  </a:lnTo>
                  <a:lnTo>
                    <a:pt x="334" y="2"/>
                  </a:lnTo>
                  <a:lnTo>
                    <a:pt x="446" y="0"/>
                  </a:lnTo>
                  <a:lnTo>
                    <a:pt x="484" y="0"/>
                  </a:lnTo>
                  <a:lnTo>
                    <a:pt x="512" y="2"/>
                  </a:lnTo>
                  <a:lnTo>
                    <a:pt x="512" y="2"/>
                  </a:lnTo>
                  <a:lnTo>
                    <a:pt x="532" y="6"/>
                  </a:lnTo>
                  <a:lnTo>
                    <a:pt x="554" y="12"/>
                  </a:lnTo>
                  <a:lnTo>
                    <a:pt x="576" y="20"/>
                  </a:lnTo>
                  <a:lnTo>
                    <a:pt x="598" y="32"/>
                  </a:lnTo>
                  <a:lnTo>
                    <a:pt x="598" y="32"/>
                  </a:lnTo>
                  <a:lnTo>
                    <a:pt x="618" y="46"/>
                  </a:lnTo>
                  <a:lnTo>
                    <a:pt x="639" y="64"/>
                  </a:lnTo>
                  <a:lnTo>
                    <a:pt x="657" y="86"/>
                  </a:lnTo>
                  <a:lnTo>
                    <a:pt x="673" y="112"/>
                  </a:lnTo>
                  <a:lnTo>
                    <a:pt x="673" y="112"/>
                  </a:lnTo>
                  <a:lnTo>
                    <a:pt x="689" y="144"/>
                  </a:lnTo>
                  <a:lnTo>
                    <a:pt x="703" y="180"/>
                  </a:lnTo>
                  <a:lnTo>
                    <a:pt x="717" y="222"/>
                  </a:lnTo>
                  <a:lnTo>
                    <a:pt x="729" y="270"/>
                  </a:lnTo>
                  <a:lnTo>
                    <a:pt x="787" y="534"/>
                  </a:lnTo>
                  <a:lnTo>
                    <a:pt x="787" y="534"/>
                  </a:lnTo>
                  <a:lnTo>
                    <a:pt x="801" y="584"/>
                  </a:lnTo>
                  <a:lnTo>
                    <a:pt x="821" y="642"/>
                  </a:lnTo>
                  <a:lnTo>
                    <a:pt x="821" y="642"/>
                  </a:lnTo>
                  <a:lnTo>
                    <a:pt x="775" y="662"/>
                  </a:lnTo>
                  <a:lnTo>
                    <a:pt x="715" y="694"/>
                  </a:lnTo>
                  <a:lnTo>
                    <a:pt x="641" y="734"/>
                  </a:lnTo>
                  <a:lnTo>
                    <a:pt x="550" y="786"/>
                  </a:lnTo>
                  <a:lnTo>
                    <a:pt x="550" y="786"/>
                  </a:lnTo>
                  <a:lnTo>
                    <a:pt x="540" y="718"/>
                  </a:lnTo>
                  <a:lnTo>
                    <a:pt x="526" y="638"/>
                  </a:lnTo>
                  <a:lnTo>
                    <a:pt x="508" y="546"/>
                  </a:lnTo>
                  <a:lnTo>
                    <a:pt x="486" y="444"/>
                  </a:lnTo>
                  <a:lnTo>
                    <a:pt x="486" y="444"/>
                  </a:lnTo>
                  <a:lnTo>
                    <a:pt x="478" y="464"/>
                  </a:lnTo>
                  <a:lnTo>
                    <a:pt x="466" y="490"/>
                  </a:lnTo>
                  <a:lnTo>
                    <a:pt x="426" y="570"/>
                  </a:lnTo>
                  <a:lnTo>
                    <a:pt x="426" y="570"/>
                  </a:lnTo>
                  <a:lnTo>
                    <a:pt x="364" y="686"/>
                  </a:lnTo>
                  <a:lnTo>
                    <a:pt x="280" y="836"/>
                  </a:lnTo>
                  <a:lnTo>
                    <a:pt x="280" y="836"/>
                  </a:lnTo>
                  <a:lnTo>
                    <a:pt x="230" y="834"/>
                  </a:lnTo>
                  <a:lnTo>
                    <a:pt x="186" y="830"/>
                  </a:lnTo>
                  <a:lnTo>
                    <a:pt x="148" y="824"/>
                  </a:lnTo>
                  <a:lnTo>
                    <a:pt x="116" y="818"/>
                  </a:lnTo>
                  <a:lnTo>
                    <a:pt x="116" y="818"/>
                  </a:lnTo>
                  <a:lnTo>
                    <a:pt x="76" y="716"/>
                  </a:lnTo>
                  <a:lnTo>
                    <a:pt x="76" y="716"/>
                  </a:lnTo>
                  <a:lnTo>
                    <a:pt x="58" y="662"/>
                  </a:lnTo>
                  <a:lnTo>
                    <a:pt x="42" y="612"/>
                  </a:lnTo>
                  <a:lnTo>
                    <a:pt x="26" y="562"/>
                  </a:lnTo>
                  <a:lnTo>
                    <a:pt x="16" y="516"/>
                  </a:lnTo>
                  <a:lnTo>
                    <a:pt x="16" y="516"/>
                  </a:lnTo>
                  <a:lnTo>
                    <a:pt x="8" y="484"/>
                  </a:lnTo>
                  <a:lnTo>
                    <a:pt x="4" y="452"/>
                  </a:lnTo>
                  <a:lnTo>
                    <a:pt x="0" y="422"/>
                  </a:lnTo>
                  <a:lnTo>
                    <a:pt x="0" y="392"/>
                  </a:lnTo>
                  <a:lnTo>
                    <a:pt x="0" y="364"/>
                  </a:lnTo>
                  <a:lnTo>
                    <a:pt x="4" y="336"/>
                  </a:lnTo>
                  <a:lnTo>
                    <a:pt x="8" y="310"/>
                  </a:lnTo>
                  <a:lnTo>
                    <a:pt x="14" y="284"/>
                  </a:lnTo>
                  <a:lnTo>
                    <a:pt x="14" y="284"/>
                  </a:lnTo>
                  <a:lnTo>
                    <a:pt x="24" y="258"/>
                  </a:lnTo>
                  <a:lnTo>
                    <a:pt x="36" y="228"/>
                  </a:lnTo>
                  <a:lnTo>
                    <a:pt x="52" y="198"/>
                  </a:lnTo>
                  <a:lnTo>
                    <a:pt x="70" y="164"/>
                  </a:lnTo>
                  <a:lnTo>
                    <a:pt x="90" y="128"/>
                  </a:lnTo>
                  <a:lnTo>
                    <a:pt x="116" y="90"/>
                  </a:lnTo>
                  <a:lnTo>
                    <a:pt x="144" y="50"/>
                  </a:lnTo>
                  <a:lnTo>
                    <a:pt x="174" y="8"/>
                  </a:lnTo>
                  <a:lnTo>
                    <a:pt x="174" y="8"/>
                  </a:lnTo>
                  <a:close/>
                  <a:moveTo>
                    <a:pt x="222" y="224"/>
                  </a:moveTo>
                  <a:lnTo>
                    <a:pt x="322" y="572"/>
                  </a:lnTo>
                  <a:lnTo>
                    <a:pt x="322" y="572"/>
                  </a:lnTo>
                  <a:lnTo>
                    <a:pt x="356" y="504"/>
                  </a:lnTo>
                  <a:lnTo>
                    <a:pt x="386" y="428"/>
                  </a:lnTo>
                  <a:lnTo>
                    <a:pt x="386" y="428"/>
                  </a:lnTo>
                  <a:lnTo>
                    <a:pt x="412" y="350"/>
                  </a:lnTo>
                  <a:lnTo>
                    <a:pt x="434" y="280"/>
                  </a:lnTo>
                  <a:lnTo>
                    <a:pt x="434" y="280"/>
                  </a:lnTo>
                  <a:lnTo>
                    <a:pt x="416" y="266"/>
                  </a:lnTo>
                  <a:lnTo>
                    <a:pt x="396" y="254"/>
                  </a:lnTo>
                  <a:lnTo>
                    <a:pt x="374" y="244"/>
                  </a:lnTo>
                  <a:lnTo>
                    <a:pt x="350" y="236"/>
                  </a:lnTo>
                  <a:lnTo>
                    <a:pt x="322" y="230"/>
                  </a:lnTo>
                  <a:lnTo>
                    <a:pt x="290" y="226"/>
                  </a:lnTo>
                  <a:lnTo>
                    <a:pt x="258" y="224"/>
                  </a:lnTo>
                  <a:lnTo>
                    <a:pt x="222" y="224"/>
                  </a:lnTo>
                  <a:lnTo>
                    <a:pt x="222" y="224"/>
                  </a:lnTo>
                  <a:close/>
                </a:path>
              </a:pathLst>
            </a:custGeom>
            <a:noFill/>
            <a:ln w="495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36"/>
            <p:cNvSpPr/>
            <p:nvPr/>
          </p:nvSpPr>
          <p:spPr>
            <a:xfrm>
              <a:off x="5672160" y="8040600"/>
              <a:ext cx="961920" cy="19652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1965240"/>
                <a:gd name="textAreaBottom" fmla="*/ 1965600 h 1965240"/>
              </a:gdLst>
              <a:ahLst/>
              <a:rect l="textAreaLeft" t="textAreaTop" r="textAreaRight" b="textAreaBottom"/>
              <a:pathLst>
                <a:path w="606" h="1238">
                  <a:moveTo>
                    <a:pt x="0" y="148"/>
                  </a:moveTo>
                  <a:lnTo>
                    <a:pt x="156" y="64"/>
                  </a:lnTo>
                  <a:lnTo>
                    <a:pt x="272" y="0"/>
                  </a:lnTo>
                  <a:lnTo>
                    <a:pt x="392" y="670"/>
                  </a:lnTo>
                  <a:lnTo>
                    <a:pt x="440" y="934"/>
                  </a:lnTo>
                  <a:lnTo>
                    <a:pt x="440" y="934"/>
                  </a:lnTo>
                  <a:lnTo>
                    <a:pt x="518" y="966"/>
                  </a:lnTo>
                  <a:lnTo>
                    <a:pt x="604" y="996"/>
                  </a:lnTo>
                  <a:lnTo>
                    <a:pt x="606" y="1002"/>
                  </a:lnTo>
                  <a:lnTo>
                    <a:pt x="606" y="1002"/>
                  </a:lnTo>
                  <a:lnTo>
                    <a:pt x="568" y="1064"/>
                  </a:lnTo>
                  <a:lnTo>
                    <a:pt x="536" y="1122"/>
                  </a:lnTo>
                  <a:lnTo>
                    <a:pt x="508" y="1182"/>
                  </a:lnTo>
                  <a:lnTo>
                    <a:pt x="482" y="1238"/>
                  </a:lnTo>
                  <a:lnTo>
                    <a:pt x="482" y="1238"/>
                  </a:lnTo>
                  <a:lnTo>
                    <a:pt x="452" y="1238"/>
                  </a:lnTo>
                  <a:lnTo>
                    <a:pt x="424" y="1234"/>
                  </a:lnTo>
                  <a:lnTo>
                    <a:pt x="396" y="1230"/>
                  </a:lnTo>
                  <a:lnTo>
                    <a:pt x="370" y="1222"/>
                  </a:lnTo>
                  <a:lnTo>
                    <a:pt x="346" y="1214"/>
                  </a:lnTo>
                  <a:lnTo>
                    <a:pt x="324" y="1202"/>
                  </a:lnTo>
                  <a:lnTo>
                    <a:pt x="302" y="1188"/>
                  </a:lnTo>
                  <a:lnTo>
                    <a:pt x="282" y="1172"/>
                  </a:lnTo>
                  <a:lnTo>
                    <a:pt x="282" y="1172"/>
                  </a:lnTo>
                  <a:lnTo>
                    <a:pt x="264" y="1154"/>
                  </a:lnTo>
                  <a:lnTo>
                    <a:pt x="248" y="1134"/>
                  </a:lnTo>
                  <a:lnTo>
                    <a:pt x="232" y="1112"/>
                  </a:lnTo>
                  <a:lnTo>
                    <a:pt x="218" y="1086"/>
                  </a:lnTo>
                  <a:lnTo>
                    <a:pt x="204" y="1060"/>
                  </a:lnTo>
                  <a:lnTo>
                    <a:pt x="192" y="1032"/>
                  </a:lnTo>
                  <a:lnTo>
                    <a:pt x="182" y="1000"/>
                  </a:lnTo>
                  <a:lnTo>
                    <a:pt x="174" y="966"/>
                  </a:lnTo>
                  <a:lnTo>
                    <a:pt x="174" y="966"/>
                  </a:lnTo>
                  <a:lnTo>
                    <a:pt x="158" y="894"/>
                  </a:lnTo>
                  <a:lnTo>
                    <a:pt x="138" y="786"/>
                  </a:lnTo>
                  <a:lnTo>
                    <a:pt x="138" y="786"/>
                  </a:lnTo>
                  <a:lnTo>
                    <a:pt x="92" y="566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noFill/>
            <a:ln w="495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37"/>
            <p:cNvSpPr/>
            <p:nvPr/>
          </p:nvSpPr>
          <p:spPr>
            <a:xfrm>
              <a:off x="6729480" y="8440560"/>
              <a:ext cx="1056960" cy="1317600"/>
            </a:xfrm>
            <a:custGeom>
              <a:avLst/>
              <a:gdLst>
                <a:gd name="textAreaLeft" fmla="*/ 0 w 1056960"/>
                <a:gd name="textAreaRight" fmla="*/ 1057320 w 1056960"/>
                <a:gd name="textAreaTop" fmla="*/ 0 h 1317600"/>
                <a:gd name="textAreaBottom" fmla="*/ 1317960 h 1317600"/>
              </a:gdLst>
              <a:ahLst/>
              <a:rect l="textAreaLeft" t="textAreaTop" r="textAreaRight" b="textAreaBottom"/>
              <a:pathLst>
                <a:path w="666" h="830">
                  <a:moveTo>
                    <a:pt x="0" y="256"/>
                  </a:moveTo>
                  <a:lnTo>
                    <a:pt x="150" y="40"/>
                  </a:lnTo>
                  <a:lnTo>
                    <a:pt x="382" y="4"/>
                  </a:lnTo>
                  <a:lnTo>
                    <a:pt x="382" y="4"/>
                  </a:lnTo>
                  <a:lnTo>
                    <a:pt x="410" y="2"/>
                  </a:lnTo>
                  <a:lnTo>
                    <a:pt x="436" y="0"/>
                  </a:lnTo>
                  <a:lnTo>
                    <a:pt x="460" y="0"/>
                  </a:lnTo>
                  <a:lnTo>
                    <a:pt x="482" y="2"/>
                  </a:lnTo>
                  <a:lnTo>
                    <a:pt x="502" y="6"/>
                  </a:lnTo>
                  <a:lnTo>
                    <a:pt x="520" y="12"/>
                  </a:lnTo>
                  <a:lnTo>
                    <a:pt x="536" y="18"/>
                  </a:lnTo>
                  <a:lnTo>
                    <a:pt x="552" y="26"/>
                  </a:lnTo>
                  <a:lnTo>
                    <a:pt x="552" y="26"/>
                  </a:lnTo>
                  <a:lnTo>
                    <a:pt x="566" y="36"/>
                  </a:lnTo>
                  <a:lnTo>
                    <a:pt x="578" y="48"/>
                  </a:lnTo>
                  <a:lnTo>
                    <a:pt x="590" y="58"/>
                  </a:lnTo>
                  <a:lnTo>
                    <a:pt x="600" y="70"/>
                  </a:lnTo>
                  <a:lnTo>
                    <a:pt x="608" y="84"/>
                  </a:lnTo>
                  <a:lnTo>
                    <a:pt x="616" y="96"/>
                  </a:lnTo>
                  <a:lnTo>
                    <a:pt x="620" y="110"/>
                  </a:lnTo>
                  <a:lnTo>
                    <a:pt x="626" y="126"/>
                  </a:lnTo>
                  <a:lnTo>
                    <a:pt x="626" y="126"/>
                  </a:lnTo>
                  <a:lnTo>
                    <a:pt x="630" y="156"/>
                  </a:lnTo>
                  <a:lnTo>
                    <a:pt x="634" y="194"/>
                  </a:lnTo>
                  <a:lnTo>
                    <a:pt x="634" y="194"/>
                  </a:lnTo>
                  <a:lnTo>
                    <a:pt x="638" y="256"/>
                  </a:lnTo>
                  <a:lnTo>
                    <a:pt x="648" y="344"/>
                  </a:lnTo>
                  <a:lnTo>
                    <a:pt x="648" y="344"/>
                  </a:lnTo>
                  <a:lnTo>
                    <a:pt x="600" y="384"/>
                  </a:lnTo>
                  <a:lnTo>
                    <a:pt x="558" y="418"/>
                  </a:lnTo>
                  <a:lnTo>
                    <a:pt x="522" y="442"/>
                  </a:lnTo>
                  <a:lnTo>
                    <a:pt x="490" y="458"/>
                  </a:lnTo>
                  <a:lnTo>
                    <a:pt x="490" y="458"/>
                  </a:lnTo>
                  <a:lnTo>
                    <a:pt x="460" y="470"/>
                  </a:lnTo>
                  <a:lnTo>
                    <a:pt x="432" y="480"/>
                  </a:lnTo>
                  <a:lnTo>
                    <a:pt x="404" y="490"/>
                  </a:lnTo>
                  <a:lnTo>
                    <a:pt x="376" y="498"/>
                  </a:lnTo>
                  <a:lnTo>
                    <a:pt x="376" y="498"/>
                  </a:lnTo>
                  <a:lnTo>
                    <a:pt x="352" y="502"/>
                  </a:lnTo>
                  <a:lnTo>
                    <a:pt x="322" y="504"/>
                  </a:lnTo>
                  <a:lnTo>
                    <a:pt x="322" y="504"/>
                  </a:lnTo>
                  <a:lnTo>
                    <a:pt x="348" y="526"/>
                  </a:lnTo>
                  <a:lnTo>
                    <a:pt x="374" y="542"/>
                  </a:lnTo>
                  <a:lnTo>
                    <a:pt x="400" y="558"/>
                  </a:lnTo>
                  <a:lnTo>
                    <a:pt x="422" y="568"/>
                  </a:lnTo>
                  <a:lnTo>
                    <a:pt x="446" y="576"/>
                  </a:lnTo>
                  <a:lnTo>
                    <a:pt x="468" y="580"/>
                  </a:lnTo>
                  <a:lnTo>
                    <a:pt x="490" y="580"/>
                  </a:lnTo>
                  <a:lnTo>
                    <a:pt x="510" y="576"/>
                  </a:lnTo>
                  <a:lnTo>
                    <a:pt x="510" y="576"/>
                  </a:lnTo>
                  <a:lnTo>
                    <a:pt x="532" y="570"/>
                  </a:lnTo>
                  <a:lnTo>
                    <a:pt x="554" y="562"/>
                  </a:lnTo>
                  <a:lnTo>
                    <a:pt x="574" y="550"/>
                  </a:lnTo>
                  <a:lnTo>
                    <a:pt x="594" y="538"/>
                  </a:lnTo>
                  <a:lnTo>
                    <a:pt x="612" y="522"/>
                  </a:lnTo>
                  <a:lnTo>
                    <a:pt x="628" y="504"/>
                  </a:lnTo>
                  <a:lnTo>
                    <a:pt x="644" y="484"/>
                  </a:lnTo>
                  <a:lnTo>
                    <a:pt x="660" y="462"/>
                  </a:lnTo>
                  <a:lnTo>
                    <a:pt x="666" y="460"/>
                  </a:lnTo>
                  <a:lnTo>
                    <a:pt x="666" y="460"/>
                  </a:lnTo>
                  <a:lnTo>
                    <a:pt x="662" y="498"/>
                  </a:lnTo>
                  <a:lnTo>
                    <a:pt x="658" y="532"/>
                  </a:lnTo>
                  <a:lnTo>
                    <a:pt x="652" y="564"/>
                  </a:lnTo>
                  <a:lnTo>
                    <a:pt x="644" y="596"/>
                  </a:lnTo>
                  <a:lnTo>
                    <a:pt x="634" y="624"/>
                  </a:lnTo>
                  <a:lnTo>
                    <a:pt x="622" y="652"/>
                  </a:lnTo>
                  <a:lnTo>
                    <a:pt x="610" y="676"/>
                  </a:lnTo>
                  <a:lnTo>
                    <a:pt x="594" y="700"/>
                  </a:lnTo>
                  <a:lnTo>
                    <a:pt x="578" y="720"/>
                  </a:lnTo>
                  <a:lnTo>
                    <a:pt x="560" y="740"/>
                  </a:lnTo>
                  <a:lnTo>
                    <a:pt x="540" y="758"/>
                  </a:lnTo>
                  <a:lnTo>
                    <a:pt x="520" y="772"/>
                  </a:lnTo>
                  <a:lnTo>
                    <a:pt x="496" y="786"/>
                  </a:lnTo>
                  <a:lnTo>
                    <a:pt x="472" y="798"/>
                  </a:lnTo>
                  <a:lnTo>
                    <a:pt x="446" y="806"/>
                  </a:lnTo>
                  <a:lnTo>
                    <a:pt x="418" y="814"/>
                  </a:lnTo>
                  <a:lnTo>
                    <a:pt x="418" y="814"/>
                  </a:lnTo>
                  <a:lnTo>
                    <a:pt x="390" y="820"/>
                  </a:lnTo>
                  <a:lnTo>
                    <a:pt x="362" y="826"/>
                  </a:lnTo>
                  <a:lnTo>
                    <a:pt x="338" y="828"/>
                  </a:lnTo>
                  <a:lnTo>
                    <a:pt x="314" y="830"/>
                  </a:lnTo>
                  <a:lnTo>
                    <a:pt x="292" y="830"/>
                  </a:lnTo>
                  <a:lnTo>
                    <a:pt x="272" y="828"/>
                  </a:lnTo>
                  <a:lnTo>
                    <a:pt x="254" y="824"/>
                  </a:lnTo>
                  <a:lnTo>
                    <a:pt x="238" y="820"/>
                  </a:lnTo>
                  <a:lnTo>
                    <a:pt x="238" y="820"/>
                  </a:lnTo>
                  <a:lnTo>
                    <a:pt x="224" y="814"/>
                  </a:lnTo>
                  <a:lnTo>
                    <a:pt x="208" y="806"/>
                  </a:lnTo>
                  <a:lnTo>
                    <a:pt x="194" y="798"/>
                  </a:lnTo>
                  <a:lnTo>
                    <a:pt x="182" y="788"/>
                  </a:lnTo>
                  <a:lnTo>
                    <a:pt x="168" y="778"/>
                  </a:lnTo>
                  <a:lnTo>
                    <a:pt x="156" y="766"/>
                  </a:lnTo>
                  <a:lnTo>
                    <a:pt x="134" y="738"/>
                  </a:lnTo>
                  <a:lnTo>
                    <a:pt x="134" y="738"/>
                  </a:lnTo>
                  <a:lnTo>
                    <a:pt x="122" y="722"/>
                  </a:lnTo>
                  <a:lnTo>
                    <a:pt x="112" y="700"/>
                  </a:lnTo>
                  <a:lnTo>
                    <a:pt x="100" y="676"/>
                  </a:lnTo>
                  <a:lnTo>
                    <a:pt x="90" y="648"/>
                  </a:lnTo>
                  <a:lnTo>
                    <a:pt x="78" y="618"/>
                  </a:lnTo>
                  <a:lnTo>
                    <a:pt x="68" y="582"/>
                  </a:lnTo>
                  <a:lnTo>
                    <a:pt x="48" y="500"/>
                  </a:lnTo>
                  <a:lnTo>
                    <a:pt x="16" y="344"/>
                  </a:lnTo>
                  <a:lnTo>
                    <a:pt x="0" y="256"/>
                  </a:lnTo>
                  <a:close/>
                  <a:moveTo>
                    <a:pt x="258" y="206"/>
                  </a:moveTo>
                  <a:lnTo>
                    <a:pt x="288" y="430"/>
                  </a:lnTo>
                  <a:lnTo>
                    <a:pt x="288" y="430"/>
                  </a:lnTo>
                  <a:lnTo>
                    <a:pt x="364" y="410"/>
                  </a:lnTo>
                  <a:lnTo>
                    <a:pt x="444" y="386"/>
                  </a:lnTo>
                  <a:lnTo>
                    <a:pt x="444" y="386"/>
                  </a:lnTo>
                  <a:lnTo>
                    <a:pt x="432" y="330"/>
                  </a:lnTo>
                  <a:lnTo>
                    <a:pt x="432" y="330"/>
                  </a:lnTo>
                  <a:lnTo>
                    <a:pt x="428" y="312"/>
                  </a:lnTo>
                  <a:lnTo>
                    <a:pt x="422" y="294"/>
                  </a:lnTo>
                  <a:lnTo>
                    <a:pt x="416" y="280"/>
                  </a:lnTo>
                  <a:lnTo>
                    <a:pt x="408" y="266"/>
                  </a:lnTo>
                  <a:lnTo>
                    <a:pt x="398" y="252"/>
                  </a:lnTo>
                  <a:lnTo>
                    <a:pt x="390" y="242"/>
                  </a:lnTo>
                  <a:lnTo>
                    <a:pt x="380" y="232"/>
                  </a:lnTo>
                  <a:lnTo>
                    <a:pt x="368" y="224"/>
                  </a:lnTo>
                  <a:lnTo>
                    <a:pt x="368" y="224"/>
                  </a:lnTo>
                  <a:lnTo>
                    <a:pt x="356" y="218"/>
                  </a:lnTo>
                  <a:lnTo>
                    <a:pt x="342" y="212"/>
                  </a:lnTo>
                  <a:lnTo>
                    <a:pt x="330" y="208"/>
                  </a:lnTo>
                  <a:lnTo>
                    <a:pt x="316" y="204"/>
                  </a:lnTo>
                  <a:lnTo>
                    <a:pt x="302" y="202"/>
                  </a:lnTo>
                  <a:lnTo>
                    <a:pt x="288" y="202"/>
                  </a:lnTo>
                  <a:lnTo>
                    <a:pt x="274" y="202"/>
                  </a:lnTo>
                  <a:lnTo>
                    <a:pt x="258" y="206"/>
                  </a:lnTo>
                  <a:lnTo>
                    <a:pt x="258" y="206"/>
                  </a:lnTo>
                  <a:close/>
                </a:path>
              </a:pathLst>
            </a:custGeom>
            <a:noFill/>
            <a:ln w="495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38"/>
            <p:cNvSpPr/>
            <p:nvPr/>
          </p:nvSpPr>
          <p:spPr>
            <a:xfrm>
              <a:off x="7942320" y="8091360"/>
              <a:ext cx="1285560" cy="1466640"/>
            </a:xfrm>
            <a:custGeom>
              <a:avLst/>
              <a:gdLst>
                <a:gd name="textAreaLeft" fmla="*/ 0 w 1285560"/>
                <a:gd name="textAreaRight" fmla="*/ 1285920 w 1285560"/>
                <a:gd name="textAreaTop" fmla="*/ 0 h 1466640"/>
                <a:gd name="textAreaBottom" fmla="*/ 1467000 h 1466640"/>
              </a:gdLst>
              <a:ahLst/>
              <a:rect l="textAreaLeft" t="textAreaTop" r="textAreaRight" b="textAreaBottom"/>
              <a:pathLst>
                <a:path w="810" h="924">
                  <a:moveTo>
                    <a:pt x="188" y="102"/>
                  </a:moveTo>
                  <a:lnTo>
                    <a:pt x="264" y="56"/>
                  </a:lnTo>
                  <a:lnTo>
                    <a:pt x="292" y="174"/>
                  </a:lnTo>
                  <a:lnTo>
                    <a:pt x="292" y="174"/>
                  </a:lnTo>
                  <a:lnTo>
                    <a:pt x="364" y="102"/>
                  </a:lnTo>
                  <a:lnTo>
                    <a:pt x="364" y="102"/>
                  </a:lnTo>
                  <a:lnTo>
                    <a:pt x="398" y="68"/>
                  </a:lnTo>
                  <a:lnTo>
                    <a:pt x="458" y="4"/>
                  </a:lnTo>
                  <a:lnTo>
                    <a:pt x="458" y="4"/>
                  </a:lnTo>
                  <a:lnTo>
                    <a:pt x="498" y="2"/>
                  </a:lnTo>
                  <a:lnTo>
                    <a:pt x="532" y="0"/>
                  </a:lnTo>
                  <a:lnTo>
                    <a:pt x="560" y="2"/>
                  </a:lnTo>
                  <a:lnTo>
                    <a:pt x="586" y="4"/>
                  </a:lnTo>
                  <a:lnTo>
                    <a:pt x="586" y="4"/>
                  </a:lnTo>
                  <a:lnTo>
                    <a:pt x="608" y="10"/>
                  </a:lnTo>
                  <a:lnTo>
                    <a:pt x="628" y="18"/>
                  </a:lnTo>
                  <a:lnTo>
                    <a:pt x="646" y="28"/>
                  </a:lnTo>
                  <a:lnTo>
                    <a:pt x="664" y="40"/>
                  </a:lnTo>
                  <a:lnTo>
                    <a:pt x="664" y="40"/>
                  </a:lnTo>
                  <a:lnTo>
                    <a:pt x="680" y="54"/>
                  </a:lnTo>
                  <a:lnTo>
                    <a:pt x="692" y="70"/>
                  </a:lnTo>
                  <a:lnTo>
                    <a:pt x="704" y="84"/>
                  </a:lnTo>
                  <a:lnTo>
                    <a:pt x="714" y="100"/>
                  </a:lnTo>
                  <a:lnTo>
                    <a:pt x="714" y="100"/>
                  </a:lnTo>
                  <a:lnTo>
                    <a:pt x="722" y="116"/>
                  </a:lnTo>
                  <a:lnTo>
                    <a:pt x="730" y="138"/>
                  </a:lnTo>
                  <a:lnTo>
                    <a:pt x="738" y="166"/>
                  </a:lnTo>
                  <a:lnTo>
                    <a:pt x="746" y="200"/>
                  </a:lnTo>
                  <a:lnTo>
                    <a:pt x="746" y="200"/>
                  </a:lnTo>
                  <a:lnTo>
                    <a:pt x="756" y="244"/>
                  </a:lnTo>
                  <a:lnTo>
                    <a:pt x="764" y="292"/>
                  </a:lnTo>
                  <a:lnTo>
                    <a:pt x="772" y="346"/>
                  </a:lnTo>
                  <a:lnTo>
                    <a:pt x="778" y="402"/>
                  </a:lnTo>
                  <a:lnTo>
                    <a:pt x="778" y="402"/>
                  </a:lnTo>
                  <a:lnTo>
                    <a:pt x="784" y="464"/>
                  </a:lnTo>
                  <a:lnTo>
                    <a:pt x="792" y="518"/>
                  </a:lnTo>
                  <a:lnTo>
                    <a:pt x="800" y="570"/>
                  </a:lnTo>
                  <a:lnTo>
                    <a:pt x="810" y="616"/>
                  </a:lnTo>
                  <a:lnTo>
                    <a:pt x="678" y="760"/>
                  </a:lnTo>
                  <a:lnTo>
                    <a:pt x="658" y="782"/>
                  </a:lnTo>
                  <a:lnTo>
                    <a:pt x="658" y="782"/>
                  </a:lnTo>
                  <a:lnTo>
                    <a:pt x="630" y="812"/>
                  </a:lnTo>
                  <a:lnTo>
                    <a:pt x="606" y="838"/>
                  </a:lnTo>
                  <a:lnTo>
                    <a:pt x="584" y="860"/>
                  </a:lnTo>
                  <a:lnTo>
                    <a:pt x="562" y="876"/>
                  </a:lnTo>
                  <a:lnTo>
                    <a:pt x="562" y="876"/>
                  </a:lnTo>
                  <a:lnTo>
                    <a:pt x="556" y="752"/>
                  </a:lnTo>
                  <a:lnTo>
                    <a:pt x="548" y="644"/>
                  </a:lnTo>
                  <a:lnTo>
                    <a:pt x="542" y="596"/>
                  </a:lnTo>
                  <a:lnTo>
                    <a:pt x="536" y="552"/>
                  </a:lnTo>
                  <a:lnTo>
                    <a:pt x="528" y="512"/>
                  </a:lnTo>
                  <a:lnTo>
                    <a:pt x="520" y="474"/>
                  </a:lnTo>
                  <a:lnTo>
                    <a:pt x="520" y="474"/>
                  </a:lnTo>
                  <a:lnTo>
                    <a:pt x="510" y="432"/>
                  </a:lnTo>
                  <a:lnTo>
                    <a:pt x="496" y="392"/>
                  </a:lnTo>
                  <a:lnTo>
                    <a:pt x="482" y="354"/>
                  </a:lnTo>
                  <a:lnTo>
                    <a:pt x="466" y="318"/>
                  </a:lnTo>
                  <a:lnTo>
                    <a:pt x="448" y="284"/>
                  </a:lnTo>
                  <a:lnTo>
                    <a:pt x="426" y="252"/>
                  </a:lnTo>
                  <a:lnTo>
                    <a:pt x="404" y="220"/>
                  </a:lnTo>
                  <a:lnTo>
                    <a:pt x="380" y="192"/>
                  </a:lnTo>
                  <a:lnTo>
                    <a:pt x="380" y="192"/>
                  </a:lnTo>
                  <a:lnTo>
                    <a:pt x="358" y="232"/>
                  </a:lnTo>
                  <a:lnTo>
                    <a:pt x="346" y="252"/>
                  </a:lnTo>
                  <a:lnTo>
                    <a:pt x="320" y="298"/>
                  </a:lnTo>
                  <a:lnTo>
                    <a:pt x="446" y="814"/>
                  </a:lnTo>
                  <a:lnTo>
                    <a:pt x="446" y="814"/>
                  </a:lnTo>
                  <a:lnTo>
                    <a:pt x="376" y="834"/>
                  </a:lnTo>
                  <a:lnTo>
                    <a:pt x="308" y="860"/>
                  </a:lnTo>
                  <a:lnTo>
                    <a:pt x="238" y="890"/>
                  </a:lnTo>
                  <a:lnTo>
                    <a:pt x="168" y="924"/>
                  </a:lnTo>
                  <a:lnTo>
                    <a:pt x="168" y="924"/>
                  </a:lnTo>
                  <a:lnTo>
                    <a:pt x="154" y="862"/>
                  </a:lnTo>
                  <a:lnTo>
                    <a:pt x="154" y="862"/>
                  </a:lnTo>
                  <a:lnTo>
                    <a:pt x="142" y="794"/>
                  </a:lnTo>
                  <a:lnTo>
                    <a:pt x="136" y="774"/>
                  </a:lnTo>
                  <a:lnTo>
                    <a:pt x="136" y="774"/>
                  </a:lnTo>
                  <a:lnTo>
                    <a:pt x="122" y="722"/>
                  </a:lnTo>
                  <a:lnTo>
                    <a:pt x="72" y="510"/>
                  </a:lnTo>
                  <a:lnTo>
                    <a:pt x="72" y="510"/>
                  </a:lnTo>
                  <a:lnTo>
                    <a:pt x="34" y="358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22" y="208"/>
                  </a:lnTo>
                  <a:lnTo>
                    <a:pt x="22" y="208"/>
                  </a:lnTo>
                  <a:lnTo>
                    <a:pt x="52" y="190"/>
                  </a:lnTo>
                  <a:lnTo>
                    <a:pt x="52" y="190"/>
                  </a:lnTo>
                  <a:lnTo>
                    <a:pt x="88" y="166"/>
                  </a:lnTo>
                  <a:lnTo>
                    <a:pt x="188" y="102"/>
                  </a:lnTo>
                  <a:close/>
                </a:path>
              </a:pathLst>
            </a:custGeom>
            <a:noFill/>
            <a:ln w="495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39"/>
            <p:cNvSpPr/>
            <p:nvPr/>
          </p:nvSpPr>
          <p:spPr>
            <a:xfrm>
              <a:off x="1467000" y="12993480"/>
              <a:ext cx="920520" cy="33948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580" h="214">
                  <a:moveTo>
                    <a:pt x="16" y="214"/>
                  </a:moveTo>
                  <a:lnTo>
                    <a:pt x="0" y="138"/>
                  </a:lnTo>
                  <a:lnTo>
                    <a:pt x="556" y="0"/>
                  </a:lnTo>
                  <a:lnTo>
                    <a:pt x="580" y="104"/>
                  </a:lnTo>
                  <a:lnTo>
                    <a:pt x="16" y="214"/>
                  </a:lnTo>
                  <a:close/>
                </a:path>
              </a:pathLst>
            </a:custGeom>
            <a:noFill/>
            <a:ln w="495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40"/>
            <p:cNvSpPr/>
            <p:nvPr/>
          </p:nvSpPr>
          <p:spPr>
            <a:xfrm>
              <a:off x="2530440" y="12148920"/>
              <a:ext cx="898200" cy="1469880"/>
            </a:xfrm>
            <a:custGeom>
              <a:avLst/>
              <a:gdLst>
                <a:gd name="textAreaLeft" fmla="*/ 0 w 898200"/>
                <a:gd name="textAreaRight" fmla="*/ 898560 w 898200"/>
                <a:gd name="textAreaTop" fmla="*/ 0 h 1469880"/>
                <a:gd name="textAreaBottom" fmla="*/ 1470240 h 1469880"/>
              </a:gdLst>
              <a:ahLst/>
              <a:rect l="textAreaLeft" t="textAreaTop" r="textAreaRight" b="textAreaBottom"/>
              <a:pathLst>
                <a:path w="566" h="926">
                  <a:moveTo>
                    <a:pt x="36" y="164"/>
                  </a:moveTo>
                  <a:lnTo>
                    <a:pt x="18" y="90"/>
                  </a:lnTo>
                  <a:lnTo>
                    <a:pt x="18" y="90"/>
                  </a:lnTo>
                  <a:lnTo>
                    <a:pt x="96" y="64"/>
                  </a:lnTo>
                  <a:lnTo>
                    <a:pt x="96" y="64"/>
                  </a:lnTo>
                  <a:lnTo>
                    <a:pt x="196" y="26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76" y="30"/>
                  </a:lnTo>
                  <a:lnTo>
                    <a:pt x="276" y="30"/>
                  </a:lnTo>
                  <a:lnTo>
                    <a:pt x="284" y="68"/>
                  </a:lnTo>
                  <a:lnTo>
                    <a:pt x="292" y="126"/>
                  </a:lnTo>
                  <a:lnTo>
                    <a:pt x="292" y="126"/>
                  </a:lnTo>
                  <a:lnTo>
                    <a:pt x="334" y="118"/>
                  </a:lnTo>
                  <a:lnTo>
                    <a:pt x="400" y="104"/>
                  </a:lnTo>
                  <a:lnTo>
                    <a:pt x="400" y="104"/>
                  </a:lnTo>
                  <a:lnTo>
                    <a:pt x="446" y="92"/>
                  </a:lnTo>
                  <a:lnTo>
                    <a:pt x="474" y="84"/>
                  </a:lnTo>
                  <a:lnTo>
                    <a:pt x="474" y="84"/>
                  </a:lnTo>
                  <a:lnTo>
                    <a:pt x="482" y="204"/>
                  </a:lnTo>
                  <a:lnTo>
                    <a:pt x="484" y="262"/>
                  </a:lnTo>
                  <a:lnTo>
                    <a:pt x="484" y="262"/>
                  </a:lnTo>
                  <a:lnTo>
                    <a:pt x="454" y="274"/>
                  </a:lnTo>
                  <a:lnTo>
                    <a:pt x="418" y="286"/>
                  </a:lnTo>
                  <a:lnTo>
                    <a:pt x="330" y="312"/>
                  </a:lnTo>
                  <a:lnTo>
                    <a:pt x="330" y="312"/>
                  </a:lnTo>
                  <a:lnTo>
                    <a:pt x="352" y="426"/>
                  </a:lnTo>
                  <a:lnTo>
                    <a:pt x="368" y="496"/>
                  </a:lnTo>
                  <a:lnTo>
                    <a:pt x="368" y="496"/>
                  </a:lnTo>
                  <a:lnTo>
                    <a:pt x="378" y="532"/>
                  </a:lnTo>
                  <a:lnTo>
                    <a:pt x="384" y="548"/>
                  </a:lnTo>
                  <a:lnTo>
                    <a:pt x="392" y="564"/>
                  </a:lnTo>
                  <a:lnTo>
                    <a:pt x="400" y="578"/>
                  </a:lnTo>
                  <a:lnTo>
                    <a:pt x="410" y="590"/>
                  </a:lnTo>
                  <a:lnTo>
                    <a:pt x="420" y="602"/>
                  </a:lnTo>
                  <a:lnTo>
                    <a:pt x="432" y="612"/>
                  </a:lnTo>
                  <a:lnTo>
                    <a:pt x="432" y="612"/>
                  </a:lnTo>
                  <a:lnTo>
                    <a:pt x="442" y="620"/>
                  </a:lnTo>
                  <a:lnTo>
                    <a:pt x="456" y="628"/>
                  </a:lnTo>
                  <a:lnTo>
                    <a:pt x="470" y="636"/>
                  </a:lnTo>
                  <a:lnTo>
                    <a:pt x="486" y="642"/>
                  </a:lnTo>
                  <a:lnTo>
                    <a:pt x="504" y="646"/>
                  </a:lnTo>
                  <a:lnTo>
                    <a:pt x="524" y="650"/>
                  </a:lnTo>
                  <a:lnTo>
                    <a:pt x="566" y="656"/>
                  </a:lnTo>
                  <a:lnTo>
                    <a:pt x="474" y="926"/>
                  </a:lnTo>
                  <a:lnTo>
                    <a:pt x="474" y="926"/>
                  </a:lnTo>
                  <a:lnTo>
                    <a:pt x="438" y="922"/>
                  </a:lnTo>
                  <a:lnTo>
                    <a:pt x="404" y="918"/>
                  </a:lnTo>
                  <a:lnTo>
                    <a:pt x="372" y="912"/>
                  </a:lnTo>
                  <a:lnTo>
                    <a:pt x="342" y="904"/>
                  </a:lnTo>
                  <a:lnTo>
                    <a:pt x="314" y="896"/>
                  </a:lnTo>
                  <a:lnTo>
                    <a:pt x="286" y="884"/>
                  </a:lnTo>
                  <a:lnTo>
                    <a:pt x="262" y="872"/>
                  </a:lnTo>
                  <a:lnTo>
                    <a:pt x="240" y="858"/>
                  </a:lnTo>
                  <a:lnTo>
                    <a:pt x="218" y="842"/>
                  </a:lnTo>
                  <a:lnTo>
                    <a:pt x="200" y="824"/>
                  </a:lnTo>
                  <a:lnTo>
                    <a:pt x="184" y="806"/>
                  </a:lnTo>
                  <a:lnTo>
                    <a:pt x="168" y="786"/>
                  </a:lnTo>
                  <a:lnTo>
                    <a:pt x="154" y="762"/>
                  </a:lnTo>
                  <a:lnTo>
                    <a:pt x="144" y="740"/>
                  </a:lnTo>
                  <a:lnTo>
                    <a:pt x="134" y="714"/>
                  </a:lnTo>
                  <a:lnTo>
                    <a:pt x="126" y="686"/>
                  </a:lnTo>
                  <a:lnTo>
                    <a:pt x="126" y="686"/>
                  </a:lnTo>
                  <a:lnTo>
                    <a:pt x="118" y="632"/>
                  </a:lnTo>
                  <a:lnTo>
                    <a:pt x="106" y="542"/>
                  </a:lnTo>
                  <a:lnTo>
                    <a:pt x="106" y="542"/>
                  </a:lnTo>
                  <a:lnTo>
                    <a:pt x="94" y="450"/>
                  </a:lnTo>
                  <a:lnTo>
                    <a:pt x="84" y="392"/>
                  </a:lnTo>
                  <a:lnTo>
                    <a:pt x="84" y="392"/>
                  </a:lnTo>
                  <a:lnTo>
                    <a:pt x="44" y="406"/>
                  </a:lnTo>
                  <a:lnTo>
                    <a:pt x="0" y="424"/>
                  </a:lnTo>
                  <a:lnTo>
                    <a:pt x="52" y="238"/>
                  </a:lnTo>
                  <a:lnTo>
                    <a:pt x="48" y="220"/>
                  </a:lnTo>
                  <a:lnTo>
                    <a:pt x="36" y="164"/>
                  </a:lnTo>
                  <a:close/>
                </a:path>
              </a:pathLst>
            </a:custGeom>
            <a:noFill/>
            <a:ln w="495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41"/>
            <p:cNvSpPr/>
            <p:nvPr/>
          </p:nvSpPr>
          <p:spPr>
            <a:xfrm>
              <a:off x="3498840" y="11475720"/>
              <a:ext cx="914400" cy="1981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76" h="1248">
                  <a:moveTo>
                    <a:pt x="122" y="4"/>
                  </a:moveTo>
                  <a:lnTo>
                    <a:pt x="122" y="4"/>
                  </a:lnTo>
                  <a:lnTo>
                    <a:pt x="136" y="2"/>
                  </a:lnTo>
                  <a:lnTo>
                    <a:pt x="152" y="0"/>
                  </a:lnTo>
                  <a:lnTo>
                    <a:pt x="168" y="0"/>
                  </a:lnTo>
                  <a:lnTo>
                    <a:pt x="184" y="2"/>
                  </a:lnTo>
                  <a:lnTo>
                    <a:pt x="198" y="6"/>
                  </a:lnTo>
                  <a:lnTo>
                    <a:pt x="214" y="10"/>
                  </a:lnTo>
                  <a:lnTo>
                    <a:pt x="228" y="18"/>
                  </a:lnTo>
                  <a:lnTo>
                    <a:pt x="242" y="26"/>
                  </a:lnTo>
                  <a:lnTo>
                    <a:pt x="242" y="26"/>
                  </a:lnTo>
                  <a:lnTo>
                    <a:pt x="256" y="34"/>
                  </a:lnTo>
                  <a:lnTo>
                    <a:pt x="268" y="46"/>
                  </a:lnTo>
                  <a:lnTo>
                    <a:pt x="278" y="58"/>
                  </a:lnTo>
                  <a:lnTo>
                    <a:pt x="288" y="70"/>
                  </a:lnTo>
                  <a:lnTo>
                    <a:pt x="298" y="84"/>
                  </a:lnTo>
                  <a:lnTo>
                    <a:pt x="304" y="100"/>
                  </a:lnTo>
                  <a:lnTo>
                    <a:pt x="310" y="116"/>
                  </a:lnTo>
                  <a:lnTo>
                    <a:pt x="316" y="134"/>
                  </a:lnTo>
                  <a:lnTo>
                    <a:pt x="316" y="134"/>
                  </a:lnTo>
                  <a:lnTo>
                    <a:pt x="318" y="150"/>
                  </a:lnTo>
                  <a:lnTo>
                    <a:pt x="320" y="166"/>
                  </a:lnTo>
                  <a:lnTo>
                    <a:pt x="320" y="182"/>
                  </a:lnTo>
                  <a:lnTo>
                    <a:pt x="318" y="198"/>
                  </a:lnTo>
                  <a:lnTo>
                    <a:pt x="316" y="214"/>
                  </a:lnTo>
                  <a:lnTo>
                    <a:pt x="312" y="230"/>
                  </a:lnTo>
                  <a:lnTo>
                    <a:pt x="304" y="246"/>
                  </a:lnTo>
                  <a:lnTo>
                    <a:pt x="298" y="260"/>
                  </a:lnTo>
                  <a:lnTo>
                    <a:pt x="298" y="260"/>
                  </a:lnTo>
                  <a:lnTo>
                    <a:pt x="288" y="274"/>
                  </a:lnTo>
                  <a:lnTo>
                    <a:pt x="278" y="288"/>
                  </a:lnTo>
                  <a:lnTo>
                    <a:pt x="266" y="298"/>
                  </a:lnTo>
                  <a:lnTo>
                    <a:pt x="254" y="308"/>
                  </a:lnTo>
                  <a:lnTo>
                    <a:pt x="242" y="316"/>
                  </a:lnTo>
                  <a:lnTo>
                    <a:pt x="228" y="324"/>
                  </a:lnTo>
                  <a:lnTo>
                    <a:pt x="214" y="330"/>
                  </a:lnTo>
                  <a:lnTo>
                    <a:pt x="198" y="334"/>
                  </a:lnTo>
                  <a:lnTo>
                    <a:pt x="198" y="334"/>
                  </a:lnTo>
                  <a:lnTo>
                    <a:pt x="182" y="338"/>
                  </a:lnTo>
                  <a:lnTo>
                    <a:pt x="168" y="338"/>
                  </a:lnTo>
                  <a:lnTo>
                    <a:pt x="152" y="338"/>
                  </a:lnTo>
                  <a:lnTo>
                    <a:pt x="136" y="336"/>
                  </a:lnTo>
                  <a:lnTo>
                    <a:pt x="122" y="332"/>
                  </a:lnTo>
                  <a:lnTo>
                    <a:pt x="106" y="328"/>
                  </a:lnTo>
                  <a:lnTo>
                    <a:pt x="92" y="320"/>
                  </a:lnTo>
                  <a:lnTo>
                    <a:pt x="78" y="312"/>
                  </a:lnTo>
                  <a:lnTo>
                    <a:pt x="78" y="312"/>
                  </a:lnTo>
                  <a:lnTo>
                    <a:pt x="64" y="302"/>
                  </a:lnTo>
                  <a:lnTo>
                    <a:pt x="52" y="290"/>
                  </a:lnTo>
                  <a:lnTo>
                    <a:pt x="42" y="280"/>
                  </a:lnTo>
                  <a:lnTo>
                    <a:pt x="32" y="266"/>
                  </a:lnTo>
                  <a:lnTo>
                    <a:pt x="22" y="252"/>
                  </a:lnTo>
                  <a:lnTo>
                    <a:pt x="16" y="238"/>
                  </a:lnTo>
                  <a:lnTo>
                    <a:pt x="10" y="222"/>
                  </a:lnTo>
                  <a:lnTo>
                    <a:pt x="6" y="206"/>
                  </a:lnTo>
                  <a:lnTo>
                    <a:pt x="6" y="206"/>
                  </a:lnTo>
                  <a:lnTo>
                    <a:pt x="2" y="190"/>
                  </a:lnTo>
                  <a:lnTo>
                    <a:pt x="0" y="172"/>
                  </a:lnTo>
                  <a:lnTo>
                    <a:pt x="0" y="156"/>
                  </a:lnTo>
                  <a:lnTo>
                    <a:pt x="2" y="140"/>
                  </a:lnTo>
                  <a:lnTo>
                    <a:pt x="4" y="124"/>
                  </a:lnTo>
                  <a:lnTo>
                    <a:pt x="10" y="108"/>
                  </a:lnTo>
                  <a:lnTo>
                    <a:pt x="16" y="94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32" y="64"/>
                  </a:lnTo>
                  <a:lnTo>
                    <a:pt x="42" y="52"/>
                  </a:lnTo>
                  <a:lnTo>
                    <a:pt x="52" y="40"/>
                  </a:lnTo>
                  <a:lnTo>
                    <a:pt x="64" y="30"/>
                  </a:lnTo>
                  <a:lnTo>
                    <a:pt x="78" y="22"/>
                  </a:lnTo>
                  <a:lnTo>
                    <a:pt x="90" y="14"/>
                  </a:lnTo>
                  <a:lnTo>
                    <a:pt x="106" y="8"/>
                  </a:lnTo>
                  <a:lnTo>
                    <a:pt x="122" y="4"/>
                  </a:lnTo>
                  <a:lnTo>
                    <a:pt x="122" y="4"/>
                  </a:lnTo>
                  <a:close/>
                  <a:moveTo>
                    <a:pt x="26" y="724"/>
                  </a:moveTo>
                  <a:lnTo>
                    <a:pt x="22" y="608"/>
                  </a:lnTo>
                  <a:lnTo>
                    <a:pt x="22" y="608"/>
                  </a:lnTo>
                  <a:lnTo>
                    <a:pt x="64" y="588"/>
                  </a:lnTo>
                  <a:lnTo>
                    <a:pt x="106" y="566"/>
                  </a:lnTo>
                  <a:lnTo>
                    <a:pt x="148" y="542"/>
                  </a:lnTo>
                  <a:lnTo>
                    <a:pt x="194" y="514"/>
                  </a:lnTo>
                  <a:lnTo>
                    <a:pt x="238" y="484"/>
                  </a:lnTo>
                  <a:lnTo>
                    <a:pt x="284" y="452"/>
                  </a:lnTo>
                  <a:lnTo>
                    <a:pt x="332" y="416"/>
                  </a:lnTo>
                  <a:lnTo>
                    <a:pt x="380" y="376"/>
                  </a:lnTo>
                  <a:lnTo>
                    <a:pt x="416" y="534"/>
                  </a:lnTo>
                  <a:lnTo>
                    <a:pt x="430" y="602"/>
                  </a:lnTo>
                  <a:lnTo>
                    <a:pt x="430" y="602"/>
                  </a:lnTo>
                  <a:lnTo>
                    <a:pt x="436" y="626"/>
                  </a:lnTo>
                  <a:lnTo>
                    <a:pt x="436" y="626"/>
                  </a:lnTo>
                  <a:lnTo>
                    <a:pt x="456" y="708"/>
                  </a:lnTo>
                  <a:lnTo>
                    <a:pt x="456" y="708"/>
                  </a:lnTo>
                  <a:lnTo>
                    <a:pt x="466" y="746"/>
                  </a:lnTo>
                  <a:lnTo>
                    <a:pt x="508" y="902"/>
                  </a:lnTo>
                  <a:lnTo>
                    <a:pt x="508" y="902"/>
                  </a:lnTo>
                  <a:lnTo>
                    <a:pt x="576" y="1128"/>
                  </a:lnTo>
                  <a:lnTo>
                    <a:pt x="576" y="1128"/>
                  </a:lnTo>
                  <a:lnTo>
                    <a:pt x="420" y="1196"/>
                  </a:lnTo>
                  <a:lnTo>
                    <a:pt x="348" y="1224"/>
                  </a:lnTo>
                  <a:lnTo>
                    <a:pt x="284" y="1248"/>
                  </a:lnTo>
                  <a:lnTo>
                    <a:pt x="284" y="1248"/>
                  </a:lnTo>
                  <a:lnTo>
                    <a:pt x="274" y="1184"/>
                  </a:lnTo>
                  <a:lnTo>
                    <a:pt x="260" y="1106"/>
                  </a:lnTo>
                  <a:lnTo>
                    <a:pt x="240" y="1014"/>
                  </a:lnTo>
                  <a:lnTo>
                    <a:pt x="216" y="908"/>
                  </a:lnTo>
                  <a:lnTo>
                    <a:pt x="160" y="684"/>
                  </a:lnTo>
                  <a:lnTo>
                    <a:pt x="160" y="684"/>
                  </a:lnTo>
                  <a:lnTo>
                    <a:pt x="144" y="694"/>
                  </a:lnTo>
                  <a:lnTo>
                    <a:pt x="126" y="704"/>
                  </a:lnTo>
                  <a:lnTo>
                    <a:pt x="108" y="712"/>
                  </a:lnTo>
                  <a:lnTo>
                    <a:pt x="88" y="716"/>
                  </a:lnTo>
                  <a:lnTo>
                    <a:pt x="88" y="716"/>
                  </a:lnTo>
                  <a:lnTo>
                    <a:pt x="58" y="722"/>
                  </a:lnTo>
                  <a:lnTo>
                    <a:pt x="26" y="724"/>
                  </a:lnTo>
                  <a:lnTo>
                    <a:pt x="26" y="724"/>
                  </a:lnTo>
                  <a:close/>
                </a:path>
              </a:pathLst>
            </a:custGeom>
            <a:noFill/>
            <a:ln w="495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42"/>
            <p:cNvSpPr/>
            <p:nvPr/>
          </p:nvSpPr>
          <p:spPr>
            <a:xfrm>
              <a:off x="4518000" y="11787120"/>
              <a:ext cx="1287360" cy="1463400"/>
            </a:xfrm>
            <a:custGeom>
              <a:avLst/>
              <a:gdLst>
                <a:gd name="textAreaLeft" fmla="*/ 0 w 1287360"/>
                <a:gd name="textAreaRight" fmla="*/ 1287720 w 1287360"/>
                <a:gd name="textAreaTop" fmla="*/ 0 h 1463400"/>
                <a:gd name="textAreaBottom" fmla="*/ 1463760 h 1463400"/>
              </a:gdLst>
              <a:ahLst/>
              <a:rect l="textAreaLeft" t="textAreaTop" r="textAreaRight" b="textAreaBottom"/>
              <a:pathLst>
                <a:path w="811" h="922">
                  <a:moveTo>
                    <a:pt x="188" y="100"/>
                  </a:moveTo>
                  <a:lnTo>
                    <a:pt x="264" y="54"/>
                  </a:lnTo>
                  <a:lnTo>
                    <a:pt x="292" y="172"/>
                  </a:lnTo>
                  <a:lnTo>
                    <a:pt x="292" y="172"/>
                  </a:lnTo>
                  <a:lnTo>
                    <a:pt x="364" y="100"/>
                  </a:lnTo>
                  <a:lnTo>
                    <a:pt x="364" y="100"/>
                  </a:lnTo>
                  <a:lnTo>
                    <a:pt x="398" y="66"/>
                  </a:lnTo>
                  <a:lnTo>
                    <a:pt x="460" y="4"/>
                  </a:lnTo>
                  <a:lnTo>
                    <a:pt x="460" y="4"/>
                  </a:lnTo>
                  <a:lnTo>
                    <a:pt x="498" y="0"/>
                  </a:lnTo>
                  <a:lnTo>
                    <a:pt x="532" y="0"/>
                  </a:lnTo>
                  <a:lnTo>
                    <a:pt x="563" y="0"/>
                  </a:lnTo>
                  <a:lnTo>
                    <a:pt x="587" y="4"/>
                  </a:lnTo>
                  <a:lnTo>
                    <a:pt x="587" y="4"/>
                  </a:lnTo>
                  <a:lnTo>
                    <a:pt x="609" y="8"/>
                  </a:lnTo>
                  <a:lnTo>
                    <a:pt x="629" y="16"/>
                  </a:lnTo>
                  <a:lnTo>
                    <a:pt x="647" y="26"/>
                  </a:lnTo>
                  <a:lnTo>
                    <a:pt x="665" y="40"/>
                  </a:lnTo>
                  <a:lnTo>
                    <a:pt x="665" y="40"/>
                  </a:lnTo>
                  <a:lnTo>
                    <a:pt x="681" y="54"/>
                  </a:lnTo>
                  <a:lnTo>
                    <a:pt x="695" y="68"/>
                  </a:lnTo>
                  <a:lnTo>
                    <a:pt x="705" y="84"/>
                  </a:lnTo>
                  <a:lnTo>
                    <a:pt x="715" y="98"/>
                  </a:lnTo>
                  <a:lnTo>
                    <a:pt x="715" y="98"/>
                  </a:lnTo>
                  <a:lnTo>
                    <a:pt x="723" y="116"/>
                  </a:lnTo>
                  <a:lnTo>
                    <a:pt x="731" y="138"/>
                  </a:lnTo>
                  <a:lnTo>
                    <a:pt x="739" y="166"/>
                  </a:lnTo>
                  <a:lnTo>
                    <a:pt x="747" y="198"/>
                  </a:lnTo>
                  <a:lnTo>
                    <a:pt x="747" y="198"/>
                  </a:lnTo>
                  <a:lnTo>
                    <a:pt x="757" y="242"/>
                  </a:lnTo>
                  <a:lnTo>
                    <a:pt x="765" y="292"/>
                  </a:lnTo>
                  <a:lnTo>
                    <a:pt x="773" y="344"/>
                  </a:lnTo>
                  <a:lnTo>
                    <a:pt x="779" y="402"/>
                  </a:lnTo>
                  <a:lnTo>
                    <a:pt x="779" y="402"/>
                  </a:lnTo>
                  <a:lnTo>
                    <a:pt x="785" y="462"/>
                  </a:lnTo>
                  <a:lnTo>
                    <a:pt x="793" y="518"/>
                  </a:lnTo>
                  <a:lnTo>
                    <a:pt x="801" y="570"/>
                  </a:lnTo>
                  <a:lnTo>
                    <a:pt x="811" y="616"/>
                  </a:lnTo>
                  <a:lnTo>
                    <a:pt x="679" y="758"/>
                  </a:lnTo>
                  <a:lnTo>
                    <a:pt x="659" y="782"/>
                  </a:lnTo>
                  <a:lnTo>
                    <a:pt x="659" y="782"/>
                  </a:lnTo>
                  <a:lnTo>
                    <a:pt x="633" y="812"/>
                  </a:lnTo>
                  <a:lnTo>
                    <a:pt x="607" y="838"/>
                  </a:lnTo>
                  <a:lnTo>
                    <a:pt x="585" y="858"/>
                  </a:lnTo>
                  <a:lnTo>
                    <a:pt x="563" y="874"/>
                  </a:lnTo>
                  <a:lnTo>
                    <a:pt x="563" y="874"/>
                  </a:lnTo>
                  <a:lnTo>
                    <a:pt x="557" y="752"/>
                  </a:lnTo>
                  <a:lnTo>
                    <a:pt x="549" y="644"/>
                  </a:lnTo>
                  <a:lnTo>
                    <a:pt x="542" y="596"/>
                  </a:lnTo>
                  <a:lnTo>
                    <a:pt x="536" y="550"/>
                  </a:lnTo>
                  <a:lnTo>
                    <a:pt x="528" y="510"/>
                  </a:lnTo>
                  <a:lnTo>
                    <a:pt x="520" y="472"/>
                  </a:lnTo>
                  <a:lnTo>
                    <a:pt x="520" y="472"/>
                  </a:lnTo>
                  <a:lnTo>
                    <a:pt x="510" y="432"/>
                  </a:lnTo>
                  <a:lnTo>
                    <a:pt x="498" y="392"/>
                  </a:lnTo>
                  <a:lnTo>
                    <a:pt x="482" y="354"/>
                  </a:lnTo>
                  <a:lnTo>
                    <a:pt x="466" y="318"/>
                  </a:lnTo>
                  <a:lnTo>
                    <a:pt x="448" y="284"/>
                  </a:lnTo>
                  <a:lnTo>
                    <a:pt x="428" y="250"/>
                  </a:lnTo>
                  <a:lnTo>
                    <a:pt x="404" y="220"/>
                  </a:lnTo>
                  <a:lnTo>
                    <a:pt x="380" y="190"/>
                  </a:lnTo>
                  <a:lnTo>
                    <a:pt x="380" y="190"/>
                  </a:lnTo>
                  <a:lnTo>
                    <a:pt x="358" y="230"/>
                  </a:lnTo>
                  <a:lnTo>
                    <a:pt x="346" y="252"/>
                  </a:lnTo>
                  <a:lnTo>
                    <a:pt x="320" y="296"/>
                  </a:lnTo>
                  <a:lnTo>
                    <a:pt x="446" y="812"/>
                  </a:lnTo>
                  <a:lnTo>
                    <a:pt x="446" y="812"/>
                  </a:lnTo>
                  <a:lnTo>
                    <a:pt x="378" y="832"/>
                  </a:lnTo>
                  <a:lnTo>
                    <a:pt x="308" y="858"/>
                  </a:lnTo>
                  <a:lnTo>
                    <a:pt x="238" y="888"/>
                  </a:lnTo>
                  <a:lnTo>
                    <a:pt x="168" y="922"/>
                  </a:lnTo>
                  <a:lnTo>
                    <a:pt x="168" y="922"/>
                  </a:lnTo>
                  <a:lnTo>
                    <a:pt x="156" y="860"/>
                  </a:lnTo>
                  <a:lnTo>
                    <a:pt x="156" y="860"/>
                  </a:lnTo>
                  <a:lnTo>
                    <a:pt x="142" y="794"/>
                  </a:lnTo>
                  <a:lnTo>
                    <a:pt x="136" y="772"/>
                  </a:lnTo>
                  <a:lnTo>
                    <a:pt x="136" y="772"/>
                  </a:lnTo>
                  <a:lnTo>
                    <a:pt x="122" y="720"/>
                  </a:lnTo>
                  <a:lnTo>
                    <a:pt x="72" y="508"/>
                  </a:lnTo>
                  <a:lnTo>
                    <a:pt x="72" y="508"/>
                  </a:lnTo>
                  <a:lnTo>
                    <a:pt x="36" y="356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22" y="208"/>
                  </a:lnTo>
                  <a:lnTo>
                    <a:pt x="22" y="208"/>
                  </a:lnTo>
                  <a:lnTo>
                    <a:pt x="52" y="188"/>
                  </a:lnTo>
                  <a:lnTo>
                    <a:pt x="52" y="188"/>
                  </a:lnTo>
                  <a:lnTo>
                    <a:pt x="88" y="166"/>
                  </a:lnTo>
                  <a:lnTo>
                    <a:pt x="188" y="100"/>
                  </a:lnTo>
                  <a:close/>
                </a:path>
              </a:pathLst>
            </a:custGeom>
            <a:noFill/>
            <a:ln w="495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43"/>
            <p:cNvSpPr/>
            <p:nvPr/>
          </p:nvSpPr>
          <p:spPr>
            <a:xfrm>
              <a:off x="5989680" y="11507760"/>
              <a:ext cx="1056960" cy="1317600"/>
            </a:xfrm>
            <a:custGeom>
              <a:avLst/>
              <a:gdLst>
                <a:gd name="textAreaLeft" fmla="*/ 0 w 1056960"/>
                <a:gd name="textAreaRight" fmla="*/ 1057320 w 1056960"/>
                <a:gd name="textAreaTop" fmla="*/ 0 h 1317600"/>
                <a:gd name="textAreaBottom" fmla="*/ 1317960 h 1317600"/>
              </a:gdLst>
              <a:ahLst/>
              <a:rect l="textAreaLeft" t="textAreaTop" r="textAreaRight" b="textAreaBottom"/>
              <a:pathLst>
                <a:path w="666" h="830">
                  <a:moveTo>
                    <a:pt x="0" y="256"/>
                  </a:moveTo>
                  <a:lnTo>
                    <a:pt x="152" y="40"/>
                  </a:lnTo>
                  <a:lnTo>
                    <a:pt x="384" y="4"/>
                  </a:lnTo>
                  <a:lnTo>
                    <a:pt x="384" y="4"/>
                  </a:lnTo>
                  <a:lnTo>
                    <a:pt x="410" y="2"/>
                  </a:lnTo>
                  <a:lnTo>
                    <a:pt x="436" y="0"/>
                  </a:lnTo>
                  <a:lnTo>
                    <a:pt x="460" y="0"/>
                  </a:lnTo>
                  <a:lnTo>
                    <a:pt x="482" y="2"/>
                  </a:lnTo>
                  <a:lnTo>
                    <a:pt x="502" y="6"/>
                  </a:lnTo>
                  <a:lnTo>
                    <a:pt x="520" y="10"/>
                  </a:lnTo>
                  <a:lnTo>
                    <a:pt x="538" y="18"/>
                  </a:lnTo>
                  <a:lnTo>
                    <a:pt x="552" y="26"/>
                  </a:lnTo>
                  <a:lnTo>
                    <a:pt x="552" y="26"/>
                  </a:lnTo>
                  <a:lnTo>
                    <a:pt x="566" y="36"/>
                  </a:lnTo>
                  <a:lnTo>
                    <a:pt x="580" y="48"/>
                  </a:lnTo>
                  <a:lnTo>
                    <a:pt x="590" y="58"/>
                  </a:lnTo>
                  <a:lnTo>
                    <a:pt x="600" y="70"/>
                  </a:lnTo>
                  <a:lnTo>
                    <a:pt x="608" y="82"/>
                  </a:lnTo>
                  <a:lnTo>
                    <a:pt x="616" y="96"/>
                  </a:lnTo>
                  <a:lnTo>
                    <a:pt x="622" y="110"/>
                  </a:lnTo>
                  <a:lnTo>
                    <a:pt x="626" y="124"/>
                  </a:lnTo>
                  <a:lnTo>
                    <a:pt x="626" y="124"/>
                  </a:lnTo>
                  <a:lnTo>
                    <a:pt x="630" y="154"/>
                  </a:lnTo>
                  <a:lnTo>
                    <a:pt x="634" y="194"/>
                  </a:lnTo>
                  <a:lnTo>
                    <a:pt x="634" y="194"/>
                  </a:lnTo>
                  <a:lnTo>
                    <a:pt x="640" y="256"/>
                  </a:lnTo>
                  <a:lnTo>
                    <a:pt x="648" y="342"/>
                  </a:lnTo>
                  <a:lnTo>
                    <a:pt x="648" y="342"/>
                  </a:lnTo>
                  <a:lnTo>
                    <a:pt x="602" y="384"/>
                  </a:lnTo>
                  <a:lnTo>
                    <a:pt x="558" y="416"/>
                  </a:lnTo>
                  <a:lnTo>
                    <a:pt x="522" y="442"/>
                  </a:lnTo>
                  <a:lnTo>
                    <a:pt x="490" y="458"/>
                  </a:lnTo>
                  <a:lnTo>
                    <a:pt x="490" y="458"/>
                  </a:lnTo>
                  <a:lnTo>
                    <a:pt x="462" y="470"/>
                  </a:lnTo>
                  <a:lnTo>
                    <a:pt x="432" y="480"/>
                  </a:lnTo>
                  <a:lnTo>
                    <a:pt x="404" y="490"/>
                  </a:lnTo>
                  <a:lnTo>
                    <a:pt x="376" y="496"/>
                  </a:lnTo>
                  <a:lnTo>
                    <a:pt x="376" y="496"/>
                  </a:lnTo>
                  <a:lnTo>
                    <a:pt x="352" y="500"/>
                  </a:lnTo>
                  <a:lnTo>
                    <a:pt x="322" y="504"/>
                  </a:lnTo>
                  <a:lnTo>
                    <a:pt x="322" y="504"/>
                  </a:lnTo>
                  <a:lnTo>
                    <a:pt x="348" y="524"/>
                  </a:lnTo>
                  <a:lnTo>
                    <a:pt x="374" y="542"/>
                  </a:lnTo>
                  <a:lnTo>
                    <a:pt x="400" y="556"/>
                  </a:lnTo>
                  <a:lnTo>
                    <a:pt x="424" y="568"/>
                  </a:lnTo>
                  <a:lnTo>
                    <a:pt x="446" y="574"/>
                  </a:lnTo>
                  <a:lnTo>
                    <a:pt x="468" y="578"/>
                  </a:lnTo>
                  <a:lnTo>
                    <a:pt x="490" y="578"/>
                  </a:lnTo>
                  <a:lnTo>
                    <a:pt x="510" y="576"/>
                  </a:lnTo>
                  <a:lnTo>
                    <a:pt x="510" y="576"/>
                  </a:lnTo>
                  <a:lnTo>
                    <a:pt x="532" y="570"/>
                  </a:lnTo>
                  <a:lnTo>
                    <a:pt x="554" y="560"/>
                  </a:lnTo>
                  <a:lnTo>
                    <a:pt x="574" y="550"/>
                  </a:lnTo>
                  <a:lnTo>
                    <a:pt x="594" y="536"/>
                  </a:lnTo>
                  <a:lnTo>
                    <a:pt x="612" y="522"/>
                  </a:lnTo>
                  <a:lnTo>
                    <a:pt x="630" y="504"/>
                  </a:lnTo>
                  <a:lnTo>
                    <a:pt x="646" y="484"/>
                  </a:lnTo>
                  <a:lnTo>
                    <a:pt x="660" y="462"/>
                  </a:lnTo>
                  <a:lnTo>
                    <a:pt x="666" y="460"/>
                  </a:lnTo>
                  <a:lnTo>
                    <a:pt x="666" y="460"/>
                  </a:lnTo>
                  <a:lnTo>
                    <a:pt x="664" y="496"/>
                  </a:lnTo>
                  <a:lnTo>
                    <a:pt x="658" y="532"/>
                  </a:lnTo>
                  <a:lnTo>
                    <a:pt x="652" y="564"/>
                  </a:lnTo>
                  <a:lnTo>
                    <a:pt x="644" y="594"/>
                  </a:lnTo>
                  <a:lnTo>
                    <a:pt x="634" y="624"/>
                  </a:lnTo>
                  <a:lnTo>
                    <a:pt x="622" y="650"/>
                  </a:lnTo>
                  <a:lnTo>
                    <a:pt x="610" y="676"/>
                  </a:lnTo>
                  <a:lnTo>
                    <a:pt x="596" y="698"/>
                  </a:lnTo>
                  <a:lnTo>
                    <a:pt x="578" y="720"/>
                  </a:lnTo>
                  <a:lnTo>
                    <a:pt x="560" y="740"/>
                  </a:lnTo>
                  <a:lnTo>
                    <a:pt x="542" y="756"/>
                  </a:lnTo>
                  <a:lnTo>
                    <a:pt x="520" y="772"/>
                  </a:lnTo>
                  <a:lnTo>
                    <a:pt x="498" y="786"/>
                  </a:lnTo>
                  <a:lnTo>
                    <a:pt x="472" y="796"/>
                  </a:lnTo>
                  <a:lnTo>
                    <a:pt x="446" y="806"/>
                  </a:lnTo>
                  <a:lnTo>
                    <a:pt x="418" y="814"/>
                  </a:lnTo>
                  <a:lnTo>
                    <a:pt x="418" y="814"/>
                  </a:lnTo>
                  <a:lnTo>
                    <a:pt x="390" y="820"/>
                  </a:lnTo>
                  <a:lnTo>
                    <a:pt x="364" y="824"/>
                  </a:lnTo>
                  <a:lnTo>
                    <a:pt x="338" y="828"/>
                  </a:lnTo>
                  <a:lnTo>
                    <a:pt x="314" y="830"/>
                  </a:lnTo>
                  <a:lnTo>
                    <a:pt x="294" y="830"/>
                  </a:lnTo>
                  <a:lnTo>
                    <a:pt x="274" y="828"/>
                  </a:lnTo>
                  <a:lnTo>
                    <a:pt x="256" y="824"/>
                  </a:lnTo>
                  <a:lnTo>
                    <a:pt x="238" y="820"/>
                  </a:lnTo>
                  <a:lnTo>
                    <a:pt x="238" y="820"/>
                  </a:lnTo>
                  <a:lnTo>
                    <a:pt x="224" y="812"/>
                  </a:lnTo>
                  <a:lnTo>
                    <a:pt x="210" y="806"/>
                  </a:lnTo>
                  <a:lnTo>
                    <a:pt x="196" y="798"/>
                  </a:lnTo>
                  <a:lnTo>
                    <a:pt x="182" y="788"/>
                  </a:lnTo>
                  <a:lnTo>
                    <a:pt x="168" y="776"/>
                  </a:lnTo>
                  <a:lnTo>
                    <a:pt x="156" y="764"/>
                  </a:lnTo>
                  <a:lnTo>
                    <a:pt x="134" y="736"/>
                  </a:lnTo>
                  <a:lnTo>
                    <a:pt x="134" y="736"/>
                  </a:lnTo>
                  <a:lnTo>
                    <a:pt x="122" y="720"/>
                  </a:lnTo>
                  <a:lnTo>
                    <a:pt x="112" y="700"/>
                  </a:lnTo>
                  <a:lnTo>
                    <a:pt x="102" y="676"/>
                  </a:lnTo>
                  <a:lnTo>
                    <a:pt x="90" y="648"/>
                  </a:lnTo>
                  <a:lnTo>
                    <a:pt x="80" y="616"/>
                  </a:lnTo>
                  <a:lnTo>
                    <a:pt x="68" y="582"/>
                  </a:lnTo>
                  <a:lnTo>
                    <a:pt x="48" y="498"/>
                  </a:lnTo>
                  <a:lnTo>
                    <a:pt x="16" y="344"/>
                  </a:lnTo>
                  <a:lnTo>
                    <a:pt x="0" y="256"/>
                  </a:lnTo>
                  <a:close/>
                  <a:moveTo>
                    <a:pt x="258" y="204"/>
                  </a:moveTo>
                  <a:lnTo>
                    <a:pt x="288" y="428"/>
                  </a:lnTo>
                  <a:lnTo>
                    <a:pt x="288" y="428"/>
                  </a:lnTo>
                  <a:lnTo>
                    <a:pt x="364" y="410"/>
                  </a:lnTo>
                  <a:lnTo>
                    <a:pt x="444" y="386"/>
                  </a:lnTo>
                  <a:lnTo>
                    <a:pt x="444" y="386"/>
                  </a:lnTo>
                  <a:lnTo>
                    <a:pt x="434" y="330"/>
                  </a:lnTo>
                  <a:lnTo>
                    <a:pt x="434" y="330"/>
                  </a:lnTo>
                  <a:lnTo>
                    <a:pt x="428" y="310"/>
                  </a:lnTo>
                  <a:lnTo>
                    <a:pt x="422" y="294"/>
                  </a:lnTo>
                  <a:lnTo>
                    <a:pt x="416" y="278"/>
                  </a:lnTo>
                  <a:lnTo>
                    <a:pt x="408" y="264"/>
                  </a:lnTo>
                  <a:lnTo>
                    <a:pt x="400" y="252"/>
                  </a:lnTo>
                  <a:lnTo>
                    <a:pt x="390" y="242"/>
                  </a:lnTo>
                  <a:lnTo>
                    <a:pt x="380" y="232"/>
                  </a:lnTo>
                  <a:lnTo>
                    <a:pt x="368" y="224"/>
                  </a:lnTo>
                  <a:lnTo>
                    <a:pt x="368" y="224"/>
                  </a:lnTo>
                  <a:lnTo>
                    <a:pt x="356" y="216"/>
                  </a:lnTo>
                  <a:lnTo>
                    <a:pt x="344" y="210"/>
                  </a:lnTo>
                  <a:lnTo>
                    <a:pt x="330" y="206"/>
                  </a:lnTo>
                  <a:lnTo>
                    <a:pt x="316" y="204"/>
                  </a:lnTo>
                  <a:lnTo>
                    <a:pt x="302" y="202"/>
                  </a:lnTo>
                  <a:lnTo>
                    <a:pt x="288" y="202"/>
                  </a:lnTo>
                  <a:lnTo>
                    <a:pt x="274" y="202"/>
                  </a:lnTo>
                  <a:lnTo>
                    <a:pt x="258" y="204"/>
                  </a:lnTo>
                  <a:lnTo>
                    <a:pt x="258" y="204"/>
                  </a:lnTo>
                  <a:close/>
                </a:path>
              </a:pathLst>
            </a:custGeom>
            <a:noFill/>
            <a:ln w="495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44"/>
            <p:cNvSpPr/>
            <p:nvPr/>
          </p:nvSpPr>
          <p:spPr>
            <a:xfrm>
              <a:off x="7148520" y="10590120"/>
              <a:ext cx="365040" cy="812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230" h="512">
                  <a:moveTo>
                    <a:pt x="0" y="512"/>
                  </a:moveTo>
                  <a:lnTo>
                    <a:pt x="108" y="44"/>
                  </a:lnTo>
                  <a:lnTo>
                    <a:pt x="230" y="0"/>
                  </a:lnTo>
                  <a:lnTo>
                    <a:pt x="70" y="484"/>
                  </a:lnTo>
                  <a:lnTo>
                    <a:pt x="0" y="512"/>
                  </a:lnTo>
                  <a:close/>
                </a:path>
              </a:pathLst>
            </a:custGeom>
            <a:noFill/>
            <a:ln w="495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45"/>
            <p:cNvSpPr/>
            <p:nvPr/>
          </p:nvSpPr>
          <p:spPr>
            <a:xfrm>
              <a:off x="8256600" y="10894680"/>
              <a:ext cx="1301760" cy="1390680"/>
            </a:xfrm>
            <a:custGeom>
              <a:avLst/>
              <a:gdLst>
                <a:gd name="textAreaLeft" fmla="*/ 0 w 1301760"/>
                <a:gd name="textAreaRight" fmla="*/ 1302120 w 1301760"/>
                <a:gd name="textAreaTop" fmla="*/ 0 h 1390680"/>
                <a:gd name="textAreaBottom" fmla="*/ 1391040 h 1390680"/>
              </a:gdLst>
              <a:ahLst/>
              <a:rect l="textAreaLeft" t="textAreaTop" r="textAreaRight" b="textAreaBottom"/>
              <a:pathLst>
                <a:path w="820" h="876">
                  <a:moveTo>
                    <a:pt x="182" y="82"/>
                  </a:moveTo>
                  <a:lnTo>
                    <a:pt x="182" y="82"/>
                  </a:lnTo>
                  <a:lnTo>
                    <a:pt x="330" y="58"/>
                  </a:lnTo>
                  <a:lnTo>
                    <a:pt x="330" y="58"/>
                  </a:lnTo>
                  <a:lnTo>
                    <a:pt x="406" y="44"/>
                  </a:lnTo>
                  <a:lnTo>
                    <a:pt x="480" y="30"/>
                  </a:lnTo>
                  <a:lnTo>
                    <a:pt x="554" y="16"/>
                  </a:lnTo>
                  <a:lnTo>
                    <a:pt x="626" y="0"/>
                  </a:lnTo>
                  <a:lnTo>
                    <a:pt x="626" y="0"/>
                  </a:lnTo>
                  <a:lnTo>
                    <a:pt x="622" y="70"/>
                  </a:lnTo>
                  <a:lnTo>
                    <a:pt x="622" y="70"/>
                  </a:lnTo>
                  <a:lnTo>
                    <a:pt x="620" y="122"/>
                  </a:lnTo>
                  <a:lnTo>
                    <a:pt x="622" y="166"/>
                  </a:lnTo>
                  <a:lnTo>
                    <a:pt x="624" y="204"/>
                  </a:lnTo>
                  <a:lnTo>
                    <a:pt x="628" y="232"/>
                  </a:lnTo>
                  <a:lnTo>
                    <a:pt x="628" y="232"/>
                  </a:lnTo>
                  <a:lnTo>
                    <a:pt x="598" y="230"/>
                  </a:lnTo>
                  <a:lnTo>
                    <a:pt x="562" y="228"/>
                  </a:lnTo>
                  <a:lnTo>
                    <a:pt x="520" y="228"/>
                  </a:lnTo>
                  <a:lnTo>
                    <a:pt x="474" y="230"/>
                  </a:lnTo>
                  <a:lnTo>
                    <a:pt x="420" y="234"/>
                  </a:lnTo>
                  <a:lnTo>
                    <a:pt x="362" y="238"/>
                  </a:lnTo>
                  <a:lnTo>
                    <a:pt x="228" y="256"/>
                  </a:lnTo>
                  <a:lnTo>
                    <a:pt x="228" y="256"/>
                  </a:lnTo>
                  <a:lnTo>
                    <a:pt x="236" y="270"/>
                  </a:lnTo>
                  <a:lnTo>
                    <a:pt x="248" y="282"/>
                  </a:lnTo>
                  <a:lnTo>
                    <a:pt x="260" y="294"/>
                  </a:lnTo>
                  <a:lnTo>
                    <a:pt x="272" y="304"/>
                  </a:lnTo>
                  <a:lnTo>
                    <a:pt x="286" y="312"/>
                  </a:lnTo>
                  <a:lnTo>
                    <a:pt x="302" y="320"/>
                  </a:lnTo>
                  <a:lnTo>
                    <a:pt x="318" y="326"/>
                  </a:lnTo>
                  <a:lnTo>
                    <a:pt x="336" y="330"/>
                  </a:lnTo>
                  <a:lnTo>
                    <a:pt x="356" y="334"/>
                  </a:lnTo>
                  <a:lnTo>
                    <a:pt x="376" y="336"/>
                  </a:lnTo>
                  <a:lnTo>
                    <a:pt x="398" y="338"/>
                  </a:lnTo>
                  <a:lnTo>
                    <a:pt x="420" y="336"/>
                  </a:lnTo>
                  <a:lnTo>
                    <a:pt x="468" y="332"/>
                  </a:lnTo>
                  <a:lnTo>
                    <a:pt x="522" y="320"/>
                  </a:lnTo>
                  <a:lnTo>
                    <a:pt x="522" y="320"/>
                  </a:lnTo>
                  <a:lnTo>
                    <a:pt x="578" y="308"/>
                  </a:lnTo>
                  <a:lnTo>
                    <a:pt x="624" y="300"/>
                  </a:lnTo>
                  <a:lnTo>
                    <a:pt x="660" y="294"/>
                  </a:lnTo>
                  <a:lnTo>
                    <a:pt x="688" y="294"/>
                  </a:lnTo>
                  <a:lnTo>
                    <a:pt x="688" y="294"/>
                  </a:lnTo>
                  <a:lnTo>
                    <a:pt x="710" y="296"/>
                  </a:lnTo>
                  <a:lnTo>
                    <a:pt x="730" y="302"/>
                  </a:lnTo>
                  <a:lnTo>
                    <a:pt x="748" y="310"/>
                  </a:lnTo>
                  <a:lnTo>
                    <a:pt x="766" y="322"/>
                  </a:lnTo>
                  <a:lnTo>
                    <a:pt x="766" y="322"/>
                  </a:lnTo>
                  <a:lnTo>
                    <a:pt x="780" y="338"/>
                  </a:lnTo>
                  <a:lnTo>
                    <a:pt x="792" y="360"/>
                  </a:lnTo>
                  <a:lnTo>
                    <a:pt x="804" y="384"/>
                  </a:lnTo>
                  <a:lnTo>
                    <a:pt x="812" y="414"/>
                  </a:lnTo>
                  <a:lnTo>
                    <a:pt x="812" y="414"/>
                  </a:lnTo>
                  <a:lnTo>
                    <a:pt x="818" y="448"/>
                  </a:lnTo>
                  <a:lnTo>
                    <a:pt x="820" y="482"/>
                  </a:lnTo>
                  <a:lnTo>
                    <a:pt x="820" y="516"/>
                  </a:lnTo>
                  <a:lnTo>
                    <a:pt x="816" y="552"/>
                  </a:lnTo>
                  <a:lnTo>
                    <a:pt x="816" y="552"/>
                  </a:lnTo>
                  <a:lnTo>
                    <a:pt x="808" y="586"/>
                  </a:lnTo>
                  <a:lnTo>
                    <a:pt x="798" y="618"/>
                  </a:lnTo>
                  <a:lnTo>
                    <a:pt x="786" y="646"/>
                  </a:lnTo>
                  <a:lnTo>
                    <a:pt x="772" y="672"/>
                  </a:lnTo>
                  <a:lnTo>
                    <a:pt x="772" y="672"/>
                  </a:lnTo>
                  <a:lnTo>
                    <a:pt x="764" y="684"/>
                  </a:lnTo>
                  <a:lnTo>
                    <a:pt x="754" y="696"/>
                  </a:lnTo>
                  <a:lnTo>
                    <a:pt x="742" y="710"/>
                  </a:lnTo>
                  <a:lnTo>
                    <a:pt x="728" y="722"/>
                  </a:lnTo>
                  <a:lnTo>
                    <a:pt x="694" y="748"/>
                  </a:lnTo>
                  <a:lnTo>
                    <a:pt x="652" y="776"/>
                  </a:lnTo>
                  <a:lnTo>
                    <a:pt x="652" y="776"/>
                  </a:lnTo>
                  <a:lnTo>
                    <a:pt x="606" y="802"/>
                  </a:lnTo>
                  <a:lnTo>
                    <a:pt x="558" y="824"/>
                  </a:lnTo>
                  <a:lnTo>
                    <a:pt x="508" y="842"/>
                  </a:lnTo>
                  <a:lnTo>
                    <a:pt x="456" y="856"/>
                  </a:lnTo>
                  <a:lnTo>
                    <a:pt x="456" y="856"/>
                  </a:lnTo>
                  <a:lnTo>
                    <a:pt x="410" y="866"/>
                  </a:lnTo>
                  <a:lnTo>
                    <a:pt x="364" y="872"/>
                  </a:lnTo>
                  <a:lnTo>
                    <a:pt x="322" y="876"/>
                  </a:lnTo>
                  <a:lnTo>
                    <a:pt x="280" y="876"/>
                  </a:lnTo>
                  <a:lnTo>
                    <a:pt x="240" y="874"/>
                  </a:lnTo>
                  <a:lnTo>
                    <a:pt x="200" y="868"/>
                  </a:lnTo>
                  <a:lnTo>
                    <a:pt x="162" y="860"/>
                  </a:lnTo>
                  <a:lnTo>
                    <a:pt x="126" y="848"/>
                  </a:lnTo>
                  <a:lnTo>
                    <a:pt x="126" y="848"/>
                  </a:lnTo>
                  <a:lnTo>
                    <a:pt x="130" y="784"/>
                  </a:lnTo>
                  <a:lnTo>
                    <a:pt x="142" y="706"/>
                  </a:lnTo>
                  <a:lnTo>
                    <a:pt x="142" y="706"/>
                  </a:lnTo>
                  <a:lnTo>
                    <a:pt x="178" y="712"/>
                  </a:lnTo>
                  <a:lnTo>
                    <a:pt x="216" y="716"/>
                  </a:lnTo>
                  <a:lnTo>
                    <a:pt x="254" y="718"/>
                  </a:lnTo>
                  <a:lnTo>
                    <a:pt x="292" y="718"/>
                  </a:lnTo>
                  <a:lnTo>
                    <a:pt x="332" y="716"/>
                  </a:lnTo>
                  <a:lnTo>
                    <a:pt x="372" y="712"/>
                  </a:lnTo>
                  <a:lnTo>
                    <a:pt x="414" y="704"/>
                  </a:lnTo>
                  <a:lnTo>
                    <a:pt x="454" y="696"/>
                  </a:lnTo>
                  <a:lnTo>
                    <a:pt x="454" y="696"/>
                  </a:lnTo>
                  <a:lnTo>
                    <a:pt x="476" y="690"/>
                  </a:lnTo>
                  <a:lnTo>
                    <a:pt x="498" y="682"/>
                  </a:lnTo>
                  <a:lnTo>
                    <a:pt x="518" y="674"/>
                  </a:lnTo>
                  <a:lnTo>
                    <a:pt x="536" y="664"/>
                  </a:lnTo>
                  <a:lnTo>
                    <a:pt x="554" y="652"/>
                  </a:lnTo>
                  <a:lnTo>
                    <a:pt x="572" y="638"/>
                  </a:lnTo>
                  <a:lnTo>
                    <a:pt x="590" y="622"/>
                  </a:lnTo>
                  <a:lnTo>
                    <a:pt x="604" y="606"/>
                  </a:lnTo>
                  <a:lnTo>
                    <a:pt x="604" y="606"/>
                  </a:lnTo>
                  <a:lnTo>
                    <a:pt x="590" y="600"/>
                  </a:lnTo>
                  <a:lnTo>
                    <a:pt x="574" y="596"/>
                  </a:lnTo>
                  <a:lnTo>
                    <a:pt x="560" y="592"/>
                  </a:lnTo>
                  <a:lnTo>
                    <a:pt x="544" y="590"/>
                  </a:lnTo>
                  <a:lnTo>
                    <a:pt x="528" y="588"/>
                  </a:lnTo>
                  <a:lnTo>
                    <a:pt x="514" y="590"/>
                  </a:lnTo>
                  <a:lnTo>
                    <a:pt x="498" y="592"/>
                  </a:lnTo>
                  <a:lnTo>
                    <a:pt x="484" y="594"/>
                  </a:lnTo>
                  <a:lnTo>
                    <a:pt x="484" y="594"/>
                  </a:lnTo>
                  <a:lnTo>
                    <a:pt x="452" y="602"/>
                  </a:lnTo>
                  <a:lnTo>
                    <a:pt x="452" y="602"/>
                  </a:lnTo>
                  <a:lnTo>
                    <a:pt x="406" y="616"/>
                  </a:lnTo>
                  <a:lnTo>
                    <a:pt x="406" y="616"/>
                  </a:lnTo>
                  <a:lnTo>
                    <a:pt x="364" y="624"/>
                  </a:lnTo>
                  <a:lnTo>
                    <a:pt x="326" y="630"/>
                  </a:lnTo>
                  <a:lnTo>
                    <a:pt x="290" y="634"/>
                  </a:lnTo>
                  <a:lnTo>
                    <a:pt x="256" y="636"/>
                  </a:lnTo>
                  <a:lnTo>
                    <a:pt x="222" y="636"/>
                  </a:lnTo>
                  <a:lnTo>
                    <a:pt x="192" y="634"/>
                  </a:lnTo>
                  <a:lnTo>
                    <a:pt x="164" y="628"/>
                  </a:lnTo>
                  <a:lnTo>
                    <a:pt x="138" y="622"/>
                  </a:lnTo>
                  <a:lnTo>
                    <a:pt x="138" y="622"/>
                  </a:lnTo>
                  <a:lnTo>
                    <a:pt x="114" y="612"/>
                  </a:lnTo>
                  <a:lnTo>
                    <a:pt x="94" y="600"/>
                  </a:lnTo>
                  <a:lnTo>
                    <a:pt x="74" y="584"/>
                  </a:lnTo>
                  <a:lnTo>
                    <a:pt x="56" y="566"/>
                  </a:lnTo>
                  <a:lnTo>
                    <a:pt x="42" y="544"/>
                  </a:lnTo>
                  <a:lnTo>
                    <a:pt x="28" y="520"/>
                  </a:lnTo>
                  <a:lnTo>
                    <a:pt x="18" y="492"/>
                  </a:lnTo>
                  <a:lnTo>
                    <a:pt x="10" y="460"/>
                  </a:lnTo>
                  <a:lnTo>
                    <a:pt x="10" y="460"/>
                  </a:lnTo>
                  <a:lnTo>
                    <a:pt x="4" y="436"/>
                  </a:lnTo>
                  <a:lnTo>
                    <a:pt x="0" y="410"/>
                  </a:lnTo>
                  <a:lnTo>
                    <a:pt x="0" y="386"/>
                  </a:lnTo>
                  <a:lnTo>
                    <a:pt x="0" y="364"/>
                  </a:lnTo>
                  <a:lnTo>
                    <a:pt x="2" y="340"/>
                  </a:lnTo>
                  <a:lnTo>
                    <a:pt x="8" y="318"/>
                  </a:lnTo>
                  <a:lnTo>
                    <a:pt x="14" y="298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2" y="256"/>
                  </a:lnTo>
                  <a:lnTo>
                    <a:pt x="44" y="234"/>
                  </a:lnTo>
                  <a:lnTo>
                    <a:pt x="60" y="212"/>
                  </a:lnTo>
                  <a:lnTo>
                    <a:pt x="80" y="188"/>
                  </a:lnTo>
                  <a:lnTo>
                    <a:pt x="100" y="162"/>
                  </a:lnTo>
                  <a:lnTo>
                    <a:pt x="124" y="136"/>
                  </a:lnTo>
                  <a:lnTo>
                    <a:pt x="182" y="82"/>
                  </a:lnTo>
                  <a:lnTo>
                    <a:pt x="182" y="82"/>
                  </a:lnTo>
                  <a:close/>
                </a:path>
              </a:pathLst>
            </a:custGeom>
            <a:noFill/>
            <a:ln w="495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46"/>
            <p:cNvSpPr/>
            <p:nvPr/>
          </p:nvSpPr>
          <p:spPr>
            <a:xfrm>
              <a:off x="711360" y="8599320"/>
              <a:ext cx="3324240" cy="2905200"/>
            </a:xfrm>
            <a:custGeom>
              <a:avLst/>
              <a:gdLst>
                <a:gd name="textAreaLeft" fmla="*/ 0 w 3324240"/>
                <a:gd name="textAreaRight" fmla="*/ 3324600 w 3324240"/>
                <a:gd name="textAreaTop" fmla="*/ 0 h 2905200"/>
                <a:gd name="textAreaBottom" fmla="*/ 2905200 h 2905200"/>
              </a:gdLst>
              <a:ahLst/>
              <a:rect l="textAreaLeft" t="textAreaTop" r="textAreaRight" b="textAreaBottom"/>
              <a:pathLst>
                <a:path w="2094" h="1830">
                  <a:moveTo>
                    <a:pt x="1762" y="0"/>
                  </a:moveTo>
                  <a:lnTo>
                    <a:pt x="1762" y="0"/>
                  </a:lnTo>
                  <a:lnTo>
                    <a:pt x="1910" y="8"/>
                  </a:lnTo>
                  <a:lnTo>
                    <a:pt x="1988" y="10"/>
                  </a:lnTo>
                  <a:lnTo>
                    <a:pt x="1988" y="10"/>
                  </a:lnTo>
                  <a:lnTo>
                    <a:pt x="2016" y="66"/>
                  </a:lnTo>
                  <a:lnTo>
                    <a:pt x="2040" y="120"/>
                  </a:lnTo>
                  <a:lnTo>
                    <a:pt x="2058" y="176"/>
                  </a:lnTo>
                  <a:lnTo>
                    <a:pt x="2074" y="232"/>
                  </a:lnTo>
                  <a:lnTo>
                    <a:pt x="2074" y="232"/>
                  </a:lnTo>
                  <a:lnTo>
                    <a:pt x="2082" y="268"/>
                  </a:lnTo>
                  <a:lnTo>
                    <a:pt x="2086" y="302"/>
                  </a:lnTo>
                  <a:lnTo>
                    <a:pt x="2090" y="336"/>
                  </a:lnTo>
                  <a:lnTo>
                    <a:pt x="2094" y="370"/>
                  </a:lnTo>
                  <a:lnTo>
                    <a:pt x="2094" y="404"/>
                  </a:lnTo>
                  <a:lnTo>
                    <a:pt x="2094" y="438"/>
                  </a:lnTo>
                  <a:lnTo>
                    <a:pt x="2090" y="472"/>
                  </a:lnTo>
                  <a:lnTo>
                    <a:pt x="2086" y="506"/>
                  </a:lnTo>
                  <a:lnTo>
                    <a:pt x="2086" y="506"/>
                  </a:lnTo>
                  <a:lnTo>
                    <a:pt x="2048" y="562"/>
                  </a:lnTo>
                  <a:lnTo>
                    <a:pt x="2008" y="626"/>
                  </a:lnTo>
                  <a:lnTo>
                    <a:pt x="2008" y="626"/>
                  </a:lnTo>
                  <a:lnTo>
                    <a:pt x="1968" y="698"/>
                  </a:lnTo>
                  <a:lnTo>
                    <a:pt x="1922" y="786"/>
                  </a:lnTo>
                  <a:lnTo>
                    <a:pt x="1922" y="786"/>
                  </a:lnTo>
                  <a:lnTo>
                    <a:pt x="1878" y="882"/>
                  </a:lnTo>
                  <a:lnTo>
                    <a:pt x="1834" y="982"/>
                  </a:lnTo>
                  <a:lnTo>
                    <a:pt x="1834" y="982"/>
                  </a:lnTo>
                  <a:lnTo>
                    <a:pt x="1800" y="1064"/>
                  </a:lnTo>
                  <a:lnTo>
                    <a:pt x="1768" y="1146"/>
                  </a:lnTo>
                  <a:lnTo>
                    <a:pt x="1736" y="1226"/>
                  </a:lnTo>
                  <a:lnTo>
                    <a:pt x="1708" y="1308"/>
                  </a:lnTo>
                  <a:lnTo>
                    <a:pt x="1680" y="1388"/>
                  </a:lnTo>
                  <a:lnTo>
                    <a:pt x="1654" y="1470"/>
                  </a:lnTo>
                  <a:lnTo>
                    <a:pt x="1628" y="1550"/>
                  </a:lnTo>
                  <a:lnTo>
                    <a:pt x="1606" y="1632"/>
                  </a:lnTo>
                  <a:lnTo>
                    <a:pt x="1380" y="1830"/>
                  </a:lnTo>
                  <a:lnTo>
                    <a:pt x="1260" y="1418"/>
                  </a:lnTo>
                  <a:lnTo>
                    <a:pt x="1260" y="1418"/>
                  </a:lnTo>
                  <a:lnTo>
                    <a:pt x="1230" y="1328"/>
                  </a:lnTo>
                  <a:lnTo>
                    <a:pt x="1202" y="1244"/>
                  </a:lnTo>
                  <a:lnTo>
                    <a:pt x="1174" y="1170"/>
                  </a:lnTo>
                  <a:lnTo>
                    <a:pt x="1144" y="1102"/>
                  </a:lnTo>
                  <a:lnTo>
                    <a:pt x="1144" y="1102"/>
                  </a:lnTo>
                  <a:lnTo>
                    <a:pt x="1114" y="1044"/>
                  </a:lnTo>
                  <a:lnTo>
                    <a:pt x="1084" y="992"/>
                  </a:lnTo>
                  <a:lnTo>
                    <a:pt x="1052" y="944"/>
                  </a:lnTo>
                  <a:lnTo>
                    <a:pt x="1020" y="902"/>
                  </a:lnTo>
                  <a:lnTo>
                    <a:pt x="1020" y="902"/>
                  </a:lnTo>
                  <a:lnTo>
                    <a:pt x="986" y="864"/>
                  </a:lnTo>
                  <a:lnTo>
                    <a:pt x="946" y="826"/>
                  </a:lnTo>
                  <a:lnTo>
                    <a:pt x="902" y="786"/>
                  </a:lnTo>
                  <a:lnTo>
                    <a:pt x="852" y="748"/>
                  </a:lnTo>
                  <a:lnTo>
                    <a:pt x="852" y="748"/>
                  </a:lnTo>
                  <a:lnTo>
                    <a:pt x="810" y="736"/>
                  </a:lnTo>
                  <a:lnTo>
                    <a:pt x="768" y="726"/>
                  </a:lnTo>
                  <a:lnTo>
                    <a:pt x="728" y="718"/>
                  </a:lnTo>
                  <a:lnTo>
                    <a:pt x="686" y="712"/>
                  </a:lnTo>
                  <a:lnTo>
                    <a:pt x="644" y="706"/>
                  </a:lnTo>
                  <a:lnTo>
                    <a:pt x="602" y="702"/>
                  </a:lnTo>
                  <a:lnTo>
                    <a:pt x="560" y="698"/>
                  </a:lnTo>
                  <a:lnTo>
                    <a:pt x="518" y="698"/>
                  </a:lnTo>
                  <a:lnTo>
                    <a:pt x="476" y="698"/>
                  </a:lnTo>
                  <a:lnTo>
                    <a:pt x="434" y="698"/>
                  </a:lnTo>
                  <a:lnTo>
                    <a:pt x="392" y="702"/>
                  </a:lnTo>
                  <a:lnTo>
                    <a:pt x="350" y="706"/>
                  </a:lnTo>
                  <a:lnTo>
                    <a:pt x="306" y="710"/>
                  </a:lnTo>
                  <a:lnTo>
                    <a:pt x="264" y="718"/>
                  </a:lnTo>
                  <a:lnTo>
                    <a:pt x="220" y="726"/>
                  </a:lnTo>
                  <a:lnTo>
                    <a:pt x="178" y="734"/>
                  </a:lnTo>
                  <a:lnTo>
                    <a:pt x="178" y="734"/>
                  </a:lnTo>
                  <a:lnTo>
                    <a:pt x="134" y="746"/>
                  </a:lnTo>
                  <a:lnTo>
                    <a:pt x="90" y="760"/>
                  </a:lnTo>
                  <a:lnTo>
                    <a:pt x="46" y="776"/>
                  </a:lnTo>
                  <a:lnTo>
                    <a:pt x="0" y="794"/>
                  </a:lnTo>
                  <a:lnTo>
                    <a:pt x="0" y="794"/>
                  </a:lnTo>
                  <a:lnTo>
                    <a:pt x="36" y="696"/>
                  </a:lnTo>
                  <a:lnTo>
                    <a:pt x="64" y="612"/>
                  </a:lnTo>
                  <a:lnTo>
                    <a:pt x="86" y="544"/>
                  </a:lnTo>
                  <a:lnTo>
                    <a:pt x="100" y="488"/>
                  </a:lnTo>
                  <a:lnTo>
                    <a:pt x="100" y="488"/>
                  </a:lnTo>
                  <a:lnTo>
                    <a:pt x="140" y="456"/>
                  </a:lnTo>
                  <a:lnTo>
                    <a:pt x="180" y="426"/>
                  </a:lnTo>
                  <a:lnTo>
                    <a:pt x="220" y="400"/>
                  </a:lnTo>
                  <a:lnTo>
                    <a:pt x="262" y="376"/>
                  </a:lnTo>
                  <a:lnTo>
                    <a:pt x="306" y="356"/>
                  </a:lnTo>
                  <a:lnTo>
                    <a:pt x="350" y="338"/>
                  </a:lnTo>
                  <a:lnTo>
                    <a:pt x="394" y="322"/>
                  </a:lnTo>
                  <a:lnTo>
                    <a:pt x="440" y="310"/>
                  </a:lnTo>
                  <a:lnTo>
                    <a:pt x="440" y="310"/>
                  </a:lnTo>
                  <a:lnTo>
                    <a:pt x="484" y="302"/>
                  </a:lnTo>
                  <a:lnTo>
                    <a:pt x="528" y="294"/>
                  </a:lnTo>
                  <a:lnTo>
                    <a:pt x="574" y="290"/>
                  </a:lnTo>
                  <a:lnTo>
                    <a:pt x="620" y="288"/>
                  </a:lnTo>
                  <a:lnTo>
                    <a:pt x="666" y="290"/>
                  </a:lnTo>
                  <a:lnTo>
                    <a:pt x="714" y="292"/>
                  </a:lnTo>
                  <a:lnTo>
                    <a:pt x="762" y="298"/>
                  </a:lnTo>
                  <a:lnTo>
                    <a:pt x="810" y="304"/>
                  </a:lnTo>
                  <a:lnTo>
                    <a:pt x="810" y="304"/>
                  </a:lnTo>
                  <a:lnTo>
                    <a:pt x="860" y="314"/>
                  </a:lnTo>
                  <a:lnTo>
                    <a:pt x="912" y="328"/>
                  </a:lnTo>
                  <a:lnTo>
                    <a:pt x="970" y="344"/>
                  </a:lnTo>
                  <a:lnTo>
                    <a:pt x="1030" y="364"/>
                  </a:lnTo>
                  <a:lnTo>
                    <a:pt x="1030" y="364"/>
                  </a:lnTo>
                  <a:lnTo>
                    <a:pt x="1094" y="388"/>
                  </a:lnTo>
                  <a:lnTo>
                    <a:pt x="1162" y="414"/>
                  </a:lnTo>
                  <a:lnTo>
                    <a:pt x="1232" y="444"/>
                  </a:lnTo>
                  <a:lnTo>
                    <a:pt x="1304" y="478"/>
                  </a:lnTo>
                  <a:lnTo>
                    <a:pt x="1304" y="478"/>
                  </a:lnTo>
                  <a:lnTo>
                    <a:pt x="1328" y="562"/>
                  </a:lnTo>
                  <a:lnTo>
                    <a:pt x="1328" y="562"/>
                  </a:lnTo>
                  <a:lnTo>
                    <a:pt x="1336" y="602"/>
                  </a:lnTo>
                  <a:lnTo>
                    <a:pt x="1348" y="668"/>
                  </a:lnTo>
                  <a:lnTo>
                    <a:pt x="1384" y="882"/>
                  </a:lnTo>
                  <a:lnTo>
                    <a:pt x="1384" y="882"/>
                  </a:lnTo>
                  <a:lnTo>
                    <a:pt x="1428" y="1156"/>
                  </a:lnTo>
                  <a:lnTo>
                    <a:pt x="1472" y="1448"/>
                  </a:lnTo>
                  <a:lnTo>
                    <a:pt x="1472" y="1448"/>
                  </a:lnTo>
                  <a:lnTo>
                    <a:pt x="1522" y="1326"/>
                  </a:lnTo>
                  <a:lnTo>
                    <a:pt x="1570" y="1210"/>
                  </a:lnTo>
                  <a:lnTo>
                    <a:pt x="1618" y="1104"/>
                  </a:lnTo>
                  <a:lnTo>
                    <a:pt x="1666" y="1006"/>
                  </a:lnTo>
                  <a:lnTo>
                    <a:pt x="1716" y="918"/>
                  </a:lnTo>
                  <a:lnTo>
                    <a:pt x="1764" y="838"/>
                  </a:lnTo>
                  <a:lnTo>
                    <a:pt x="1812" y="766"/>
                  </a:lnTo>
                  <a:lnTo>
                    <a:pt x="1836" y="732"/>
                  </a:lnTo>
                  <a:lnTo>
                    <a:pt x="1860" y="702"/>
                  </a:lnTo>
                  <a:lnTo>
                    <a:pt x="1790" y="434"/>
                  </a:lnTo>
                  <a:lnTo>
                    <a:pt x="1628" y="498"/>
                  </a:lnTo>
                  <a:lnTo>
                    <a:pt x="1628" y="498"/>
                  </a:lnTo>
                  <a:lnTo>
                    <a:pt x="1642" y="434"/>
                  </a:lnTo>
                  <a:lnTo>
                    <a:pt x="1666" y="338"/>
                  </a:lnTo>
                  <a:lnTo>
                    <a:pt x="1666" y="338"/>
                  </a:lnTo>
                  <a:lnTo>
                    <a:pt x="1704" y="198"/>
                  </a:lnTo>
                  <a:lnTo>
                    <a:pt x="1762" y="0"/>
                  </a:lnTo>
                  <a:lnTo>
                    <a:pt x="1762" y="0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47"/>
            <p:cNvSpPr/>
            <p:nvPr/>
          </p:nvSpPr>
          <p:spPr>
            <a:xfrm>
              <a:off x="4372200" y="9040680"/>
              <a:ext cx="1303200" cy="1326960"/>
            </a:xfrm>
            <a:custGeom>
              <a:avLst/>
              <a:gdLst>
                <a:gd name="textAreaLeft" fmla="*/ 0 w 1303200"/>
                <a:gd name="textAreaRight" fmla="*/ 1303560 w 1303200"/>
                <a:gd name="textAreaTop" fmla="*/ 0 h 1326960"/>
                <a:gd name="textAreaBottom" fmla="*/ 1327320 h 1326960"/>
              </a:gdLst>
              <a:ahLst/>
              <a:rect l="textAreaLeft" t="textAreaTop" r="textAreaRight" b="textAreaBottom"/>
              <a:pathLst>
                <a:path w="821" h="836">
                  <a:moveTo>
                    <a:pt x="174" y="8"/>
                  </a:moveTo>
                  <a:lnTo>
                    <a:pt x="174" y="8"/>
                  </a:lnTo>
                  <a:lnTo>
                    <a:pt x="334" y="2"/>
                  </a:lnTo>
                  <a:lnTo>
                    <a:pt x="334" y="2"/>
                  </a:lnTo>
                  <a:lnTo>
                    <a:pt x="446" y="0"/>
                  </a:lnTo>
                  <a:lnTo>
                    <a:pt x="484" y="0"/>
                  </a:lnTo>
                  <a:lnTo>
                    <a:pt x="512" y="2"/>
                  </a:lnTo>
                  <a:lnTo>
                    <a:pt x="512" y="2"/>
                  </a:lnTo>
                  <a:lnTo>
                    <a:pt x="532" y="6"/>
                  </a:lnTo>
                  <a:lnTo>
                    <a:pt x="554" y="12"/>
                  </a:lnTo>
                  <a:lnTo>
                    <a:pt x="576" y="20"/>
                  </a:lnTo>
                  <a:lnTo>
                    <a:pt x="598" y="32"/>
                  </a:lnTo>
                  <a:lnTo>
                    <a:pt x="598" y="32"/>
                  </a:lnTo>
                  <a:lnTo>
                    <a:pt x="618" y="46"/>
                  </a:lnTo>
                  <a:lnTo>
                    <a:pt x="639" y="64"/>
                  </a:lnTo>
                  <a:lnTo>
                    <a:pt x="657" y="86"/>
                  </a:lnTo>
                  <a:lnTo>
                    <a:pt x="673" y="112"/>
                  </a:lnTo>
                  <a:lnTo>
                    <a:pt x="673" y="112"/>
                  </a:lnTo>
                  <a:lnTo>
                    <a:pt x="689" y="144"/>
                  </a:lnTo>
                  <a:lnTo>
                    <a:pt x="703" y="180"/>
                  </a:lnTo>
                  <a:lnTo>
                    <a:pt x="717" y="222"/>
                  </a:lnTo>
                  <a:lnTo>
                    <a:pt x="729" y="270"/>
                  </a:lnTo>
                  <a:lnTo>
                    <a:pt x="787" y="534"/>
                  </a:lnTo>
                  <a:lnTo>
                    <a:pt x="787" y="534"/>
                  </a:lnTo>
                  <a:lnTo>
                    <a:pt x="801" y="584"/>
                  </a:lnTo>
                  <a:lnTo>
                    <a:pt x="821" y="642"/>
                  </a:lnTo>
                  <a:lnTo>
                    <a:pt x="821" y="642"/>
                  </a:lnTo>
                  <a:lnTo>
                    <a:pt x="775" y="662"/>
                  </a:lnTo>
                  <a:lnTo>
                    <a:pt x="715" y="694"/>
                  </a:lnTo>
                  <a:lnTo>
                    <a:pt x="641" y="734"/>
                  </a:lnTo>
                  <a:lnTo>
                    <a:pt x="550" y="786"/>
                  </a:lnTo>
                  <a:lnTo>
                    <a:pt x="550" y="786"/>
                  </a:lnTo>
                  <a:lnTo>
                    <a:pt x="540" y="718"/>
                  </a:lnTo>
                  <a:lnTo>
                    <a:pt x="526" y="638"/>
                  </a:lnTo>
                  <a:lnTo>
                    <a:pt x="508" y="546"/>
                  </a:lnTo>
                  <a:lnTo>
                    <a:pt x="486" y="444"/>
                  </a:lnTo>
                  <a:lnTo>
                    <a:pt x="486" y="444"/>
                  </a:lnTo>
                  <a:lnTo>
                    <a:pt x="478" y="464"/>
                  </a:lnTo>
                  <a:lnTo>
                    <a:pt x="466" y="490"/>
                  </a:lnTo>
                  <a:lnTo>
                    <a:pt x="426" y="570"/>
                  </a:lnTo>
                  <a:lnTo>
                    <a:pt x="426" y="570"/>
                  </a:lnTo>
                  <a:lnTo>
                    <a:pt x="364" y="686"/>
                  </a:lnTo>
                  <a:lnTo>
                    <a:pt x="280" y="836"/>
                  </a:lnTo>
                  <a:lnTo>
                    <a:pt x="280" y="836"/>
                  </a:lnTo>
                  <a:lnTo>
                    <a:pt x="230" y="834"/>
                  </a:lnTo>
                  <a:lnTo>
                    <a:pt x="186" y="830"/>
                  </a:lnTo>
                  <a:lnTo>
                    <a:pt x="148" y="824"/>
                  </a:lnTo>
                  <a:lnTo>
                    <a:pt x="116" y="818"/>
                  </a:lnTo>
                  <a:lnTo>
                    <a:pt x="116" y="818"/>
                  </a:lnTo>
                  <a:lnTo>
                    <a:pt x="76" y="716"/>
                  </a:lnTo>
                  <a:lnTo>
                    <a:pt x="76" y="716"/>
                  </a:lnTo>
                  <a:lnTo>
                    <a:pt x="58" y="662"/>
                  </a:lnTo>
                  <a:lnTo>
                    <a:pt x="42" y="612"/>
                  </a:lnTo>
                  <a:lnTo>
                    <a:pt x="26" y="562"/>
                  </a:lnTo>
                  <a:lnTo>
                    <a:pt x="16" y="516"/>
                  </a:lnTo>
                  <a:lnTo>
                    <a:pt x="16" y="516"/>
                  </a:lnTo>
                  <a:lnTo>
                    <a:pt x="8" y="484"/>
                  </a:lnTo>
                  <a:lnTo>
                    <a:pt x="4" y="452"/>
                  </a:lnTo>
                  <a:lnTo>
                    <a:pt x="0" y="422"/>
                  </a:lnTo>
                  <a:lnTo>
                    <a:pt x="0" y="392"/>
                  </a:lnTo>
                  <a:lnTo>
                    <a:pt x="0" y="364"/>
                  </a:lnTo>
                  <a:lnTo>
                    <a:pt x="4" y="336"/>
                  </a:lnTo>
                  <a:lnTo>
                    <a:pt x="8" y="310"/>
                  </a:lnTo>
                  <a:lnTo>
                    <a:pt x="14" y="284"/>
                  </a:lnTo>
                  <a:lnTo>
                    <a:pt x="14" y="284"/>
                  </a:lnTo>
                  <a:lnTo>
                    <a:pt x="24" y="258"/>
                  </a:lnTo>
                  <a:lnTo>
                    <a:pt x="36" y="228"/>
                  </a:lnTo>
                  <a:lnTo>
                    <a:pt x="52" y="198"/>
                  </a:lnTo>
                  <a:lnTo>
                    <a:pt x="70" y="164"/>
                  </a:lnTo>
                  <a:lnTo>
                    <a:pt x="90" y="128"/>
                  </a:lnTo>
                  <a:lnTo>
                    <a:pt x="116" y="90"/>
                  </a:lnTo>
                  <a:lnTo>
                    <a:pt x="144" y="50"/>
                  </a:lnTo>
                  <a:lnTo>
                    <a:pt x="174" y="8"/>
                  </a:lnTo>
                  <a:lnTo>
                    <a:pt x="174" y="8"/>
                  </a:lnTo>
                  <a:close/>
                  <a:moveTo>
                    <a:pt x="222" y="224"/>
                  </a:moveTo>
                  <a:lnTo>
                    <a:pt x="322" y="572"/>
                  </a:lnTo>
                  <a:lnTo>
                    <a:pt x="322" y="572"/>
                  </a:lnTo>
                  <a:lnTo>
                    <a:pt x="356" y="504"/>
                  </a:lnTo>
                  <a:lnTo>
                    <a:pt x="386" y="428"/>
                  </a:lnTo>
                  <a:lnTo>
                    <a:pt x="386" y="428"/>
                  </a:lnTo>
                  <a:lnTo>
                    <a:pt x="412" y="350"/>
                  </a:lnTo>
                  <a:lnTo>
                    <a:pt x="434" y="280"/>
                  </a:lnTo>
                  <a:lnTo>
                    <a:pt x="434" y="280"/>
                  </a:lnTo>
                  <a:lnTo>
                    <a:pt x="416" y="266"/>
                  </a:lnTo>
                  <a:lnTo>
                    <a:pt x="396" y="254"/>
                  </a:lnTo>
                  <a:lnTo>
                    <a:pt x="374" y="244"/>
                  </a:lnTo>
                  <a:lnTo>
                    <a:pt x="350" y="236"/>
                  </a:lnTo>
                  <a:lnTo>
                    <a:pt x="322" y="230"/>
                  </a:lnTo>
                  <a:lnTo>
                    <a:pt x="290" y="226"/>
                  </a:lnTo>
                  <a:lnTo>
                    <a:pt x="258" y="224"/>
                  </a:lnTo>
                  <a:lnTo>
                    <a:pt x="222" y="224"/>
                  </a:lnTo>
                  <a:lnTo>
                    <a:pt x="222" y="224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48"/>
            <p:cNvSpPr/>
            <p:nvPr/>
          </p:nvSpPr>
          <p:spPr>
            <a:xfrm>
              <a:off x="5672160" y="8040600"/>
              <a:ext cx="961920" cy="19652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1965240"/>
                <a:gd name="textAreaBottom" fmla="*/ 1965600 h 1965240"/>
              </a:gdLst>
              <a:ahLst/>
              <a:rect l="textAreaLeft" t="textAreaTop" r="textAreaRight" b="textAreaBottom"/>
              <a:pathLst>
                <a:path w="606" h="1238">
                  <a:moveTo>
                    <a:pt x="0" y="148"/>
                  </a:moveTo>
                  <a:lnTo>
                    <a:pt x="156" y="64"/>
                  </a:lnTo>
                  <a:lnTo>
                    <a:pt x="272" y="0"/>
                  </a:lnTo>
                  <a:lnTo>
                    <a:pt x="392" y="670"/>
                  </a:lnTo>
                  <a:lnTo>
                    <a:pt x="440" y="934"/>
                  </a:lnTo>
                  <a:lnTo>
                    <a:pt x="440" y="934"/>
                  </a:lnTo>
                  <a:lnTo>
                    <a:pt x="518" y="966"/>
                  </a:lnTo>
                  <a:lnTo>
                    <a:pt x="604" y="996"/>
                  </a:lnTo>
                  <a:lnTo>
                    <a:pt x="606" y="1002"/>
                  </a:lnTo>
                  <a:lnTo>
                    <a:pt x="606" y="1002"/>
                  </a:lnTo>
                  <a:lnTo>
                    <a:pt x="568" y="1064"/>
                  </a:lnTo>
                  <a:lnTo>
                    <a:pt x="536" y="1122"/>
                  </a:lnTo>
                  <a:lnTo>
                    <a:pt x="508" y="1182"/>
                  </a:lnTo>
                  <a:lnTo>
                    <a:pt x="482" y="1238"/>
                  </a:lnTo>
                  <a:lnTo>
                    <a:pt x="482" y="1238"/>
                  </a:lnTo>
                  <a:lnTo>
                    <a:pt x="452" y="1238"/>
                  </a:lnTo>
                  <a:lnTo>
                    <a:pt x="424" y="1234"/>
                  </a:lnTo>
                  <a:lnTo>
                    <a:pt x="396" y="1230"/>
                  </a:lnTo>
                  <a:lnTo>
                    <a:pt x="370" y="1222"/>
                  </a:lnTo>
                  <a:lnTo>
                    <a:pt x="346" y="1214"/>
                  </a:lnTo>
                  <a:lnTo>
                    <a:pt x="324" y="1202"/>
                  </a:lnTo>
                  <a:lnTo>
                    <a:pt x="302" y="1188"/>
                  </a:lnTo>
                  <a:lnTo>
                    <a:pt x="282" y="1172"/>
                  </a:lnTo>
                  <a:lnTo>
                    <a:pt x="282" y="1172"/>
                  </a:lnTo>
                  <a:lnTo>
                    <a:pt x="264" y="1154"/>
                  </a:lnTo>
                  <a:lnTo>
                    <a:pt x="248" y="1134"/>
                  </a:lnTo>
                  <a:lnTo>
                    <a:pt x="232" y="1112"/>
                  </a:lnTo>
                  <a:lnTo>
                    <a:pt x="218" y="1086"/>
                  </a:lnTo>
                  <a:lnTo>
                    <a:pt x="204" y="1060"/>
                  </a:lnTo>
                  <a:lnTo>
                    <a:pt x="192" y="1032"/>
                  </a:lnTo>
                  <a:lnTo>
                    <a:pt x="182" y="1000"/>
                  </a:lnTo>
                  <a:lnTo>
                    <a:pt x="174" y="966"/>
                  </a:lnTo>
                  <a:lnTo>
                    <a:pt x="174" y="966"/>
                  </a:lnTo>
                  <a:lnTo>
                    <a:pt x="158" y="894"/>
                  </a:lnTo>
                  <a:lnTo>
                    <a:pt x="138" y="786"/>
                  </a:lnTo>
                  <a:lnTo>
                    <a:pt x="138" y="786"/>
                  </a:lnTo>
                  <a:lnTo>
                    <a:pt x="92" y="566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49"/>
            <p:cNvSpPr/>
            <p:nvPr/>
          </p:nvSpPr>
          <p:spPr>
            <a:xfrm>
              <a:off x="6729480" y="8440560"/>
              <a:ext cx="1056960" cy="1317600"/>
            </a:xfrm>
            <a:custGeom>
              <a:avLst/>
              <a:gdLst>
                <a:gd name="textAreaLeft" fmla="*/ 0 w 1056960"/>
                <a:gd name="textAreaRight" fmla="*/ 1057320 w 1056960"/>
                <a:gd name="textAreaTop" fmla="*/ 0 h 1317600"/>
                <a:gd name="textAreaBottom" fmla="*/ 1317960 h 1317600"/>
              </a:gdLst>
              <a:ahLst/>
              <a:rect l="textAreaLeft" t="textAreaTop" r="textAreaRight" b="textAreaBottom"/>
              <a:pathLst>
                <a:path w="666" h="830">
                  <a:moveTo>
                    <a:pt x="0" y="256"/>
                  </a:moveTo>
                  <a:lnTo>
                    <a:pt x="150" y="40"/>
                  </a:lnTo>
                  <a:lnTo>
                    <a:pt x="382" y="4"/>
                  </a:lnTo>
                  <a:lnTo>
                    <a:pt x="382" y="4"/>
                  </a:lnTo>
                  <a:lnTo>
                    <a:pt x="410" y="2"/>
                  </a:lnTo>
                  <a:lnTo>
                    <a:pt x="436" y="0"/>
                  </a:lnTo>
                  <a:lnTo>
                    <a:pt x="460" y="0"/>
                  </a:lnTo>
                  <a:lnTo>
                    <a:pt x="482" y="2"/>
                  </a:lnTo>
                  <a:lnTo>
                    <a:pt x="502" y="6"/>
                  </a:lnTo>
                  <a:lnTo>
                    <a:pt x="520" y="12"/>
                  </a:lnTo>
                  <a:lnTo>
                    <a:pt x="536" y="18"/>
                  </a:lnTo>
                  <a:lnTo>
                    <a:pt x="552" y="26"/>
                  </a:lnTo>
                  <a:lnTo>
                    <a:pt x="552" y="26"/>
                  </a:lnTo>
                  <a:lnTo>
                    <a:pt x="566" y="36"/>
                  </a:lnTo>
                  <a:lnTo>
                    <a:pt x="578" y="48"/>
                  </a:lnTo>
                  <a:lnTo>
                    <a:pt x="590" y="58"/>
                  </a:lnTo>
                  <a:lnTo>
                    <a:pt x="600" y="70"/>
                  </a:lnTo>
                  <a:lnTo>
                    <a:pt x="608" y="84"/>
                  </a:lnTo>
                  <a:lnTo>
                    <a:pt x="616" y="96"/>
                  </a:lnTo>
                  <a:lnTo>
                    <a:pt x="620" y="110"/>
                  </a:lnTo>
                  <a:lnTo>
                    <a:pt x="626" y="126"/>
                  </a:lnTo>
                  <a:lnTo>
                    <a:pt x="626" y="126"/>
                  </a:lnTo>
                  <a:lnTo>
                    <a:pt x="630" y="156"/>
                  </a:lnTo>
                  <a:lnTo>
                    <a:pt x="634" y="194"/>
                  </a:lnTo>
                  <a:lnTo>
                    <a:pt x="634" y="194"/>
                  </a:lnTo>
                  <a:lnTo>
                    <a:pt x="638" y="256"/>
                  </a:lnTo>
                  <a:lnTo>
                    <a:pt x="648" y="344"/>
                  </a:lnTo>
                  <a:lnTo>
                    <a:pt x="648" y="344"/>
                  </a:lnTo>
                  <a:lnTo>
                    <a:pt x="600" y="384"/>
                  </a:lnTo>
                  <a:lnTo>
                    <a:pt x="558" y="418"/>
                  </a:lnTo>
                  <a:lnTo>
                    <a:pt x="522" y="442"/>
                  </a:lnTo>
                  <a:lnTo>
                    <a:pt x="490" y="458"/>
                  </a:lnTo>
                  <a:lnTo>
                    <a:pt x="490" y="458"/>
                  </a:lnTo>
                  <a:lnTo>
                    <a:pt x="460" y="470"/>
                  </a:lnTo>
                  <a:lnTo>
                    <a:pt x="432" y="480"/>
                  </a:lnTo>
                  <a:lnTo>
                    <a:pt x="404" y="490"/>
                  </a:lnTo>
                  <a:lnTo>
                    <a:pt x="376" y="498"/>
                  </a:lnTo>
                  <a:lnTo>
                    <a:pt x="376" y="498"/>
                  </a:lnTo>
                  <a:lnTo>
                    <a:pt x="352" y="502"/>
                  </a:lnTo>
                  <a:lnTo>
                    <a:pt x="322" y="504"/>
                  </a:lnTo>
                  <a:lnTo>
                    <a:pt x="322" y="504"/>
                  </a:lnTo>
                  <a:lnTo>
                    <a:pt x="348" y="526"/>
                  </a:lnTo>
                  <a:lnTo>
                    <a:pt x="374" y="542"/>
                  </a:lnTo>
                  <a:lnTo>
                    <a:pt x="400" y="558"/>
                  </a:lnTo>
                  <a:lnTo>
                    <a:pt x="422" y="568"/>
                  </a:lnTo>
                  <a:lnTo>
                    <a:pt x="446" y="576"/>
                  </a:lnTo>
                  <a:lnTo>
                    <a:pt x="468" y="580"/>
                  </a:lnTo>
                  <a:lnTo>
                    <a:pt x="490" y="580"/>
                  </a:lnTo>
                  <a:lnTo>
                    <a:pt x="510" y="576"/>
                  </a:lnTo>
                  <a:lnTo>
                    <a:pt x="510" y="576"/>
                  </a:lnTo>
                  <a:lnTo>
                    <a:pt x="532" y="570"/>
                  </a:lnTo>
                  <a:lnTo>
                    <a:pt x="554" y="562"/>
                  </a:lnTo>
                  <a:lnTo>
                    <a:pt x="574" y="550"/>
                  </a:lnTo>
                  <a:lnTo>
                    <a:pt x="594" y="538"/>
                  </a:lnTo>
                  <a:lnTo>
                    <a:pt x="612" y="522"/>
                  </a:lnTo>
                  <a:lnTo>
                    <a:pt x="628" y="504"/>
                  </a:lnTo>
                  <a:lnTo>
                    <a:pt x="644" y="484"/>
                  </a:lnTo>
                  <a:lnTo>
                    <a:pt x="660" y="462"/>
                  </a:lnTo>
                  <a:lnTo>
                    <a:pt x="666" y="460"/>
                  </a:lnTo>
                  <a:lnTo>
                    <a:pt x="666" y="460"/>
                  </a:lnTo>
                  <a:lnTo>
                    <a:pt x="662" y="498"/>
                  </a:lnTo>
                  <a:lnTo>
                    <a:pt x="658" y="532"/>
                  </a:lnTo>
                  <a:lnTo>
                    <a:pt x="652" y="564"/>
                  </a:lnTo>
                  <a:lnTo>
                    <a:pt x="644" y="596"/>
                  </a:lnTo>
                  <a:lnTo>
                    <a:pt x="634" y="624"/>
                  </a:lnTo>
                  <a:lnTo>
                    <a:pt x="622" y="652"/>
                  </a:lnTo>
                  <a:lnTo>
                    <a:pt x="610" y="676"/>
                  </a:lnTo>
                  <a:lnTo>
                    <a:pt x="594" y="700"/>
                  </a:lnTo>
                  <a:lnTo>
                    <a:pt x="578" y="720"/>
                  </a:lnTo>
                  <a:lnTo>
                    <a:pt x="560" y="740"/>
                  </a:lnTo>
                  <a:lnTo>
                    <a:pt x="540" y="758"/>
                  </a:lnTo>
                  <a:lnTo>
                    <a:pt x="520" y="772"/>
                  </a:lnTo>
                  <a:lnTo>
                    <a:pt x="496" y="786"/>
                  </a:lnTo>
                  <a:lnTo>
                    <a:pt x="472" y="798"/>
                  </a:lnTo>
                  <a:lnTo>
                    <a:pt x="446" y="806"/>
                  </a:lnTo>
                  <a:lnTo>
                    <a:pt x="418" y="814"/>
                  </a:lnTo>
                  <a:lnTo>
                    <a:pt x="418" y="814"/>
                  </a:lnTo>
                  <a:lnTo>
                    <a:pt x="390" y="820"/>
                  </a:lnTo>
                  <a:lnTo>
                    <a:pt x="362" y="826"/>
                  </a:lnTo>
                  <a:lnTo>
                    <a:pt x="338" y="828"/>
                  </a:lnTo>
                  <a:lnTo>
                    <a:pt x="314" y="830"/>
                  </a:lnTo>
                  <a:lnTo>
                    <a:pt x="292" y="830"/>
                  </a:lnTo>
                  <a:lnTo>
                    <a:pt x="272" y="828"/>
                  </a:lnTo>
                  <a:lnTo>
                    <a:pt x="254" y="824"/>
                  </a:lnTo>
                  <a:lnTo>
                    <a:pt x="238" y="820"/>
                  </a:lnTo>
                  <a:lnTo>
                    <a:pt x="238" y="820"/>
                  </a:lnTo>
                  <a:lnTo>
                    <a:pt x="224" y="814"/>
                  </a:lnTo>
                  <a:lnTo>
                    <a:pt x="208" y="806"/>
                  </a:lnTo>
                  <a:lnTo>
                    <a:pt x="194" y="798"/>
                  </a:lnTo>
                  <a:lnTo>
                    <a:pt x="182" y="788"/>
                  </a:lnTo>
                  <a:lnTo>
                    <a:pt x="168" y="778"/>
                  </a:lnTo>
                  <a:lnTo>
                    <a:pt x="156" y="766"/>
                  </a:lnTo>
                  <a:lnTo>
                    <a:pt x="134" y="738"/>
                  </a:lnTo>
                  <a:lnTo>
                    <a:pt x="134" y="738"/>
                  </a:lnTo>
                  <a:lnTo>
                    <a:pt x="122" y="722"/>
                  </a:lnTo>
                  <a:lnTo>
                    <a:pt x="112" y="700"/>
                  </a:lnTo>
                  <a:lnTo>
                    <a:pt x="100" y="676"/>
                  </a:lnTo>
                  <a:lnTo>
                    <a:pt x="90" y="648"/>
                  </a:lnTo>
                  <a:lnTo>
                    <a:pt x="78" y="618"/>
                  </a:lnTo>
                  <a:lnTo>
                    <a:pt x="68" y="582"/>
                  </a:lnTo>
                  <a:lnTo>
                    <a:pt x="48" y="500"/>
                  </a:lnTo>
                  <a:lnTo>
                    <a:pt x="16" y="344"/>
                  </a:lnTo>
                  <a:lnTo>
                    <a:pt x="0" y="256"/>
                  </a:lnTo>
                  <a:close/>
                  <a:moveTo>
                    <a:pt x="258" y="206"/>
                  </a:moveTo>
                  <a:lnTo>
                    <a:pt x="288" y="430"/>
                  </a:lnTo>
                  <a:lnTo>
                    <a:pt x="288" y="430"/>
                  </a:lnTo>
                  <a:lnTo>
                    <a:pt x="364" y="410"/>
                  </a:lnTo>
                  <a:lnTo>
                    <a:pt x="444" y="386"/>
                  </a:lnTo>
                  <a:lnTo>
                    <a:pt x="444" y="386"/>
                  </a:lnTo>
                  <a:lnTo>
                    <a:pt x="432" y="330"/>
                  </a:lnTo>
                  <a:lnTo>
                    <a:pt x="432" y="330"/>
                  </a:lnTo>
                  <a:lnTo>
                    <a:pt x="428" y="312"/>
                  </a:lnTo>
                  <a:lnTo>
                    <a:pt x="422" y="294"/>
                  </a:lnTo>
                  <a:lnTo>
                    <a:pt x="416" y="280"/>
                  </a:lnTo>
                  <a:lnTo>
                    <a:pt x="408" y="266"/>
                  </a:lnTo>
                  <a:lnTo>
                    <a:pt x="398" y="252"/>
                  </a:lnTo>
                  <a:lnTo>
                    <a:pt x="390" y="242"/>
                  </a:lnTo>
                  <a:lnTo>
                    <a:pt x="380" y="232"/>
                  </a:lnTo>
                  <a:lnTo>
                    <a:pt x="368" y="224"/>
                  </a:lnTo>
                  <a:lnTo>
                    <a:pt x="368" y="224"/>
                  </a:lnTo>
                  <a:lnTo>
                    <a:pt x="356" y="218"/>
                  </a:lnTo>
                  <a:lnTo>
                    <a:pt x="342" y="212"/>
                  </a:lnTo>
                  <a:lnTo>
                    <a:pt x="330" y="208"/>
                  </a:lnTo>
                  <a:lnTo>
                    <a:pt x="316" y="204"/>
                  </a:lnTo>
                  <a:lnTo>
                    <a:pt x="302" y="202"/>
                  </a:lnTo>
                  <a:lnTo>
                    <a:pt x="288" y="202"/>
                  </a:lnTo>
                  <a:lnTo>
                    <a:pt x="274" y="202"/>
                  </a:lnTo>
                  <a:lnTo>
                    <a:pt x="258" y="206"/>
                  </a:lnTo>
                  <a:lnTo>
                    <a:pt x="258" y="206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50"/>
            <p:cNvSpPr/>
            <p:nvPr/>
          </p:nvSpPr>
          <p:spPr>
            <a:xfrm>
              <a:off x="7942320" y="8091360"/>
              <a:ext cx="1285560" cy="1466640"/>
            </a:xfrm>
            <a:custGeom>
              <a:avLst/>
              <a:gdLst>
                <a:gd name="textAreaLeft" fmla="*/ 0 w 1285560"/>
                <a:gd name="textAreaRight" fmla="*/ 1285920 w 1285560"/>
                <a:gd name="textAreaTop" fmla="*/ 0 h 1466640"/>
                <a:gd name="textAreaBottom" fmla="*/ 1467000 h 1466640"/>
              </a:gdLst>
              <a:ahLst/>
              <a:rect l="textAreaLeft" t="textAreaTop" r="textAreaRight" b="textAreaBottom"/>
              <a:pathLst>
                <a:path w="810" h="924">
                  <a:moveTo>
                    <a:pt x="188" y="102"/>
                  </a:moveTo>
                  <a:lnTo>
                    <a:pt x="264" y="56"/>
                  </a:lnTo>
                  <a:lnTo>
                    <a:pt x="292" y="174"/>
                  </a:lnTo>
                  <a:lnTo>
                    <a:pt x="292" y="174"/>
                  </a:lnTo>
                  <a:lnTo>
                    <a:pt x="364" y="102"/>
                  </a:lnTo>
                  <a:lnTo>
                    <a:pt x="364" y="102"/>
                  </a:lnTo>
                  <a:lnTo>
                    <a:pt x="398" y="68"/>
                  </a:lnTo>
                  <a:lnTo>
                    <a:pt x="458" y="4"/>
                  </a:lnTo>
                  <a:lnTo>
                    <a:pt x="458" y="4"/>
                  </a:lnTo>
                  <a:lnTo>
                    <a:pt x="498" y="2"/>
                  </a:lnTo>
                  <a:lnTo>
                    <a:pt x="532" y="0"/>
                  </a:lnTo>
                  <a:lnTo>
                    <a:pt x="560" y="2"/>
                  </a:lnTo>
                  <a:lnTo>
                    <a:pt x="586" y="4"/>
                  </a:lnTo>
                  <a:lnTo>
                    <a:pt x="586" y="4"/>
                  </a:lnTo>
                  <a:lnTo>
                    <a:pt x="608" y="10"/>
                  </a:lnTo>
                  <a:lnTo>
                    <a:pt x="628" y="18"/>
                  </a:lnTo>
                  <a:lnTo>
                    <a:pt x="646" y="28"/>
                  </a:lnTo>
                  <a:lnTo>
                    <a:pt x="664" y="40"/>
                  </a:lnTo>
                  <a:lnTo>
                    <a:pt x="664" y="40"/>
                  </a:lnTo>
                  <a:lnTo>
                    <a:pt x="680" y="54"/>
                  </a:lnTo>
                  <a:lnTo>
                    <a:pt x="692" y="70"/>
                  </a:lnTo>
                  <a:lnTo>
                    <a:pt x="704" y="84"/>
                  </a:lnTo>
                  <a:lnTo>
                    <a:pt x="714" y="100"/>
                  </a:lnTo>
                  <a:lnTo>
                    <a:pt x="714" y="100"/>
                  </a:lnTo>
                  <a:lnTo>
                    <a:pt x="722" y="116"/>
                  </a:lnTo>
                  <a:lnTo>
                    <a:pt x="730" y="138"/>
                  </a:lnTo>
                  <a:lnTo>
                    <a:pt x="738" y="166"/>
                  </a:lnTo>
                  <a:lnTo>
                    <a:pt x="746" y="200"/>
                  </a:lnTo>
                  <a:lnTo>
                    <a:pt x="746" y="200"/>
                  </a:lnTo>
                  <a:lnTo>
                    <a:pt x="756" y="244"/>
                  </a:lnTo>
                  <a:lnTo>
                    <a:pt x="764" y="292"/>
                  </a:lnTo>
                  <a:lnTo>
                    <a:pt x="772" y="346"/>
                  </a:lnTo>
                  <a:lnTo>
                    <a:pt x="778" y="402"/>
                  </a:lnTo>
                  <a:lnTo>
                    <a:pt x="778" y="402"/>
                  </a:lnTo>
                  <a:lnTo>
                    <a:pt x="784" y="464"/>
                  </a:lnTo>
                  <a:lnTo>
                    <a:pt x="792" y="518"/>
                  </a:lnTo>
                  <a:lnTo>
                    <a:pt x="800" y="570"/>
                  </a:lnTo>
                  <a:lnTo>
                    <a:pt x="810" y="616"/>
                  </a:lnTo>
                  <a:lnTo>
                    <a:pt x="678" y="760"/>
                  </a:lnTo>
                  <a:lnTo>
                    <a:pt x="658" y="782"/>
                  </a:lnTo>
                  <a:lnTo>
                    <a:pt x="658" y="782"/>
                  </a:lnTo>
                  <a:lnTo>
                    <a:pt x="630" y="812"/>
                  </a:lnTo>
                  <a:lnTo>
                    <a:pt x="606" y="838"/>
                  </a:lnTo>
                  <a:lnTo>
                    <a:pt x="584" y="860"/>
                  </a:lnTo>
                  <a:lnTo>
                    <a:pt x="562" y="876"/>
                  </a:lnTo>
                  <a:lnTo>
                    <a:pt x="562" y="876"/>
                  </a:lnTo>
                  <a:lnTo>
                    <a:pt x="556" y="752"/>
                  </a:lnTo>
                  <a:lnTo>
                    <a:pt x="548" y="644"/>
                  </a:lnTo>
                  <a:lnTo>
                    <a:pt x="542" y="596"/>
                  </a:lnTo>
                  <a:lnTo>
                    <a:pt x="536" y="552"/>
                  </a:lnTo>
                  <a:lnTo>
                    <a:pt x="528" y="512"/>
                  </a:lnTo>
                  <a:lnTo>
                    <a:pt x="520" y="474"/>
                  </a:lnTo>
                  <a:lnTo>
                    <a:pt x="520" y="474"/>
                  </a:lnTo>
                  <a:lnTo>
                    <a:pt x="510" y="432"/>
                  </a:lnTo>
                  <a:lnTo>
                    <a:pt x="496" y="392"/>
                  </a:lnTo>
                  <a:lnTo>
                    <a:pt x="482" y="354"/>
                  </a:lnTo>
                  <a:lnTo>
                    <a:pt x="466" y="318"/>
                  </a:lnTo>
                  <a:lnTo>
                    <a:pt x="448" y="284"/>
                  </a:lnTo>
                  <a:lnTo>
                    <a:pt x="426" y="252"/>
                  </a:lnTo>
                  <a:lnTo>
                    <a:pt x="404" y="220"/>
                  </a:lnTo>
                  <a:lnTo>
                    <a:pt x="380" y="192"/>
                  </a:lnTo>
                  <a:lnTo>
                    <a:pt x="380" y="192"/>
                  </a:lnTo>
                  <a:lnTo>
                    <a:pt x="358" y="232"/>
                  </a:lnTo>
                  <a:lnTo>
                    <a:pt x="346" y="252"/>
                  </a:lnTo>
                  <a:lnTo>
                    <a:pt x="320" y="298"/>
                  </a:lnTo>
                  <a:lnTo>
                    <a:pt x="446" y="814"/>
                  </a:lnTo>
                  <a:lnTo>
                    <a:pt x="446" y="814"/>
                  </a:lnTo>
                  <a:lnTo>
                    <a:pt x="376" y="834"/>
                  </a:lnTo>
                  <a:lnTo>
                    <a:pt x="308" y="860"/>
                  </a:lnTo>
                  <a:lnTo>
                    <a:pt x="238" y="890"/>
                  </a:lnTo>
                  <a:lnTo>
                    <a:pt x="168" y="924"/>
                  </a:lnTo>
                  <a:lnTo>
                    <a:pt x="168" y="924"/>
                  </a:lnTo>
                  <a:lnTo>
                    <a:pt x="154" y="862"/>
                  </a:lnTo>
                  <a:lnTo>
                    <a:pt x="154" y="862"/>
                  </a:lnTo>
                  <a:lnTo>
                    <a:pt x="142" y="794"/>
                  </a:lnTo>
                  <a:lnTo>
                    <a:pt x="136" y="774"/>
                  </a:lnTo>
                  <a:lnTo>
                    <a:pt x="136" y="774"/>
                  </a:lnTo>
                  <a:lnTo>
                    <a:pt x="122" y="722"/>
                  </a:lnTo>
                  <a:lnTo>
                    <a:pt x="72" y="510"/>
                  </a:lnTo>
                  <a:lnTo>
                    <a:pt x="72" y="510"/>
                  </a:lnTo>
                  <a:lnTo>
                    <a:pt x="34" y="358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22" y="208"/>
                  </a:lnTo>
                  <a:lnTo>
                    <a:pt x="22" y="208"/>
                  </a:lnTo>
                  <a:lnTo>
                    <a:pt x="52" y="190"/>
                  </a:lnTo>
                  <a:lnTo>
                    <a:pt x="52" y="190"/>
                  </a:lnTo>
                  <a:lnTo>
                    <a:pt x="88" y="166"/>
                  </a:lnTo>
                  <a:lnTo>
                    <a:pt x="188" y="102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151"/>
            <p:cNvSpPr/>
            <p:nvPr/>
          </p:nvSpPr>
          <p:spPr>
            <a:xfrm>
              <a:off x="1467000" y="12993480"/>
              <a:ext cx="920520" cy="33948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580" h="214">
                  <a:moveTo>
                    <a:pt x="16" y="214"/>
                  </a:moveTo>
                  <a:lnTo>
                    <a:pt x="0" y="138"/>
                  </a:lnTo>
                  <a:lnTo>
                    <a:pt x="556" y="0"/>
                  </a:lnTo>
                  <a:lnTo>
                    <a:pt x="580" y="104"/>
                  </a:lnTo>
                  <a:lnTo>
                    <a:pt x="16" y="214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52"/>
            <p:cNvSpPr/>
            <p:nvPr/>
          </p:nvSpPr>
          <p:spPr>
            <a:xfrm>
              <a:off x="2530440" y="12148920"/>
              <a:ext cx="898200" cy="1469880"/>
            </a:xfrm>
            <a:custGeom>
              <a:avLst/>
              <a:gdLst>
                <a:gd name="textAreaLeft" fmla="*/ 0 w 898200"/>
                <a:gd name="textAreaRight" fmla="*/ 898560 w 898200"/>
                <a:gd name="textAreaTop" fmla="*/ 0 h 1469880"/>
                <a:gd name="textAreaBottom" fmla="*/ 1470240 h 1469880"/>
              </a:gdLst>
              <a:ahLst/>
              <a:rect l="textAreaLeft" t="textAreaTop" r="textAreaRight" b="textAreaBottom"/>
              <a:pathLst>
                <a:path w="566" h="926">
                  <a:moveTo>
                    <a:pt x="36" y="164"/>
                  </a:moveTo>
                  <a:lnTo>
                    <a:pt x="18" y="90"/>
                  </a:lnTo>
                  <a:lnTo>
                    <a:pt x="18" y="90"/>
                  </a:lnTo>
                  <a:lnTo>
                    <a:pt x="96" y="64"/>
                  </a:lnTo>
                  <a:lnTo>
                    <a:pt x="96" y="64"/>
                  </a:lnTo>
                  <a:lnTo>
                    <a:pt x="196" y="26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76" y="30"/>
                  </a:lnTo>
                  <a:lnTo>
                    <a:pt x="276" y="30"/>
                  </a:lnTo>
                  <a:lnTo>
                    <a:pt x="284" y="68"/>
                  </a:lnTo>
                  <a:lnTo>
                    <a:pt x="292" y="126"/>
                  </a:lnTo>
                  <a:lnTo>
                    <a:pt x="292" y="126"/>
                  </a:lnTo>
                  <a:lnTo>
                    <a:pt x="334" y="118"/>
                  </a:lnTo>
                  <a:lnTo>
                    <a:pt x="400" y="104"/>
                  </a:lnTo>
                  <a:lnTo>
                    <a:pt x="400" y="104"/>
                  </a:lnTo>
                  <a:lnTo>
                    <a:pt x="446" y="92"/>
                  </a:lnTo>
                  <a:lnTo>
                    <a:pt x="474" y="84"/>
                  </a:lnTo>
                  <a:lnTo>
                    <a:pt x="474" y="84"/>
                  </a:lnTo>
                  <a:lnTo>
                    <a:pt x="482" y="204"/>
                  </a:lnTo>
                  <a:lnTo>
                    <a:pt x="484" y="262"/>
                  </a:lnTo>
                  <a:lnTo>
                    <a:pt x="484" y="262"/>
                  </a:lnTo>
                  <a:lnTo>
                    <a:pt x="454" y="274"/>
                  </a:lnTo>
                  <a:lnTo>
                    <a:pt x="418" y="286"/>
                  </a:lnTo>
                  <a:lnTo>
                    <a:pt x="330" y="312"/>
                  </a:lnTo>
                  <a:lnTo>
                    <a:pt x="330" y="312"/>
                  </a:lnTo>
                  <a:lnTo>
                    <a:pt x="352" y="426"/>
                  </a:lnTo>
                  <a:lnTo>
                    <a:pt x="368" y="496"/>
                  </a:lnTo>
                  <a:lnTo>
                    <a:pt x="368" y="496"/>
                  </a:lnTo>
                  <a:lnTo>
                    <a:pt x="378" y="532"/>
                  </a:lnTo>
                  <a:lnTo>
                    <a:pt x="384" y="548"/>
                  </a:lnTo>
                  <a:lnTo>
                    <a:pt x="392" y="564"/>
                  </a:lnTo>
                  <a:lnTo>
                    <a:pt x="400" y="578"/>
                  </a:lnTo>
                  <a:lnTo>
                    <a:pt x="410" y="590"/>
                  </a:lnTo>
                  <a:lnTo>
                    <a:pt x="420" y="602"/>
                  </a:lnTo>
                  <a:lnTo>
                    <a:pt x="432" y="612"/>
                  </a:lnTo>
                  <a:lnTo>
                    <a:pt x="432" y="612"/>
                  </a:lnTo>
                  <a:lnTo>
                    <a:pt x="442" y="620"/>
                  </a:lnTo>
                  <a:lnTo>
                    <a:pt x="456" y="628"/>
                  </a:lnTo>
                  <a:lnTo>
                    <a:pt x="470" y="636"/>
                  </a:lnTo>
                  <a:lnTo>
                    <a:pt x="486" y="642"/>
                  </a:lnTo>
                  <a:lnTo>
                    <a:pt x="504" y="646"/>
                  </a:lnTo>
                  <a:lnTo>
                    <a:pt x="524" y="650"/>
                  </a:lnTo>
                  <a:lnTo>
                    <a:pt x="566" y="656"/>
                  </a:lnTo>
                  <a:lnTo>
                    <a:pt x="474" y="926"/>
                  </a:lnTo>
                  <a:lnTo>
                    <a:pt x="474" y="926"/>
                  </a:lnTo>
                  <a:lnTo>
                    <a:pt x="438" y="922"/>
                  </a:lnTo>
                  <a:lnTo>
                    <a:pt x="404" y="918"/>
                  </a:lnTo>
                  <a:lnTo>
                    <a:pt x="372" y="912"/>
                  </a:lnTo>
                  <a:lnTo>
                    <a:pt x="342" y="904"/>
                  </a:lnTo>
                  <a:lnTo>
                    <a:pt x="314" y="896"/>
                  </a:lnTo>
                  <a:lnTo>
                    <a:pt x="286" y="884"/>
                  </a:lnTo>
                  <a:lnTo>
                    <a:pt x="262" y="872"/>
                  </a:lnTo>
                  <a:lnTo>
                    <a:pt x="240" y="858"/>
                  </a:lnTo>
                  <a:lnTo>
                    <a:pt x="218" y="842"/>
                  </a:lnTo>
                  <a:lnTo>
                    <a:pt x="200" y="824"/>
                  </a:lnTo>
                  <a:lnTo>
                    <a:pt x="184" y="806"/>
                  </a:lnTo>
                  <a:lnTo>
                    <a:pt x="168" y="786"/>
                  </a:lnTo>
                  <a:lnTo>
                    <a:pt x="154" y="762"/>
                  </a:lnTo>
                  <a:lnTo>
                    <a:pt x="144" y="740"/>
                  </a:lnTo>
                  <a:lnTo>
                    <a:pt x="134" y="714"/>
                  </a:lnTo>
                  <a:lnTo>
                    <a:pt x="126" y="686"/>
                  </a:lnTo>
                  <a:lnTo>
                    <a:pt x="126" y="686"/>
                  </a:lnTo>
                  <a:lnTo>
                    <a:pt x="118" y="632"/>
                  </a:lnTo>
                  <a:lnTo>
                    <a:pt x="106" y="542"/>
                  </a:lnTo>
                  <a:lnTo>
                    <a:pt x="106" y="542"/>
                  </a:lnTo>
                  <a:lnTo>
                    <a:pt x="94" y="450"/>
                  </a:lnTo>
                  <a:lnTo>
                    <a:pt x="84" y="392"/>
                  </a:lnTo>
                  <a:lnTo>
                    <a:pt x="84" y="392"/>
                  </a:lnTo>
                  <a:lnTo>
                    <a:pt x="44" y="406"/>
                  </a:lnTo>
                  <a:lnTo>
                    <a:pt x="0" y="424"/>
                  </a:lnTo>
                  <a:lnTo>
                    <a:pt x="52" y="238"/>
                  </a:lnTo>
                  <a:lnTo>
                    <a:pt x="48" y="220"/>
                  </a:lnTo>
                  <a:lnTo>
                    <a:pt x="36" y="164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53"/>
            <p:cNvSpPr/>
            <p:nvPr/>
          </p:nvSpPr>
          <p:spPr>
            <a:xfrm>
              <a:off x="3498840" y="11475720"/>
              <a:ext cx="914400" cy="1981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76" h="1248">
                  <a:moveTo>
                    <a:pt x="122" y="4"/>
                  </a:moveTo>
                  <a:lnTo>
                    <a:pt x="122" y="4"/>
                  </a:lnTo>
                  <a:lnTo>
                    <a:pt x="136" y="2"/>
                  </a:lnTo>
                  <a:lnTo>
                    <a:pt x="152" y="0"/>
                  </a:lnTo>
                  <a:lnTo>
                    <a:pt x="168" y="0"/>
                  </a:lnTo>
                  <a:lnTo>
                    <a:pt x="184" y="2"/>
                  </a:lnTo>
                  <a:lnTo>
                    <a:pt x="198" y="6"/>
                  </a:lnTo>
                  <a:lnTo>
                    <a:pt x="214" y="10"/>
                  </a:lnTo>
                  <a:lnTo>
                    <a:pt x="228" y="18"/>
                  </a:lnTo>
                  <a:lnTo>
                    <a:pt x="242" y="26"/>
                  </a:lnTo>
                  <a:lnTo>
                    <a:pt x="242" y="26"/>
                  </a:lnTo>
                  <a:lnTo>
                    <a:pt x="256" y="34"/>
                  </a:lnTo>
                  <a:lnTo>
                    <a:pt x="268" y="46"/>
                  </a:lnTo>
                  <a:lnTo>
                    <a:pt x="278" y="58"/>
                  </a:lnTo>
                  <a:lnTo>
                    <a:pt x="288" y="70"/>
                  </a:lnTo>
                  <a:lnTo>
                    <a:pt x="298" y="84"/>
                  </a:lnTo>
                  <a:lnTo>
                    <a:pt x="304" y="100"/>
                  </a:lnTo>
                  <a:lnTo>
                    <a:pt x="310" y="116"/>
                  </a:lnTo>
                  <a:lnTo>
                    <a:pt x="316" y="134"/>
                  </a:lnTo>
                  <a:lnTo>
                    <a:pt x="316" y="134"/>
                  </a:lnTo>
                  <a:lnTo>
                    <a:pt x="318" y="150"/>
                  </a:lnTo>
                  <a:lnTo>
                    <a:pt x="320" y="166"/>
                  </a:lnTo>
                  <a:lnTo>
                    <a:pt x="320" y="182"/>
                  </a:lnTo>
                  <a:lnTo>
                    <a:pt x="318" y="198"/>
                  </a:lnTo>
                  <a:lnTo>
                    <a:pt x="316" y="214"/>
                  </a:lnTo>
                  <a:lnTo>
                    <a:pt x="312" y="230"/>
                  </a:lnTo>
                  <a:lnTo>
                    <a:pt x="304" y="246"/>
                  </a:lnTo>
                  <a:lnTo>
                    <a:pt x="298" y="260"/>
                  </a:lnTo>
                  <a:lnTo>
                    <a:pt x="298" y="260"/>
                  </a:lnTo>
                  <a:lnTo>
                    <a:pt x="288" y="274"/>
                  </a:lnTo>
                  <a:lnTo>
                    <a:pt x="278" y="288"/>
                  </a:lnTo>
                  <a:lnTo>
                    <a:pt x="266" y="298"/>
                  </a:lnTo>
                  <a:lnTo>
                    <a:pt x="254" y="308"/>
                  </a:lnTo>
                  <a:lnTo>
                    <a:pt x="242" y="316"/>
                  </a:lnTo>
                  <a:lnTo>
                    <a:pt x="228" y="324"/>
                  </a:lnTo>
                  <a:lnTo>
                    <a:pt x="214" y="330"/>
                  </a:lnTo>
                  <a:lnTo>
                    <a:pt x="198" y="334"/>
                  </a:lnTo>
                  <a:lnTo>
                    <a:pt x="198" y="334"/>
                  </a:lnTo>
                  <a:lnTo>
                    <a:pt x="182" y="338"/>
                  </a:lnTo>
                  <a:lnTo>
                    <a:pt x="168" y="338"/>
                  </a:lnTo>
                  <a:lnTo>
                    <a:pt x="152" y="338"/>
                  </a:lnTo>
                  <a:lnTo>
                    <a:pt x="136" y="336"/>
                  </a:lnTo>
                  <a:lnTo>
                    <a:pt x="122" y="332"/>
                  </a:lnTo>
                  <a:lnTo>
                    <a:pt x="106" y="328"/>
                  </a:lnTo>
                  <a:lnTo>
                    <a:pt x="92" y="320"/>
                  </a:lnTo>
                  <a:lnTo>
                    <a:pt x="78" y="312"/>
                  </a:lnTo>
                  <a:lnTo>
                    <a:pt x="78" y="312"/>
                  </a:lnTo>
                  <a:lnTo>
                    <a:pt x="64" y="302"/>
                  </a:lnTo>
                  <a:lnTo>
                    <a:pt x="52" y="290"/>
                  </a:lnTo>
                  <a:lnTo>
                    <a:pt x="42" y="280"/>
                  </a:lnTo>
                  <a:lnTo>
                    <a:pt x="32" y="266"/>
                  </a:lnTo>
                  <a:lnTo>
                    <a:pt x="22" y="252"/>
                  </a:lnTo>
                  <a:lnTo>
                    <a:pt x="16" y="238"/>
                  </a:lnTo>
                  <a:lnTo>
                    <a:pt x="10" y="222"/>
                  </a:lnTo>
                  <a:lnTo>
                    <a:pt x="6" y="206"/>
                  </a:lnTo>
                  <a:lnTo>
                    <a:pt x="6" y="206"/>
                  </a:lnTo>
                  <a:lnTo>
                    <a:pt x="2" y="190"/>
                  </a:lnTo>
                  <a:lnTo>
                    <a:pt x="0" y="172"/>
                  </a:lnTo>
                  <a:lnTo>
                    <a:pt x="0" y="156"/>
                  </a:lnTo>
                  <a:lnTo>
                    <a:pt x="2" y="140"/>
                  </a:lnTo>
                  <a:lnTo>
                    <a:pt x="4" y="124"/>
                  </a:lnTo>
                  <a:lnTo>
                    <a:pt x="10" y="108"/>
                  </a:lnTo>
                  <a:lnTo>
                    <a:pt x="16" y="94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32" y="64"/>
                  </a:lnTo>
                  <a:lnTo>
                    <a:pt x="42" y="52"/>
                  </a:lnTo>
                  <a:lnTo>
                    <a:pt x="52" y="40"/>
                  </a:lnTo>
                  <a:lnTo>
                    <a:pt x="64" y="30"/>
                  </a:lnTo>
                  <a:lnTo>
                    <a:pt x="78" y="22"/>
                  </a:lnTo>
                  <a:lnTo>
                    <a:pt x="90" y="14"/>
                  </a:lnTo>
                  <a:lnTo>
                    <a:pt x="106" y="8"/>
                  </a:lnTo>
                  <a:lnTo>
                    <a:pt x="122" y="4"/>
                  </a:lnTo>
                  <a:lnTo>
                    <a:pt x="122" y="4"/>
                  </a:lnTo>
                  <a:close/>
                  <a:moveTo>
                    <a:pt x="26" y="724"/>
                  </a:moveTo>
                  <a:lnTo>
                    <a:pt x="22" y="608"/>
                  </a:lnTo>
                  <a:lnTo>
                    <a:pt x="22" y="608"/>
                  </a:lnTo>
                  <a:lnTo>
                    <a:pt x="64" y="588"/>
                  </a:lnTo>
                  <a:lnTo>
                    <a:pt x="106" y="566"/>
                  </a:lnTo>
                  <a:lnTo>
                    <a:pt x="148" y="542"/>
                  </a:lnTo>
                  <a:lnTo>
                    <a:pt x="194" y="514"/>
                  </a:lnTo>
                  <a:lnTo>
                    <a:pt x="238" y="484"/>
                  </a:lnTo>
                  <a:lnTo>
                    <a:pt x="284" y="452"/>
                  </a:lnTo>
                  <a:lnTo>
                    <a:pt x="332" y="416"/>
                  </a:lnTo>
                  <a:lnTo>
                    <a:pt x="380" y="376"/>
                  </a:lnTo>
                  <a:lnTo>
                    <a:pt x="416" y="534"/>
                  </a:lnTo>
                  <a:lnTo>
                    <a:pt x="430" y="602"/>
                  </a:lnTo>
                  <a:lnTo>
                    <a:pt x="430" y="602"/>
                  </a:lnTo>
                  <a:lnTo>
                    <a:pt x="436" y="626"/>
                  </a:lnTo>
                  <a:lnTo>
                    <a:pt x="436" y="626"/>
                  </a:lnTo>
                  <a:lnTo>
                    <a:pt x="456" y="708"/>
                  </a:lnTo>
                  <a:lnTo>
                    <a:pt x="456" y="708"/>
                  </a:lnTo>
                  <a:lnTo>
                    <a:pt x="466" y="746"/>
                  </a:lnTo>
                  <a:lnTo>
                    <a:pt x="508" y="902"/>
                  </a:lnTo>
                  <a:lnTo>
                    <a:pt x="508" y="902"/>
                  </a:lnTo>
                  <a:lnTo>
                    <a:pt x="576" y="1128"/>
                  </a:lnTo>
                  <a:lnTo>
                    <a:pt x="576" y="1128"/>
                  </a:lnTo>
                  <a:lnTo>
                    <a:pt x="420" y="1196"/>
                  </a:lnTo>
                  <a:lnTo>
                    <a:pt x="348" y="1224"/>
                  </a:lnTo>
                  <a:lnTo>
                    <a:pt x="284" y="1248"/>
                  </a:lnTo>
                  <a:lnTo>
                    <a:pt x="284" y="1248"/>
                  </a:lnTo>
                  <a:lnTo>
                    <a:pt x="274" y="1184"/>
                  </a:lnTo>
                  <a:lnTo>
                    <a:pt x="260" y="1106"/>
                  </a:lnTo>
                  <a:lnTo>
                    <a:pt x="240" y="1014"/>
                  </a:lnTo>
                  <a:lnTo>
                    <a:pt x="216" y="908"/>
                  </a:lnTo>
                  <a:lnTo>
                    <a:pt x="160" y="684"/>
                  </a:lnTo>
                  <a:lnTo>
                    <a:pt x="160" y="684"/>
                  </a:lnTo>
                  <a:lnTo>
                    <a:pt x="144" y="694"/>
                  </a:lnTo>
                  <a:lnTo>
                    <a:pt x="126" y="704"/>
                  </a:lnTo>
                  <a:lnTo>
                    <a:pt x="108" y="712"/>
                  </a:lnTo>
                  <a:lnTo>
                    <a:pt x="88" y="716"/>
                  </a:lnTo>
                  <a:lnTo>
                    <a:pt x="88" y="716"/>
                  </a:lnTo>
                  <a:lnTo>
                    <a:pt x="58" y="722"/>
                  </a:lnTo>
                  <a:lnTo>
                    <a:pt x="26" y="724"/>
                  </a:lnTo>
                  <a:lnTo>
                    <a:pt x="26" y="724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54"/>
            <p:cNvSpPr/>
            <p:nvPr/>
          </p:nvSpPr>
          <p:spPr>
            <a:xfrm>
              <a:off x="4518000" y="11787120"/>
              <a:ext cx="1287360" cy="1463400"/>
            </a:xfrm>
            <a:custGeom>
              <a:avLst/>
              <a:gdLst>
                <a:gd name="textAreaLeft" fmla="*/ 0 w 1287360"/>
                <a:gd name="textAreaRight" fmla="*/ 1287720 w 1287360"/>
                <a:gd name="textAreaTop" fmla="*/ 0 h 1463400"/>
                <a:gd name="textAreaBottom" fmla="*/ 1463760 h 1463400"/>
              </a:gdLst>
              <a:ahLst/>
              <a:rect l="textAreaLeft" t="textAreaTop" r="textAreaRight" b="textAreaBottom"/>
              <a:pathLst>
                <a:path w="811" h="922">
                  <a:moveTo>
                    <a:pt x="188" y="100"/>
                  </a:moveTo>
                  <a:lnTo>
                    <a:pt x="264" y="54"/>
                  </a:lnTo>
                  <a:lnTo>
                    <a:pt x="292" y="172"/>
                  </a:lnTo>
                  <a:lnTo>
                    <a:pt x="292" y="172"/>
                  </a:lnTo>
                  <a:lnTo>
                    <a:pt x="364" y="100"/>
                  </a:lnTo>
                  <a:lnTo>
                    <a:pt x="364" y="100"/>
                  </a:lnTo>
                  <a:lnTo>
                    <a:pt x="398" y="66"/>
                  </a:lnTo>
                  <a:lnTo>
                    <a:pt x="460" y="4"/>
                  </a:lnTo>
                  <a:lnTo>
                    <a:pt x="460" y="4"/>
                  </a:lnTo>
                  <a:lnTo>
                    <a:pt x="498" y="0"/>
                  </a:lnTo>
                  <a:lnTo>
                    <a:pt x="532" y="0"/>
                  </a:lnTo>
                  <a:lnTo>
                    <a:pt x="563" y="0"/>
                  </a:lnTo>
                  <a:lnTo>
                    <a:pt x="587" y="4"/>
                  </a:lnTo>
                  <a:lnTo>
                    <a:pt x="587" y="4"/>
                  </a:lnTo>
                  <a:lnTo>
                    <a:pt x="609" y="8"/>
                  </a:lnTo>
                  <a:lnTo>
                    <a:pt x="629" y="16"/>
                  </a:lnTo>
                  <a:lnTo>
                    <a:pt x="647" y="26"/>
                  </a:lnTo>
                  <a:lnTo>
                    <a:pt x="665" y="40"/>
                  </a:lnTo>
                  <a:lnTo>
                    <a:pt x="665" y="40"/>
                  </a:lnTo>
                  <a:lnTo>
                    <a:pt x="681" y="54"/>
                  </a:lnTo>
                  <a:lnTo>
                    <a:pt x="695" y="68"/>
                  </a:lnTo>
                  <a:lnTo>
                    <a:pt x="705" y="84"/>
                  </a:lnTo>
                  <a:lnTo>
                    <a:pt x="715" y="98"/>
                  </a:lnTo>
                  <a:lnTo>
                    <a:pt x="715" y="98"/>
                  </a:lnTo>
                  <a:lnTo>
                    <a:pt x="723" y="116"/>
                  </a:lnTo>
                  <a:lnTo>
                    <a:pt x="731" y="138"/>
                  </a:lnTo>
                  <a:lnTo>
                    <a:pt x="739" y="166"/>
                  </a:lnTo>
                  <a:lnTo>
                    <a:pt x="747" y="198"/>
                  </a:lnTo>
                  <a:lnTo>
                    <a:pt x="747" y="198"/>
                  </a:lnTo>
                  <a:lnTo>
                    <a:pt x="757" y="242"/>
                  </a:lnTo>
                  <a:lnTo>
                    <a:pt x="765" y="292"/>
                  </a:lnTo>
                  <a:lnTo>
                    <a:pt x="773" y="344"/>
                  </a:lnTo>
                  <a:lnTo>
                    <a:pt x="779" y="402"/>
                  </a:lnTo>
                  <a:lnTo>
                    <a:pt x="779" y="402"/>
                  </a:lnTo>
                  <a:lnTo>
                    <a:pt x="785" y="462"/>
                  </a:lnTo>
                  <a:lnTo>
                    <a:pt x="793" y="518"/>
                  </a:lnTo>
                  <a:lnTo>
                    <a:pt x="801" y="570"/>
                  </a:lnTo>
                  <a:lnTo>
                    <a:pt x="811" y="616"/>
                  </a:lnTo>
                  <a:lnTo>
                    <a:pt x="679" y="758"/>
                  </a:lnTo>
                  <a:lnTo>
                    <a:pt x="659" y="782"/>
                  </a:lnTo>
                  <a:lnTo>
                    <a:pt x="659" y="782"/>
                  </a:lnTo>
                  <a:lnTo>
                    <a:pt x="633" y="812"/>
                  </a:lnTo>
                  <a:lnTo>
                    <a:pt x="607" y="838"/>
                  </a:lnTo>
                  <a:lnTo>
                    <a:pt x="585" y="858"/>
                  </a:lnTo>
                  <a:lnTo>
                    <a:pt x="563" y="874"/>
                  </a:lnTo>
                  <a:lnTo>
                    <a:pt x="563" y="874"/>
                  </a:lnTo>
                  <a:lnTo>
                    <a:pt x="557" y="752"/>
                  </a:lnTo>
                  <a:lnTo>
                    <a:pt x="549" y="644"/>
                  </a:lnTo>
                  <a:lnTo>
                    <a:pt x="542" y="596"/>
                  </a:lnTo>
                  <a:lnTo>
                    <a:pt x="536" y="550"/>
                  </a:lnTo>
                  <a:lnTo>
                    <a:pt x="528" y="510"/>
                  </a:lnTo>
                  <a:lnTo>
                    <a:pt x="520" y="472"/>
                  </a:lnTo>
                  <a:lnTo>
                    <a:pt x="520" y="472"/>
                  </a:lnTo>
                  <a:lnTo>
                    <a:pt x="510" y="432"/>
                  </a:lnTo>
                  <a:lnTo>
                    <a:pt x="498" y="392"/>
                  </a:lnTo>
                  <a:lnTo>
                    <a:pt x="482" y="354"/>
                  </a:lnTo>
                  <a:lnTo>
                    <a:pt x="466" y="318"/>
                  </a:lnTo>
                  <a:lnTo>
                    <a:pt x="448" y="284"/>
                  </a:lnTo>
                  <a:lnTo>
                    <a:pt x="428" y="250"/>
                  </a:lnTo>
                  <a:lnTo>
                    <a:pt x="404" y="220"/>
                  </a:lnTo>
                  <a:lnTo>
                    <a:pt x="380" y="190"/>
                  </a:lnTo>
                  <a:lnTo>
                    <a:pt x="380" y="190"/>
                  </a:lnTo>
                  <a:lnTo>
                    <a:pt x="358" y="230"/>
                  </a:lnTo>
                  <a:lnTo>
                    <a:pt x="346" y="252"/>
                  </a:lnTo>
                  <a:lnTo>
                    <a:pt x="320" y="296"/>
                  </a:lnTo>
                  <a:lnTo>
                    <a:pt x="446" y="812"/>
                  </a:lnTo>
                  <a:lnTo>
                    <a:pt x="446" y="812"/>
                  </a:lnTo>
                  <a:lnTo>
                    <a:pt x="378" y="832"/>
                  </a:lnTo>
                  <a:lnTo>
                    <a:pt x="308" y="858"/>
                  </a:lnTo>
                  <a:lnTo>
                    <a:pt x="238" y="888"/>
                  </a:lnTo>
                  <a:lnTo>
                    <a:pt x="168" y="922"/>
                  </a:lnTo>
                  <a:lnTo>
                    <a:pt x="168" y="922"/>
                  </a:lnTo>
                  <a:lnTo>
                    <a:pt x="156" y="860"/>
                  </a:lnTo>
                  <a:lnTo>
                    <a:pt x="156" y="860"/>
                  </a:lnTo>
                  <a:lnTo>
                    <a:pt x="142" y="794"/>
                  </a:lnTo>
                  <a:lnTo>
                    <a:pt x="136" y="772"/>
                  </a:lnTo>
                  <a:lnTo>
                    <a:pt x="136" y="772"/>
                  </a:lnTo>
                  <a:lnTo>
                    <a:pt x="122" y="720"/>
                  </a:lnTo>
                  <a:lnTo>
                    <a:pt x="72" y="508"/>
                  </a:lnTo>
                  <a:lnTo>
                    <a:pt x="72" y="508"/>
                  </a:lnTo>
                  <a:lnTo>
                    <a:pt x="36" y="356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22" y="208"/>
                  </a:lnTo>
                  <a:lnTo>
                    <a:pt x="22" y="208"/>
                  </a:lnTo>
                  <a:lnTo>
                    <a:pt x="52" y="188"/>
                  </a:lnTo>
                  <a:lnTo>
                    <a:pt x="52" y="188"/>
                  </a:lnTo>
                  <a:lnTo>
                    <a:pt x="88" y="166"/>
                  </a:lnTo>
                  <a:lnTo>
                    <a:pt x="188" y="100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55"/>
            <p:cNvSpPr/>
            <p:nvPr/>
          </p:nvSpPr>
          <p:spPr>
            <a:xfrm>
              <a:off x="5989680" y="11507760"/>
              <a:ext cx="1056960" cy="1317600"/>
            </a:xfrm>
            <a:custGeom>
              <a:avLst/>
              <a:gdLst>
                <a:gd name="textAreaLeft" fmla="*/ 0 w 1056960"/>
                <a:gd name="textAreaRight" fmla="*/ 1057320 w 1056960"/>
                <a:gd name="textAreaTop" fmla="*/ 0 h 1317600"/>
                <a:gd name="textAreaBottom" fmla="*/ 1317960 h 1317600"/>
              </a:gdLst>
              <a:ahLst/>
              <a:rect l="textAreaLeft" t="textAreaTop" r="textAreaRight" b="textAreaBottom"/>
              <a:pathLst>
                <a:path w="666" h="830">
                  <a:moveTo>
                    <a:pt x="0" y="256"/>
                  </a:moveTo>
                  <a:lnTo>
                    <a:pt x="152" y="40"/>
                  </a:lnTo>
                  <a:lnTo>
                    <a:pt x="384" y="4"/>
                  </a:lnTo>
                  <a:lnTo>
                    <a:pt x="384" y="4"/>
                  </a:lnTo>
                  <a:lnTo>
                    <a:pt x="410" y="2"/>
                  </a:lnTo>
                  <a:lnTo>
                    <a:pt x="436" y="0"/>
                  </a:lnTo>
                  <a:lnTo>
                    <a:pt x="460" y="0"/>
                  </a:lnTo>
                  <a:lnTo>
                    <a:pt x="482" y="2"/>
                  </a:lnTo>
                  <a:lnTo>
                    <a:pt x="502" y="6"/>
                  </a:lnTo>
                  <a:lnTo>
                    <a:pt x="520" y="10"/>
                  </a:lnTo>
                  <a:lnTo>
                    <a:pt x="538" y="18"/>
                  </a:lnTo>
                  <a:lnTo>
                    <a:pt x="552" y="26"/>
                  </a:lnTo>
                  <a:lnTo>
                    <a:pt x="552" y="26"/>
                  </a:lnTo>
                  <a:lnTo>
                    <a:pt x="566" y="36"/>
                  </a:lnTo>
                  <a:lnTo>
                    <a:pt x="580" y="48"/>
                  </a:lnTo>
                  <a:lnTo>
                    <a:pt x="590" y="58"/>
                  </a:lnTo>
                  <a:lnTo>
                    <a:pt x="600" y="70"/>
                  </a:lnTo>
                  <a:lnTo>
                    <a:pt x="608" y="82"/>
                  </a:lnTo>
                  <a:lnTo>
                    <a:pt x="616" y="96"/>
                  </a:lnTo>
                  <a:lnTo>
                    <a:pt x="622" y="110"/>
                  </a:lnTo>
                  <a:lnTo>
                    <a:pt x="626" y="124"/>
                  </a:lnTo>
                  <a:lnTo>
                    <a:pt x="626" y="124"/>
                  </a:lnTo>
                  <a:lnTo>
                    <a:pt x="630" y="154"/>
                  </a:lnTo>
                  <a:lnTo>
                    <a:pt x="634" y="194"/>
                  </a:lnTo>
                  <a:lnTo>
                    <a:pt x="634" y="194"/>
                  </a:lnTo>
                  <a:lnTo>
                    <a:pt x="640" y="256"/>
                  </a:lnTo>
                  <a:lnTo>
                    <a:pt x="648" y="342"/>
                  </a:lnTo>
                  <a:lnTo>
                    <a:pt x="648" y="342"/>
                  </a:lnTo>
                  <a:lnTo>
                    <a:pt x="602" y="384"/>
                  </a:lnTo>
                  <a:lnTo>
                    <a:pt x="558" y="416"/>
                  </a:lnTo>
                  <a:lnTo>
                    <a:pt x="522" y="442"/>
                  </a:lnTo>
                  <a:lnTo>
                    <a:pt x="490" y="458"/>
                  </a:lnTo>
                  <a:lnTo>
                    <a:pt x="490" y="458"/>
                  </a:lnTo>
                  <a:lnTo>
                    <a:pt x="462" y="470"/>
                  </a:lnTo>
                  <a:lnTo>
                    <a:pt x="432" y="480"/>
                  </a:lnTo>
                  <a:lnTo>
                    <a:pt x="404" y="490"/>
                  </a:lnTo>
                  <a:lnTo>
                    <a:pt x="376" y="496"/>
                  </a:lnTo>
                  <a:lnTo>
                    <a:pt x="376" y="496"/>
                  </a:lnTo>
                  <a:lnTo>
                    <a:pt x="352" y="500"/>
                  </a:lnTo>
                  <a:lnTo>
                    <a:pt x="322" y="504"/>
                  </a:lnTo>
                  <a:lnTo>
                    <a:pt x="322" y="504"/>
                  </a:lnTo>
                  <a:lnTo>
                    <a:pt x="348" y="524"/>
                  </a:lnTo>
                  <a:lnTo>
                    <a:pt x="374" y="542"/>
                  </a:lnTo>
                  <a:lnTo>
                    <a:pt x="400" y="556"/>
                  </a:lnTo>
                  <a:lnTo>
                    <a:pt x="424" y="568"/>
                  </a:lnTo>
                  <a:lnTo>
                    <a:pt x="446" y="574"/>
                  </a:lnTo>
                  <a:lnTo>
                    <a:pt x="468" y="578"/>
                  </a:lnTo>
                  <a:lnTo>
                    <a:pt x="490" y="578"/>
                  </a:lnTo>
                  <a:lnTo>
                    <a:pt x="510" y="576"/>
                  </a:lnTo>
                  <a:lnTo>
                    <a:pt x="510" y="576"/>
                  </a:lnTo>
                  <a:lnTo>
                    <a:pt x="532" y="570"/>
                  </a:lnTo>
                  <a:lnTo>
                    <a:pt x="554" y="560"/>
                  </a:lnTo>
                  <a:lnTo>
                    <a:pt x="574" y="550"/>
                  </a:lnTo>
                  <a:lnTo>
                    <a:pt x="594" y="536"/>
                  </a:lnTo>
                  <a:lnTo>
                    <a:pt x="612" y="522"/>
                  </a:lnTo>
                  <a:lnTo>
                    <a:pt x="630" y="504"/>
                  </a:lnTo>
                  <a:lnTo>
                    <a:pt x="646" y="484"/>
                  </a:lnTo>
                  <a:lnTo>
                    <a:pt x="660" y="462"/>
                  </a:lnTo>
                  <a:lnTo>
                    <a:pt x="666" y="460"/>
                  </a:lnTo>
                  <a:lnTo>
                    <a:pt x="666" y="460"/>
                  </a:lnTo>
                  <a:lnTo>
                    <a:pt x="664" y="496"/>
                  </a:lnTo>
                  <a:lnTo>
                    <a:pt x="658" y="532"/>
                  </a:lnTo>
                  <a:lnTo>
                    <a:pt x="652" y="564"/>
                  </a:lnTo>
                  <a:lnTo>
                    <a:pt x="644" y="594"/>
                  </a:lnTo>
                  <a:lnTo>
                    <a:pt x="634" y="624"/>
                  </a:lnTo>
                  <a:lnTo>
                    <a:pt x="622" y="650"/>
                  </a:lnTo>
                  <a:lnTo>
                    <a:pt x="610" y="676"/>
                  </a:lnTo>
                  <a:lnTo>
                    <a:pt x="596" y="698"/>
                  </a:lnTo>
                  <a:lnTo>
                    <a:pt x="578" y="720"/>
                  </a:lnTo>
                  <a:lnTo>
                    <a:pt x="560" y="740"/>
                  </a:lnTo>
                  <a:lnTo>
                    <a:pt x="542" y="756"/>
                  </a:lnTo>
                  <a:lnTo>
                    <a:pt x="520" y="772"/>
                  </a:lnTo>
                  <a:lnTo>
                    <a:pt x="498" y="786"/>
                  </a:lnTo>
                  <a:lnTo>
                    <a:pt x="472" y="796"/>
                  </a:lnTo>
                  <a:lnTo>
                    <a:pt x="446" y="806"/>
                  </a:lnTo>
                  <a:lnTo>
                    <a:pt x="418" y="814"/>
                  </a:lnTo>
                  <a:lnTo>
                    <a:pt x="418" y="814"/>
                  </a:lnTo>
                  <a:lnTo>
                    <a:pt x="390" y="820"/>
                  </a:lnTo>
                  <a:lnTo>
                    <a:pt x="364" y="824"/>
                  </a:lnTo>
                  <a:lnTo>
                    <a:pt x="338" y="828"/>
                  </a:lnTo>
                  <a:lnTo>
                    <a:pt x="314" y="830"/>
                  </a:lnTo>
                  <a:lnTo>
                    <a:pt x="294" y="830"/>
                  </a:lnTo>
                  <a:lnTo>
                    <a:pt x="274" y="828"/>
                  </a:lnTo>
                  <a:lnTo>
                    <a:pt x="256" y="824"/>
                  </a:lnTo>
                  <a:lnTo>
                    <a:pt x="238" y="820"/>
                  </a:lnTo>
                  <a:lnTo>
                    <a:pt x="238" y="820"/>
                  </a:lnTo>
                  <a:lnTo>
                    <a:pt x="224" y="812"/>
                  </a:lnTo>
                  <a:lnTo>
                    <a:pt x="210" y="806"/>
                  </a:lnTo>
                  <a:lnTo>
                    <a:pt x="196" y="798"/>
                  </a:lnTo>
                  <a:lnTo>
                    <a:pt x="182" y="788"/>
                  </a:lnTo>
                  <a:lnTo>
                    <a:pt x="168" y="776"/>
                  </a:lnTo>
                  <a:lnTo>
                    <a:pt x="156" y="764"/>
                  </a:lnTo>
                  <a:lnTo>
                    <a:pt x="134" y="736"/>
                  </a:lnTo>
                  <a:lnTo>
                    <a:pt x="134" y="736"/>
                  </a:lnTo>
                  <a:lnTo>
                    <a:pt x="122" y="720"/>
                  </a:lnTo>
                  <a:lnTo>
                    <a:pt x="112" y="700"/>
                  </a:lnTo>
                  <a:lnTo>
                    <a:pt x="102" y="676"/>
                  </a:lnTo>
                  <a:lnTo>
                    <a:pt x="90" y="648"/>
                  </a:lnTo>
                  <a:lnTo>
                    <a:pt x="80" y="616"/>
                  </a:lnTo>
                  <a:lnTo>
                    <a:pt x="68" y="582"/>
                  </a:lnTo>
                  <a:lnTo>
                    <a:pt x="48" y="498"/>
                  </a:lnTo>
                  <a:lnTo>
                    <a:pt x="16" y="344"/>
                  </a:lnTo>
                  <a:lnTo>
                    <a:pt x="0" y="256"/>
                  </a:lnTo>
                  <a:close/>
                  <a:moveTo>
                    <a:pt x="258" y="204"/>
                  </a:moveTo>
                  <a:lnTo>
                    <a:pt x="288" y="428"/>
                  </a:lnTo>
                  <a:lnTo>
                    <a:pt x="288" y="428"/>
                  </a:lnTo>
                  <a:lnTo>
                    <a:pt x="364" y="410"/>
                  </a:lnTo>
                  <a:lnTo>
                    <a:pt x="444" y="386"/>
                  </a:lnTo>
                  <a:lnTo>
                    <a:pt x="444" y="386"/>
                  </a:lnTo>
                  <a:lnTo>
                    <a:pt x="434" y="330"/>
                  </a:lnTo>
                  <a:lnTo>
                    <a:pt x="434" y="330"/>
                  </a:lnTo>
                  <a:lnTo>
                    <a:pt x="428" y="310"/>
                  </a:lnTo>
                  <a:lnTo>
                    <a:pt x="422" y="294"/>
                  </a:lnTo>
                  <a:lnTo>
                    <a:pt x="416" y="278"/>
                  </a:lnTo>
                  <a:lnTo>
                    <a:pt x="408" y="264"/>
                  </a:lnTo>
                  <a:lnTo>
                    <a:pt x="400" y="252"/>
                  </a:lnTo>
                  <a:lnTo>
                    <a:pt x="390" y="242"/>
                  </a:lnTo>
                  <a:lnTo>
                    <a:pt x="380" y="232"/>
                  </a:lnTo>
                  <a:lnTo>
                    <a:pt x="368" y="224"/>
                  </a:lnTo>
                  <a:lnTo>
                    <a:pt x="368" y="224"/>
                  </a:lnTo>
                  <a:lnTo>
                    <a:pt x="356" y="216"/>
                  </a:lnTo>
                  <a:lnTo>
                    <a:pt x="344" y="210"/>
                  </a:lnTo>
                  <a:lnTo>
                    <a:pt x="330" y="206"/>
                  </a:lnTo>
                  <a:lnTo>
                    <a:pt x="316" y="204"/>
                  </a:lnTo>
                  <a:lnTo>
                    <a:pt x="302" y="202"/>
                  </a:lnTo>
                  <a:lnTo>
                    <a:pt x="288" y="202"/>
                  </a:lnTo>
                  <a:lnTo>
                    <a:pt x="274" y="202"/>
                  </a:lnTo>
                  <a:lnTo>
                    <a:pt x="258" y="204"/>
                  </a:lnTo>
                  <a:lnTo>
                    <a:pt x="258" y="204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156"/>
            <p:cNvSpPr/>
            <p:nvPr/>
          </p:nvSpPr>
          <p:spPr>
            <a:xfrm>
              <a:off x="7148520" y="10590120"/>
              <a:ext cx="365040" cy="812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230" h="512">
                  <a:moveTo>
                    <a:pt x="0" y="512"/>
                  </a:moveTo>
                  <a:lnTo>
                    <a:pt x="108" y="44"/>
                  </a:lnTo>
                  <a:lnTo>
                    <a:pt x="230" y="0"/>
                  </a:lnTo>
                  <a:lnTo>
                    <a:pt x="70" y="484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157"/>
            <p:cNvSpPr/>
            <p:nvPr/>
          </p:nvSpPr>
          <p:spPr>
            <a:xfrm>
              <a:off x="8256600" y="10894680"/>
              <a:ext cx="1301760" cy="1390680"/>
            </a:xfrm>
            <a:custGeom>
              <a:avLst/>
              <a:gdLst>
                <a:gd name="textAreaLeft" fmla="*/ 0 w 1301760"/>
                <a:gd name="textAreaRight" fmla="*/ 1302120 w 1301760"/>
                <a:gd name="textAreaTop" fmla="*/ 0 h 1390680"/>
                <a:gd name="textAreaBottom" fmla="*/ 1391040 h 1390680"/>
              </a:gdLst>
              <a:ahLst/>
              <a:rect l="textAreaLeft" t="textAreaTop" r="textAreaRight" b="textAreaBottom"/>
              <a:pathLst>
                <a:path w="820" h="876">
                  <a:moveTo>
                    <a:pt x="182" y="82"/>
                  </a:moveTo>
                  <a:lnTo>
                    <a:pt x="182" y="82"/>
                  </a:lnTo>
                  <a:lnTo>
                    <a:pt x="330" y="58"/>
                  </a:lnTo>
                  <a:lnTo>
                    <a:pt x="330" y="58"/>
                  </a:lnTo>
                  <a:lnTo>
                    <a:pt x="406" y="44"/>
                  </a:lnTo>
                  <a:lnTo>
                    <a:pt x="480" y="30"/>
                  </a:lnTo>
                  <a:lnTo>
                    <a:pt x="554" y="16"/>
                  </a:lnTo>
                  <a:lnTo>
                    <a:pt x="626" y="0"/>
                  </a:lnTo>
                  <a:lnTo>
                    <a:pt x="626" y="0"/>
                  </a:lnTo>
                  <a:lnTo>
                    <a:pt x="622" y="70"/>
                  </a:lnTo>
                  <a:lnTo>
                    <a:pt x="622" y="70"/>
                  </a:lnTo>
                  <a:lnTo>
                    <a:pt x="620" y="122"/>
                  </a:lnTo>
                  <a:lnTo>
                    <a:pt x="622" y="166"/>
                  </a:lnTo>
                  <a:lnTo>
                    <a:pt x="624" y="204"/>
                  </a:lnTo>
                  <a:lnTo>
                    <a:pt x="628" y="232"/>
                  </a:lnTo>
                  <a:lnTo>
                    <a:pt x="628" y="232"/>
                  </a:lnTo>
                  <a:lnTo>
                    <a:pt x="598" y="230"/>
                  </a:lnTo>
                  <a:lnTo>
                    <a:pt x="562" y="228"/>
                  </a:lnTo>
                  <a:lnTo>
                    <a:pt x="520" y="228"/>
                  </a:lnTo>
                  <a:lnTo>
                    <a:pt x="474" y="230"/>
                  </a:lnTo>
                  <a:lnTo>
                    <a:pt x="420" y="234"/>
                  </a:lnTo>
                  <a:lnTo>
                    <a:pt x="362" y="238"/>
                  </a:lnTo>
                  <a:lnTo>
                    <a:pt x="228" y="256"/>
                  </a:lnTo>
                  <a:lnTo>
                    <a:pt x="228" y="256"/>
                  </a:lnTo>
                  <a:lnTo>
                    <a:pt x="236" y="270"/>
                  </a:lnTo>
                  <a:lnTo>
                    <a:pt x="248" y="282"/>
                  </a:lnTo>
                  <a:lnTo>
                    <a:pt x="260" y="294"/>
                  </a:lnTo>
                  <a:lnTo>
                    <a:pt x="272" y="304"/>
                  </a:lnTo>
                  <a:lnTo>
                    <a:pt x="286" y="312"/>
                  </a:lnTo>
                  <a:lnTo>
                    <a:pt x="302" y="320"/>
                  </a:lnTo>
                  <a:lnTo>
                    <a:pt x="318" y="326"/>
                  </a:lnTo>
                  <a:lnTo>
                    <a:pt x="336" y="330"/>
                  </a:lnTo>
                  <a:lnTo>
                    <a:pt x="356" y="334"/>
                  </a:lnTo>
                  <a:lnTo>
                    <a:pt x="376" y="336"/>
                  </a:lnTo>
                  <a:lnTo>
                    <a:pt x="398" y="338"/>
                  </a:lnTo>
                  <a:lnTo>
                    <a:pt x="420" y="336"/>
                  </a:lnTo>
                  <a:lnTo>
                    <a:pt x="468" y="332"/>
                  </a:lnTo>
                  <a:lnTo>
                    <a:pt x="522" y="320"/>
                  </a:lnTo>
                  <a:lnTo>
                    <a:pt x="522" y="320"/>
                  </a:lnTo>
                  <a:lnTo>
                    <a:pt x="578" y="308"/>
                  </a:lnTo>
                  <a:lnTo>
                    <a:pt x="624" y="300"/>
                  </a:lnTo>
                  <a:lnTo>
                    <a:pt x="660" y="294"/>
                  </a:lnTo>
                  <a:lnTo>
                    <a:pt x="688" y="294"/>
                  </a:lnTo>
                  <a:lnTo>
                    <a:pt x="688" y="294"/>
                  </a:lnTo>
                  <a:lnTo>
                    <a:pt x="710" y="296"/>
                  </a:lnTo>
                  <a:lnTo>
                    <a:pt x="730" y="302"/>
                  </a:lnTo>
                  <a:lnTo>
                    <a:pt x="748" y="310"/>
                  </a:lnTo>
                  <a:lnTo>
                    <a:pt x="766" y="322"/>
                  </a:lnTo>
                  <a:lnTo>
                    <a:pt x="766" y="322"/>
                  </a:lnTo>
                  <a:lnTo>
                    <a:pt x="780" y="338"/>
                  </a:lnTo>
                  <a:lnTo>
                    <a:pt x="792" y="360"/>
                  </a:lnTo>
                  <a:lnTo>
                    <a:pt x="804" y="384"/>
                  </a:lnTo>
                  <a:lnTo>
                    <a:pt x="812" y="414"/>
                  </a:lnTo>
                  <a:lnTo>
                    <a:pt x="812" y="414"/>
                  </a:lnTo>
                  <a:lnTo>
                    <a:pt x="818" y="448"/>
                  </a:lnTo>
                  <a:lnTo>
                    <a:pt x="820" y="482"/>
                  </a:lnTo>
                  <a:lnTo>
                    <a:pt x="820" y="516"/>
                  </a:lnTo>
                  <a:lnTo>
                    <a:pt x="816" y="552"/>
                  </a:lnTo>
                  <a:lnTo>
                    <a:pt x="816" y="552"/>
                  </a:lnTo>
                  <a:lnTo>
                    <a:pt x="808" y="586"/>
                  </a:lnTo>
                  <a:lnTo>
                    <a:pt x="798" y="618"/>
                  </a:lnTo>
                  <a:lnTo>
                    <a:pt x="786" y="646"/>
                  </a:lnTo>
                  <a:lnTo>
                    <a:pt x="772" y="672"/>
                  </a:lnTo>
                  <a:lnTo>
                    <a:pt x="772" y="672"/>
                  </a:lnTo>
                  <a:lnTo>
                    <a:pt x="764" y="684"/>
                  </a:lnTo>
                  <a:lnTo>
                    <a:pt x="754" y="696"/>
                  </a:lnTo>
                  <a:lnTo>
                    <a:pt x="742" y="710"/>
                  </a:lnTo>
                  <a:lnTo>
                    <a:pt x="728" y="722"/>
                  </a:lnTo>
                  <a:lnTo>
                    <a:pt x="694" y="748"/>
                  </a:lnTo>
                  <a:lnTo>
                    <a:pt x="652" y="776"/>
                  </a:lnTo>
                  <a:lnTo>
                    <a:pt x="652" y="776"/>
                  </a:lnTo>
                  <a:lnTo>
                    <a:pt x="606" y="802"/>
                  </a:lnTo>
                  <a:lnTo>
                    <a:pt x="558" y="824"/>
                  </a:lnTo>
                  <a:lnTo>
                    <a:pt x="508" y="842"/>
                  </a:lnTo>
                  <a:lnTo>
                    <a:pt x="456" y="856"/>
                  </a:lnTo>
                  <a:lnTo>
                    <a:pt x="456" y="856"/>
                  </a:lnTo>
                  <a:lnTo>
                    <a:pt x="410" y="866"/>
                  </a:lnTo>
                  <a:lnTo>
                    <a:pt x="364" y="872"/>
                  </a:lnTo>
                  <a:lnTo>
                    <a:pt x="322" y="876"/>
                  </a:lnTo>
                  <a:lnTo>
                    <a:pt x="280" y="876"/>
                  </a:lnTo>
                  <a:lnTo>
                    <a:pt x="240" y="874"/>
                  </a:lnTo>
                  <a:lnTo>
                    <a:pt x="200" y="868"/>
                  </a:lnTo>
                  <a:lnTo>
                    <a:pt x="162" y="860"/>
                  </a:lnTo>
                  <a:lnTo>
                    <a:pt x="126" y="848"/>
                  </a:lnTo>
                  <a:lnTo>
                    <a:pt x="126" y="848"/>
                  </a:lnTo>
                  <a:lnTo>
                    <a:pt x="130" y="784"/>
                  </a:lnTo>
                  <a:lnTo>
                    <a:pt x="142" y="706"/>
                  </a:lnTo>
                  <a:lnTo>
                    <a:pt x="142" y="706"/>
                  </a:lnTo>
                  <a:lnTo>
                    <a:pt x="178" y="712"/>
                  </a:lnTo>
                  <a:lnTo>
                    <a:pt x="216" y="716"/>
                  </a:lnTo>
                  <a:lnTo>
                    <a:pt x="254" y="718"/>
                  </a:lnTo>
                  <a:lnTo>
                    <a:pt x="292" y="718"/>
                  </a:lnTo>
                  <a:lnTo>
                    <a:pt x="332" y="716"/>
                  </a:lnTo>
                  <a:lnTo>
                    <a:pt x="372" y="712"/>
                  </a:lnTo>
                  <a:lnTo>
                    <a:pt x="414" y="704"/>
                  </a:lnTo>
                  <a:lnTo>
                    <a:pt x="454" y="696"/>
                  </a:lnTo>
                  <a:lnTo>
                    <a:pt x="454" y="696"/>
                  </a:lnTo>
                  <a:lnTo>
                    <a:pt x="476" y="690"/>
                  </a:lnTo>
                  <a:lnTo>
                    <a:pt x="498" y="682"/>
                  </a:lnTo>
                  <a:lnTo>
                    <a:pt x="518" y="674"/>
                  </a:lnTo>
                  <a:lnTo>
                    <a:pt x="536" y="664"/>
                  </a:lnTo>
                  <a:lnTo>
                    <a:pt x="554" y="652"/>
                  </a:lnTo>
                  <a:lnTo>
                    <a:pt x="572" y="638"/>
                  </a:lnTo>
                  <a:lnTo>
                    <a:pt x="590" y="622"/>
                  </a:lnTo>
                  <a:lnTo>
                    <a:pt x="604" y="606"/>
                  </a:lnTo>
                  <a:lnTo>
                    <a:pt x="604" y="606"/>
                  </a:lnTo>
                  <a:lnTo>
                    <a:pt x="590" y="600"/>
                  </a:lnTo>
                  <a:lnTo>
                    <a:pt x="574" y="596"/>
                  </a:lnTo>
                  <a:lnTo>
                    <a:pt x="560" y="592"/>
                  </a:lnTo>
                  <a:lnTo>
                    <a:pt x="544" y="590"/>
                  </a:lnTo>
                  <a:lnTo>
                    <a:pt x="528" y="588"/>
                  </a:lnTo>
                  <a:lnTo>
                    <a:pt x="514" y="590"/>
                  </a:lnTo>
                  <a:lnTo>
                    <a:pt x="498" y="592"/>
                  </a:lnTo>
                  <a:lnTo>
                    <a:pt x="484" y="594"/>
                  </a:lnTo>
                  <a:lnTo>
                    <a:pt x="484" y="594"/>
                  </a:lnTo>
                  <a:lnTo>
                    <a:pt x="452" y="602"/>
                  </a:lnTo>
                  <a:lnTo>
                    <a:pt x="452" y="602"/>
                  </a:lnTo>
                  <a:lnTo>
                    <a:pt x="406" y="616"/>
                  </a:lnTo>
                  <a:lnTo>
                    <a:pt x="406" y="616"/>
                  </a:lnTo>
                  <a:lnTo>
                    <a:pt x="364" y="624"/>
                  </a:lnTo>
                  <a:lnTo>
                    <a:pt x="326" y="630"/>
                  </a:lnTo>
                  <a:lnTo>
                    <a:pt x="290" y="634"/>
                  </a:lnTo>
                  <a:lnTo>
                    <a:pt x="256" y="636"/>
                  </a:lnTo>
                  <a:lnTo>
                    <a:pt x="222" y="636"/>
                  </a:lnTo>
                  <a:lnTo>
                    <a:pt x="192" y="634"/>
                  </a:lnTo>
                  <a:lnTo>
                    <a:pt x="164" y="628"/>
                  </a:lnTo>
                  <a:lnTo>
                    <a:pt x="138" y="622"/>
                  </a:lnTo>
                  <a:lnTo>
                    <a:pt x="138" y="622"/>
                  </a:lnTo>
                  <a:lnTo>
                    <a:pt x="114" y="612"/>
                  </a:lnTo>
                  <a:lnTo>
                    <a:pt x="94" y="600"/>
                  </a:lnTo>
                  <a:lnTo>
                    <a:pt x="74" y="584"/>
                  </a:lnTo>
                  <a:lnTo>
                    <a:pt x="56" y="566"/>
                  </a:lnTo>
                  <a:lnTo>
                    <a:pt x="42" y="544"/>
                  </a:lnTo>
                  <a:lnTo>
                    <a:pt x="28" y="520"/>
                  </a:lnTo>
                  <a:lnTo>
                    <a:pt x="18" y="492"/>
                  </a:lnTo>
                  <a:lnTo>
                    <a:pt x="10" y="460"/>
                  </a:lnTo>
                  <a:lnTo>
                    <a:pt x="10" y="460"/>
                  </a:lnTo>
                  <a:lnTo>
                    <a:pt x="4" y="436"/>
                  </a:lnTo>
                  <a:lnTo>
                    <a:pt x="0" y="410"/>
                  </a:lnTo>
                  <a:lnTo>
                    <a:pt x="0" y="386"/>
                  </a:lnTo>
                  <a:lnTo>
                    <a:pt x="0" y="364"/>
                  </a:lnTo>
                  <a:lnTo>
                    <a:pt x="2" y="340"/>
                  </a:lnTo>
                  <a:lnTo>
                    <a:pt x="8" y="318"/>
                  </a:lnTo>
                  <a:lnTo>
                    <a:pt x="14" y="298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2" y="256"/>
                  </a:lnTo>
                  <a:lnTo>
                    <a:pt x="44" y="234"/>
                  </a:lnTo>
                  <a:lnTo>
                    <a:pt x="60" y="212"/>
                  </a:lnTo>
                  <a:lnTo>
                    <a:pt x="80" y="188"/>
                  </a:lnTo>
                  <a:lnTo>
                    <a:pt x="100" y="162"/>
                  </a:lnTo>
                  <a:lnTo>
                    <a:pt x="124" y="136"/>
                  </a:lnTo>
                  <a:lnTo>
                    <a:pt x="182" y="82"/>
                  </a:lnTo>
                  <a:lnTo>
                    <a:pt x="182" y="82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158"/>
            <p:cNvSpPr/>
            <p:nvPr/>
          </p:nvSpPr>
          <p:spPr>
            <a:xfrm>
              <a:off x="2546280" y="14314320"/>
              <a:ext cx="2944800" cy="2948040"/>
            </a:xfrm>
            <a:custGeom>
              <a:avLst/>
              <a:gdLst>
                <a:gd name="textAreaLeft" fmla="*/ 0 w 2944800"/>
                <a:gd name="textAreaRight" fmla="*/ 2945160 w 2944800"/>
                <a:gd name="textAreaTop" fmla="*/ 0 h 2948040"/>
                <a:gd name="textAreaBottom" fmla="*/ 2948400 h 2948040"/>
              </a:gdLst>
              <a:ahLst/>
              <a:rect l="textAreaLeft" t="textAreaTop" r="textAreaRight" b="textAreaBottom"/>
              <a:pathLst>
                <a:path w="1855" h="1857">
                  <a:moveTo>
                    <a:pt x="404" y="1158"/>
                  </a:moveTo>
                  <a:lnTo>
                    <a:pt x="344" y="1193"/>
                  </a:lnTo>
                  <a:lnTo>
                    <a:pt x="344" y="1193"/>
                  </a:lnTo>
                  <a:lnTo>
                    <a:pt x="338" y="1038"/>
                  </a:lnTo>
                  <a:lnTo>
                    <a:pt x="338" y="904"/>
                  </a:lnTo>
                  <a:lnTo>
                    <a:pt x="338" y="786"/>
                  </a:lnTo>
                  <a:lnTo>
                    <a:pt x="342" y="688"/>
                  </a:lnTo>
                  <a:lnTo>
                    <a:pt x="342" y="688"/>
                  </a:lnTo>
                  <a:lnTo>
                    <a:pt x="360" y="628"/>
                  </a:lnTo>
                  <a:lnTo>
                    <a:pt x="380" y="564"/>
                  </a:lnTo>
                  <a:lnTo>
                    <a:pt x="380" y="564"/>
                  </a:lnTo>
                  <a:lnTo>
                    <a:pt x="404" y="496"/>
                  </a:lnTo>
                  <a:lnTo>
                    <a:pt x="436" y="418"/>
                  </a:lnTo>
                  <a:lnTo>
                    <a:pt x="436" y="418"/>
                  </a:lnTo>
                  <a:lnTo>
                    <a:pt x="500" y="262"/>
                  </a:lnTo>
                  <a:lnTo>
                    <a:pt x="520" y="206"/>
                  </a:lnTo>
                  <a:lnTo>
                    <a:pt x="536" y="162"/>
                  </a:lnTo>
                  <a:lnTo>
                    <a:pt x="536" y="162"/>
                  </a:lnTo>
                  <a:lnTo>
                    <a:pt x="592" y="130"/>
                  </a:lnTo>
                  <a:lnTo>
                    <a:pt x="642" y="102"/>
                  </a:lnTo>
                  <a:lnTo>
                    <a:pt x="686" y="80"/>
                  </a:lnTo>
                  <a:lnTo>
                    <a:pt x="722" y="64"/>
                  </a:lnTo>
                  <a:lnTo>
                    <a:pt x="722" y="64"/>
                  </a:lnTo>
                  <a:lnTo>
                    <a:pt x="754" y="52"/>
                  </a:lnTo>
                  <a:lnTo>
                    <a:pt x="786" y="40"/>
                  </a:lnTo>
                  <a:lnTo>
                    <a:pt x="820" y="32"/>
                  </a:lnTo>
                  <a:lnTo>
                    <a:pt x="854" y="22"/>
                  </a:lnTo>
                  <a:lnTo>
                    <a:pt x="888" y="16"/>
                  </a:lnTo>
                  <a:lnTo>
                    <a:pt x="924" y="10"/>
                  </a:lnTo>
                  <a:lnTo>
                    <a:pt x="960" y="6"/>
                  </a:lnTo>
                  <a:lnTo>
                    <a:pt x="998" y="2"/>
                  </a:lnTo>
                  <a:lnTo>
                    <a:pt x="1038" y="2"/>
                  </a:lnTo>
                  <a:lnTo>
                    <a:pt x="1076" y="0"/>
                  </a:lnTo>
                  <a:lnTo>
                    <a:pt x="1118" y="2"/>
                  </a:lnTo>
                  <a:lnTo>
                    <a:pt x="1158" y="4"/>
                  </a:lnTo>
                  <a:lnTo>
                    <a:pt x="1244" y="12"/>
                  </a:lnTo>
                  <a:lnTo>
                    <a:pt x="1334" y="24"/>
                  </a:lnTo>
                  <a:lnTo>
                    <a:pt x="1334" y="24"/>
                  </a:lnTo>
                  <a:lnTo>
                    <a:pt x="1378" y="34"/>
                  </a:lnTo>
                  <a:lnTo>
                    <a:pt x="1422" y="44"/>
                  </a:lnTo>
                  <a:lnTo>
                    <a:pt x="1462" y="56"/>
                  </a:lnTo>
                  <a:lnTo>
                    <a:pt x="1500" y="68"/>
                  </a:lnTo>
                  <a:lnTo>
                    <a:pt x="1536" y="84"/>
                  </a:lnTo>
                  <a:lnTo>
                    <a:pt x="1572" y="100"/>
                  </a:lnTo>
                  <a:lnTo>
                    <a:pt x="1604" y="118"/>
                  </a:lnTo>
                  <a:lnTo>
                    <a:pt x="1634" y="136"/>
                  </a:lnTo>
                  <a:lnTo>
                    <a:pt x="1662" y="156"/>
                  </a:lnTo>
                  <a:lnTo>
                    <a:pt x="1688" y="178"/>
                  </a:lnTo>
                  <a:lnTo>
                    <a:pt x="1712" y="202"/>
                  </a:lnTo>
                  <a:lnTo>
                    <a:pt x="1734" y="228"/>
                  </a:lnTo>
                  <a:lnTo>
                    <a:pt x="1756" y="254"/>
                  </a:lnTo>
                  <a:lnTo>
                    <a:pt x="1774" y="282"/>
                  </a:lnTo>
                  <a:lnTo>
                    <a:pt x="1791" y="312"/>
                  </a:lnTo>
                  <a:lnTo>
                    <a:pt x="1805" y="342"/>
                  </a:lnTo>
                  <a:lnTo>
                    <a:pt x="1805" y="342"/>
                  </a:lnTo>
                  <a:lnTo>
                    <a:pt x="1821" y="386"/>
                  </a:lnTo>
                  <a:lnTo>
                    <a:pt x="1835" y="432"/>
                  </a:lnTo>
                  <a:lnTo>
                    <a:pt x="1845" y="476"/>
                  </a:lnTo>
                  <a:lnTo>
                    <a:pt x="1851" y="522"/>
                  </a:lnTo>
                  <a:lnTo>
                    <a:pt x="1855" y="570"/>
                  </a:lnTo>
                  <a:lnTo>
                    <a:pt x="1855" y="616"/>
                  </a:lnTo>
                  <a:lnTo>
                    <a:pt x="1851" y="664"/>
                  </a:lnTo>
                  <a:lnTo>
                    <a:pt x="1845" y="714"/>
                  </a:lnTo>
                  <a:lnTo>
                    <a:pt x="1837" y="762"/>
                  </a:lnTo>
                  <a:lnTo>
                    <a:pt x="1823" y="812"/>
                  </a:lnTo>
                  <a:lnTo>
                    <a:pt x="1807" y="862"/>
                  </a:lnTo>
                  <a:lnTo>
                    <a:pt x="1789" y="914"/>
                  </a:lnTo>
                  <a:lnTo>
                    <a:pt x="1764" y="966"/>
                  </a:lnTo>
                  <a:lnTo>
                    <a:pt x="1738" y="1018"/>
                  </a:lnTo>
                  <a:lnTo>
                    <a:pt x="1710" y="1072"/>
                  </a:lnTo>
                  <a:lnTo>
                    <a:pt x="1678" y="1126"/>
                  </a:lnTo>
                  <a:lnTo>
                    <a:pt x="1678" y="1126"/>
                  </a:lnTo>
                  <a:lnTo>
                    <a:pt x="1642" y="1178"/>
                  </a:lnTo>
                  <a:lnTo>
                    <a:pt x="1606" y="1231"/>
                  </a:lnTo>
                  <a:lnTo>
                    <a:pt x="1568" y="1281"/>
                  </a:lnTo>
                  <a:lnTo>
                    <a:pt x="1528" y="1327"/>
                  </a:lnTo>
                  <a:lnTo>
                    <a:pt x="1488" y="1373"/>
                  </a:lnTo>
                  <a:lnTo>
                    <a:pt x="1444" y="1417"/>
                  </a:lnTo>
                  <a:lnTo>
                    <a:pt x="1400" y="1459"/>
                  </a:lnTo>
                  <a:lnTo>
                    <a:pt x="1354" y="1501"/>
                  </a:lnTo>
                  <a:lnTo>
                    <a:pt x="1306" y="1539"/>
                  </a:lnTo>
                  <a:lnTo>
                    <a:pt x="1258" y="1575"/>
                  </a:lnTo>
                  <a:lnTo>
                    <a:pt x="1206" y="1611"/>
                  </a:lnTo>
                  <a:lnTo>
                    <a:pt x="1154" y="1643"/>
                  </a:lnTo>
                  <a:lnTo>
                    <a:pt x="1100" y="1675"/>
                  </a:lnTo>
                  <a:lnTo>
                    <a:pt x="1044" y="1703"/>
                  </a:lnTo>
                  <a:lnTo>
                    <a:pt x="988" y="1731"/>
                  </a:lnTo>
                  <a:lnTo>
                    <a:pt x="930" y="1757"/>
                  </a:lnTo>
                  <a:lnTo>
                    <a:pt x="930" y="1757"/>
                  </a:lnTo>
                  <a:lnTo>
                    <a:pt x="878" y="1777"/>
                  </a:lnTo>
                  <a:lnTo>
                    <a:pt x="828" y="1795"/>
                  </a:lnTo>
                  <a:lnTo>
                    <a:pt x="780" y="1811"/>
                  </a:lnTo>
                  <a:lnTo>
                    <a:pt x="732" y="1823"/>
                  </a:lnTo>
                  <a:lnTo>
                    <a:pt x="684" y="1835"/>
                  </a:lnTo>
                  <a:lnTo>
                    <a:pt x="640" y="1843"/>
                  </a:lnTo>
                  <a:lnTo>
                    <a:pt x="594" y="1849"/>
                  </a:lnTo>
                  <a:lnTo>
                    <a:pt x="550" y="1853"/>
                  </a:lnTo>
                  <a:lnTo>
                    <a:pt x="550" y="1853"/>
                  </a:lnTo>
                  <a:lnTo>
                    <a:pt x="508" y="1857"/>
                  </a:lnTo>
                  <a:lnTo>
                    <a:pt x="468" y="1857"/>
                  </a:lnTo>
                  <a:lnTo>
                    <a:pt x="428" y="1855"/>
                  </a:lnTo>
                  <a:lnTo>
                    <a:pt x="390" y="1853"/>
                  </a:lnTo>
                  <a:lnTo>
                    <a:pt x="354" y="1847"/>
                  </a:lnTo>
                  <a:lnTo>
                    <a:pt x="320" y="1841"/>
                  </a:lnTo>
                  <a:lnTo>
                    <a:pt x="286" y="1831"/>
                  </a:lnTo>
                  <a:lnTo>
                    <a:pt x="256" y="1821"/>
                  </a:lnTo>
                  <a:lnTo>
                    <a:pt x="256" y="1821"/>
                  </a:lnTo>
                  <a:lnTo>
                    <a:pt x="224" y="1809"/>
                  </a:lnTo>
                  <a:lnTo>
                    <a:pt x="194" y="1795"/>
                  </a:lnTo>
                  <a:lnTo>
                    <a:pt x="162" y="1779"/>
                  </a:lnTo>
                  <a:lnTo>
                    <a:pt x="130" y="1761"/>
                  </a:lnTo>
                  <a:lnTo>
                    <a:pt x="98" y="1743"/>
                  </a:lnTo>
                  <a:lnTo>
                    <a:pt x="66" y="1721"/>
                  </a:lnTo>
                  <a:lnTo>
                    <a:pt x="34" y="1697"/>
                  </a:lnTo>
                  <a:lnTo>
                    <a:pt x="0" y="1671"/>
                  </a:lnTo>
                  <a:lnTo>
                    <a:pt x="0" y="1671"/>
                  </a:lnTo>
                  <a:lnTo>
                    <a:pt x="82" y="1513"/>
                  </a:lnTo>
                  <a:lnTo>
                    <a:pt x="112" y="1457"/>
                  </a:lnTo>
                  <a:lnTo>
                    <a:pt x="134" y="1419"/>
                  </a:lnTo>
                  <a:lnTo>
                    <a:pt x="134" y="1419"/>
                  </a:lnTo>
                  <a:lnTo>
                    <a:pt x="198" y="1433"/>
                  </a:lnTo>
                  <a:lnTo>
                    <a:pt x="260" y="1441"/>
                  </a:lnTo>
                  <a:lnTo>
                    <a:pt x="318" y="1447"/>
                  </a:lnTo>
                  <a:lnTo>
                    <a:pt x="372" y="1447"/>
                  </a:lnTo>
                  <a:lnTo>
                    <a:pt x="422" y="1445"/>
                  </a:lnTo>
                  <a:lnTo>
                    <a:pt x="468" y="1439"/>
                  </a:lnTo>
                  <a:lnTo>
                    <a:pt x="510" y="1429"/>
                  </a:lnTo>
                  <a:lnTo>
                    <a:pt x="550" y="1417"/>
                  </a:lnTo>
                  <a:lnTo>
                    <a:pt x="550" y="1417"/>
                  </a:lnTo>
                  <a:lnTo>
                    <a:pt x="582" y="1399"/>
                  </a:lnTo>
                  <a:lnTo>
                    <a:pt x="614" y="1379"/>
                  </a:lnTo>
                  <a:lnTo>
                    <a:pt x="644" y="1353"/>
                  </a:lnTo>
                  <a:lnTo>
                    <a:pt x="674" y="1323"/>
                  </a:lnTo>
                  <a:lnTo>
                    <a:pt x="674" y="1323"/>
                  </a:lnTo>
                  <a:lnTo>
                    <a:pt x="688" y="1305"/>
                  </a:lnTo>
                  <a:lnTo>
                    <a:pt x="702" y="1285"/>
                  </a:lnTo>
                  <a:lnTo>
                    <a:pt x="716" y="1261"/>
                  </a:lnTo>
                  <a:lnTo>
                    <a:pt x="730" y="1231"/>
                  </a:lnTo>
                  <a:lnTo>
                    <a:pt x="760" y="1164"/>
                  </a:lnTo>
                  <a:lnTo>
                    <a:pt x="792" y="1082"/>
                  </a:lnTo>
                  <a:lnTo>
                    <a:pt x="792" y="1082"/>
                  </a:lnTo>
                  <a:lnTo>
                    <a:pt x="880" y="822"/>
                  </a:lnTo>
                  <a:lnTo>
                    <a:pt x="1030" y="374"/>
                  </a:lnTo>
                  <a:lnTo>
                    <a:pt x="1030" y="374"/>
                  </a:lnTo>
                  <a:lnTo>
                    <a:pt x="980" y="370"/>
                  </a:lnTo>
                  <a:lnTo>
                    <a:pt x="930" y="370"/>
                  </a:lnTo>
                  <a:lnTo>
                    <a:pt x="882" y="372"/>
                  </a:lnTo>
                  <a:lnTo>
                    <a:pt x="834" y="376"/>
                  </a:lnTo>
                  <a:lnTo>
                    <a:pt x="788" y="384"/>
                  </a:lnTo>
                  <a:lnTo>
                    <a:pt x="744" y="394"/>
                  </a:lnTo>
                  <a:lnTo>
                    <a:pt x="702" y="406"/>
                  </a:lnTo>
                  <a:lnTo>
                    <a:pt x="660" y="422"/>
                  </a:lnTo>
                  <a:lnTo>
                    <a:pt x="660" y="422"/>
                  </a:lnTo>
                  <a:lnTo>
                    <a:pt x="606" y="446"/>
                  </a:lnTo>
                  <a:lnTo>
                    <a:pt x="536" y="482"/>
                  </a:lnTo>
                  <a:lnTo>
                    <a:pt x="536" y="482"/>
                  </a:lnTo>
                  <a:lnTo>
                    <a:pt x="524" y="538"/>
                  </a:lnTo>
                  <a:lnTo>
                    <a:pt x="496" y="670"/>
                  </a:lnTo>
                  <a:lnTo>
                    <a:pt x="404" y="1158"/>
                  </a:lnTo>
                  <a:lnTo>
                    <a:pt x="404" y="1158"/>
                  </a:lnTo>
                  <a:close/>
                  <a:moveTo>
                    <a:pt x="750" y="1463"/>
                  </a:moveTo>
                  <a:lnTo>
                    <a:pt x="750" y="1463"/>
                  </a:lnTo>
                  <a:lnTo>
                    <a:pt x="812" y="1457"/>
                  </a:lnTo>
                  <a:lnTo>
                    <a:pt x="872" y="1451"/>
                  </a:lnTo>
                  <a:lnTo>
                    <a:pt x="928" y="1443"/>
                  </a:lnTo>
                  <a:lnTo>
                    <a:pt x="982" y="1433"/>
                  </a:lnTo>
                  <a:lnTo>
                    <a:pt x="1034" y="1421"/>
                  </a:lnTo>
                  <a:lnTo>
                    <a:pt x="1082" y="1409"/>
                  </a:lnTo>
                  <a:lnTo>
                    <a:pt x="1128" y="1393"/>
                  </a:lnTo>
                  <a:lnTo>
                    <a:pt x="1172" y="1377"/>
                  </a:lnTo>
                  <a:lnTo>
                    <a:pt x="1172" y="1377"/>
                  </a:lnTo>
                  <a:lnTo>
                    <a:pt x="1214" y="1359"/>
                  </a:lnTo>
                  <a:lnTo>
                    <a:pt x="1256" y="1337"/>
                  </a:lnTo>
                  <a:lnTo>
                    <a:pt x="1296" y="1317"/>
                  </a:lnTo>
                  <a:lnTo>
                    <a:pt x="1336" y="1293"/>
                  </a:lnTo>
                  <a:lnTo>
                    <a:pt x="1376" y="1267"/>
                  </a:lnTo>
                  <a:lnTo>
                    <a:pt x="1414" y="1239"/>
                  </a:lnTo>
                  <a:lnTo>
                    <a:pt x="1452" y="1209"/>
                  </a:lnTo>
                  <a:lnTo>
                    <a:pt x="1490" y="1178"/>
                  </a:lnTo>
                  <a:lnTo>
                    <a:pt x="1490" y="1178"/>
                  </a:lnTo>
                  <a:lnTo>
                    <a:pt x="1526" y="1146"/>
                  </a:lnTo>
                  <a:lnTo>
                    <a:pt x="1558" y="1114"/>
                  </a:lnTo>
                  <a:lnTo>
                    <a:pt x="1586" y="1082"/>
                  </a:lnTo>
                  <a:lnTo>
                    <a:pt x="1612" y="1050"/>
                  </a:lnTo>
                  <a:lnTo>
                    <a:pt x="1632" y="1018"/>
                  </a:lnTo>
                  <a:lnTo>
                    <a:pt x="1650" y="986"/>
                  </a:lnTo>
                  <a:lnTo>
                    <a:pt x="1664" y="952"/>
                  </a:lnTo>
                  <a:lnTo>
                    <a:pt x="1674" y="920"/>
                  </a:lnTo>
                  <a:lnTo>
                    <a:pt x="1674" y="920"/>
                  </a:lnTo>
                  <a:lnTo>
                    <a:pt x="1682" y="890"/>
                  </a:lnTo>
                  <a:lnTo>
                    <a:pt x="1686" y="858"/>
                  </a:lnTo>
                  <a:lnTo>
                    <a:pt x="1690" y="830"/>
                  </a:lnTo>
                  <a:lnTo>
                    <a:pt x="1690" y="802"/>
                  </a:lnTo>
                  <a:lnTo>
                    <a:pt x="1690" y="776"/>
                  </a:lnTo>
                  <a:lnTo>
                    <a:pt x="1686" y="750"/>
                  </a:lnTo>
                  <a:lnTo>
                    <a:pt x="1680" y="726"/>
                  </a:lnTo>
                  <a:lnTo>
                    <a:pt x="1672" y="704"/>
                  </a:lnTo>
                  <a:lnTo>
                    <a:pt x="1672" y="704"/>
                  </a:lnTo>
                  <a:lnTo>
                    <a:pt x="1660" y="680"/>
                  </a:lnTo>
                  <a:lnTo>
                    <a:pt x="1646" y="656"/>
                  </a:lnTo>
                  <a:lnTo>
                    <a:pt x="1626" y="632"/>
                  </a:lnTo>
                  <a:lnTo>
                    <a:pt x="1604" y="608"/>
                  </a:lnTo>
                  <a:lnTo>
                    <a:pt x="1578" y="582"/>
                  </a:lnTo>
                  <a:lnTo>
                    <a:pt x="1548" y="556"/>
                  </a:lnTo>
                  <a:lnTo>
                    <a:pt x="1516" y="530"/>
                  </a:lnTo>
                  <a:lnTo>
                    <a:pt x="1478" y="504"/>
                  </a:lnTo>
                  <a:lnTo>
                    <a:pt x="1478" y="504"/>
                  </a:lnTo>
                  <a:lnTo>
                    <a:pt x="1438" y="478"/>
                  </a:lnTo>
                  <a:lnTo>
                    <a:pt x="1396" y="454"/>
                  </a:lnTo>
                  <a:lnTo>
                    <a:pt x="1352" y="434"/>
                  </a:lnTo>
                  <a:lnTo>
                    <a:pt x="1304" y="416"/>
                  </a:lnTo>
                  <a:lnTo>
                    <a:pt x="1256" y="402"/>
                  </a:lnTo>
                  <a:lnTo>
                    <a:pt x="1204" y="390"/>
                  </a:lnTo>
                  <a:lnTo>
                    <a:pt x="1152" y="382"/>
                  </a:lnTo>
                  <a:lnTo>
                    <a:pt x="1096" y="374"/>
                  </a:lnTo>
                  <a:lnTo>
                    <a:pt x="1096" y="374"/>
                  </a:lnTo>
                  <a:lnTo>
                    <a:pt x="1090" y="424"/>
                  </a:lnTo>
                  <a:lnTo>
                    <a:pt x="1084" y="478"/>
                  </a:lnTo>
                  <a:lnTo>
                    <a:pt x="1074" y="536"/>
                  </a:lnTo>
                  <a:lnTo>
                    <a:pt x="1062" y="598"/>
                  </a:lnTo>
                  <a:lnTo>
                    <a:pt x="1062" y="598"/>
                  </a:lnTo>
                  <a:lnTo>
                    <a:pt x="1048" y="664"/>
                  </a:lnTo>
                  <a:lnTo>
                    <a:pt x="1032" y="732"/>
                  </a:lnTo>
                  <a:lnTo>
                    <a:pt x="1014" y="802"/>
                  </a:lnTo>
                  <a:lnTo>
                    <a:pt x="996" y="874"/>
                  </a:lnTo>
                  <a:lnTo>
                    <a:pt x="996" y="874"/>
                  </a:lnTo>
                  <a:lnTo>
                    <a:pt x="974" y="946"/>
                  </a:lnTo>
                  <a:lnTo>
                    <a:pt x="950" y="1020"/>
                  </a:lnTo>
                  <a:lnTo>
                    <a:pt x="924" y="1094"/>
                  </a:lnTo>
                  <a:lnTo>
                    <a:pt x="894" y="1168"/>
                  </a:lnTo>
                  <a:lnTo>
                    <a:pt x="894" y="1168"/>
                  </a:lnTo>
                  <a:lnTo>
                    <a:pt x="862" y="1243"/>
                  </a:lnTo>
                  <a:lnTo>
                    <a:pt x="828" y="1317"/>
                  </a:lnTo>
                  <a:lnTo>
                    <a:pt x="790" y="1391"/>
                  </a:lnTo>
                  <a:lnTo>
                    <a:pt x="750" y="1463"/>
                  </a:lnTo>
                  <a:lnTo>
                    <a:pt x="750" y="146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159"/>
            <p:cNvSpPr/>
            <p:nvPr/>
          </p:nvSpPr>
          <p:spPr>
            <a:xfrm>
              <a:off x="5732640" y="14162040"/>
              <a:ext cx="1355400" cy="1384200"/>
            </a:xfrm>
            <a:custGeom>
              <a:avLst/>
              <a:gdLst>
                <a:gd name="textAreaLeft" fmla="*/ 0 w 1355400"/>
                <a:gd name="textAreaRight" fmla="*/ 1355760 w 1355400"/>
                <a:gd name="textAreaTop" fmla="*/ 0 h 1384200"/>
                <a:gd name="textAreaBottom" fmla="*/ 1384200 h 1384200"/>
              </a:gdLst>
              <a:ahLst/>
              <a:rect l="textAreaLeft" t="textAreaTop" r="textAreaRight" b="textAreaBottom"/>
              <a:pathLst>
                <a:path w="854" h="872">
                  <a:moveTo>
                    <a:pt x="114" y="60"/>
                  </a:moveTo>
                  <a:lnTo>
                    <a:pt x="114" y="60"/>
                  </a:lnTo>
                  <a:lnTo>
                    <a:pt x="272" y="30"/>
                  </a:lnTo>
                  <a:lnTo>
                    <a:pt x="272" y="30"/>
                  </a:lnTo>
                  <a:lnTo>
                    <a:pt x="380" y="10"/>
                  </a:lnTo>
                  <a:lnTo>
                    <a:pt x="418" y="4"/>
                  </a:lnTo>
                  <a:lnTo>
                    <a:pt x="446" y="0"/>
                  </a:lnTo>
                  <a:lnTo>
                    <a:pt x="446" y="0"/>
                  </a:lnTo>
                  <a:lnTo>
                    <a:pt x="468" y="0"/>
                  </a:lnTo>
                  <a:lnTo>
                    <a:pt x="490" y="4"/>
                  </a:lnTo>
                  <a:lnTo>
                    <a:pt x="514" y="10"/>
                  </a:lnTo>
                  <a:lnTo>
                    <a:pt x="536" y="16"/>
                  </a:lnTo>
                  <a:lnTo>
                    <a:pt x="536" y="16"/>
                  </a:lnTo>
                  <a:lnTo>
                    <a:pt x="560" y="28"/>
                  </a:lnTo>
                  <a:lnTo>
                    <a:pt x="582" y="42"/>
                  </a:lnTo>
                  <a:lnTo>
                    <a:pt x="602" y="62"/>
                  </a:lnTo>
                  <a:lnTo>
                    <a:pt x="624" y="84"/>
                  </a:lnTo>
                  <a:lnTo>
                    <a:pt x="624" y="84"/>
                  </a:lnTo>
                  <a:lnTo>
                    <a:pt x="644" y="112"/>
                  </a:lnTo>
                  <a:lnTo>
                    <a:pt x="664" y="146"/>
                  </a:lnTo>
                  <a:lnTo>
                    <a:pt x="684" y="184"/>
                  </a:lnTo>
                  <a:lnTo>
                    <a:pt x="704" y="230"/>
                  </a:lnTo>
                  <a:lnTo>
                    <a:pt x="804" y="482"/>
                  </a:lnTo>
                  <a:lnTo>
                    <a:pt x="804" y="482"/>
                  </a:lnTo>
                  <a:lnTo>
                    <a:pt x="826" y="528"/>
                  </a:lnTo>
                  <a:lnTo>
                    <a:pt x="854" y="582"/>
                  </a:lnTo>
                  <a:lnTo>
                    <a:pt x="854" y="582"/>
                  </a:lnTo>
                  <a:lnTo>
                    <a:pt x="814" y="610"/>
                  </a:lnTo>
                  <a:lnTo>
                    <a:pt x="758" y="650"/>
                  </a:lnTo>
                  <a:lnTo>
                    <a:pt x="692" y="704"/>
                  </a:lnTo>
                  <a:lnTo>
                    <a:pt x="612" y="768"/>
                  </a:lnTo>
                  <a:lnTo>
                    <a:pt x="612" y="768"/>
                  </a:lnTo>
                  <a:lnTo>
                    <a:pt x="592" y="702"/>
                  </a:lnTo>
                  <a:lnTo>
                    <a:pt x="564" y="626"/>
                  </a:lnTo>
                  <a:lnTo>
                    <a:pt x="532" y="540"/>
                  </a:lnTo>
                  <a:lnTo>
                    <a:pt x="492" y="442"/>
                  </a:lnTo>
                  <a:lnTo>
                    <a:pt x="492" y="442"/>
                  </a:lnTo>
                  <a:lnTo>
                    <a:pt x="490" y="462"/>
                  </a:lnTo>
                  <a:lnTo>
                    <a:pt x="482" y="490"/>
                  </a:lnTo>
                  <a:lnTo>
                    <a:pt x="454" y="576"/>
                  </a:lnTo>
                  <a:lnTo>
                    <a:pt x="454" y="576"/>
                  </a:lnTo>
                  <a:lnTo>
                    <a:pt x="412" y="698"/>
                  </a:lnTo>
                  <a:lnTo>
                    <a:pt x="354" y="862"/>
                  </a:lnTo>
                  <a:lnTo>
                    <a:pt x="354" y="862"/>
                  </a:lnTo>
                  <a:lnTo>
                    <a:pt x="304" y="868"/>
                  </a:lnTo>
                  <a:lnTo>
                    <a:pt x="260" y="870"/>
                  </a:lnTo>
                  <a:lnTo>
                    <a:pt x="222" y="872"/>
                  </a:lnTo>
                  <a:lnTo>
                    <a:pt x="188" y="872"/>
                  </a:lnTo>
                  <a:lnTo>
                    <a:pt x="188" y="872"/>
                  </a:lnTo>
                  <a:lnTo>
                    <a:pt x="134" y="776"/>
                  </a:lnTo>
                  <a:lnTo>
                    <a:pt x="134" y="776"/>
                  </a:lnTo>
                  <a:lnTo>
                    <a:pt x="106" y="726"/>
                  </a:lnTo>
                  <a:lnTo>
                    <a:pt x="82" y="680"/>
                  </a:lnTo>
                  <a:lnTo>
                    <a:pt x="60" y="634"/>
                  </a:lnTo>
                  <a:lnTo>
                    <a:pt x="40" y="590"/>
                  </a:lnTo>
                  <a:lnTo>
                    <a:pt x="40" y="590"/>
                  </a:lnTo>
                  <a:lnTo>
                    <a:pt x="28" y="558"/>
                  </a:lnTo>
                  <a:lnTo>
                    <a:pt x="18" y="528"/>
                  </a:lnTo>
                  <a:lnTo>
                    <a:pt x="10" y="498"/>
                  </a:lnTo>
                  <a:lnTo>
                    <a:pt x="6" y="470"/>
                  </a:lnTo>
                  <a:lnTo>
                    <a:pt x="2" y="442"/>
                  </a:lnTo>
                  <a:lnTo>
                    <a:pt x="0" y="414"/>
                  </a:lnTo>
                  <a:lnTo>
                    <a:pt x="0" y="386"/>
                  </a:lnTo>
                  <a:lnTo>
                    <a:pt x="2" y="360"/>
                  </a:lnTo>
                  <a:lnTo>
                    <a:pt x="2" y="360"/>
                  </a:lnTo>
                  <a:lnTo>
                    <a:pt x="6" y="332"/>
                  </a:lnTo>
                  <a:lnTo>
                    <a:pt x="14" y="302"/>
                  </a:lnTo>
                  <a:lnTo>
                    <a:pt x="24" y="268"/>
                  </a:lnTo>
                  <a:lnTo>
                    <a:pt x="36" y="234"/>
                  </a:lnTo>
                  <a:lnTo>
                    <a:pt x="52" y="194"/>
                  </a:lnTo>
                  <a:lnTo>
                    <a:pt x="70" y="152"/>
                  </a:lnTo>
                  <a:lnTo>
                    <a:pt x="92" y="108"/>
                  </a:lnTo>
                  <a:lnTo>
                    <a:pt x="114" y="60"/>
                  </a:lnTo>
                  <a:lnTo>
                    <a:pt x="114" y="60"/>
                  </a:lnTo>
                  <a:close/>
                  <a:moveTo>
                    <a:pt x="196" y="268"/>
                  </a:moveTo>
                  <a:lnTo>
                    <a:pt x="352" y="594"/>
                  </a:lnTo>
                  <a:lnTo>
                    <a:pt x="352" y="594"/>
                  </a:lnTo>
                  <a:lnTo>
                    <a:pt x="374" y="520"/>
                  </a:lnTo>
                  <a:lnTo>
                    <a:pt x="392" y="442"/>
                  </a:lnTo>
                  <a:lnTo>
                    <a:pt x="392" y="442"/>
                  </a:lnTo>
                  <a:lnTo>
                    <a:pt x="406" y="362"/>
                  </a:lnTo>
                  <a:lnTo>
                    <a:pt x="416" y="288"/>
                  </a:lnTo>
                  <a:lnTo>
                    <a:pt x="416" y="288"/>
                  </a:lnTo>
                  <a:lnTo>
                    <a:pt x="396" y="278"/>
                  </a:lnTo>
                  <a:lnTo>
                    <a:pt x="374" y="268"/>
                  </a:lnTo>
                  <a:lnTo>
                    <a:pt x="350" y="262"/>
                  </a:lnTo>
                  <a:lnTo>
                    <a:pt x="324" y="258"/>
                  </a:lnTo>
                  <a:lnTo>
                    <a:pt x="296" y="258"/>
                  </a:lnTo>
                  <a:lnTo>
                    <a:pt x="266" y="258"/>
                  </a:lnTo>
                  <a:lnTo>
                    <a:pt x="232" y="262"/>
                  </a:lnTo>
                  <a:lnTo>
                    <a:pt x="196" y="268"/>
                  </a:lnTo>
                  <a:lnTo>
                    <a:pt x="196" y="26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160"/>
            <p:cNvSpPr/>
            <p:nvPr/>
          </p:nvSpPr>
          <p:spPr>
            <a:xfrm>
              <a:off x="6973920" y="13444560"/>
              <a:ext cx="1473120" cy="205740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928" h="1296">
                  <a:moveTo>
                    <a:pt x="72" y="478"/>
                  </a:moveTo>
                  <a:lnTo>
                    <a:pt x="0" y="302"/>
                  </a:lnTo>
                  <a:lnTo>
                    <a:pt x="0" y="302"/>
                  </a:lnTo>
                  <a:lnTo>
                    <a:pt x="42" y="282"/>
                  </a:lnTo>
                  <a:lnTo>
                    <a:pt x="82" y="262"/>
                  </a:lnTo>
                  <a:lnTo>
                    <a:pt x="120" y="240"/>
                  </a:lnTo>
                  <a:lnTo>
                    <a:pt x="154" y="218"/>
                  </a:lnTo>
                  <a:lnTo>
                    <a:pt x="186" y="196"/>
                  </a:lnTo>
                  <a:lnTo>
                    <a:pt x="218" y="174"/>
                  </a:lnTo>
                  <a:lnTo>
                    <a:pt x="246" y="152"/>
                  </a:lnTo>
                  <a:lnTo>
                    <a:pt x="270" y="128"/>
                  </a:lnTo>
                  <a:lnTo>
                    <a:pt x="338" y="324"/>
                  </a:lnTo>
                  <a:lnTo>
                    <a:pt x="418" y="548"/>
                  </a:lnTo>
                  <a:lnTo>
                    <a:pt x="418" y="548"/>
                  </a:lnTo>
                  <a:lnTo>
                    <a:pt x="428" y="472"/>
                  </a:lnTo>
                  <a:lnTo>
                    <a:pt x="434" y="406"/>
                  </a:lnTo>
                  <a:lnTo>
                    <a:pt x="438" y="352"/>
                  </a:lnTo>
                  <a:lnTo>
                    <a:pt x="438" y="308"/>
                  </a:lnTo>
                  <a:lnTo>
                    <a:pt x="438" y="308"/>
                  </a:lnTo>
                  <a:lnTo>
                    <a:pt x="434" y="264"/>
                  </a:lnTo>
                  <a:lnTo>
                    <a:pt x="426" y="214"/>
                  </a:lnTo>
                  <a:lnTo>
                    <a:pt x="416" y="156"/>
                  </a:lnTo>
                  <a:lnTo>
                    <a:pt x="402" y="92"/>
                  </a:lnTo>
                  <a:lnTo>
                    <a:pt x="402" y="92"/>
                  </a:lnTo>
                  <a:lnTo>
                    <a:pt x="690" y="0"/>
                  </a:lnTo>
                  <a:lnTo>
                    <a:pt x="690" y="0"/>
                  </a:lnTo>
                  <a:lnTo>
                    <a:pt x="702" y="50"/>
                  </a:lnTo>
                  <a:lnTo>
                    <a:pt x="722" y="126"/>
                  </a:lnTo>
                  <a:lnTo>
                    <a:pt x="752" y="228"/>
                  </a:lnTo>
                  <a:lnTo>
                    <a:pt x="788" y="354"/>
                  </a:lnTo>
                  <a:lnTo>
                    <a:pt x="880" y="644"/>
                  </a:lnTo>
                  <a:lnTo>
                    <a:pt x="880" y="644"/>
                  </a:lnTo>
                  <a:lnTo>
                    <a:pt x="896" y="702"/>
                  </a:lnTo>
                  <a:lnTo>
                    <a:pt x="910" y="752"/>
                  </a:lnTo>
                  <a:lnTo>
                    <a:pt x="920" y="792"/>
                  </a:lnTo>
                  <a:lnTo>
                    <a:pt x="926" y="826"/>
                  </a:lnTo>
                  <a:lnTo>
                    <a:pt x="926" y="826"/>
                  </a:lnTo>
                  <a:lnTo>
                    <a:pt x="928" y="860"/>
                  </a:lnTo>
                  <a:lnTo>
                    <a:pt x="926" y="898"/>
                  </a:lnTo>
                  <a:lnTo>
                    <a:pt x="922" y="942"/>
                  </a:lnTo>
                  <a:lnTo>
                    <a:pt x="914" y="988"/>
                  </a:lnTo>
                  <a:lnTo>
                    <a:pt x="914" y="988"/>
                  </a:lnTo>
                  <a:lnTo>
                    <a:pt x="902" y="1044"/>
                  </a:lnTo>
                  <a:lnTo>
                    <a:pt x="886" y="1106"/>
                  </a:lnTo>
                  <a:lnTo>
                    <a:pt x="866" y="1172"/>
                  </a:lnTo>
                  <a:lnTo>
                    <a:pt x="842" y="1246"/>
                  </a:lnTo>
                  <a:lnTo>
                    <a:pt x="842" y="1246"/>
                  </a:lnTo>
                  <a:lnTo>
                    <a:pt x="778" y="1264"/>
                  </a:lnTo>
                  <a:lnTo>
                    <a:pt x="716" y="1278"/>
                  </a:lnTo>
                  <a:lnTo>
                    <a:pt x="656" y="1288"/>
                  </a:lnTo>
                  <a:lnTo>
                    <a:pt x="600" y="1294"/>
                  </a:lnTo>
                  <a:lnTo>
                    <a:pt x="546" y="1296"/>
                  </a:lnTo>
                  <a:lnTo>
                    <a:pt x="496" y="1296"/>
                  </a:lnTo>
                  <a:lnTo>
                    <a:pt x="448" y="1290"/>
                  </a:lnTo>
                  <a:lnTo>
                    <a:pt x="402" y="1280"/>
                  </a:lnTo>
                  <a:lnTo>
                    <a:pt x="308" y="1182"/>
                  </a:lnTo>
                  <a:lnTo>
                    <a:pt x="308" y="1182"/>
                  </a:lnTo>
                  <a:lnTo>
                    <a:pt x="314" y="1142"/>
                  </a:lnTo>
                  <a:lnTo>
                    <a:pt x="322" y="1096"/>
                  </a:lnTo>
                  <a:lnTo>
                    <a:pt x="344" y="994"/>
                  </a:lnTo>
                  <a:lnTo>
                    <a:pt x="344" y="994"/>
                  </a:lnTo>
                  <a:lnTo>
                    <a:pt x="362" y="1002"/>
                  </a:lnTo>
                  <a:lnTo>
                    <a:pt x="380" y="1010"/>
                  </a:lnTo>
                  <a:lnTo>
                    <a:pt x="398" y="1014"/>
                  </a:lnTo>
                  <a:lnTo>
                    <a:pt x="418" y="1018"/>
                  </a:lnTo>
                  <a:lnTo>
                    <a:pt x="438" y="1022"/>
                  </a:lnTo>
                  <a:lnTo>
                    <a:pt x="458" y="1022"/>
                  </a:lnTo>
                  <a:lnTo>
                    <a:pt x="480" y="1022"/>
                  </a:lnTo>
                  <a:lnTo>
                    <a:pt x="502" y="1018"/>
                  </a:lnTo>
                  <a:lnTo>
                    <a:pt x="502" y="1018"/>
                  </a:lnTo>
                  <a:lnTo>
                    <a:pt x="550" y="1012"/>
                  </a:lnTo>
                  <a:lnTo>
                    <a:pt x="604" y="1002"/>
                  </a:lnTo>
                  <a:lnTo>
                    <a:pt x="660" y="990"/>
                  </a:lnTo>
                  <a:lnTo>
                    <a:pt x="720" y="978"/>
                  </a:lnTo>
                  <a:lnTo>
                    <a:pt x="720" y="978"/>
                  </a:lnTo>
                  <a:lnTo>
                    <a:pt x="674" y="886"/>
                  </a:lnTo>
                  <a:lnTo>
                    <a:pt x="634" y="806"/>
                  </a:lnTo>
                  <a:lnTo>
                    <a:pt x="600" y="734"/>
                  </a:lnTo>
                  <a:lnTo>
                    <a:pt x="574" y="672"/>
                  </a:lnTo>
                  <a:lnTo>
                    <a:pt x="574" y="672"/>
                  </a:lnTo>
                  <a:lnTo>
                    <a:pt x="544" y="596"/>
                  </a:lnTo>
                  <a:lnTo>
                    <a:pt x="510" y="506"/>
                  </a:lnTo>
                  <a:lnTo>
                    <a:pt x="432" y="828"/>
                  </a:lnTo>
                  <a:lnTo>
                    <a:pt x="432" y="828"/>
                  </a:lnTo>
                  <a:lnTo>
                    <a:pt x="426" y="854"/>
                  </a:lnTo>
                  <a:lnTo>
                    <a:pt x="424" y="876"/>
                  </a:lnTo>
                  <a:lnTo>
                    <a:pt x="424" y="898"/>
                  </a:lnTo>
                  <a:lnTo>
                    <a:pt x="428" y="920"/>
                  </a:lnTo>
                  <a:lnTo>
                    <a:pt x="428" y="920"/>
                  </a:lnTo>
                  <a:lnTo>
                    <a:pt x="394" y="928"/>
                  </a:lnTo>
                  <a:lnTo>
                    <a:pt x="360" y="932"/>
                  </a:lnTo>
                  <a:lnTo>
                    <a:pt x="326" y="934"/>
                  </a:lnTo>
                  <a:lnTo>
                    <a:pt x="292" y="934"/>
                  </a:lnTo>
                  <a:lnTo>
                    <a:pt x="292" y="934"/>
                  </a:lnTo>
                  <a:lnTo>
                    <a:pt x="258" y="870"/>
                  </a:lnTo>
                  <a:lnTo>
                    <a:pt x="222" y="800"/>
                  </a:lnTo>
                  <a:lnTo>
                    <a:pt x="222" y="800"/>
                  </a:lnTo>
                  <a:lnTo>
                    <a:pt x="190" y="736"/>
                  </a:lnTo>
                  <a:lnTo>
                    <a:pt x="148" y="644"/>
                  </a:lnTo>
                  <a:lnTo>
                    <a:pt x="148" y="644"/>
                  </a:lnTo>
                  <a:lnTo>
                    <a:pt x="108" y="558"/>
                  </a:lnTo>
                  <a:lnTo>
                    <a:pt x="72" y="478"/>
                  </a:lnTo>
                  <a:lnTo>
                    <a:pt x="72" y="47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161"/>
            <p:cNvSpPr/>
            <p:nvPr/>
          </p:nvSpPr>
          <p:spPr>
            <a:xfrm>
              <a:off x="2546280" y="14314320"/>
              <a:ext cx="2944800" cy="2948040"/>
            </a:xfrm>
            <a:custGeom>
              <a:avLst/>
              <a:gdLst>
                <a:gd name="textAreaLeft" fmla="*/ 0 w 2944800"/>
                <a:gd name="textAreaRight" fmla="*/ 2945160 w 2944800"/>
                <a:gd name="textAreaTop" fmla="*/ 0 h 2948040"/>
                <a:gd name="textAreaBottom" fmla="*/ 2948400 h 2948040"/>
              </a:gdLst>
              <a:ahLst/>
              <a:rect l="textAreaLeft" t="textAreaTop" r="textAreaRight" b="textAreaBottom"/>
              <a:pathLst>
                <a:path w="1855" h="1857">
                  <a:moveTo>
                    <a:pt x="404" y="1158"/>
                  </a:moveTo>
                  <a:lnTo>
                    <a:pt x="344" y="1193"/>
                  </a:lnTo>
                  <a:lnTo>
                    <a:pt x="344" y="1193"/>
                  </a:lnTo>
                  <a:lnTo>
                    <a:pt x="338" y="1038"/>
                  </a:lnTo>
                  <a:lnTo>
                    <a:pt x="338" y="904"/>
                  </a:lnTo>
                  <a:lnTo>
                    <a:pt x="338" y="786"/>
                  </a:lnTo>
                  <a:lnTo>
                    <a:pt x="342" y="688"/>
                  </a:lnTo>
                  <a:lnTo>
                    <a:pt x="342" y="688"/>
                  </a:lnTo>
                  <a:lnTo>
                    <a:pt x="360" y="628"/>
                  </a:lnTo>
                  <a:lnTo>
                    <a:pt x="380" y="564"/>
                  </a:lnTo>
                  <a:lnTo>
                    <a:pt x="380" y="564"/>
                  </a:lnTo>
                  <a:lnTo>
                    <a:pt x="404" y="496"/>
                  </a:lnTo>
                  <a:lnTo>
                    <a:pt x="436" y="418"/>
                  </a:lnTo>
                  <a:lnTo>
                    <a:pt x="436" y="418"/>
                  </a:lnTo>
                  <a:lnTo>
                    <a:pt x="500" y="262"/>
                  </a:lnTo>
                  <a:lnTo>
                    <a:pt x="520" y="206"/>
                  </a:lnTo>
                  <a:lnTo>
                    <a:pt x="536" y="162"/>
                  </a:lnTo>
                  <a:lnTo>
                    <a:pt x="536" y="162"/>
                  </a:lnTo>
                  <a:lnTo>
                    <a:pt x="592" y="130"/>
                  </a:lnTo>
                  <a:lnTo>
                    <a:pt x="642" y="102"/>
                  </a:lnTo>
                  <a:lnTo>
                    <a:pt x="686" y="80"/>
                  </a:lnTo>
                  <a:lnTo>
                    <a:pt x="722" y="64"/>
                  </a:lnTo>
                  <a:lnTo>
                    <a:pt x="722" y="64"/>
                  </a:lnTo>
                  <a:lnTo>
                    <a:pt x="754" y="52"/>
                  </a:lnTo>
                  <a:lnTo>
                    <a:pt x="786" y="40"/>
                  </a:lnTo>
                  <a:lnTo>
                    <a:pt x="820" y="32"/>
                  </a:lnTo>
                  <a:lnTo>
                    <a:pt x="854" y="22"/>
                  </a:lnTo>
                  <a:lnTo>
                    <a:pt x="888" y="16"/>
                  </a:lnTo>
                  <a:lnTo>
                    <a:pt x="924" y="10"/>
                  </a:lnTo>
                  <a:lnTo>
                    <a:pt x="960" y="6"/>
                  </a:lnTo>
                  <a:lnTo>
                    <a:pt x="998" y="2"/>
                  </a:lnTo>
                  <a:lnTo>
                    <a:pt x="1038" y="2"/>
                  </a:lnTo>
                  <a:lnTo>
                    <a:pt x="1076" y="0"/>
                  </a:lnTo>
                  <a:lnTo>
                    <a:pt x="1118" y="2"/>
                  </a:lnTo>
                  <a:lnTo>
                    <a:pt x="1158" y="4"/>
                  </a:lnTo>
                  <a:lnTo>
                    <a:pt x="1244" y="12"/>
                  </a:lnTo>
                  <a:lnTo>
                    <a:pt x="1334" y="24"/>
                  </a:lnTo>
                  <a:lnTo>
                    <a:pt x="1334" y="24"/>
                  </a:lnTo>
                  <a:lnTo>
                    <a:pt x="1378" y="34"/>
                  </a:lnTo>
                  <a:lnTo>
                    <a:pt x="1422" y="44"/>
                  </a:lnTo>
                  <a:lnTo>
                    <a:pt x="1462" y="56"/>
                  </a:lnTo>
                  <a:lnTo>
                    <a:pt x="1500" y="68"/>
                  </a:lnTo>
                  <a:lnTo>
                    <a:pt x="1536" y="84"/>
                  </a:lnTo>
                  <a:lnTo>
                    <a:pt x="1572" y="100"/>
                  </a:lnTo>
                  <a:lnTo>
                    <a:pt x="1604" y="118"/>
                  </a:lnTo>
                  <a:lnTo>
                    <a:pt x="1634" y="136"/>
                  </a:lnTo>
                  <a:lnTo>
                    <a:pt x="1662" y="156"/>
                  </a:lnTo>
                  <a:lnTo>
                    <a:pt x="1688" y="178"/>
                  </a:lnTo>
                  <a:lnTo>
                    <a:pt x="1712" y="202"/>
                  </a:lnTo>
                  <a:lnTo>
                    <a:pt x="1734" y="228"/>
                  </a:lnTo>
                  <a:lnTo>
                    <a:pt x="1756" y="254"/>
                  </a:lnTo>
                  <a:lnTo>
                    <a:pt x="1774" y="282"/>
                  </a:lnTo>
                  <a:lnTo>
                    <a:pt x="1791" y="312"/>
                  </a:lnTo>
                  <a:lnTo>
                    <a:pt x="1805" y="342"/>
                  </a:lnTo>
                  <a:lnTo>
                    <a:pt x="1805" y="342"/>
                  </a:lnTo>
                  <a:lnTo>
                    <a:pt x="1821" y="386"/>
                  </a:lnTo>
                  <a:lnTo>
                    <a:pt x="1835" y="432"/>
                  </a:lnTo>
                  <a:lnTo>
                    <a:pt x="1845" y="476"/>
                  </a:lnTo>
                  <a:lnTo>
                    <a:pt x="1851" y="522"/>
                  </a:lnTo>
                  <a:lnTo>
                    <a:pt x="1855" y="570"/>
                  </a:lnTo>
                  <a:lnTo>
                    <a:pt x="1855" y="616"/>
                  </a:lnTo>
                  <a:lnTo>
                    <a:pt x="1851" y="664"/>
                  </a:lnTo>
                  <a:lnTo>
                    <a:pt x="1845" y="714"/>
                  </a:lnTo>
                  <a:lnTo>
                    <a:pt x="1837" y="762"/>
                  </a:lnTo>
                  <a:lnTo>
                    <a:pt x="1823" y="812"/>
                  </a:lnTo>
                  <a:lnTo>
                    <a:pt x="1807" y="862"/>
                  </a:lnTo>
                  <a:lnTo>
                    <a:pt x="1789" y="914"/>
                  </a:lnTo>
                  <a:lnTo>
                    <a:pt x="1764" y="966"/>
                  </a:lnTo>
                  <a:lnTo>
                    <a:pt x="1738" y="1018"/>
                  </a:lnTo>
                  <a:lnTo>
                    <a:pt x="1710" y="1072"/>
                  </a:lnTo>
                  <a:lnTo>
                    <a:pt x="1678" y="1126"/>
                  </a:lnTo>
                  <a:lnTo>
                    <a:pt x="1678" y="1126"/>
                  </a:lnTo>
                  <a:lnTo>
                    <a:pt x="1642" y="1178"/>
                  </a:lnTo>
                  <a:lnTo>
                    <a:pt x="1606" y="1231"/>
                  </a:lnTo>
                  <a:lnTo>
                    <a:pt x="1568" y="1281"/>
                  </a:lnTo>
                  <a:lnTo>
                    <a:pt x="1528" y="1327"/>
                  </a:lnTo>
                  <a:lnTo>
                    <a:pt x="1488" y="1373"/>
                  </a:lnTo>
                  <a:lnTo>
                    <a:pt x="1444" y="1417"/>
                  </a:lnTo>
                  <a:lnTo>
                    <a:pt x="1400" y="1459"/>
                  </a:lnTo>
                  <a:lnTo>
                    <a:pt x="1354" y="1501"/>
                  </a:lnTo>
                  <a:lnTo>
                    <a:pt x="1306" y="1539"/>
                  </a:lnTo>
                  <a:lnTo>
                    <a:pt x="1258" y="1575"/>
                  </a:lnTo>
                  <a:lnTo>
                    <a:pt x="1206" y="1611"/>
                  </a:lnTo>
                  <a:lnTo>
                    <a:pt x="1154" y="1643"/>
                  </a:lnTo>
                  <a:lnTo>
                    <a:pt x="1100" y="1675"/>
                  </a:lnTo>
                  <a:lnTo>
                    <a:pt x="1044" y="1703"/>
                  </a:lnTo>
                  <a:lnTo>
                    <a:pt x="988" y="1731"/>
                  </a:lnTo>
                  <a:lnTo>
                    <a:pt x="930" y="1757"/>
                  </a:lnTo>
                  <a:lnTo>
                    <a:pt x="930" y="1757"/>
                  </a:lnTo>
                  <a:lnTo>
                    <a:pt x="878" y="1777"/>
                  </a:lnTo>
                  <a:lnTo>
                    <a:pt x="828" y="1795"/>
                  </a:lnTo>
                  <a:lnTo>
                    <a:pt x="780" y="1811"/>
                  </a:lnTo>
                  <a:lnTo>
                    <a:pt x="732" y="1823"/>
                  </a:lnTo>
                  <a:lnTo>
                    <a:pt x="684" y="1835"/>
                  </a:lnTo>
                  <a:lnTo>
                    <a:pt x="640" y="1843"/>
                  </a:lnTo>
                  <a:lnTo>
                    <a:pt x="594" y="1849"/>
                  </a:lnTo>
                  <a:lnTo>
                    <a:pt x="550" y="1853"/>
                  </a:lnTo>
                  <a:lnTo>
                    <a:pt x="550" y="1853"/>
                  </a:lnTo>
                  <a:lnTo>
                    <a:pt x="508" y="1857"/>
                  </a:lnTo>
                  <a:lnTo>
                    <a:pt x="468" y="1857"/>
                  </a:lnTo>
                  <a:lnTo>
                    <a:pt x="428" y="1855"/>
                  </a:lnTo>
                  <a:lnTo>
                    <a:pt x="390" y="1853"/>
                  </a:lnTo>
                  <a:lnTo>
                    <a:pt x="354" y="1847"/>
                  </a:lnTo>
                  <a:lnTo>
                    <a:pt x="320" y="1841"/>
                  </a:lnTo>
                  <a:lnTo>
                    <a:pt x="286" y="1831"/>
                  </a:lnTo>
                  <a:lnTo>
                    <a:pt x="256" y="1821"/>
                  </a:lnTo>
                  <a:lnTo>
                    <a:pt x="256" y="1821"/>
                  </a:lnTo>
                  <a:lnTo>
                    <a:pt x="224" y="1809"/>
                  </a:lnTo>
                  <a:lnTo>
                    <a:pt x="194" y="1795"/>
                  </a:lnTo>
                  <a:lnTo>
                    <a:pt x="162" y="1779"/>
                  </a:lnTo>
                  <a:lnTo>
                    <a:pt x="130" y="1761"/>
                  </a:lnTo>
                  <a:lnTo>
                    <a:pt x="98" y="1743"/>
                  </a:lnTo>
                  <a:lnTo>
                    <a:pt x="66" y="1721"/>
                  </a:lnTo>
                  <a:lnTo>
                    <a:pt x="34" y="1697"/>
                  </a:lnTo>
                  <a:lnTo>
                    <a:pt x="0" y="1671"/>
                  </a:lnTo>
                  <a:lnTo>
                    <a:pt x="0" y="1671"/>
                  </a:lnTo>
                  <a:lnTo>
                    <a:pt x="82" y="1513"/>
                  </a:lnTo>
                  <a:lnTo>
                    <a:pt x="112" y="1457"/>
                  </a:lnTo>
                  <a:lnTo>
                    <a:pt x="134" y="1419"/>
                  </a:lnTo>
                  <a:lnTo>
                    <a:pt x="134" y="1419"/>
                  </a:lnTo>
                  <a:lnTo>
                    <a:pt x="198" y="1433"/>
                  </a:lnTo>
                  <a:lnTo>
                    <a:pt x="260" y="1441"/>
                  </a:lnTo>
                  <a:lnTo>
                    <a:pt x="318" y="1447"/>
                  </a:lnTo>
                  <a:lnTo>
                    <a:pt x="372" y="1447"/>
                  </a:lnTo>
                  <a:lnTo>
                    <a:pt x="422" y="1445"/>
                  </a:lnTo>
                  <a:lnTo>
                    <a:pt x="468" y="1439"/>
                  </a:lnTo>
                  <a:lnTo>
                    <a:pt x="510" y="1429"/>
                  </a:lnTo>
                  <a:lnTo>
                    <a:pt x="550" y="1417"/>
                  </a:lnTo>
                  <a:lnTo>
                    <a:pt x="550" y="1417"/>
                  </a:lnTo>
                  <a:lnTo>
                    <a:pt x="582" y="1399"/>
                  </a:lnTo>
                  <a:lnTo>
                    <a:pt x="614" y="1379"/>
                  </a:lnTo>
                  <a:lnTo>
                    <a:pt x="644" y="1353"/>
                  </a:lnTo>
                  <a:lnTo>
                    <a:pt x="674" y="1323"/>
                  </a:lnTo>
                  <a:lnTo>
                    <a:pt x="674" y="1323"/>
                  </a:lnTo>
                  <a:lnTo>
                    <a:pt x="688" y="1305"/>
                  </a:lnTo>
                  <a:lnTo>
                    <a:pt x="702" y="1285"/>
                  </a:lnTo>
                  <a:lnTo>
                    <a:pt x="716" y="1261"/>
                  </a:lnTo>
                  <a:lnTo>
                    <a:pt x="730" y="1231"/>
                  </a:lnTo>
                  <a:lnTo>
                    <a:pt x="760" y="1164"/>
                  </a:lnTo>
                  <a:lnTo>
                    <a:pt x="792" y="1082"/>
                  </a:lnTo>
                  <a:lnTo>
                    <a:pt x="792" y="1082"/>
                  </a:lnTo>
                  <a:lnTo>
                    <a:pt x="880" y="822"/>
                  </a:lnTo>
                  <a:lnTo>
                    <a:pt x="1030" y="374"/>
                  </a:lnTo>
                  <a:lnTo>
                    <a:pt x="1030" y="374"/>
                  </a:lnTo>
                  <a:lnTo>
                    <a:pt x="980" y="370"/>
                  </a:lnTo>
                  <a:lnTo>
                    <a:pt x="930" y="370"/>
                  </a:lnTo>
                  <a:lnTo>
                    <a:pt x="882" y="372"/>
                  </a:lnTo>
                  <a:lnTo>
                    <a:pt x="834" y="376"/>
                  </a:lnTo>
                  <a:lnTo>
                    <a:pt x="788" y="384"/>
                  </a:lnTo>
                  <a:lnTo>
                    <a:pt x="744" y="394"/>
                  </a:lnTo>
                  <a:lnTo>
                    <a:pt x="702" y="406"/>
                  </a:lnTo>
                  <a:lnTo>
                    <a:pt x="660" y="422"/>
                  </a:lnTo>
                  <a:lnTo>
                    <a:pt x="660" y="422"/>
                  </a:lnTo>
                  <a:lnTo>
                    <a:pt x="606" y="446"/>
                  </a:lnTo>
                  <a:lnTo>
                    <a:pt x="536" y="482"/>
                  </a:lnTo>
                  <a:lnTo>
                    <a:pt x="536" y="482"/>
                  </a:lnTo>
                  <a:lnTo>
                    <a:pt x="524" y="538"/>
                  </a:lnTo>
                  <a:lnTo>
                    <a:pt x="496" y="670"/>
                  </a:lnTo>
                  <a:lnTo>
                    <a:pt x="404" y="1158"/>
                  </a:lnTo>
                  <a:lnTo>
                    <a:pt x="404" y="1158"/>
                  </a:lnTo>
                  <a:close/>
                  <a:moveTo>
                    <a:pt x="750" y="1463"/>
                  </a:moveTo>
                  <a:lnTo>
                    <a:pt x="750" y="1463"/>
                  </a:lnTo>
                  <a:lnTo>
                    <a:pt x="812" y="1457"/>
                  </a:lnTo>
                  <a:lnTo>
                    <a:pt x="872" y="1451"/>
                  </a:lnTo>
                  <a:lnTo>
                    <a:pt x="928" y="1443"/>
                  </a:lnTo>
                  <a:lnTo>
                    <a:pt x="982" y="1433"/>
                  </a:lnTo>
                  <a:lnTo>
                    <a:pt x="1034" y="1421"/>
                  </a:lnTo>
                  <a:lnTo>
                    <a:pt x="1082" y="1409"/>
                  </a:lnTo>
                  <a:lnTo>
                    <a:pt x="1128" y="1393"/>
                  </a:lnTo>
                  <a:lnTo>
                    <a:pt x="1172" y="1377"/>
                  </a:lnTo>
                  <a:lnTo>
                    <a:pt x="1172" y="1377"/>
                  </a:lnTo>
                  <a:lnTo>
                    <a:pt x="1214" y="1359"/>
                  </a:lnTo>
                  <a:lnTo>
                    <a:pt x="1256" y="1337"/>
                  </a:lnTo>
                  <a:lnTo>
                    <a:pt x="1296" y="1317"/>
                  </a:lnTo>
                  <a:lnTo>
                    <a:pt x="1336" y="1293"/>
                  </a:lnTo>
                  <a:lnTo>
                    <a:pt x="1376" y="1267"/>
                  </a:lnTo>
                  <a:lnTo>
                    <a:pt x="1414" y="1239"/>
                  </a:lnTo>
                  <a:lnTo>
                    <a:pt x="1452" y="1209"/>
                  </a:lnTo>
                  <a:lnTo>
                    <a:pt x="1490" y="1178"/>
                  </a:lnTo>
                  <a:lnTo>
                    <a:pt x="1490" y="1178"/>
                  </a:lnTo>
                  <a:lnTo>
                    <a:pt x="1526" y="1146"/>
                  </a:lnTo>
                  <a:lnTo>
                    <a:pt x="1558" y="1114"/>
                  </a:lnTo>
                  <a:lnTo>
                    <a:pt x="1586" y="1082"/>
                  </a:lnTo>
                  <a:lnTo>
                    <a:pt x="1612" y="1050"/>
                  </a:lnTo>
                  <a:lnTo>
                    <a:pt x="1632" y="1018"/>
                  </a:lnTo>
                  <a:lnTo>
                    <a:pt x="1650" y="986"/>
                  </a:lnTo>
                  <a:lnTo>
                    <a:pt x="1664" y="952"/>
                  </a:lnTo>
                  <a:lnTo>
                    <a:pt x="1674" y="920"/>
                  </a:lnTo>
                  <a:lnTo>
                    <a:pt x="1674" y="920"/>
                  </a:lnTo>
                  <a:lnTo>
                    <a:pt x="1682" y="890"/>
                  </a:lnTo>
                  <a:lnTo>
                    <a:pt x="1686" y="858"/>
                  </a:lnTo>
                  <a:lnTo>
                    <a:pt x="1690" y="830"/>
                  </a:lnTo>
                  <a:lnTo>
                    <a:pt x="1690" y="802"/>
                  </a:lnTo>
                  <a:lnTo>
                    <a:pt x="1690" y="776"/>
                  </a:lnTo>
                  <a:lnTo>
                    <a:pt x="1686" y="750"/>
                  </a:lnTo>
                  <a:lnTo>
                    <a:pt x="1680" y="726"/>
                  </a:lnTo>
                  <a:lnTo>
                    <a:pt x="1672" y="704"/>
                  </a:lnTo>
                  <a:lnTo>
                    <a:pt x="1672" y="704"/>
                  </a:lnTo>
                  <a:lnTo>
                    <a:pt x="1660" y="680"/>
                  </a:lnTo>
                  <a:lnTo>
                    <a:pt x="1646" y="656"/>
                  </a:lnTo>
                  <a:lnTo>
                    <a:pt x="1626" y="632"/>
                  </a:lnTo>
                  <a:lnTo>
                    <a:pt x="1604" y="608"/>
                  </a:lnTo>
                  <a:lnTo>
                    <a:pt x="1578" y="582"/>
                  </a:lnTo>
                  <a:lnTo>
                    <a:pt x="1548" y="556"/>
                  </a:lnTo>
                  <a:lnTo>
                    <a:pt x="1516" y="530"/>
                  </a:lnTo>
                  <a:lnTo>
                    <a:pt x="1478" y="504"/>
                  </a:lnTo>
                  <a:lnTo>
                    <a:pt x="1478" y="504"/>
                  </a:lnTo>
                  <a:lnTo>
                    <a:pt x="1438" y="478"/>
                  </a:lnTo>
                  <a:lnTo>
                    <a:pt x="1396" y="454"/>
                  </a:lnTo>
                  <a:lnTo>
                    <a:pt x="1352" y="434"/>
                  </a:lnTo>
                  <a:lnTo>
                    <a:pt x="1304" y="416"/>
                  </a:lnTo>
                  <a:lnTo>
                    <a:pt x="1256" y="402"/>
                  </a:lnTo>
                  <a:lnTo>
                    <a:pt x="1204" y="390"/>
                  </a:lnTo>
                  <a:lnTo>
                    <a:pt x="1152" y="382"/>
                  </a:lnTo>
                  <a:lnTo>
                    <a:pt x="1096" y="374"/>
                  </a:lnTo>
                  <a:lnTo>
                    <a:pt x="1096" y="374"/>
                  </a:lnTo>
                  <a:lnTo>
                    <a:pt x="1090" y="424"/>
                  </a:lnTo>
                  <a:lnTo>
                    <a:pt x="1084" y="478"/>
                  </a:lnTo>
                  <a:lnTo>
                    <a:pt x="1074" y="536"/>
                  </a:lnTo>
                  <a:lnTo>
                    <a:pt x="1062" y="598"/>
                  </a:lnTo>
                  <a:lnTo>
                    <a:pt x="1062" y="598"/>
                  </a:lnTo>
                  <a:lnTo>
                    <a:pt x="1048" y="664"/>
                  </a:lnTo>
                  <a:lnTo>
                    <a:pt x="1032" y="732"/>
                  </a:lnTo>
                  <a:lnTo>
                    <a:pt x="1014" y="802"/>
                  </a:lnTo>
                  <a:lnTo>
                    <a:pt x="996" y="874"/>
                  </a:lnTo>
                  <a:lnTo>
                    <a:pt x="996" y="874"/>
                  </a:lnTo>
                  <a:lnTo>
                    <a:pt x="974" y="946"/>
                  </a:lnTo>
                  <a:lnTo>
                    <a:pt x="950" y="1020"/>
                  </a:lnTo>
                  <a:lnTo>
                    <a:pt x="924" y="1094"/>
                  </a:lnTo>
                  <a:lnTo>
                    <a:pt x="894" y="1168"/>
                  </a:lnTo>
                  <a:lnTo>
                    <a:pt x="894" y="1168"/>
                  </a:lnTo>
                  <a:lnTo>
                    <a:pt x="862" y="1243"/>
                  </a:lnTo>
                  <a:lnTo>
                    <a:pt x="828" y="1317"/>
                  </a:lnTo>
                  <a:lnTo>
                    <a:pt x="790" y="1391"/>
                  </a:lnTo>
                  <a:lnTo>
                    <a:pt x="750" y="1463"/>
                  </a:lnTo>
                  <a:lnTo>
                    <a:pt x="750" y="1463"/>
                  </a:lnTo>
                  <a:close/>
                </a:path>
              </a:pathLst>
            </a:custGeom>
            <a:noFill/>
            <a:ln w="536400">
              <a:solidFill>
                <a:srgbClr val="e843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162"/>
            <p:cNvSpPr/>
            <p:nvPr/>
          </p:nvSpPr>
          <p:spPr>
            <a:xfrm>
              <a:off x="5732640" y="14162040"/>
              <a:ext cx="1355400" cy="1384200"/>
            </a:xfrm>
            <a:custGeom>
              <a:avLst/>
              <a:gdLst>
                <a:gd name="textAreaLeft" fmla="*/ 0 w 1355400"/>
                <a:gd name="textAreaRight" fmla="*/ 1355760 w 1355400"/>
                <a:gd name="textAreaTop" fmla="*/ 0 h 1384200"/>
                <a:gd name="textAreaBottom" fmla="*/ 1384200 h 1384200"/>
              </a:gdLst>
              <a:ahLst/>
              <a:rect l="textAreaLeft" t="textAreaTop" r="textAreaRight" b="textAreaBottom"/>
              <a:pathLst>
                <a:path w="854" h="872">
                  <a:moveTo>
                    <a:pt x="114" y="60"/>
                  </a:moveTo>
                  <a:lnTo>
                    <a:pt x="114" y="60"/>
                  </a:lnTo>
                  <a:lnTo>
                    <a:pt x="272" y="30"/>
                  </a:lnTo>
                  <a:lnTo>
                    <a:pt x="272" y="30"/>
                  </a:lnTo>
                  <a:lnTo>
                    <a:pt x="380" y="10"/>
                  </a:lnTo>
                  <a:lnTo>
                    <a:pt x="418" y="4"/>
                  </a:lnTo>
                  <a:lnTo>
                    <a:pt x="446" y="0"/>
                  </a:lnTo>
                  <a:lnTo>
                    <a:pt x="446" y="0"/>
                  </a:lnTo>
                  <a:lnTo>
                    <a:pt x="468" y="0"/>
                  </a:lnTo>
                  <a:lnTo>
                    <a:pt x="490" y="4"/>
                  </a:lnTo>
                  <a:lnTo>
                    <a:pt x="514" y="10"/>
                  </a:lnTo>
                  <a:lnTo>
                    <a:pt x="536" y="16"/>
                  </a:lnTo>
                  <a:lnTo>
                    <a:pt x="536" y="16"/>
                  </a:lnTo>
                  <a:lnTo>
                    <a:pt x="560" y="28"/>
                  </a:lnTo>
                  <a:lnTo>
                    <a:pt x="582" y="42"/>
                  </a:lnTo>
                  <a:lnTo>
                    <a:pt x="602" y="62"/>
                  </a:lnTo>
                  <a:lnTo>
                    <a:pt x="624" y="84"/>
                  </a:lnTo>
                  <a:lnTo>
                    <a:pt x="624" y="84"/>
                  </a:lnTo>
                  <a:lnTo>
                    <a:pt x="644" y="112"/>
                  </a:lnTo>
                  <a:lnTo>
                    <a:pt x="664" y="146"/>
                  </a:lnTo>
                  <a:lnTo>
                    <a:pt x="684" y="184"/>
                  </a:lnTo>
                  <a:lnTo>
                    <a:pt x="704" y="230"/>
                  </a:lnTo>
                  <a:lnTo>
                    <a:pt x="804" y="482"/>
                  </a:lnTo>
                  <a:lnTo>
                    <a:pt x="804" y="482"/>
                  </a:lnTo>
                  <a:lnTo>
                    <a:pt x="826" y="528"/>
                  </a:lnTo>
                  <a:lnTo>
                    <a:pt x="854" y="582"/>
                  </a:lnTo>
                  <a:lnTo>
                    <a:pt x="854" y="582"/>
                  </a:lnTo>
                  <a:lnTo>
                    <a:pt x="814" y="610"/>
                  </a:lnTo>
                  <a:lnTo>
                    <a:pt x="758" y="650"/>
                  </a:lnTo>
                  <a:lnTo>
                    <a:pt x="692" y="704"/>
                  </a:lnTo>
                  <a:lnTo>
                    <a:pt x="612" y="768"/>
                  </a:lnTo>
                  <a:lnTo>
                    <a:pt x="612" y="768"/>
                  </a:lnTo>
                  <a:lnTo>
                    <a:pt x="592" y="702"/>
                  </a:lnTo>
                  <a:lnTo>
                    <a:pt x="564" y="626"/>
                  </a:lnTo>
                  <a:lnTo>
                    <a:pt x="532" y="540"/>
                  </a:lnTo>
                  <a:lnTo>
                    <a:pt x="492" y="442"/>
                  </a:lnTo>
                  <a:lnTo>
                    <a:pt x="492" y="442"/>
                  </a:lnTo>
                  <a:lnTo>
                    <a:pt x="490" y="462"/>
                  </a:lnTo>
                  <a:lnTo>
                    <a:pt x="482" y="490"/>
                  </a:lnTo>
                  <a:lnTo>
                    <a:pt x="454" y="576"/>
                  </a:lnTo>
                  <a:lnTo>
                    <a:pt x="454" y="576"/>
                  </a:lnTo>
                  <a:lnTo>
                    <a:pt x="412" y="698"/>
                  </a:lnTo>
                  <a:lnTo>
                    <a:pt x="354" y="862"/>
                  </a:lnTo>
                  <a:lnTo>
                    <a:pt x="354" y="862"/>
                  </a:lnTo>
                  <a:lnTo>
                    <a:pt x="304" y="868"/>
                  </a:lnTo>
                  <a:lnTo>
                    <a:pt x="260" y="870"/>
                  </a:lnTo>
                  <a:lnTo>
                    <a:pt x="222" y="872"/>
                  </a:lnTo>
                  <a:lnTo>
                    <a:pt x="188" y="872"/>
                  </a:lnTo>
                  <a:lnTo>
                    <a:pt x="188" y="872"/>
                  </a:lnTo>
                  <a:lnTo>
                    <a:pt x="134" y="776"/>
                  </a:lnTo>
                  <a:lnTo>
                    <a:pt x="134" y="776"/>
                  </a:lnTo>
                  <a:lnTo>
                    <a:pt x="106" y="726"/>
                  </a:lnTo>
                  <a:lnTo>
                    <a:pt x="82" y="680"/>
                  </a:lnTo>
                  <a:lnTo>
                    <a:pt x="60" y="634"/>
                  </a:lnTo>
                  <a:lnTo>
                    <a:pt x="40" y="590"/>
                  </a:lnTo>
                  <a:lnTo>
                    <a:pt x="40" y="590"/>
                  </a:lnTo>
                  <a:lnTo>
                    <a:pt x="28" y="558"/>
                  </a:lnTo>
                  <a:lnTo>
                    <a:pt x="18" y="528"/>
                  </a:lnTo>
                  <a:lnTo>
                    <a:pt x="10" y="498"/>
                  </a:lnTo>
                  <a:lnTo>
                    <a:pt x="6" y="470"/>
                  </a:lnTo>
                  <a:lnTo>
                    <a:pt x="2" y="442"/>
                  </a:lnTo>
                  <a:lnTo>
                    <a:pt x="0" y="414"/>
                  </a:lnTo>
                  <a:lnTo>
                    <a:pt x="0" y="386"/>
                  </a:lnTo>
                  <a:lnTo>
                    <a:pt x="2" y="360"/>
                  </a:lnTo>
                  <a:lnTo>
                    <a:pt x="2" y="360"/>
                  </a:lnTo>
                  <a:lnTo>
                    <a:pt x="6" y="332"/>
                  </a:lnTo>
                  <a:lnTo>
                    <a:pt x="14" y="302"/>
                  </a:lnTo>
                  <a:lnTo>
                    <a:pt x="24" y="268"/>
                  </a:lnTo>
                  <a:lnTo>
                    <a:pt x="36" y="234"/>
                  </a:lnTo>
                  <a:lnTo>
                    <a:pt x="52" y="194"/>
                  </a:lnTo>
                  <a:lnTo>
                    <a:pt x="70" y="152"/>
                  </a:lnTo>
                  <a:lnTo>
                    <a:pt x="92" y="108"/>
                  </a:lnTo>
                  <a:lnTo>
                    <a:pt x="114" y="60"/>
                  </a:lnTo>
                  <a:lnTo>
                    <a:pt x="114" y="60"/>
                  </a:lnTo>
                  <a:close/>
                  <a:moveTo>
                    <a:pt x="196" y="268"/>
                  </a:moveTo>
                  <a:lnTo>
                    <a:pt x="352" y="594"/>
                  </a:lnTo>
                  <a:lnTo>
                    <a:pt x="352" y="594"/>
                  </a:lnTo>
                  <a:lnTo>
                    <a:pt x="374" y="520"/>
                  </a:lnTo>
                  <a:lnTo>
                    <a:pt x="392" y="442"/>
                  </a:lnTo>
                  <a:lnTo>
                    <a:pt x="392" y="442"/>
                  </a:lnTo>
                  <a:lnTo>
                    <a:pt x="406" y="362"/>
                  </a:lnTo>
                  <a:lnTo>
                    <a:pt x="416" y="288"/>
                  </a:lnTo>
                  <a:lnTo>
                    <a:pt x="416" y="288"/>
                  </a:lnTo>
                  <a:lnTo>
                    <a:pt x="396" y="278"/>
                  </a:lnTo>
                  <a:lnTo>
                    <a:pt x="374" y="268"/>
                  </a:lnTo>
                  <a:lnTo>
                    <a:pt x="350" y="262"/>
                  </a:lnTo>
                  <a:lnTo>
                    <a:pt x="324" y="258"/>
                  </a:lnTo>
                  <a:lnTo>
                    <a:pt x="296" y="258"/>
                  </a:lnTo>
                  <a:lnTo>
                    <a:pt x="266" y="258"/>
                  </a:lnTo>
                  <a:lnTo>
                    <a:pt x="232" y="262"/>
                  </a:lnTo>
                  <a:lnTo>
                    <a:pt x="196" y="268"/>
                  </a:lnTo>
                  <a:lnTo>
                    <a:pt x="196" y="268"/>
                  </a:lnTo>
                  <a:close/>
                </a:path>
              </a:pathLst>
            </a:custGeom>
            <a:noFill/>
            <a:ln w="536400">
              <a:solidFill>
                <a:srgbClr val="e843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163"/>
            <p:cNvSpPr/>
            <p:nvPr/>
          </p:nvSpPr>
          <p:spPr>
            <a:xfrm>
              <a:off x="6973920" y="13444560"/>
              <a:ext cx="1473120" cy="205740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928" h="1296">
                  <a:moveTo>
                    <a:pt x="72" y="478"/>
                  </a:moveTo>
                  <a:lnTo>
                    <a:pt x="0" y="302"/>
                  </a:lnTo>
                  <a:lnTo>
                    <a:pt x="0" y="302"/>
                  </a:lnTo>
                  <a:lnTo>
                    <a:pt x="42" y="282"/>
                  </a:lnTo>
                  <a:lnTo>
                    <a:pt x="82" y="262"/>
                  </a:lnTo>
                  <a:lnTo>
                    <a:pt x="120" y="240"/>
                  </a:lnTo>
                  <a:lnTo>
                    <a:pt x="154" y="218"/>
                  </a:lnTo>
                  <a:lnTo>
                    <a:pt x="186" y="196"/>
                  </a:lnTo>
                  <a:lnTo>
                    <a:pt x="218" y="174"/>
                  </a:lnTo>
                  <a:lnTo>
                    <a:pt x="246" y="152"/>
                  </a:lnTo>
                  <a:lnTo>
                    <a:pt x="270" y="128"/>
                  </a:lnTo>
                  <a:lnTo>
                    <a:pt x="338" y="324"/>
                  </a:lnTo>
                  <a:lnTo>
                    <a:pt x="418" y="548"/>
                  </a:lnTo>
                  <a:lnTo>
                    <a:pt x="418" y="548"/>
                  </a:lnTo>
                  <a:lnTo>
                    <a:pt x="428" y="472"/>
                  </a:lnTo>
                  <a:lnTo>
                    <a:pt x="434" y="406"/>
                  </a:lnTo>
                  <a:lnTo>
                    <a:pt x="438" y="352"/>
                  </a:lnTo>
                  <a:lnTo>
                    <a:pt x="438" y="308"/>
                  </a:lnTo>
                  <a:lnTo>
                    <a:pt x="438" y="308"/>
                  </a:lnTo>
                  <a:lnTo>
                    <a:pt x="434" y="264"/>
                  </a:lnTo>
                  <a:lnTo>
                    <a:pt x="426" y="214"/>
                  </a:lnTo>
                  <a:lnTo>
                    <a:pt x="416" y="156"/>
                  </a:lnTo>
                  <a:lnTo>
                    <a:pt x="402" y="92"/>
                  </a:lnTo>
                  <a:lnTo>
                    <a:pt x="402" y="92"/>
                  </a:lnTo>
                  <a:lnTo>
                    <a:pt x="690" y="0"/>
                  </a:lnTo>
                  <a:lnTo>
                    <a:pt x="690" y="0"/>
                  </a:lnTo>
                  <a:lnTo>
                    <a:pt x="702" y="50"/>
                  </a:lnTo>
                  <a:lnTo>
                    <a:pt x="722" y="126"/>
                  </a:lnTo>
                  <a:lnTo>
                    <a:pt x="752" y="228"/>
                  </a:lnTo>
                  <a:lnTo>
                    <a:pt x="788" y="354"/>
                  </a:lnTo>
                  <a:lnTo>
                    <a:pt x="880" y="644"/>
                  </a:lnTo>
                  <a:lnTo>
                    <a:pt x="880" y="644"/>
                  </a:lnTo>
                  <a:lnTo>
                    <a:pt x="896" y="702"/>
                  </a:lnTo>
                  <a:lnTo>
                    <a:pt x="910" y="752"/>
                  </a:lnTo>
                  <a:lnTo>
                    <a:pt x="920" y="792"/>
                  </a:lnTo>
                  <a:lnTo>
                    <a:pt x="926" y="826"/>
                  </a:lnTo>
                  <a:lnTo>
                    <a:pt x="926" y="826"/>
                  </a:lnTo>
                  <a:lnTo>
                    <a:pt x="928" y="860"/>
                  </a:lnTo>
                  <a:lnTo>
                    <a:pt x="926" y="898"/>
                  </a:lnTo>
                  <a:lnTo>
                    <a:pt x="922" y="942"/>
                  </a:lnTo>
                  <a:lnTo>
                    <a:pt x="914" y="988"/>
                  </a:lnTo>
                  <a:lnTo>
                    <a:pt x="914" y="988"/>
                  </a:lnTo>
                  <a:lnTo>
                    <a:pt x="902" y="1044"/>
                  </a:lnTo>
                  <a:lnTo>
                    <a:pt x="886" y="1106"/>
                  </a:lnTo>
                  <a:lnTo>
                    <a:pt x="866" y="1172"/>
                  </a:lnTo>
                  <a:lnTo>
                    <a:pt x="842" y="1246"/>
                  </a:lnTo>
                  <a:lnTo>
                    <a:pt x="842" y="1246"/>
                  </a:lnTo>
                  <a:lnTo>
                    <a:pt x="778" y="1264"/>
                  </a:lnTo>
                  <a:lnTo>
                    <a:pt x="716" y="1278"/>
                  </a:lnTo>
                  <a:lnTo>
                    <a:pt x="656" y="1288"/>
                  </a:lnTo>
                  <a:lnTo>
                    <a:pt x="600" y="1294"/>
                  </a:lnTo>
                  <a:lnTo>
                    <a:pt x="546" y="1296"/>
                  </a:lnTo>
                  <a:lnTo>
                    <a:pt x="496" y="1296"/>
                  </a:lnTo>
                  <a:lnTo>
                    <a:pt x="448" y="1290"/>
                  </a:lnTo>
                  <a:lnTo>
                    <a:pt x="402" y="1280"/>
                  </a:lnTo>
                  <a:lnTo>
                    <a:pt x="308" y="1182"/>
                  </a:lnTo>
                  <a:lnTo>
                    <a:pt x="308" y="1182"/>
                  </a:lnTo>
                  <a:lnTo>
                    <a:pt x="314" y="1142"/>
                  </a:lnTo>
                  <a:lnTo>
                    <a:pt x="322" y="1096"/>
                  </a:lnTo>
                  <a:lnTo>
                    <a:pt x="344" y="994"/>
                  </a:lnTo>
                  <a:lnTo>
                    <a:pt x="344" y="994"/>
                  </a:lnTo>
                  <a:lnTo>
                    <a:pt x="362" y="1002"/>
                  </a:lnTo>
                  <a:lnTo>
                    <a:pt x="380" y="1010"/>
                  </a:lnTo>
                  <a:lnTo>
                    <a:pt x="398" y="1014"/>
                  </a:lnTo>
                  <a:lnTo>
                    <a:pt x="418" y="1018"/>
                  </a:lnTo>
                  <a:lnTo>
                    <a:pt x="438" y="1022"/>
                  </a:lnTo>
                  <a:lnTo>
                    <a:pt x="458" y="1022"/>
                  </a:lnTo>
                  <a:lnTo>
                    <a:pt x="480" y="1022"/>
                  </a:lnTo>
                  <a:lnTo>
                    <a:pt x="502" y="1018"/>
                  </a:lnTo>
                  <a:lnTo>
                    <a:pt x="502" y="1018"/>
                  </a:lnTo>
                  <a:lnTo>
                    <a:pt x="550" y="1012"/>
                  </a:lnTo>
                  <a:lnTo>
                    <a:pt x="604" y="1002"/>
                  </a:lnTo>
                  <a:lnTo>
                    <a:pt x="660" y="990"/>
                  </a:lnTo>
                  <a:lnTo>
                    <a:pt x="720" y="978"/>
                  </a:lnTo>
                  <a:lnTo>
                    <a:pt x="720" y="978"/>
                  </a:lnTo>
                  <a:lnTo>
                    <a:pt x="674" y="886"/>
                  </a:lnTo>
                  <a:lnTo>
                    <a:pt x="634" y="806"/>
                  </a:lnTo>
                  <a:lnTo>
                    <a:pt x="600" y="734"/>
                  </a:lnTo>
                  <a:lnTo>
                    <a:pt x="574" y="672"/>
                  </a:lnTo>
                  <a:lnTo>
                    <a:pt x="574" y="672"/>
                  </a:lnTo>
                  <a:lnTo>
                    <a:pt x="544" y="596"/>
                  </a:lnTo>
                  <a:lnTo>
                    <a:pt x="510" y="506"/>
                  </a:lnTo>
                  <a:lnTo>
                    <a:pt x="432" y="828"/>
                  </a:lnTo>
                  <a:lnTo>
                    <a:pt x="432" y="828"/>
                  </a:lnTo>
                  <a:lnTo>
                    <a:pt x="426" y="854"/>
                  </a:lnTo>
                  <a:lnTo>
                    <a:pt x="424" y="876"/>
                  </a:lnTo>
                  <a:lnTo>
                    <a:pt x="424" y="898"/>
                  </a:lnTo>
                  <a:lnTo>
                    <a:pt x="428" y="920"/>
                  </a:lnTo>
                  <a:lnTo>
                    <a:pt x="428" y="920"/>
                  </a:lnTo>
                  <a:lnTo>
                    <a:pt x="394" y="928"/>
                  </a:lnTo>
                  <a:lnTo>
                    <a:pt x="360" y="932"/>
                  </a:lnTo>
                  <a:lnTo>
                    <a:pt x="326" y="934"/>
                  </a:lnTo>
                  <a:lnTo>
                    <a:pt x="292" y="934"/>
                  </a:lnTo>
                  <a:lnTo>
                    <a:pt x="292" y="934"/>
                  </a:lnTo>
                  <a:lnTo>
                    <a:pt x="258" y="870"/>
                  </a:lnTo>
                  <a:lnTo>
                    <a:pt x="222" y="800"/>
                  </a:lnTo>
                  <a:lnTo>
                    <a:pt x="222" y="800"/>
                  </a:lnTo>
                  <a:lnTo>
                    <a:pt x="190" y="736"/>
                  </a:lnTo>
                  <a:lnTo>
                    <a:pt x="148" y="644"/>
                  </a:lnTo>
                  <a:lnTo>
                    <a:pt x="148" y="644"/>
                  </a:lnTo>
                  <a:lnTo>
                    <a:pt x="108" y="558"/>
                  </a:lnTo>
                  <a:lnTo>
                    <a:pt x="72" y="478"/>
                  </a:lnTo>
                  <a:lnTo>
                    <a:pt x="72" y="478"/>
                  </a:lnTo>
                  <a:close/>
                </a:path>
              </a:pathLst>
            </a:custGeom>
            <a:noFill/>
            <a:ln w="536400">
              <a:solidFill>
                <a:srgbClr val="e843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164"/>
            <p:cNvSpPr/>
            <p:nvPr/>
          </p:nvSpPr>
          <p:spPr>
            <a:xfrm>
              <a:off x="2546280" y="14314320"/>
              <a:ext cx="2944800" cy="2948040"/>
            </a:xfrm>
            <a:custGeom>
              <a:avLst/>
              <a:gdLst>
                <a:gd name="textAreaLeft" fmla="*/ 0 w 2944800"/>
                <a:gd name="textAreaRight" fmla="*/ 2945160 w 2944800"/>
                <a:gd name="textAreaTop" fmla="*/ 0 h 2948040"/>
                <a:gd name="textAreaBottom" fmla="*/ 2948400 h 2948040"/>
              </a:gdLst>
              <a:ahLst/>
              <a:rect l="textAreaLeft" t="textAreaTop" r="textAreaRight" b="textAreaBottom"/>
              <a:pathLst>
                <a:path w="1855" h="1857">
                  <a:moveTo>
                    <a:pt x="404" y="1158"/>
                  </a:moveTo>
                  <a:lnTo>
                    <a:pt x="344" y="1193"/>
                  </a:lnTo>
                  <a:lnTo>
                    <a:pt x="344" y="1193"/>
                  </a:lnTo>
                  <a:lnTo>
                    <a:pt x="338" y="1038"/>
                  </a:lnTo>
                  <a:lnTo>
                    <a:pt x="338" y="904"/>
                  </a:lnTo>
                  <a:lnTo>
                    <a:pt x="338" y="786"/>
                  </a:lnTo>
                  <a:lnTo>
                    <a:pt x="342" y="688"/>
                  </a:lnTo>
                  <a:lnTo>
                    <a:pt x="342" y="688"/>
                  </a:lnTo>
                  <a:lnTo>
                    <a:pt x="360" y="628"/>
                  </a:lnTo>
                  <a:lnTo>
                    <a:pt x="380" y="564"/>
                  </a:lnTo>
                  <a:lnTo>
                    <a:pt x="380" y="564"/>
                  </a:lnTo>
                  <a:lnTo>
                    <a:pt x="404" y="496"/>
                  </a:lnTo>
                  <a:lnTo>
                    <a:pt x="436" y="418"/>
                  </a:lnTo>
                  <a:lnTo>
                    <a:pt x="436" y="418"/>
                  </a:lnTo>
                  <a:lnTo>
                    <a:pt x="500" y="262"/>
                  </a:lnTo>
                  <a:lnTo>
                    <a:pt x="520" y="206"/>
                  </a:lnTo>
                  <a:lnTo>
                    <a:pt x="536" y="162"/>
                  </a:lnTo>
                  <a:lnTo>
                    <a:pt x="536" y="162"/>
                  </a:lnTo>
                  <a:lnTo>
                    <a:pt x="592" y="130"/>
                  </a:lnTo>
                  <a:lnTo>
                    <a:pt x="642" y="102"/>
                  </a:lnTo>
                  <a:lnTo>
                    <a:pt x="686" y="80"/>
                  </a:lnTo>
                  <a:lnTo>
                    <a:pt x="722" y="64"/>
                  </a:lnTo>
                  <a:lnTo>
                    <a:pt x="722" y="64"/>
                  </a:lnTo>
                  <a:lnTo>
                    <a:pt x="754" y="52"/>
                  </a:lnTo>
                  <a:lnTo>
                    <a:pt x="786" y="40"/>
                  </a:lnTo>
                  <a:lnTo>
                    <a:pt x="820" y="32"/>
                  </a:lnTo>
                  <a:lnTo>
                    <a:pt x="854" y="22"/>
                  </a:lnTo>
                  <a:lnTo>
                    <a:pt x="888" y="16"/>
                  </a:lnTo>
                  <a:lnTo>
                    <a:pt x="924" y="10"/>
                  </a:lnTo>
                  <a:lnTo>
                    <a:pt x="960" y="6"/>
                  </a:lnTo>
                  <a:lnTo>
                    <a:pt x="998" y="2"/>
                  </a:lnTo>
                  <a:lnTo>
                    <a:pt x="1038" y="2"/>
                  </a:lnTo>
                  <a:lnTo>
                    <a:pt x="1076" y="0"/>
                  </a:lnTo>
                  <a:lnTo>
                    <a:pt x="1118" y="2"/>
                  </a:lnTo>
                  <a:lnTo>
                    <a:pt x="1158" y="4"/>
                  </a:lnTo>
                  <a:lnTo>
                    <a:pt x="1244" y="12"/>
                  </a:lnTo>
                  <a:lnTo>
                    <a:pt x="1334" y="24"/>
                  </a:lnTo>
                  <a:lnTo>
                    <a:pt x="1334" y="24"/>
                  </a:lnTo>
                  <a:lnTo>
                    <a:pt x="1378" y="34"/>
                  </a:lnTo>
                  <a:lnTo>
                    <a:pt x="1422" y="44"/>
                  </a:lnTo>
                  <a:lnTo>
                    <a:pt x="1462" y="56"/>
                  </a:lnTo>
                  <a:lnTo>
                    <a:pt x="1500" y="68"/>
                  </a:lnTo>
                  <a:lnTo>
                    <a:pt x="1536" y="84"/>
                  </a:lnTo>
                  <a:lnTo>
                    <a:pt x="1572" y="100"/>
                  </a:lnTo>
                  <a:lnTo>
                    <a:pt x="1604" y="118"/>
                  </a:lnTo>
                  <a:lnTo>
                    <a:pt x="1634" y="136"/>
                  </a:lnTo>
                  <a:lnTo>
                    <a:pt x="1662" y="156"/>
                  </a:lnTo>
                  <a:lnTo>
                    <a:pt x="1688" y="178"/>
                  </a:lnTo>
                  <a:lnTo>
                    <a:pt x="1712" y="202"/>
                  </a:lnTo>
                  <a:lnTo>
                    <a:pt x="1734" y="228"/>
                  </a:lnTo>
                  <a:lnTo>
                    <a:pt x="1756" y="254"/>
                  </a:lnTo>
                  <a:lnTo>
                    <a:pt x="1774" y="282"/>
                  </a:lnTo>
                  <a:lnTo>
                    <a:pt x="1791" y="312"/>
                  </a:lnTo>
                  <a:lnTo>
                    <a:pt x="1805" y="342"/>
                  </a:lnTo>
                  <a:lnTo>
                    <a:pt x="1805" y="342"/>
                  </a:lnTo>
                  <a:lnTo>
                    <a:pt x="1821" y="386"/>
                  </a:lnTo>
                  <a:lnTo>
                    <a:pt x="1835" y="432"/>
                  </a:lnTo>
                  <a:lnTo>
                    <a:pt x="1845" y="476"/>
                  </a:lnTo>
                  <a:lnTo>
                    <a:pt x="1851" y="522"/>
                  </a:lnTo>
                  <a:lnTo>
                    <a:pt x="1855" y="570"/>
                  </a:lnTo>
                  <a:lnTo>
                    <a:pt x="1855" y="616"/>
                  </a:lnTo>
                  <a:lnTo>
                    <a:pt x="1851" y="664"/>
                  </a:lnTo>
                  <a:lnTo>
                    <a:pt x="1845" y="714"/>
                  </a:lnTo>
                  <a:lnTo>
                    <a:pt x="1837" y="762"/>
                  </a:lnTo>
                  <a:lnTo>
                    <a:pt x="1823" y="812"/>
                  </a:lnTo>
                  <a:lnTo>
                    <a:pt x="1807" y="862"/>
                  </a:lnTo>
                  <a:lnTo>
                    <a:pt x="1789" y="914"/>
                  </a:lnTo>
                  <a:lnTo>
                    <a:pt x="1764" y="966"/>
                  </a:lnTo>
                  <a:lnTo>
                    <a:pt x="1738" y="1018"/>
                  </a:lnTo>
                  <a:lnTo>
                    <a:pt x="1710" y="1072"/>
                  </a:lnTo>
                  <a:lnTo>
                    <a:pt x="1678" y="1126"/>
                  </a:lnTo>
                  <a:lnTo>
                    <a:pt x="1678" y="1126"/>
                  </a:lnTo>
                  <a:lnTo>
                    <a:pt x="1642" y="1178"/>
                  </a:lnTo>
                  <a:lnTo>
                    <a:pt x="1606" y="1231"/>
                  </a:lnTo>
                  <a:lnTo>
                    <a:pt x="1568" y="1281"/>
                  </a:lnTo>
                  <a:lnTo>
                    <a:pt x="1528" y="1327"/>
                  </a:lnTo>
                  <a:lnTo>
                    <a:pt x="1488" y="1373"/>
                  </a:lnTo>
                  <a:lnTo>
                    <a:pt x="1444" y="1417"/>
                  </a:lnTo>
                  <a:lnTo>
                    <a:pt x="1400" y="1459"/>
                  </a:lnTo>
                  <a:lnTo>
                    <a:pt x="1354" y="1501"/>
                  </a:lnTo>
                  <a:lnTo>
                    <a:pt x="1306" y="1539"/>
                  </a:lnTo>
                  <a:lnTo>
                    <a:pt x="1258" y="1575"/>
                  </a:lnTo>
                  <a:lnTo>
                    <a:pt x="1206" y="1611"/>
                  </a:lnTo>
                  <a:lnTo>
                    <a:pt x="1154" y="1643"/>
                  </a:lnTo>
                  <a:lnTo>
                    <a:pt x="1100" y="1675"/>
                  </a:lnTo>
                  <a:lnTo>
                    <a:pt x="1044" y="1703"/>
                  </a:lnTo>
                  <a:lnTo>
                    <a:pt x="988" y="1731"/>
                  </a:lnTo>
                  <a:lnTo>
                    <a:pt x="930" y="1757"/>
                  </a:lnTo>
                  <a:lnTo>
                    <a:pt x="930" y="1757"/>
                  </a:lnTo>
                  <a:lnTo>
                    <a:pt x="878" y="1777"/>
                  </a:lnTo>
                  <a:lnTo>
                    <a:pt x="828" y="1795"/>
                  </a:lnTo>
                  <a:lnTo>
                    <a:pt x="780" y="1811"/>
                  </a:lnTo>
                  <a:lnTo>
                    <a:pt x="732" y="1823"/>
                  </a:lnTo>
                  <a:lnTo>
                    <a:pt x="684" y="1835"/>
                  </a:lnTo>
                  <a:lnTo>
                    <a:pt x="640" y="1843"/>
                  </a:lnTo>
                  <a:lnTo>
                    <a:pt x="594" y="1849"/>
                  </a:lnTo>
                  <a:lnTo>
                    <a:pt x="550" y="1853"/>
                  </a:lnTo>
                  <a:lnTo>
                    <a:pt x="550" y="1853"/>
                  </a:lnTo>
                  <a:lnTo>
                    <a:pt x="508" y="1857"/>
                  </a:lnTo>
                  <a:lnTo>
                    <a:pt x="468" y="1857"/>
                  </a:lnTo>
                  <a:lnTo>
                    <a:pt x="428" y="1855"/>
                  </a:lnTo>
                  <a:lnTo>
                    <a:pt x="390" y="1853"/>
                  </a:lnTo>
                  <a:lnTo>
                    <a:pt x="354" y="1847"/>
                  </a:lnTo>
                  <a:lnTo>
                    <a:pt x="320" y="1841"/>
                  </a:lnTo>
                  <a:lnTo>
                    <a:pt x="286" y="1831"/>
                  </a:lnTo>
                  <a:lnTo>
                    <a:pt x="256" y="1821"/>
                  </a:lnTo>
                  <a:lnTo>
                    <a:pt x="256" y="1821"/>
                  </a:lnTo>
                  <a:lnTo>
                    <a:pt x="224" y="1809"/>
                  </a:lnTo>
                  <a:lnTo>
                    <a:pt x="194" y="1795"/>
                  </a:lnTo>
                  <a:lnTo>
                    <a:pt x="162" y="1779"/>
                  </a:lnTo>
                  <a:lnTo>
                    <a:pt x="130" y="1761"/>
                  </a:lnTo>
                  <a:lnTo>
                    <a:pt x="98" y="1743"/>
                  </a:lnTo>
                  <a:lnTo>
                    <a:pt x="66" y="1721"/>
                  </a:lnTo>
                  <a:lnTo>
                    <a:pt x="34" y="1697"/>
                  </a:lnTo>
                  <a:lnTo>
                    <a:pt x="0" y="1671"/>
                  </a:lnTo>
                  <a:lnTo>
                    <a:pt x="0" y="1671"/>
                  </a:lnTo>
                  <a:lnTo>
                    <a:pt x="82" y="1513"/>
                  </a:lnTo>
                  <a:lnTo>
                    <a:pt x="112" y="1457"/>
                  </a:lnTo>
                  <a:lnTo>
                    <a:pt x="134" y="1419"/>
                  </a:lnTo>
                  <a:lnTo>
                    <a:pt x="134" y="1419"/>
                  </a:lnTo>
                  <a:lnTo>
                    <a:pt x="198" y="1433"/>
                  </a:lnTo>
                  <a:lnTo>
                    <a:pt x="260" y="1441"/>
                  </a:lnTo>
                  <a:lnTo>
                    <a:pt x="318" y="1447"/>
                  </a:lnTo>
                  <a:lnTo>
                    <a:pt x="372" y="1447"/>
                  </a:lnTo>
                  <a:lnTo>
                    <a:pt x="422" y="1445"/>
                  </a:lnTo>
                  <a:lnTo>
                    <a:pt x="468" y="1439"/>
                  </a:lnTo>
                  <a:lnTo>
                    <a:pt x="510" y="1429"/>
                  </a:lnTo>
                  <a:lnTo>
                    <a:pt x="550" y="1417"/>
                  </a:lnTo>
                  <a:lnTo>
                    <a:pt x="550" y="1417"/>
                  </a:lnTo>
                  <a:lnTo>
                    <a:pt x="582" y="1399"/>
                  </a:lnTo>
                  <a:lnTo>
                    <a:pt x="614" y="1379"/>
                  </a:lnTo>
                  <a:lnTo>
                    <a:pt x="644" y="1353"/>
                  </a:lnTo>
                  <a:lnTo>
                    <a:pt x="674" y="1323"/>
                  </a:lnTo>
                  <a:lnTo>
                    <a:pt x="674" y="1323"/>
                  </a:lnTo>
                  <a:lnTo>
                    <a:pt x="688" y="1305"/>
                  </a:lnTo>
                  <a:lnTo>
                    <a:pt x="702" y="1285"/>
                  </a:lnTo>
                  <a:lnTo>
                    <a:pt x="716" y="1261"/>
                  </a:lnTo>
                  <a:lnTo>
                    <a:pt x="730" y="1231"/>
                  </a:lnTo>
                  <a:lnTo>
                    <a:pt x="760" y="1164"/>
                  </a:lnTo>
                  <a:lnTo>
                    <a:pt x="792" y="1082"/>
                  </a:lnTo>
                  <a:lnTo>
                    <a:pt x="792" y="1082"/>
                  </a:lnTo>
                  <a:lnTo>
                    <a:pt x="880" y="822"/>
                  </a:lnTo>
                  <a:lnTo>
                    <a:pt x="1030" y="374"/>
                  </a:lnTo>
                  <a:lnTo>
                    <a:pt x="1030" y="374"/>
                  </a:lnTo>
                  <a:lnTo>
                    <a:pt x="980" y="370"/>
                  </a:lnTo>
                  <a:lnTo>
                    <a:pt x="930" y="370"/>
                  </a:lnTo>
                  <a:lnTo>
                    <a:pt x="882" y="372"/>
                  </a:lnTo>
                  <a:lnTo>
                    <a:pt x="834" y="376"/>
                  </a:lnTo>
                  <a:lnTo>
                    <a:pt x="788" y="384"/>
                  </a:lnTo>
                  <a:lnTo>
                    <a:pt x="744" y="394"/>
                  </a:lnTo>
                  <a:lnTo>
                    <a:pt x="702" y="406"/>
                  </a:lnTo>
                  <a:lnTo>
                    <a:pt x="660" y="422"/>
                  </a:lnTo>
                  <a:lnTo>
                    <a:pt x="660" y="422"/>
                  </a:lnTo>
                  <a:lnTo>
                    <a:pt x="606" y="446"/>
                  </a:lnTo>
                  <a:lnTo>
                    <a:pt x="536" y="482"/>
                  </a:lnTo>
                  <a:lnTo>
                    <a:pt x="536" y="482"/>
                  </a:lnTo>
                  <a:lnTo>
                    <a:pt x="524" y="538"/>
                  </a:lnTo>
                  <a:lnTo>
                    <a:pt x="496" y="670"/>
                  </a:lnTo>
                  <a:lnTo>
                    <a:pt x="404" y="1158"/>
                  </a:lnTo>
                  <a:lnTo>
                    <a:pt x="404" y="1158"/>
                  </a:lnTo>
                  <a:close/>
                  <a:moveTo>
                    <a:pt x="750" y="1463"/>
                  </a:moveTo>
                  <a:lnTo>
                    <a:pt x="750" y="1463"/>
                  </a:lnTo>
                  <a:lnTo>
                    <a:pt x="812" y="1457"/>
                  </a:lnTo>
                  <a:lnTo>
                    <a:pt x="872" y="1451"/>
                  </a:lnTo>
                  <a:lnTo>
                    <a:pt x="928" y="1443"/>
                  </a:lnTo>
                  <a:lnTo>
                    <a:pt x="982" y="1433"/>
                  </a:lnTo>
                  <a:lnTo>
                    <a:pt x="1034" y="1421"/>
                  </a:lnTo>
                  <a:lnTo>
                    <a:pt x="1082" y="1409"/>
                  </a:lnTo>
                  <a:lnTo>
                    <a:pt x="1128" y="1393"/>
                  </a:lnTo>
                  <a:lnTo>
                    <a:pt x="1172" y="1377"/>
                  </a:lnTo>
                  <a:lnTo>
                    <a:pt x="1172" y="1377"/>
                  </a:lnTo>
                  <a:lnTo>
                    <a:pt x="1214" y="1359"/>
                  </a:lnTo>
                  <a:lnTo>
                    <a:pt x="1256" y="1337"/>
                  </a:lnTo>
                  <a:lnTo>
                    <a:pt x="1296" y="1317"/>
                  </a:lnTo>
                  <a:lnTo>
                    <a:pt x="1336" y="1293"/>
                  </a:lnTo>
                  <a:lnTo>
                    <a:pt x="1376" y="1267"/>
                  </a:lnTo>
                  <a:lnTo>
                    <a:pt x="1414" y="1239"/>
                  </a:lnTo>
                  <a:lnTo>
                    <a:pt x="1452" y="1209"/>
                  </a:lnTo>
                  <a:lnTo>
                    <a:pt x="1490" y="1178"/>
                  </a:lnTo>
                  <a:lnTo>
                    <a:pt x="1490" y="1178"/>
                  </a:lnTo>
                  <a:lnTo>
                    <a:pt x="1526" y="1146"/>
                  </a:lnTo>
                  <a:lnTo>
                    <a:pt x="1558" y="1114"/>
                  </a:lnTo>
                  <a:lnTo>
                    <a:pt x="1586" y="1082"/>
                  </a:lnTo>
                  <a:lnTo>
                    <a:pt x="1612" y="1050"/>
                  </a:lnTo>
                  <a:lnTo>
                    <a:pt x="1632" y="1018"/>
                  </a:lnTo>
                  <a:lnTo>
                    <a:pt x="1650" y="986"/>
                  </a:lnTo>
                  <a:lnTo>
                    <a:pt x="1664" y="952"/>
                  </a:lnTo>
                  <a:lnTo>
                    <a:pt x="1674" y="920"/>
                  </a:lnTo>
                  <a:lnTo>
                    <a:pt x="1674" y="920"/>
                  </a:lnTo>
                  <a:lnTo>
                    <a:pt x="1682" y="890"/>
                  </a:lnTo>
                  <a:lnTo>
                    <a:pt x="1686" y="858"/>
                  </a:lnTo>
                  <a:lnTo>
                    <a:pt x="1690" y="830"/>
                  </a:lnTo>
                  <a:lnTo>
                    <a:pt x="1690" y="802"/>
                  </a:lnTo>
                  <a:lnTo>
                    <a:pt x="1690" y="776"/>
                  </a:lnTo>
                  <a:lnTo>
                    <a:pt x="1686" y="750"/>
                  </a:lnTo>
                  <a:lnTo>
                    <a:pt x="1680" y="726"/>
                  </a:lnTo>
                  <a:lnTo>
                    <a:pt x="1672" y="704"/>
                  </a:lnTo>
                  <a:lnTo>
                    <a:pt x="1672" y="704"/>
                  </a:lnTo>
                  <a:lnTo>
                    <a:pt x="1660" y="680"/>
                  </a:lnTo>
                  <a:lnTo>
                    <a:pt x="1646" y="656"/>
                  </a:lnTo>
                  <a:lnTo>
                    <a:pt x="1626" y="632"/>
                  </a:lnTo>
                  <a:lnTo>
                    <a:pt x="1604" y="608"/>
                  </a:lnTo>
                  <a:lnTo>
                    <a:pt x="1578" y="582"/>
                  </a:lnTo>
                  <a:lnTo>
                    <a:pt x="1548" y="556"/>
                  </a:lnTo>
                  <a:lnTo>
                    <a:pt x="1516" y="530"/>
                  </a:lnTo>
                  <a:lnTo>
                    <a:pt x="1478" y="504"/>
                  </a:lnTo>
                  <a:lnTo>
                    <a:pt x="1478" y="504"/>
                  </a:lnTo>
                  <a:lnTo>
                    <a:pt x="1438" y="478"/>
                  </a:lnTo>
                  <a:lnTo>
                    <a:pt x="1396" y="454"/>
                  </a:lnTo>
                  <a:lnTo>
                    <a:pt x="1352" y="434"/>
                  </a:lnTo>
                  <a:lnTo>
                    <a:pt x="1304" y="416"/>
                  </a:lnTo>
                  <a:lnTo>
                    <a:pt x="1256" y="402"/>
                  </a:lnTo>
                  <a:lnTo>
                    <a:pt x="1204" y="390"/>
                  </a:lnTo>
                  <a:lnTo>
                    <a:pt x="1152" y="382"/>
                  </a:lnTo>
                  <a:lnTo>
                    <a:pt x="1096" y="374"/>
                  </a:lnTo>
                  <a:lnTo>
                    <a:pt x="1096" y="374"/>
                  </a:lnTo>
                  <a:lnTo>
                    <a:pt x="1090" y="424"/>
                  </a:lnTo>
                  <a:lnTo>
                    <a:pt x="1084" y="478"/>
                  </a:lnTo>
                  <a:lnTo>
                    <a:pt x="1074" y="536"/>
                  </a:lnTo>
                  <a:lnTo>
                    <a:pt x="1062" y="598"/>
                  </a:lnTo>
                  <a:lnTo>
                    <a:pt x="1062" y="598"/>
                  </a:lnTo>
                  <a:lnTo>
                    <a:pt x="1048" y="664"/>
                  </a:lnTo>
                  <a:lnTo>
                    <a:pt x="1032" y="732"/>
                  </a:lnTo>
                  <a:lnTo>
                    <a:pt x="1014" y="802"/>
                  </a:lnTo>
                  <a:lnTo>
                    <a:pt x="996" y="874"/>
                  </a:lnTo>
                  <a:lnTo>
                    <a:pt x="996" y="874"/>
                  </a:lnTo>
                  <a:lnTo>
                    <a:pt x="974" y="946"/>
                  </a:lnTo>
                  <a:lnTo>
                    <a:pt x="950" y="1020"/>
                  </a:lnTo>
                  <a:lnTo>
                    <a:pt x="924" y="1094"/>
                  </a:lnTo>
                  <a:lnTo>
                    <a:pt x="894" y="1168"/>
                  </a:lnTo>
                  <a:lnTo>
                    <a:pt x="894" y="1168"/>
                  </a:lnTo>
                  <a:lnTo>
                    <a:pt x="862" y="1243"/>
                  </a:lnTo>
                  <a:lnTo>
                    <a:pt x="828" y="1317"/>
                  </a:lnTo>
                  <a:lnTo>
                    <a:pt x="790" y="1391"/>
                  </a:lnTo>
                  <a:lnTo>
                    <a:pt x="750" y="1463"/>
                  </a:lnTo>
                  <a:lnTo>
                    <a:pt x="750" y="1463"/>
                  </a:lnTo>
                  <a:close/>
                </a:path>
              </a:pathLst>
            </a:custGeom>
            <a:noFill/>
            <a:ln w="495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165"/>
            <p:cNvSpPr/>
            <p:nvPr/>
          </p:nvSpPr>
          <p:spPr>
            <a:xfrm>
              <a:off x="5732640" y="14162040"/>
              <a:ext cx="1355400" cy="1384200"/>
            </a:xfrm>
            <a:custGeom>
              <a:avLst/>
              <a:gdLst>
                <a:gd name="textAreaLeft" fmla="*/ 0 w 1355400"/>
                <a:gd name="textAreaRight" fmla="*/ 1355760 w 1355400"/>
                <a:gd name="textAreaTop" fmla="*/ 0 h 1384200"/>
                <a:gd name="textAreaBottom" fmla="*/ 1384200 h 1384200"/>
              </a:gdLst>
              <a:ahLst/>
              <a:rect l="textAreaLeft" t="textAreaTop" r="textAreaRight" b="textAreaBottom"/>
              <a:pathLst>
                <a:path w="854" h="872">
                  <a:moveTo>
                    <a:pt x="114" y="60"/>
                  </a:moveTo>
                  <a:lnTo>
                    <a:pt x="114" y="60"/>
                  </a:lnTo>
                  <a:lnTo>
                    <a:pt x="272" y="30"/>
                  </a:lnTo>
                  <a:lnTo>
                    <a:pt x="272" y="30"/>
                  </a:lnTo>
                  <a:lnTo>
                    <a:pt x="380" y="10"/>
                  </a:lnTo>
                  <a:lnTo>
                    <a:pt x="418" y="4"/>
                  </a:lnTo>
                  <a:lnTo>
                    <a:pt x="446" y="0"/>
                  </a:lnTo>
                  <a:lnTo>
                    <a:pt x="446" y="0"/>
                  </a:lnTo>
                  <a:lnTo>
                    <a:pt x="468" y="0"/>
                  </a:lnTo>
                  <a:lnTo>
                    <a:pt x="490" y="4"/>
                  </a:lnTo>
                  <a:lnTo>
                    <a:pt x="514" y="10"/>
                  </a:lnTo>
                  <a:lnTo>
                    <a:pt x="536" y="16"/>
                  </a:lnTo>
                  <a:lnTo>
                    <a:pt x="536" y="16"/>
                  </a:lnTo>
                  <a:lnTo>
                    <a:pt x="560" y="28"/>
                  </a:lnTo>
                  <a:lnTo>
                    <a:pt x="582" y="42"/>
                  </a:lnTo>
                  <a:lnTo>
                    <a:pt x="602" y="62"/>
                  </a:lnTo>
                  <a:lnTo>
                    <a:pt x="624" y="84"/>
                  </a:lnTo>
                  <a:lnTo>
                    <a:pt x="624" y="84"/>
                  </a:lnTo>
                  <a:lnTo>
                    <a:pt x="644" y="112"/>
                  </a:lnTo>
                  <a:lnTo>
                    <a:pt x="664" y="146"/>
                  </a:lnTo>
                  <a:lnTo>
                    <a:pt x="684" y="184"/>
                  </a:lnTo>
                  <a:lnTo>
                    <a:pt x="704" y="230"/>
                  </a:lnTo>
                  <a:lnTo>
                    <a:pt x="804" y="482"/>
                  </a:lnTo>
                  <a:lnTo>
                    <a:pt x="804" y="482"/>
                  </a:lnTo>
                  <a:lnTo>
                    <a:pt x="826" y="528"/>
                  </a:lnTo>
                  <a:lnTo>
                    <a:pt x="854" y="582"/>
                  </a:lnTo>
                  <a:lnTo>
                    <a:pt x="854" y="582"/>
                  </a:lnTo>
                  <a:lnTo>
                    <a:pt x="814" y="610"/>
                  </a:lnTo>
                  <a:lnTo>
                    <a:pt x="758" y="650"/>
                  </a:lnTo>
                  <a:lnTo>
                    <a:pt x="692" y="704"/>
                  </a:lnTo>
                  <a:lnTo>
                    <a:pt x="612" y="768"/>
                  </a:lnTo>
                  <a:lnTo>
                    <a:pt x="612" y="768"/>
                  </a:lnTo>
                  <a:lnTo>
                    <a:pt x="592" y="702"/>
                  </a:lnTo>
                  <a:lnTo>
                    <a:pt x="564" y="626"/>
                  </a:lnTo>
                  <a:lnTo>
                    <a:pt x="532" y="540"/>
                  </a:lnTo>
                  <a:lnTo>
                    <a:pt x="492" y="442"/>
                  </a:lnTo>
                  <a:lnTo>
                    <a:pt x="492" y="442"/>
                  </a:lnTo>
                  <a:lnTo>
                    <a:pt x="490" y="462"/>
                  </a:lnTo>
                  <a:lnTo>
                    <a:pt x="482" y="490"/>
                  </a:lnTo>
                  <a:lnTo>
                    <a:pt x="454" y="576"/>
                  </a:lnTo>
                  <a:lnTo>
                    <a:pt x="454" y="576"/>
                  </a:lnTo>
                  <a:lnTo>
                    <a:pt x="412" y="698"/>
                  </a:lnTo>
                  <a:lnTo>
                    <a:pt x="354" y="862"/>
                  </a:lnTo>
                  <a:lnTo>
                    <a:pt x="354" y="862"/>
                  </a:lnTo>
                  <a:lnTo>
                    <a:pt x="304" y="868"/>
                  </a:lnTo>
                  <a:lnTo>
                    <a:pt x="260" y="870"/>
                  </a:lnTo>
                  <a:lnTo>
                    <a:pt x="222" y="872"/>
                  </a:lnTo>
                  <a:lnTo>
                    <a:pt x="188" y="872"/>
                  </a:lnTo>
                  <a:lnTo>
                    <a:pt x="188" y="872"/>
                  </a:lnTo>
                  <a:lnTo>
                    <a:pt x="134" y="776"/>
                  </a:lnTo>
                  <a:lnTo>
                    <a:pt x="134" y="776"/>
                  </a:lnTo>
                  <a:lnTo>
                    <a:pt x="106" y="726"/>
                  </a:lnTo>
                  <a:lnTo>
                    <a:pt x="82" y="680"/>
                  </a:lnTo>
                  <a:lnTo>
                    <a:pt x="60" y="634"/>
                  </a:lnTo>
                  <a:lnTo>
                    <a:pt x="40" y="590"/>
                  </a:lnTo>
                  <a:lnTo>
                    <a:pt x="40" y="590"/>
                  </a:lnTo>
                  <a:lnTo>
                    <a:pt x="28" y="558"/>
                  </a:lnTo>
                  <a:lnTo>
                    <a:pt x="18" y="528"/>
                  </a:lnTo>
                  <a:lnTo>
                    <a:pt x="10" y="498"/>
                  </a:lnTo>
                  <a:lnTo>
                    <a:pt x="6" y="470"/>
                  </a:lnTo>
                  <a:lnTo>
                    <a:pt x="2" y="442"/>
                  </a:lnTo>
                  <a:lnTo>
                    <a:pt x="0" y="414"/>
                  </a:lnTo>
                  <a:lnTo>
                    <a:pt x="0" y="386"/>
                  </a:lnTo>
                  <a:lnTo>
                    <a:pt x="2" y="360"/>
                  </a:lnTo>
                  <a:lnTo>
                    <a:pt x="2" y="360"/>
                  </a:lnTo>
                  <a:lnTo>
                    <a:pt x="6" y="332"/>
                  </a:lnTo>
                  <a:lnTo>
                    <a:pt x="14" y="302"/>
                  </a:lnTo>
                  <a:lnTo>
                    <a:pt x="24" y="268"/>
                  </a:lnTo>
                  <a:lnTo>
                    <a:pt x="36" y="234"/>
                  </a:lnTo>
                  <a:lnTo>
                    <a:pt x="52" y="194"/>
                  </a:lnTo>
                  <a:lnTo>
                    <a:pt x="70" y="152"/>
                  </a:lnTo>
                  <a:lnTo>
                    <a:pt x="92" y="108"/>
                  </a:lnTo>
                  <a:lnTo>
                    <a:pt x="114" y="60"/>
                  </a:lnTo>
                  <a:lnTo>
                    <a:pt x="114" y="60"/>
                  </a:lnTo>
                  <a:close/>
                  <a:moveTo>
                    <a:pt x="196" y="268"/>
                  </a:moveTo>
                  <a:lnTo>
                    <a:pt x="352" y="594"/>
                  </a:lnTo>
                  <a:lnTo>
                    <a:pt x="352" y="594"/>
                  </a:lnTo>
                  <a:lnTo>
                    <a:pt x="374" y="520"/>
                  </a:lnTo>
                  <a:lnTo>
                    <a:pt x="392" y="442"/>
                  </a:lnTo>
                  <a:lnTo>
                    <a:pt x="392" y="442"/>
                  </a:lnTo>
                  <a:lnTo>
                    <a:pt x="406" y="362"/>
                  </a:lnTo>
                  <a:lnTo>
                    <a:pt x="416" y="288"/>
                  </a:lnTo>
                  <a:lnTo>
                    <a:pt x="416" y="288"/>
                  </a:lnTo>
                  <a:lnTo>
                    <a:pt x="396" y="278"/>
                  </a:lnTo>
                  <a:lnTo>
                    <a:pt x="374" y="268"/>
                  </a:lnTo>
                  <a:lnTo>
                    <a:pt x="350" y="262"/>
                  </a:lnTo>
                  <a:lnTo>
                    <a:pt x="324" y="258"/>
                  </a:lnTo>
                  <a:lnTo>
                    <a:pt x="296" y="258"/>
                  </a:lnTo>
                  <a:lnTo>
                    <a:pt x="266" y="258"/>
                  </a:lnTo>
                  <a:lnTo>
                    <a:pt x="232" y="262"/>
                  </a:lnTo>
                  <a:lnTo>
                    <a:pt x="196" y="268"/>
                  </a:lnTo>
                  <a:lnTo>
                    <a:pt x="196" y="268"/>
                  </a:lnTo>
                  <a:close/>
                </a:path>
              </a:pathLst>
            </a:custGeom>
            <a:noFill/>
            <a:ln w="495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166"/>
            <p:cNvSpPr/>
            <p:nvPr/>
          </p:nvSpPr>
          <p:spPr>
            <a:xfrm>
              <a:off x="6973920" y="13444560"/>
              <a:ext cx="1473120" cy="205740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928" h="1296">
                  <a:moveTo>
                    <a:pt x="72" y="478"/>
                  </a:moveTo>
                  <a:lnTo>
                    <a:pt x="0" y="302"/>
                  </a:lnTo>
                  <a:lnTo>
                    <a:pt x="0" y="302"/>
                  </a:lnTo>
                  <a:lnTo>
                    <a:pt x="42" y="282"/>
                  </a:lnTo>
                  <a:lnTo>
                    <a:pt x="82" y="262"/>
                  </a:lnTo>
                  <a:lnTo>
                    <a:pt x="120" y="240"/>
                  </a:lnTo>
                  <a:lnTo>
                    <a:pt x="154" y="218"/>
                  </a:lnTo>
                  <a:lnTo>
                    <a:pt x="186" y="196"/>
                  </a:lnTo>
                  <a:lnTo>
                    <a:pt x="218" y="174"/>
                  </a:lnTo>
                  <a:lnTo>
                    <a:pt x="246" y="152"/>
                  </a:lnTo>
                  <a:lnTo>
                    <a:pt x="270" y="128"/>
                  </a:lnTo>
                  <a:lnTo>
                    <a:pt x="338" y="324"/>
                  </a:lnTo>
                  <a:lnTo>
                    <a:pt x="418" y="548"/>
                  </a:lnTo>
                  <a:lnTo>
                    <a:pt x="418" y="548"/>
                  </a:lnTo>
                  <a:lnTo>
                    <a:pt x="428" y="472"/>
                  </a:lnTo>
                  <a:lnTo>
                    <a:pt x="434" y="406"/>
                  </a:lnTo>
                  <a:lnTo>
                    <a:pt x="438" y="352"/>
                  </a:lnTo>
                  <a:lnTo>
                    <a:pt x="438" y="308"/>
                  </a:lnTo>
                  <a:lnTo>
                    <a:pt x="438" y="308"/>
                  </a:lnTo>
                  <a:lnTo>
                    <a:pt x="434" y="264"/>
                  </a:lnTo>
                  <a:lnTo>
                    <a:pt x="426" y="214"/>
                  </a:lnTo>
                  <a:lnTo>
                    <a:pt x="416" y="156"/>
                  </a:lnTo>
                  <a:lnTo>
                    <a:pt x="402" y="92"/>
                  </a:lnTo>
                  <a:lnTo>
                    <a:pt x="402" y="92"/>
                  </a:lnTo>
                  <a:lnTo>
                    <a:pt x="690" y="0"/>
                  </a:lnTo>
                  <a:lnTo>
                    <a:pt x="690" y="0"/>
                  </a:lnTo>
                  <a:lnTo>
                    <a:pt x="702" y="50"/>
                  </a:lnTo>
                  <a:lnTo>
                    <a:pt x="722" y="126"/>
                  </a:lnTo>
                  <a:lnTo>
                    <a:pt x="752" y="228"/>
                  </a:lnTo>
                  <a:lnTo>
                    <a:pt x="788" y="354"/>
                  </a:lnTo>
                  <a:lnTo>
                    <a:pt x="880" y="644"/>
                  </a:lnTo>
                  <a:lnTo>
                    <a:pt x="880" y="644"/>
                  </a:lnTo>
                  <a:lnTo>
                    <a:pt x="896" y="702"/>
                  </a:lnTo>
                  <a:lnTo>
                    <a:pt x="910" y="752"/>
                  </a:lnTo>
                  <a:lnTo>
                    <a:pt x="920" y="792"/>
                  </a:lnTo>
                  <a:lnTo>
                    <a:pt x="926" y="826"/>
                  </a:lnTo>
                  <a:lnTo>
                    <a:pt x="926" y="826"/>
                  </a:lnTo>
                  <a:lnTo>
                    <a:pt x="928" y="860"/>
                  </a:lnTo>
                  <a:lnTo>
                    <a:pt x="926" y="898"/>
                  </a:lnTo>
                  <a:lnTo>
                    <a:pt x="922" y="942"/>
                  </a:lnTo>
                  <a:lnTo>
                    <a:pt x="914" y="988"/>
                  </a:lnTo>
                  <a:lnTo>
                    <a:pt x="914" y="988"/>
                  </a:lnTo>
                  <a:lnTo>
                    <a:pt x="902" y="1044"/>
                  </a:lnTo>
                  <a:lnTo>
                    <a:pt x="886" y="1106"/>
                  </a:lnTo>
                  <a:lnTo>
                    <a:pt x="866" y="1172"/>
                  </a:lnTo>
                  <a:lnTo>
                    <a:pt x="842" y="1246"/>
                  </a:lnTo>
                  <a:lnTo>
                    <a:pt x="842" y="1246"/>
                  </a:lnTo>
                  <a:lnTo>
                    <a:pt x="778" y="1264"/>
                  </a:lnTo>
                  <a:lnTo>
                    <a:pt x="716" y="1278"/>
                  </a:lnTo>
                  <a:lnTo>
                    <a:pt x="656" y="1288"/>
                  </a:lnTo>
                  <a:lnTo>
                    <a:pt x="600" y="1294"/>
                  </a:lnTo>
                  <a:lnTo>
                    <a:pt x="546" y="1296"/>
                  </a:lnTo>
                  <a:lnTo>
                    <a:pt x="496" y="1296"/>
                  </a:lnTo>
                  <a:lnTo>
                    <a:pt x="448" y="1290"/>
                  </a:lnTo>
                  <a:lnTo>
                    <a:pt x="402" y="1280"/>
                  </a:lnTo>
                  <a:lnTo>
                    <a:pt x="308" y="1182"/>
                  </a:lnTo>
                  <a:lnTo>
                    <a:pt x="308" y="1182"/>
                  </a:lnTo>
                  <a:lnTo>
                    <a:pt x="314" y="1142"/>
                  </a:lnTo>
                  <a:lnTo>
                    <a:pt x="322" y="1096"/>
                  </a:lnTo>
                  <a:lnTo>
                    <a:pt x="344" y="994"/>
                  </a:lnTo>
                  <a:lnTo>
                    <a:pt x="344" y="994"/>
                  </a:lnTo>
                  <a:lnTo>
                    <a:pt x="362" y="1002"/>
                  </a:lnTo>
                  <a:lnTo>
                    <a:pt x="380" y="1010"/>
                  </a:lnTo>
                  <a:lnTo>
                    <a:pt x="398" y="1014"/>
                  </a:lnTo>
                  <a:lnTo>
                    <a:pt x="418" y="1018"/>
                  </a:lnTo>
                  <a:lnTo>
                    <a:pt x="438" y="1022"/>
                  </a:lnTo>
                  <a:lnTo>
                    <a:pt x="458" y="1022"/>
                  </a:lnTo>
                  <a:lnTo>
                    <a:pt x="480" y="1022"/>
                  </a:lnTo>
                  <a:lnTo>
                    <a:pt x="502" y="1018"/>
                  </a:lnTo>
                  <a:lnTo>
                    <a:pt x="502" y="1018"/>
                  </a:lnTo>
                  <a:lnTo>
                    <a:pt x="550" y="1012"/>
                  </a:lnTo>
                  <a:lnTo>
                    <a:pt x="604" y="1002"/>
                  </a:lnTo>
                  <a:lnTo>
                    <a:pt x="660" y="990"/>
                  </a:lnTo>
                  <a:lnTo>
                    <a:pt x="720" y="978"/>
                  </a:lnTo>
                  <a:lnTo>
                    <a:pt x="720" y="978"/>
                  </a:lnTo>
                  <a:lnTo>
                    <a:pt x="674" y="886"/>
                  </a:lnTo>
                  <a:lnTo>
                    <a:pt x="634" y="806"/>
                  </a:lnTo>
                  <a:lnTo>
                    <a:pt x="600" y="734"/>
                  </a:lnTo>
                  <a:lnTo>
                    <a:pt x="574" y="672"/>
                  </a:lnTo>
                  <a:lnTo>
                    <a:pt x="574" y="672"/>
                  </a:lnTo>
                  <a:lnTo>
                    <a:pt x="544" y="596"/>
                  </a:lnTo>
                  <a:lnTo>
                    <a:pt x="510" y="506"/>
                  </a:lnTo>
                  <a:lnTo>
                    <a:pt x="432" y="828"/>
                  </a:lnTo>
                  <a:lnTo>
                    <a:pt x="432" y="828"/>
                  </a:lnTo>
                  <a:lnTo>
                    <a:pt x="426" y="854"/>
                  </a:lnTo>
                  <a:lnTo>
                    <a:pt x="424" y="876"/>
                  </a:lnTo>
                  <a:lnTo>
                    <a:pt x="424" y="898"/>
                  </a:lnTo>
                  <a:lnTo>
                    <a:pt x="428" y="920"/>
                  </a:lnTo>
                  <a:lnTo>
                    <a:pt x="428" y="920"/>
                  </a:lnTo>
                  <a:lnTo>
                    <a:pt x="394" y="928"/>
                  </a:lnTo>
                  <a:lnTo>
                    <a:pt x="360" y="932"/>
                  </a:lnTo>
                  <a:lnTo>
                    <a:pt x="326" y="934"/>
                  </a:lnTo>
                  <a:lnTo>
                    <a:pt x="292" y="934"/>
                  </a:lnTo>
                  <a:lnTo>
                    <a:pt x="292" y="934"/>
                  </a:lnTo>
                  <a:lnTo>
                    <a:pt x="258" y="870"/>
                  </a:lnTo>
                  <a:lnTo>
                    <a:pt x="222" y="800"/>
                  </a:lnTo>
                  <a:lnTo>
                    <a:pt x="222" y="800"/>
                  </a:lnTo>
                  <a:lnTo>
                    <a:pt x="190" y="736"/>
                  </a:lnTo>
                  <a:lnTo>
                    <a:pt x="148" y="644"/>
                  </a:lnTo>
                  <a:lnTo>
                    <a:pt x="148" y="644"/>
                  </a:lnTo>
                  <a:lnTo>
                    <a:pt x="108" y="558"/>
                  </a:lnTo>
                  <a:lnTo>
                    <a:pt x="72" y="478"/>
                  </a:lnTo>
                  <a:lnTo>
                    <a:pt x="72" y="478"/>
                  </a:lnTo>
                  <a:close/>
                </a:path>
              </a:pathLst>
            </a:custGeom>
            <a:noFill/>
            <a:ln w="495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167"/>
            <p:cNvSpPr/>
            <p:nvPr/>
          </p:nvSpPr>
          <p:spPr>
            <a:xfrm>
              <a:off x="2546280" y="14314320"/>
              <a:ext cx="2944800" cy="2948040"/>
            </a:xfrm>
            <a:custGeom>
              <a:avLst/>
              <a:gdLst>
                <a:gd name="textAreaLeft" fmla="*/ 0 w 2944800"/>
                <a:gd name="textAreaRight" fmla="*/ 2945160 w 2944800"/>
                <a:gd name="textAreaTop" fmla="*/ 0 h 2948040"/>
                <a:gd name="textAreaBottom" fmla="*/ 2948400 h 2948040"/>
              </a:gdLst>
              <a:ahLst/>
              <a:rect l="textAreaLeft" t="textAreaTop" r="textAreaRight" b="textAreaBottom"/>
              <a:pathLst>
                <a:path w="1855" h="1857">
                  <a:moveTo>
                    <a:pt x="404" y="1158"/>
                  </a:moveTo>
                  <a:lnTo>
                    <a:pt x="344" y="1193"/>
                  </a:lnTo>
                  <a:lnTo>
                    <a:pt x="344" y="1193"/>
                  </a:lnTo>
                  <a:lnTo>
                    <a:pt x="338" y="1038"/>
                  </a:lnTo>
                  <a:lnTo>
                    <a:pt x="338" y="904"/>
                  </a:lnTo>
                  <a:lnTo>
                    <a:pt x="338" y="786"/>
                  </a:lnTo>
                  <a:lnTo>
                    <a:pt x="342" y="688"/>
                  </a:lnTo>
                  <a:lnTo>
                    <a:pt x="342" y="688"/>
                  </a:lnTo>
                  <a:lnTo>
                    <a:pt x="360" y="628"/>
                  </a:lnTo>
                  <a:lnTo>
                    <a:pt x="380" y="564"/>
                  </a:lnTo>
                  <a:lnTo>
                    <a:pt x="380" y="564"/>
                  </a:lnTo>
                  <a:lnTo>
                    <a:pt x="404" y="496"/>
                  </a:lnTo>
                  <a:lnTo>
                    <a:pt x="436" y="418"/>
                  </a:lnTo>
                  <a:lnTo>
                    <a:pt x="436" y="418"/>
                  </a:lnTo>
                  <a:lnTo>
                    <a:pt x="500" y="262"/>
                  </a:lnTo>
                  <a:lnTo>
                    <a:pt x="520" y="206"/>
                  </a:lnTo>
                  <a:lnTo>
                    <a:pt x="536" y="162"/>
                  </a:lnTo>
                  <a:lnTo>
                    <a:pt x="536" y="162"/>
                  </a:lnTo>
                  <a:lnTo>
                    <a:pt x="592" y="130"/>
                  </a:lnTo>
                  <a:lnTo>
                    <a:pt x="642" y="102"/>
                  </a:lnTo>
                  <a:lnTo>
                    <a:pt x="686" y="80"/>
                  </a:lnTo>
                  <a:lnTo>
                    <a:pt x="722" y="64"/>
                  </a:lnTo>
                  <a:lnTo>
                    <a:pt x="722" y="64"/>
                  </a:lnTo>
                  <a:lnTo>
                    <a:pt x="754" y="52"/>
                  </a:lnTo>
                  <a:lnTo>
                    <a:pt x="786" y="40"/>
                  </a:lnTo>
                  <a:lnTo>
                    <a:pt x="820" y="32"/>
                  </a:lnTo>
                  <a:lnTo>
                    <a:pt x="854" y="22"/>
                  </a:lnTo>
                  <a:lnTo>
                    <a:pt x="888" y="16"/>
                  </a:lnTo>
                  <a:lnTo>
                    <a:pt x="924" y="10"/>
                  </a:lnTo>
                  <a:lnTo>
                    <a:pt x="960" y="6"/>
                  </a:lnTo>
                  <a:lnTo>
                    <a:pt x="998" y="2"/>
                  </a:lnTo>
                  <a:lnTo>
                    <a:pt x="1038" y="2"/>
                  </a:lnTo>
                  <a:lnTo>
                    <a:pt x="1076" y="0"/>
                  </a:lnTo>
                  <a:lnTo>
                    <a:pt x="1118" y="2"/>
                  </a:lnTo>
                  <a:lnTo>
                    <a:pt x="1158" y="4"/>
                  </a:lnTo>
                  <a:lnTo>
                    <a:pt x="1244" y="12"/>
                  </a:lnTo>
                  <a:lnTo>
                    <a:pt x="1334" y="24"/>
                  </a:lnTo>
                  <a:lnTo>
                    <a:pt x="1334" y="24"/>
                  </a:lnTo>
                  <a:lnTo>
                    <a:pt x="1378" y="34"/>
                  </a:lnTo>
                  <a:lnTo>
                    <a:pt x="1422" y="44"/>
                  </a:lnTo>
                  <a:lnTo>
                    <a:pt x="1462" y="56"/>
                  </a:lnTo>
                  <a:lnTo>
                    <a:pt x="1500" y="68"/>
                  </a:lnTo>
                  <a:lnTo>
                    <a:pt x="1536" y="84"/>
                  </a:lnTo>
                  <a:lnTo>
                    <a:pt x="1572" y="100"/>
                  </a:lnTo>
                  <a:lnTo>
                    <a:pt x="1604" y="118"/>
                  </a:lnTo>
                  <a:lnTo>
                    <a:pt x="1634" y="136"/>
                  </a:lnTo>
                  <a:lnTo>
                    <a:pt x="1662" y="156"/>
                  </a:lnTo>
                  <a:lnTo>
                    <a:pt x="1688" y="178"/>
                  </a:lnTo>
                  <a:lnTo>
                    <a:pt x="1712" y="202"/>
                  </a:lnTo>
                  <a:lnTo>
                    <a:pt x="1734" y="228"/>
                  </a:lnTo>
                  <a:lnTo>
                    <a:pt x="1756" y="254"/>
                  </a:lnTo>
                  <a:lnTo>
                    <a:pt x="1774" y="282"/>
                  </a:lnTo>
                  <a:lnTo>
                    <a:pt x="1791" y="312"/>
                  </a:lnTo>
                  <a:lnTo>
                    <a:pt x="1805" y="342"/>
                  </a:lnTo>
                  <a:lnTo>
                    <a:pt x="1805" y="342"/>
                  </a:lnTo>
                  <a:lnTo>
                    <a:pt x="1821" y="386"/>
                  </a:lnTo>
                  <a:lnTo>
                    <a:pt x="1835" y="432"/>
                  </a:lnTo>
                  <a:lnTo>
                    <a:pt x="1845" y="476"/>
                  </a:lnTo>
                  <a:lnTo>
                    <a:pt x="1851" y="522"/>
                  </a:lnTo>
                  <a:lnTo>
                    <a:pt x="1855" y="570"/>
                  </a:lnTo>
                  <a:lnTo>
                    <a:pt x="1855" y="616"/>
                  </a:lnTo>
                  <a:lnTo>
                    <a:pt x="1851" y="664"/>
                  </a:lnTo>
                  <a:lnTo>
                    <a:pt x="1845" y="714"/>
                  </a:lnTo>
                  <a:lnTo>
                    <a:pt x="1837" y="762"/>
                  </a:lnTo>
                  <a:lnTo>
                    <a:pt x="1823" y="812"/>
                  </a:lnTo>
                  <a:lnTo>
                    <a:pt x="1807" y="862"/>
                  </a:lnTo>
                  <a:lnTo>
                    <a:pt x="1789" y="914"/>
                  </a:lnTo>
                  <a:lnTo>
                    <a:pt x="1764" y="966"/>
                  </a:lnTo>
                  <a:lnTo>
                    <a:pt x="1738" y="1018"/>
                  </a:lnTo>
                  <a:lnTo>
                    <a:pt x="1710" y="1072"/>
                  </a:lnTo>
                  <a:lnTo>
                    <a:pt x="1678" y="1126"/>
                  </a:lnTo>
                  <a:lnTo>
                    <a:pt x="1678" y="1126"/>
                  </a:lnTo>
                  <a:lnTo>
                    <a:pt x="1642" y="1178"/>
                  </a:lnTo>
                  <a:lnTo>
                    <a:pt x="1606" y="1231"/>
                  </a:lnTo>
                  <a:lnTo>
                    <a:pt x="1568" y="1281"/>
                  </a:lnTo>
                  <a:lnTo>
                    <a:pt x="1528" y="1327"/>
                  </a:lnTo>
                  <a:lnTo>
                    <a:pt x="1488" y="1373"/>
                  </a:lnTo>
                  <a:lnTo>
                    <a:pt x="1444" y="1417"/>
                  </a:lnTo>
                  <a:lnTo>
                    <a:pt x="1400" y="1459"/>
                  </a:lnTo>
                  <a:lnTo>
                    <a:pt x="1354" y="1501"/>
                  </a:lnTo>
                  <a:lnTo>
                    <a:pt x="1306" y="1539"/>
                  </a:lnTo>
                  <a:lnTo>
                    <a:pt x="1258" y="1575"/>
                  </a:lnTo>
                  <a:lnTo>
                    <a:pt x="1206" y="1611"/>
                  </a:lnTo>
                  <a:lnTo>
                    <a:pt x="1154" y="1643"/>
                  </a:lnTo>
                  <a:lnTo>
                    <a:pt x="1100" y="1675"/>
                  </a:lnTo>
                  <a:lnTo>
                    <a:pt x="1044" y="1703"/>
                  </a:lnTo>
                  <a:lnTo>
                    <a:pt x="988" y="1731"/>
                  </a:lnTo>
                  <a:lnTo>
                    <a:pt x="930" y="1757"/>
                  </a:lnTo>
                  <a:lnTo>
                    <a:pt x="930" y="1757"/>
                  </a:lnTo>
                  <a:lnTo>
                    <a:pt x="878" y="1777"/>
                  </a:lnTo>
                  <a:lnTo>
                    <a:pt x="828" y="1795"/>
                  </a:lnTo>
                  <a:lnTo>
                    <a:pt x="780" y="1811"/>
                  </a:lnTo>
                  <a:lnTo>
                    <a:pt x="732" y="1823"/>
                  </a:lnTo>
                  <a:lnTo>
                    <a:pt x="684" y="1835"/>
                  </a:lnTo>
                  <a:lnTo>
                    <a:pt x="640" y="1843"/>
                  </a:lnTo>
                  <a:lnTo>
                    <a:pt x="594" y="1849"/>
                  </a:lnTo>
                  <a:lnTo>
                    <a:pt x="550" y="1853"/>
                  </a:lnTo>
                  <a:lnTo>
                    <a:pt x="550" y="1853"/>
                  </a:lnTo>
                  <a:lnTo>
                    <a:pt x="508" y="1857"/>
                  </a:lnTo>
                  <a:lnTo>
                    <a:pt x="468" y="1857"/>
                  </a:lnTo>
                  <a:lnTo>
                    <a:pt x="428" y="1855"/>
                  </a:lnTo>
                  <a:lnTo>
                    <a:pt x="390" y="1853"/>
                  </a:lnTo>
                  <a:lnTo>
                    <a:pt x="354" y="1847"/>
                  </a:lnTo>
                  <a:lnTo>
                    <a:pt x="320" y="1841"/>
                  </a:lnTo>
                  <a:lnTo>
                    <a:pt x="286" y="1831"/>
                  </a:lnTo>
                  <a:lnTo>
                    <a:pt x="256" y="1821"/>
                  </a:lnTo>
                  <a:lnTo>
                    <a:pt x="256" y="1821"/>
                  </a:lnTo>
                  <a:lnTo>
                    <a:pt x="224" y="1809"/>
                  </a:lnTo>
                  <a:lnTo>
                    <a:pt x="194" y="1795"/>
                  </a:lnTo>
                  <a:lnTo>
                    <a:pt x="162" y="1779"/>
                  </a:lnTo>
                  <a:lnTo>
                    <a:pt x="130" y="1761"/>
                  </a:lnTo>
                  <a:lnTo>
                    <a:pt x="98" y="1743"/>
                  </a:lnTo>
                  <a:lnTo>
                    <a:pt x="66" y="1721"/>
                  </a:lnTo>
                  <a:lnTo>
                    <a:pt x="34" y="1697"/>
                  </a:lnTo>
                  <a:lnTo>
                    <a:pt x="0" y="1671"/>
                  </a:lnTo>
                  <a:lnTo>
                    <a:pt x="0" y="1671"/>
                  </a:lnTo>
                  <a:lnTo>
                    <a:pt x="82" y="1513"/>
                  </a:lnTo>
                  <a:lnTo>
                    <a:pt x="112" y="1457"/>
                  </a:lnTo>
                  <a:lnTo>
                    <a:pt x="134" y="1419"/>
                  </a:lnTo>
                  <a:lnTo>
                    <a:pt x="134" y="1419"/>
                  </a:lnTo>
                  <a:lnTo>
                    <a:pt x="198" y="1433"/>
                  </a:lnTo>
                  <a:lnTo>
                    <a:pt x="260" y="1441"/>
                  </a:lnTo>
                  <a:lnTo>
                    <a:pt x="318" y="1447"/>
                  </a:lnTo>
                  <a:lnTo>
                    <a:pt x="372" y="1447"/>
                  </a:lnTo>
                  <a:lnTo>
                    <a:pt x="422" y="1445"/>
                  </a:lnTo>
                  <a:lnTo>
                    <a:pt x="468" y="1439"/>
                  </a:lnTo>
                  <a:lnTo>
                    <a:pt x="510" y="1429"/>
                  </a:lnTo>
                  <a:lnTo>
                    <a:pt x="550" y="1417"/>
                  </a:lnTo>
                  <a:lnTo>
                    <a:pt x="550" y="1417"/>
                  </a:lnTo>
                  <a:lnTo>
                    <a:pt x="582" y="1399"/>
                  </a:lnTo>
                  <a:lnTo>
                    <a:pt x="614" y="1379"/>
                  </a:lnTo>
                  <a:lnTo>
                    <a:pt x="644" y="1353"/>
                  </a:lnTo>
                  <a:lnTo>
                    <a:pt x="674" y="1323"/>
                  </a:lnTo>
                  <a:lnTo>
                    <a:pt x="674" y="1323"/>
                  </a:lnTo>
                  <a:lnTo>
                    <a:pt x="688" y="1305"/>
                  </a:lnTo>
                  <a:lnTo>
                    <a:pt x="702" y="1285"/>
                  </a:lnTo>
                  <a:lnTo>
                    <a:pt x="716" y="1261"/>
                  </a:lnTo>
                  <a:lnTo>
                    <a:pt x="730" y="1231"/>
                  </a:lnTo>
                  <a:lnTo>
                    <a:pt x="760" y="1164"/>
                  </a:lnTo>
                  <a:lnTo>
                    <a:pt x="792" y="1082"/>
                  </a:lnTo>
                  <a:lnTo>
                    <a:pt x="792" y="1082"/>
                  </a:lnTo>
                  <a:lnTo>
                    <a:pt x="880" y="822"/>
                  </a:lnTo>
                  <a:lnTo>
                    <a:pt x="1030" y="374"/>
                  </a:lnTo>
                  <a:lnTo>
                    <a:pt x="1030" y="374"/>
                  </a:lnTo>
                  <a:lnTo>
                    <a:pt x="980" y="370"/>
                  </a:lnTo>
                  <a:lnTo>
                    <a:pt x="930" y="370"/>
                  </a:lnTo>
                  <a:lnTo>
                    <a:pt x="882" y="372"/>
                  </a:lnTo>
                  <a:lnTo>
                    <a:pt x="834" y="376"/>
                  </a:lnTo>
                  <a:lnTo>
                    <a:pt x="788" y="384"/>
                  </a:lnTo>
                  <a:lnTo>
                    <a:pt x="744" y="394"/>
                  </a:lnTo>
                  <a:lnTo>
                    <a:pt x="702" y="406"/>
                  </a:lnTo>
                  <a:lnTo>
                    <a:pt x="660" y="422"/>
                  </a:lnTo>
                  <a:lnTo>
                    <a:pt x="660" y="422"/>
                  </a:lnTo>
                  <a:lnTo>
                    <a:pt x="606" y="446"/>
                  </a:lnTo>
                  <a:lnTo>
                    <a:pt x="536" y="482"/>
                  </a:lnTo>
                  <a:lnTo>
                    <a:pt x="536" y="482"/>
                  </a:lnTo>
                  <a:lnTo>
                    <a:pt x="524" y="538"/>
                  </a:lnTo>
                  <a:lnTo>
                    <a:pt x="496" y="670"/>
                  </a:lnTo>
                  <a:lnTo>
                    <a:pt x="404" y="1158"/>
                  </a:lnTo>
                  <a:lnTo>
                    <a:pt x="404" y="1158"/>
                  </a:lnTo>
                  <a:close/>
                  <a:moveTo>
                    <a:pt x="750" y="1463"/>
                  </a:moveTo>
                  <a:lnTo>
                    <a:pt x="750" y="1463"/>
                  </a:lnTo>
                  <a:lnTo>
                    <a:pt x="812" y="1457"/>
                  </a:lnTo>
                  <a:lnTo>
                    <a:pt x="872" y="1451"/>
                  </a:lnTo>
                  <a:lnTo>
                    <a:pt x="928" y="1443"/>
                  </a:lnTo>
                  <a:lnTo>
                    <a:pt x="982" y="1433"/>
                  </a:lnTo>
                  <a:lnTo>
                    <a:pt x="1034" y="1421"/>
                  </a:lnTo>
                  <a:lnTo>
                    <a:pt x="1082" y="1409"/>
                  </a:lnTo>
                  <a:lnTo>
                    <a:pt x="1128" y="1393"/>
                  </a:lnTo>
                  <a:lnTo>
                    <a:pt x="1172" y="1377"/>
                  </a:lnTo>
                  <a:lnTo>
                    <a:pt x="1172" y="1377"/>
                  </a:lnTo>
                  <a:lnTo>
                    <a:pt x="1214" y="1359"/>
                  </a:lnTo>
                  <a:lnTo>
                    <a:pt x="1256" y="1337"/>
                  </a:lnTo>
                  <a:lnTo>
                    <a:pt x="1296" y="1317"/>
                  </a:lnTo>
                  <a:lnTo>
                    <a:pt x="1336" y="1293"/>
                  </a:lnTo>
                  <a:lnTo>
                    <a:pt x="1376" y="1267"/>
                  </a:lnTo>
                  <a:lnTo>
                    <a:pt x="1414" y="1239"/>
                  </a:lnTo>
                  <a:lnTo>
                    <a:pt x="1452" y="1209"/>
                  </a:lnTo>
                  <a:lnTo>
                    <a:pt x="1490" y="1178"/>
                  </a:lnTo>
                  <a:lnTo>
                    <a:pt x="1490" y="1178"/>
                  </a:lnTo>
                  <a:lnTo>
                    <a:pt x="1526" y="1146"/>
                  </a:lnTo>
                  <a:lnTo>
                    <a:pt x="1558" y="1114"/>
                  </a:lnTo>
                  <a:lnTo>
                    <a:pt x="1586" y="1082"/>
                  </a:lnTo>
                  <a:lnTo>
                    <a:pt x="1612" y="1050"/>
                  </a:lnTo>
                  <a:lnTo>
                    <a:pt x="1632" y="1018"/>
                  </a:lnTo>
                  <a:lnTo>
                    <a:pt x="1650" y="986"/>
                  </a:lnTo>
                  <a:lnTo>
                    <a:pt x="1664" y="952"/>
                  </a:lnTo>
                  <a:lnTo>
                    <a:pt x="1674" y="920"/>
                  </a:lnTo>
                  <a:lnTo>
                    <a:pt x="1674" y="920"/>
                  </a:lnTo>
                  <a:lnTo>
                    <a:pt x="1682" y="890"/>
                  </a:lnTo>
                  <a:lnTo>
                    <a:pt x="1686" y="858"/>
                  </a:lnTo>
                  <a:lnTo>
                    <a:pt x="1690" y="830"/>
                  </a:lnTo>
                  <a:lnTo>
                    <a:pt x="1690" y="802"/>
                  </a:lnTo>
                  <a:lnTo>
                    <a:pt x="1690" y="776"/>
                  </a:lnTo>
                  <a:lnTo>
                    <a:pt x="1686" y="750"/>
                  </a:lnTo>
                  <a:lnTo>
                    <a:pt x="1680" y="726"/>
                  </a:lnTo>
                  <a:lnTo>
                    <a:pt x="1672" y="704"/>
                  </a:lnTo>
                  <a:lnTo>
                    <a:pt x="1672" y="704"/>
                  </a:lnTo>
                  <a:lnTo>
                    <a:pt x="1660" y="680"/>
                  </a:lnTo>
                  <a:lnTo>
                    <a:pt x="1646" y="656"/>
                  </a:lnTo>
                  <a:lnTo>
                    <a:pt x="1626" y="632"/>
                  </a:lnTo>
                  <a:lnTo>
                    <a:pt x="1604" y="608"/>
                  </a:lnTo>
                  <a:lnTo>
                    <a:pt x="1578" y="582"/>
                  </a:lnTo>
                  <a:lnTo>
                    <a:pt x="1548" y="556"/>
                  </a:lnTo>
                  <a:lnTo>
                    <a:pt x="1516" y="530"/>
                  </a:lnTo>
                  <a:lnTo>
                    <a:pt x="1478" y="504"/>
                  </a:lnTo>
                  <a:lnTo>
                    <a:pt x="1478" y="504"/>
                  </a:lnTo>
                  <a:lnTo>
                    <a:pt x="1438" y="478"/>
                  </a:lnTo>
                  <a:lnTo>
                    <a:pt x="1396" y="454"/>
                  </a:lnTo>
                  <a:lnTo>
                    <a:pt x="1352" y="434"/>
                  </a:lnTo>
                  <a:lnTo>
                    <a:pt x="1304" y="416"/>
                  </a:lnTo>
                  <a:lnTo>
                    <a:pt x="1256" y="402"/>
                  </a:lnTo>
                  <a:lnTo>
                    <a:pt x="1204" y="390"/>
                  </a:lnTo>
                  <a:lnTo>
                    <a:pt x="1152" y="382"/>
                  </a:lnTo>
                  <a:lnTo>
                    <a:pt x="1096" y="374"/>
                  </a:lnTo>
                  <a:lnTo>
                    <a:pt x="1096" y="374"/>
                  </a:lnTo>
                  <a:lnTo>
                    <a:pt x="1090" y="424"/>
                  </a:lnTo>
                  <a:lnTo>
                    <a:pt x="1084" y="478"/>
                  </a:lnTo>
                  <a:lnTo>
                    <a:pt x="1074" y="536"/>
                  </a:lnTo>
                  <a:lnTo>
                    <a:pt x="1062" y="598"/>
                  </a:lnTo>
                  <a:lnTo>
                    <a:pt x="1062" y="598"/>
                  </a:lnTo>
                  <a:lnTo>
                    <a:pt x="1048" y="664"/>
                  </a:lnTo>
                  <a:lnTo>
                    <a:pt x="1032" y="732"/>
                  </a:lnTo>
                  <a:lnTo>
                    <a:pt x="1014" y="802"/>
                  </a:lnTo>
                  <a:lnTo>
                    <a:pt x="996" y="874"/>
                  </a:lnTo>
                  <a:lnTo>
                    <a:pt x="996" y="874"/>
                  </a:lnTo>
                  <a:lnTo>
                    <a:pt x="974" y="946"/>
                  </a:lnTo>
                  <a:lnTo>
                    <a:pt x="950" y="1020"/>
                  </a:lnTo>
                  <a:lnTo>
                    <a:pt x="924" y="1094"/>
                  </a:lnTo>
                  <a:lnTo>
                    <a:pt x="894" y="1168"/>
                  </a:lnTo>
                  <a:lnTo>
                    <a:pt x="894" y="1168"/>
                  </a:lnTo>
                  <a:lnTo>
                    <a:pt x="862" y="1243"/>
                  </a:lnTo>
                  <a:lnTo>
                    <a:pt x="828" y="1317"/>
                  </a:lnTo>
                  <a:lnTo>
                    <a:pt x="790" y="1391"/>
                  </a:lnTo>
                  <a:lnTo>
                    <a:pt x="750" y="1463"/>
                  </a:lnTo>
                  <a:lnTo>
                    <a:pt x="750" y="1463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168"/>
            <p:cNvSpPr/>
            <p:nvPr/>
          </p:nvSpPr>
          <p:spPr>
            <a:xfrm>
              <a:off x="5732640" y="14162040"/>
              <a:ext cx="1355400" cy="1384200"/>
            </a:xfrm>
            <a:custGeom>
              <a:avLst/>
              <a:gdLst>
                <a:gd name="textAreaLeft" fmla="*/ 0 w 1355400"/>
                <a:gd name="textAreaRight" fmla="*/ 1355760 w 1355400"/>
                <a:gd name="textAreaTop" fmla="*/ 0 h 1384200"/>
                <a:gd name="textAreaBottom" fmla="*/ 1384200 h 1384200"/>
              </a:gdLst>
              <a:ahLst/>
              <a:rect l="textAreaLeft" t="textAreaTop" r="textAreaRight" b="textAreaBottom"/>
              <a:pathLst>
                <a:path w="854" h="872">
                  <a:moveTo>
                    <a:pt x="114" y="60"/>
                  </a:moveTo>
                  <a:lnTo>
                    <a:pt x="114" y="60"/>
                  </a:lnTo>
                  <a:lnTo>
                    <a:pt x="272" y="30"/>
                  </a:lnTo>
                  <a:lnTo>
                    <a:pt x="272" y="30"/>
                  </a:lnTo>
                  <a:lnTo>
                    <a:pt x="380" y="10"/>
                  </a:lnTo>
                  <a:lnTo>
                    <a:pt x="418" y="4"/>
                  </a:lnTo>
                  <a:lnTo>
                    <a:pt x="446" y="0"/>
                  </a:lnTo>
                  <a:lnTo>
                    <a:pt x="446" y="0"/>
                  </a:lnTo>
                  <a:lnTo>
                    <a:pt x="468" y="0"/>
                  </a:lnTo>
                  <a:lnTo>
                    <a:pt x="490" y="4"/>
                  </a:lnTo>
                  <a:lnTo>
                    <a:pt x="514" y="10"/>
                  </a:lnTo>
                  <a:lnTo>
                    <a:pt x="536" y="16"/>
                  </a:lnTo>
                  <a:lnTo>
                    <a:pt x="536" y="16"/>
                  </a:lnTo>
                  <a:lnTo>
                    <a:pt x="560" y="28"/>
                  </a:lnTo>
                  <a:lnTo>
                    <a:pt x="582" y="42"/>
                  </a:lnTo>
                  <a:lnTo>
                    <a:pt x="602" y="62"/>
                  </a:lnTo>
                  <a:lnTo>
                    <a:pt x="624" y="84"/>
                  </a:lnTo>
                  <a:lnTo>
                    <a:pt x="624" y="84"/>
                  </a:lnTo>
                  <a:lnTo>
                    <a:pt x="644" y="112"/>
                  </a:lnTo>
                  <a:lnTo>
                    <a:pt x="664" y="146"/>
                  </a:lnTo>
                  <a:lnTo>
                    <a:pt x="684" y="184"/>
                  </a:lnTo>
                  <a:lnTo>
                    <a:pt x="704" y="230"/>
                  </a:lnTo>
                  <a:lnTo>
                    <a:pt x="804" y="482"/>
                  </a:lnTo>
                  <a:lnTo>
                    <a:pt x="804" y="482"/>
                  </a:lnTo>
                  <a:lnTo>
                    <a:pt x="826" y="528"/>
                  </a:lnTo>
                  <a:lnTo>
                    <a:pt x="854" y="582"/>
                  </a:lnTo>
                  <a:lnTo>
                    <a:pt x="854" y="582"/>
                  </a:lnTo>
                  <a:lnTo>
                    <a:pt x="814" y="610"/>
                  </a:lnTo>
                  <a:lnTo>
                    <a:pt x="758" y="650"/>
                  </a:lnTo>
                  <a:lnTo>
                    <a:pt x="692" y="704"/>
                  </a:lnTo>
                  <a:lnTo>
                    <a:pt x="612" y="768"/>
                  </a:lnTo>
                  <a:lnTo>
                    <a:pt x="612" y="768"/>
                  </a:lnTo>
                  <a:lnTo>
                    <a:pt x="592" y="702"/>
                  </a:lnTo>
                  <a:lnTo>
                    <a:pt x="564" y="626"/>
                  </a:lnTo>
                  <a:lnTo>
                    <a:pt x="532" y="540"/>
                  </a:lnTo>
                  <a:lnTo>
                    <a:pt x="492" y="442"/>
                  </a:lnTo>
                  <a:lnTo>
                    <a:pt x="492" y="442"/>
                  </a:lnTo>
                  <a:lnTo>
                    <a:pt x="490" y="462"/>
                  </a:lnTo>
                  <a:lnTo>
                    <a:pt x="482" y="490"/>
                  </a:lnTo>
                  <a:lnTo>
                    <a:pt x="454" y="576"/>
                  </a:lnTo>
                  <a:lnTo>
                    <a:pt x="454" y="576"/>
                  </a:lnTo>
                  <a:lnTo>
                    <a:pt x="412" y="698"/>
                  </a:lnTo>
                  <a:lnTo>
                    <a:pt x="354" y="862"/>
                  </a:lnTo>
                  <a:lnTo>
                    <a:pt x="354" y="862"/>
                  </a:lnTo>
                  <a:lnTo>
                    <a:pt x="304" y="868"/>
                  </a:lnTo>
                  <a:lnTo>
                    <a:pt x="260" y="870"/>
                  </a:lnTo>
                  <a:lnTo>
                    <a:pt x="222" y="872"/>
                  </a:lnTo>
                  <a:lnTo>
                    <a:pt x="188" y="872"/>
                  </a:lnTo>
                  <a:lnTo>
                    <a:pt x="188" y="872"/>
                  </a:lnTo>
                  <a:lnTo>
                    <a:pt x="134" y="776"/>
                  </a:lnTo>
                  <a:lnTo>
                    <a:pt x="134" y="776"/>
                  </a:lnTo>
                  <a:lnTo>
                    <a:pt x="106" y="726"/>
                  </a:lnTo>
                  <a:lnTo>
                    <a:pt x="82" y="680"/>
                  </a:lnTo>
                  <a:lnTo>
                    <a:pt x="60" y="634"/>
                  </a:lnTo>
                  <a:lnTo>
                    <a:pt x="40" y="590"/>
                  </a:lnTo>
                  <a:lnTo>
                    <a:pt x="40" y="590"/>
                  </a:lnTo>
                  <a:lnTo>
                    <a:pt x="28" y="558"/>
                  </a:lnTo>
                  <a:lnTo>
                    <a:pt x="18" y="528"/>
                  </a:lnTo>
                  <a:lnTo>
                    <a:pt x="10" y="498"/>
                  </a:lnTo>
                  <a:lnTo>
                    <a:pt x="6" y="470"/>
                  </a:lnTo>
                  <a:lnTo>
                    <a:pt x="2" y="442"/>
                  </a:lnTo>
                  <a:lnTo>
                    <a:pt x="0" y="414"/>
                  </a:lnTo>
                  <a:lnTo>
                    <a:pt x="0" y="386"/>
                  </a:lnTo>
                  <a:lnTo>
                    <a:pt x="2" y="360"/>
                  </a:lnTo>
                  <a:lnTo>
                    <a:pt x="2" y="360"/>
                  </a:lnTo>
                  <a:lnTo>
                    <a:pt x="6" y="332"/>
                  </a:lnTo>
                  <a:lnTo>
                    <a:pt x="14" y="302"/>
                  </a:lnTo>
                  <a:lnTo>
                    <a:pt x="24" y="268"/>
                  </a:lnTo>
                  <a:lnTo>
                    <a:pt x="36" y="234"/>
                  </a:lnTo>
                  <a:lnTo>
                    <a:pt x="52" y="194"/>
                  </a:lnTo>
                  <a:lnTo>
                    <a:pt x="70" y="152"/>
                  </a:lnTo>
                  <a:lnTo>
                    <a:pt x="92" y="108"/>
                  </a:lnTo>
                  <a:lnTo>
                    <a:pt x="114" y="60"/>
                  </a:lnTo>
                  <a:lnTo>
                    <a:pt x="114" y="60"/>
                  </a:lnTo>
                  <a:close/>
                  <a:moveTo>
                    <a:pt x="196" y="268"/>
                  </a:moveTo>
                  <a:lnTo>
                    <a:pt x="352" y="594"/>
                  </a:lnTo>
                  <a:lnTo>
                    <a:pt x="352" y="594"/>
                  </a:lnTo>
                  <a:lnTo>
                    <a:pt x="374" y="520"/>
                  </a:lnTo>
                  <a:lnTo>
                    <a:pt x="392" y="442"/>
                  </a:lnTo>
                  <a:lnTo>
                    <a:pt x="392" y="442"/>
                  </a:lnTo>
                  <a:lnTo>
                    <a:pt x="406" y="362"/>
                  </a:lnTo>
                  <a:lnTo>
                    <a:pt x="416" y="288"/>
                  </a:lnTo>
                  <a:lnTo>
                    <a:pt x="416" y="288"/>
                  </a:lnTo>
                  <a:lnTo>
                    <a:pt x="396" y="278"/>
                  </a:lnTo>
                  <a:lnTo>
                    <a:pt x="374" y="268"/>
                  </a:lnTo>
                  <a:lnTo>
                    <a:pt x="350" y="262"/>
                  </a:lnTo>
                  <a:lnTo>
                    <a:pt x="324" y="258"/>
                  </a:lnTo>
                  <a:lnTo>
                    <a:pt x="296" y="258"/>
                  </a:lnTo>
                  <a:lnTo>
                    <a:pt x="266" y="258"/>
                  </a:lnTo>
                  <a:lnTo>
                    <a:pt x="232" y="262"/>
                  </a:lnTo>
                  <a:lnTo>
                    <a:pt x="196" y="268"/>
                  </a:lnTo>
                  <a:lnTo>
                    <a:pt x="196" y="268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169"/>
            <p:cNvSpPr/>
            <p:nvPr/>
          </p:nvSpPr>
          <p:spPr>
            <a:xfrm>
              <a:off x="6973920" y="13444560"/>
              <a:ext cx="1473120" cy="205740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928" h="1296">
                  <a:moveTo>
                    <a:pt x="72" y="478"/>
                  </a:moveTo>
                  <a:lnTo>
                    <a:pt x="0" y="302"/>
                  </a:lnTo>
                  <a:lnTo>
                    <a:pt x="0" y="302"/>
                  </a:lnTo>
                  <a:lnTo>
                    <a:pt x="42" y="282"/>
                  </a:lnTo>
                  <a:lnTo>
                    <a:pt x="82" y="262"/>
                  </a:lnTo>
                  <a:lnTo>
                    <a:pt x="120" y="240"/>
                  </a:lnTo>
                  <a:lnTo>
                    <a:pt x="154" y="218"/>
                  </a:lnTo>
                  <a:lnTo>
                    <a:pt x="186" y="196"/>
                  </a:lnTo>
                  <a:lnTo>
                    <a:pt x="218" y="174"/>
                  </a:lnTo>
                  <a:lnTo>
                    <a:pt x="246" y="152"/>
                  </a:lnTo>
                  <a:lnTo>
                    <a:pt x="270" y="128"/>
                  </a:lnTo>
                  <a:lnTo>
                    <a:pt x="338" y="324"/>
                  </a:lnTo>
                  <a:lnTo>
                    <a:pt x="418" y="548"/>
                  </a:lnTo>
                  <a:lnTo>
                    <a:pt x="418" y="548"/>
                  </a:lnTo>
                  <a:lnTo>
                    <a:pt x="428" y="472"/>
                  </a:lnTo>
                  <a:lnTo>
                    <a:pt x="434" y="406"/>
                  </a:lnTo>
                  <a:lnTo>
                    <a:pt x="438" y="352"/>
                  </a:lnTo>
                  <a:lnTo>
                    <a:pt x="438" y="308"/>
                  </a:lnTo>
                  <a:lnTo>
                    <a:pt x="438" y="308"/>
                  </a:lnTo>
                  <a:lnTo>
                    <a:pt x="434" y="264"/>
                  </a:lnTo>
                  <a:lnTo>
                    <a:pt x="426" y="214"/>
                  </a:lnTo>
                  <a:lnTo>
                    <a:pt x="416" y="156"/>
                  </a:lnTo>
                  <a:lnTo>
                    <a:pt x="402" y="92"/>
                  </a:lnTo>
                  <a:lnTo>
                    <a:pt x="402" y="92"/>
                  </a:lnTo>
                  <a:lnTo>
                    <a:pt x="690" y="0"/>
                  </a:lnTo>
                  <a:lnTo>
                    <a:pt x="690" y="0"/>
                  </a:lnTo>
                  <a:lnTo>
                    <a:pt x="702" y="50"/>
                  </a:lnTo>
                  <a:lnTo>
                    <a:pt x="722" y="126"/>
                  </a:lnTo>
                  <a:lnTo>
                    <a:pt x="752" y="228"/>
                  </a:lnTo>
                  <a:lnTo>
                    <a:pt x="788" y="354"/>
                  </a:lnTo>
                  <a:lnTo>
                    <a:pt x="880" y="644"/>
                  </a:lnTo>
                  <a:lnTo>
                    <a:pt x="880" y="644"/>
                  </a:lnTo>
                  <a:lnTo>
                    <a:pt x="896" y="702"/>
                  </a:lnTo>
                  <a:lnTo>
                    <a:pt x="910" y="752"/>
                  </a:lnTo>
                  <a:lnTo>
                    <a:pt x="920" y="792"/>
                  </a:lnTo>
                  <a:lnTo>
                    <a:pt x="926" y="826"/>
                  </a:lnTo>
                  <a:lnTo>
                    <a:pt x="926" y="826"/>
                  </a:lnTo>
                  <a:lnTo>
                    <a:pt x="928" y="860"/>
                  </a:lnTo>
                  <a:lnTo>
                    <a:pt x="926" y="898"/>
                  </a:lnTo>
                  <a:lnTo>
                    <a:pt x="922" y="942"/>
                  </a:lnTo>
                  <a:lnTo>
                    <a:pt x="914" y="988"/>
                  </a:lnTo>
                  <a:lnTo>
                    <a:pt x="914" y="988"/>
                  </a:lnTo>
                  <a:lnTo>
                    <a:pt x="902" y="1044"/>
                  </a:lnTo>
                  <a:lnTo>
                    <a:pt x="886" y="1106"/>
                  </a:lnTo>
                  <a:lnTo>
                    <a:pt x="866" y="1172"/>
                  </a:lnTo>
                  <a:lnTo>
                    <a:pt x="842" y="1246"/>
                  </a:lnTo>
                  <a:lnTo>
                    <a:pt x="842" y="1246"/>
                  </a:lnTo>
                  <a:lnTo>
                    <a:pt x="778" y="1264"/>
                  </a:lnTo>
                  <a:lnTo>
                    <a:pt x="716" y="1278"/>
                  </a:lnTo>
                  <a:lnTo>
                    <a:pt x="656" y="1288"/>
                  </a:lnTo>
                  <a:lnTo>
                    <a:pt x="600" y="1294"/>
                  </a:lnTo>
                  <a:lnTo>
                    <a:pt x="546" y="1296"/>
                  </a:lnTo>
                  <a:lnTo>
                    <a:pt x="496" y="1296"/>
                  </a:lnTo>
                  <a:lnTo>
                    <a:pt x="448" y="1290"/>
                  </a:lnTo>
                  <a:lnTo>
                    <a:pt x="402" y="1280"/>
                  </a:lnTo>
                  <a:lnTo>
                    <a:pt x="308" y="1182"/>
                  </a:lnTo>
                  <a:lnTo>
                    <a:pt x="308" y="1182"/>
                  </a:lnTo>
                  <a:lnTo>
                    <a:pt x="314" y="1142"/>
                  </a:lnTo>
                  <a:lnTo>
                    <a:pt x="322" y="1096"/>
                  </a:lnTo>
                  <a:lnTo>
                    <a:pt x="344" y="994"/>
                  </a:lnTo>
                  <a:lnTo>
                    <a:pt x="344" y="994"/>
                  </a:lnTo>
                  <a:lnTo>
                    <a:pt x="362" y="1002"/>
                  </a:lnTo>
                  <a:lnTo>
                    <a:pt x="380" y="1010"/>
                  </a:lnTo>
                  <a:lnTo>
                    <a:pt x="398" y="1014"/>
                  </a:lnTo>
                  <a:lnTo>
                    <a:pt x="418" y="1018"/>
                  </a:lnTo>
                  <a:lnTo>
                    <a:pt x="438" y="1022"/>
                  </a:lnTo>
                  <a:lnTo>
                    <a:pt x="458" y="1022"/>
                  </a:lnTo>
                  <a:lnTo>
                    <a:pt x="480" y="1022"/>
                  </a:lnTo>
                  <a:lnTo>
                    <a:pt x="502" y="1018"/>
                  </a:lnTo>
                  <a:lnTo>
                    <a:pt x="502" y="1018"/>
                  </a:lnTo>
                  <a:lnTo>
                    <a:pt x="550" y="1012"/>
                  </a:lnTo>
                  <a:lnTo>
                    <a:pt x="604" y="1002"/>
                  </a:lnTo>
                  <a:lnTo>
                    <a:pt x="660" y="990"/>
                  </a:lnTo>
                  <a:lnTo>
                    <a:pt x="720" y="978"/>
                  </a:lnTo>
                  <a:lnTo>
                    <a:pt x="720" y="978"/>
                  </a:lnTo>
                  <a:lnTo>
                    <a:pt x="674" y="886"/>
                  </a:lnTo>
                  <a:lnTo>
                    <a:pt x="634" y="806"/>
                  </a:lnTo>
                  <a:lnTo>
                    <a:pt x="600" y="734"/>
                  </a:lnTo>
                  <a:lnTo>
                    <a:pt x="574" y="672"/>
                  </a:lnTo>
                  <a:lnTo>
                    <a:pt x="574" y="672"/>
                  </a:lnTo>
                  <a:lnTo>
                    <a:pt x="544" y="596"/>
                  </a:lnTo>
                  <a:lnTo>
                    <a:pt x="510" y="506"/>
                  </a:lnTo>
                  <a:lnTo>
                    <a:pt x="432" y="828"/>
                  </a:lnTo>
                  <a:lnTo>
                    <a:pt x="432" y="828"/>
                  </a:lnTo>
                  <a:lnTo>
                    <a:pt x="426" y="854"/>
                  </a:lnTo>
                  <a:lnTo>
                    <a:pt x="424" y="876"/>
                  </a:lnTo>
                  <a:lnTo>
                    <a:pt x="424" y="898"/>
                  </a:lnTo>
                  <a:lnTo>
                    <a:pt x="428" y="920"/>
                  </a:lnTo>
                  <a:lnTo>
                    <a:pt x="428" y="920"/>
                  </a:lnTo>
                  <a:lnTo>
                    <a:pt x="394" y="928"/>
                  </a:lnTo>
                  <a:lnTo>
                    <a:pt x="360" y="932"/>
                  </a:lnTo>
                  <a:lnTo>
                    <a:pt x="326" y="934"/>
                  </a:lnTo>
                  <a:lnTo>
                    <a:pt x="292" y="934"/>
                  </a:lnTo>
                  <a:lnTo>
                    <a:pt x="292" y="934"/>
                  </a:lnTo>
                  <a:lnTo>
                    <a:pt x="258" y="870"/>
                  </a:lnTo>
                  <a:lnTo>
                    <a:pt x="222" y="800"/>
                  </a:lnTo>
                  <a:lnTo>
                    <a:pt x="222" y="800"/>
                  </a:lnTo>
                  <a:lnTo>
                    <a:pt x="190" y="736"/>
                  </a:lnTo>
                  <a:lnTo>
                    <a:pt x="148" y="644"/>
                  </a:lnTo>
                  <a:lnTo>
                    <a:pt x="148" y="644"/>
                  </a:lnTo>
                  <a:lnTo>
                    <a:pt x="108" y="558"/>
                  </a:lnTo>
                  <a:lnTo>
                    <a:pt x="72" y="478"/>
                  </a:lnTo>
                  <a:lnTo>
                    <a:pt x="72" y="478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グループ化 280"/>
          <p:cNvGrpSpPr/>
          <p:nvPr/>
        </p:nvGrpSpPr>
        <p:grpSpPr>
          <a:xfrm>
            <a:off x="345960" y="17037000"/>
            <a:ext cx="10025280" cy="4667400"/>
            <a:chOff x="345960" y="17037000"/>
            <a:chExt cx="10025280" cy="4667400"/>
          </a:xfrm>
        </p:grpSpPr>
        <p:sp>
          <p:nvSpPr>
            <p:cNvPr id="242" name="Freeform 170"/>
            <p:cNvSpPr/>
            <p:nvPr/>
          </p:nvSpPr>
          <p:spPr>
            <a:xfrm>
              <a:off x="345960" y="18548280"/>
              <a:ext cx="2203560" cy="315612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56120"/>
                <a:gd name="textAreaBottom" fmla="*/ 3156480 h 3156120"/>
              </a:gdLst>
              <a:ahLst/>
              <a:rect l="textAreaLeft" t="textAreaTop" r="textAreaRight" b="textAreaBottom"/>
              <a:pathLst>
                <a:path w="1388" h="1988">
                  <a:moveTo>
                    <a:pt x="172" y="528"/>
                  </a:moveTo>
                  <a:lnTo>
                    <a:pt x="172" y="528"/>
                  </a:lnTo>
                  <a:lnTo>
                    <a:pt x="164" y="500"/>
                  </a:lnTo>
                  <a:lnTo>
                    <a:pt x="158" y="476"/>
                  </a:lnTo>
                  <a:lnTo>
                    <a:pt x="152" y="460"/>
                  </a:lnTo>
                  <a:lnTo>
                    <a:pt x="144" y="446"/>
                  </a:lnTo>
                  <a:lnTo>
                    <a:pt x="138" y="442"/>
                  </a:lnTo>
                  <a:lnTo>
                    <a:pt x="132" y="436"/>
                  </a:lnTo>
                  <a:lnTo>
                    <a:pt x="116" y="430"/>
                  </a:lnTo>
                  <a:lnTo>
                    <a:pt x="94" y="426"/>
                  </a:lnTo>
                  <a:lnTo>
                    <a:pt x="66" y="424"/>
                  </a:lnTo>
                  <a:lnTo>
                    <a:pt x="66" y="424"/>
                  </a:lnTo>
                  <a:lnTo>
                    <a:pt x="54" y="422"/>
                  </a:lnTo>
                  <a:lnTo>
                    <a:pt x="42" y="418"/>
                  </a:lnTo>
                  <a:lnTo>
                    <a:pt x="32" y="414"/>
                  </a:lnTo>
                  <a:lnTo>
                    <a:pt x="24" y="410"/>
                  </a:lnTo>
                  <a:lnTo>
                    <a:pt x="16" y="402"/>
                  </a:lnTo>
                  <a:lnTo>
                    <a:pt x="10" y="394"/>
                  </a:lnTo>
                  <a:lnTo>
                    <a:pt x="4" y="384"/>
                  </a:lnTo>
                  <a:lnTo>
                    <a:pt x="0" y="374"/>
                  </a:lnTo>
                  <a:lnTo>
                    <a:pt x="0" y="374"/>
                  </a:lnTo>
                  <a:lnTo>
                    <a:pt x="0" y="362"/>
                  </a:lnTo>
                  <a:lnTo>
                    <a:pt x="0" y="350"/>
                  </a:lnTo>
                  <a:lnTo>
                    <a:pt x="0" y="340"/>
                  </a:lnTo>
                  <a:lnTo>
                    <a:pt x="4" y="332"/>
                  </a:lnTo>
                  <a:lnTo>
                    <a:pt x="8" y="324"/>
                  </a:lnTo>
                  <a:lnTo>
                    <a:pt x="14" y="316"/>
                  </a:lnTo>
                  <a:lnTo>
                    <a:pt x="26" y="304"/>
                  </a:lnTo>
                  <a:lnTo>
                    <a:pt x="40" y="296"/>
                  </a:lnTo>
                  <a:lnTo>
                    <a:pt x="52" y="288"/>
                  </a:lnTo>
                  <a:lnTo>
                    <a:pt x="68" y="284"/>
                  </a:lnTo>
                  <a:lnTo>
                    <a:pt x="670" y="142"/>
                  </a:lnTo>
                  <a:lnTo>
                    <a:pt x="1008" y="1590"/>
                  </a:lnTo>
                  <a:lnTo>
                    <a:pt x="1008" y="1590"/>
                  </a:lnTo>
                  <a:lnTo>
                    <a:pt x="1014" y="1618"/>
                  </a:lnTo>
                  <a:lnTo>
                    <a:pt x="1020" y="1640"/>
                  </a:lnTo>
                  <a:lnTo>
                    <a:pt x="1028" y="1658"/>
                  </a:lnTo>
                  <a:lnTo>
                    <a:pt x="1036" y="1672"/>
                  </a:lnTo>
                  <a:lnTo>
                    <a:pt x="1042" y="1676"/>
                  </a:lnTo>
                  <a:lnTo>
                    <a:pt x="1048" y="1680"/>
                  </a:lnTo>
                  <a:lnTo>
                    <a:pt x="1064" y="1688"/>
                  </a:lnTo>
                  <a:lnTo>
                    <a:pt x="1086" y="1692"/>
                  </a:lnTo>
                  <a:lnTo>
                    <a:pt x="1114" y="1694"/>
                  </a:lnTo>
                  <a:lnTo>
                    <a:pt x="1114" y="1694"/>
                  </a:lnTo>
                  <a:lnTo>
                    <a:pt x="1126" y="1696"/>
                  </a:lnTo>
                  <a:lnTo>
                    <a:pt x="1136" y="1698"/>
                  </a:lnTo>
                  <a:lnTo>
                    <a:pt x="1146" y="1702"/>
                  </a:lnTo>
                  <a:lnTo>
                    <a:pt x="1156" y="1708"/>
                  </a:lnTo>
                  <a:lnTo>
                    <a:pt x="1164" y="1714"/>
                  </a:lnTo>
                  <a:lnTo>
                    <a:pt x="1170" y="1724"/>
                  </a:lnTo>
                  <a:lnTo>
                    <a:pt x="1174" y="1732"/>
                  </a:lnTo>
                  <a:lnTo>
                    <a:pt x="1178" y="1744"/>
                  </a:lnTo>
                  <a:lnTo>
                    <a:pt x="1178" y="1744"/>
                  </a:lnTo>
                  <a:lnTo>
                    <a:pt x="1180" y="1756"/>
                  </a:lnTo>
                  <a:lnTo>
                    <a:pt x="1180" y="1766"/>
                  </a:lnTo>
                  <a:lnTo>
                    <a:pt x="1178" y="1776"/>
                  </a:lnTo>
                  <a:lnTo>
                    <a:pt x="1176" y="1786"/>
                  </a:lnTo>
                  <a:lnTo>
                    <a:pt x="1172" y="1794"/>
                  </a:lnTo>
                  <a:lnTo>
                    <a:pt x="1166" y="1802"/>
                  </a:lnTo>
                  <a:lnTo>
                    <a:pt x="1154" y="1814"/>
                  </a:lnTo>
                  <a:lnTo>
                    <a:pt x="1140" y="1822"/>
                  </a:lnTo>
                  <a:lnTo>
                    <a:pt x="1128" y="1828"/>
                  </a:lnTo>
                  <a:lnTo>
                    <a:pt x="1110" y="1834"/>
                  </a:lnTo>
                  <a:lnTo>
                    <a:pt x="466" y="1986"/>
                  </a:lnTo>
                  <a:lnTo>
                    <a:pt x="466" y="1986"/>
                  </a:lnTo>
                  <a:lnTo>
                    <a:pt x="450" y="1988"/>
                  </a:lnTo>
                  <a:lnTo>
                    <a:pt x="436" y="1988"/>
                  </a:lnTo>
                  <a:lnTo>
                    <a:pt x="418" y="1986"/>
                  </a:lnTo>
                  <a:lnTo>
                    <a:pt x="402" y="1980"/>
                  </a:lnTo>
                  <a:lnTo>
                    <a:pt x="394" y="1976"/>
                  </a:lnTo>
                  <a:lnTo>
                    <a:pt x="388" y="1970"/>
                  </a:lnTo>
                  <a:lnTo>
                    <a:pt x="380" y="1964"/>
                  </a:lnTo>
                  <a:lnTo>
                    <a:pt x="374" y="1956"/>
                  </a:lnTo>
                  <a:lnTo>
                    <a:pt x="370" y="1946"/>
                  </a:lnTo>
                  <a:lnTo>
                    <a:pt x="366" y="1934"/>
                  </a:lnTo>
                  <a:lnTo>
                    <a:pt x="366" y="1934"/>
                  </a:lnTo>
                  <a:lnTo>
                    <a:pt x="364" y="1922"/>
                  </a:lnTo>
                  <a:lnTo>
                    <a:pt x="364" y="1912"/>
                  </a:lnTo>
                  <a:lnTo>
                    <a:pt x="366" y="1902"/>
                  </a:lnTo>
                  <a:lnTo>
                    <a:pt x="370" y="1892"/>
                  </a:lnTo>
                  <a:lnTo>
                    <a:pt x="376" y="1882"/>
                  </a:lnTo>
                  <a:lnTo>
                    <a:pt x="384" y="1874"/>
                  </a:lnTo>
                  <a:lnTo>
                    <a:pt x="392" y="1868"/>
                  </a:lnTo>
                  <a:lnTo>
                    <a:pt x="402" y="1862"/>
                  </a:lnTo>
                  <a:lnTo>
                    <a:pt x="402" y="1862"/>
                  </a:lnTo>
                  <a:lnTo>
                    <a:pt x="426" y="1846"/>
                  </a:lnTo>
                  <a:lnTo>
                    <a:pt x="444" y="1832"/>
                  </a:lnTo>
                  <a:lnTo>
                    <a:pt x="454" y="1820"/>
                  </a:lnTo>
                  <a:lnTo>
                    <a:pt x="458" y="1812"/>
                  </a:lnTo>
                  <a:lnTo>
                    <a:pt x="462" y="1806"/>
                  </a:lnTo>
                  <a:lnTo>
                    <a:pt x="464" y="1790"/>
                  </a:lnTo>
                  <a:lnTo>
                    <a:pt x="462" y="1772"/>
                  </a:lnTo>
                  <a:lnTo>
                    <a:pt x="458" y="1748"/>
                  </a:lnTo>
                  <a:lnTo>
                    <a:pt x="450" y="1720"/>
                  </a:lnTo>
                  <a:lnTo>
                    <a:pt x="172" y="528"/>
                  </a:lnTo>
                  <a:close/>
                  <a:moveTo>
                    <a:pt x="772" y="118"/>
                  </a:moveTo>
                  <a:lnTo>
                    <a:pt x="1280" y="0"/>
                  </a:lnTo>
                  <a:lnTo>
                    <a:pt x="1388" y="462"/>
                  </a:lnTo>
                  <a:lnTo>
                    <a:pt x="1388" y="462"/>
                  </a:lnTo>
                  <a:lnTo>
                    <a:pt x="1388" y="476"/>
                  </a:lnTo>
                  <a:lnTo>
                    <a:pt x="1388" y="484"/>
                  </a:lnTo>
                  <a:lnTo>
                    <a:pt x="1384" y="496"/>
                  </a:lnTo>
                  <a:lnTo>
                    <a:pt x="1378" y="506"/>
                  </a:lnTo>
                  <a:lnTo>
                    <a:pt x="1368" y="516"/>
                  </a:lnTo>
                  <a:lnTo>
                    <a:pt x="1352" y="526"/>
                  </a:lnTo>
                  <a:lnTo>
                    <a:pt x="1330" y="532"/>
                  </a:lnTo>
                  <a:lnTo>
                    <a:pt x="1330" y="532"/>
                  </a:lnTo>
                  <a:lnTo>
                    <a:pt x="1316" y="534"/>
                  </a:lnTo>
                  <a:lnTo>
                    <a:pt x="1304" y="534"/>
                  </a:lnTo>
                  <a:lnTo>
                    <a:pt x="1294" y="532"/>
                  </a:lnTo>
                  <a:lnTo>
                    <a:pt x="1284" y="526"/>
                  </a:lnTo>
                  <a:lnTo>
                    <a:pt x="1276" y="520"/>
                  </a:lnTo>
                  <a:lnTo>
                    <a:pt x="1270" y="512"/>
                  </a:lnTo>
                  <a:lnTo>
                    <a:pt x="1254" y="490"/>
                  </a:lnTo>
                  <a:lnTo>
                    <a:pt x="1254" y="490"/>
                  </a:lnTo>
                  <a:lnTo>
                    <a:pt x="1236" y="460"/>
                  </a:lnTo>
                  <a:lnTo>
                    <a:pt x="1214" y="430"/>
                  </a:lnTo>
                  <a:lnTo>
                    <a:pt x="1192" y="404"/>
                  </a:lnTo>
                  <a:lnTo>
                    <a:pt x="1170" y="378"/>
                  </a:lnTo>
                  <a:lnTo>
                    <a:pt x="1146" y="356"/>
                  </a:lnTo>
                  <a:lnTo>
                    <a:pt x="1122" y="336"/>
                  </a:lnTo>
                  <a:lnTo>
                    <a:pt x="1096" y="318"/>
                  </a:lnTo>
                  <a:lnTo>
                    <a:pt x="1068" y="300"/>
                  </a:lnTo>
                  <a:lnTo>
                    <a:pt x="1040" y="286"/>
                  </a:lnTo>
                  <a:lnTo>
                    <a:pt x="1010" y="274"/>
                  </a:lnTo>
                  <a:lnTo>
                    <a:pt x="978" y="266"/>
                  </a:lnTo>
                  <a:lnTo>
                    <a:pt x="946" y="258"/>
                  </a:lnTo>
                  <a:lnTo>
                    <a:pt x="912" y="252"/>
                  </a:lnTo>
                  <a:lnTo>
                    <a:pt x="878" y="250"/>
                  </a:lnTo>
                  <a:lnTo>
                    <a:pt x="840" y="248"/>
                  </a:lnTo>
                  <a:lnTo>
                    <a:pt x="802" y="250"/>
                  </a:lnTo>
                  <a:lnTo>
                    <a:pt x="772" y="118"/>
                  </a:lnTo>
                  <a:close/>
                  <a:moveTo>
                    <a:pt x="950" y="878"/>
                  </a:moveTo>
                  <a:lnTo>
                    <a:pt x="950" y="878"/>
                  </a:lnTo>
                  <a:lnTo>
                    <a:pt x="966" y="870"/>
                  </a:lnTo>
                  <a:lnTo>
                    <a:pt x="980" y="858"/>
                  </a:lnTo>
                  <a:lnTo>
                    <a:pt x="994" y="846"/>
                  </a:lnTo>
                  <a:lnTo>
                    <a:pt x="1004" y="834"/>
                  </a:lnTo>
                  <a:lnTo>
                    <a:pt x="1016" y="820"/>
                  </a:lnTo>
                  <a:lnTo>
                    <a:pt x="1024" y="806"/>
                  </a:lnTo>
                  <a:lnTo>
                    <a:pt x="1032" y="792"/>
                  </a:lnTo>
                  <a:lnTo>
                    <a:pt x="1040" y="776"/>
                  </a:lnTo>
                  <a:lnTo>
                    <a:pt x="1050" y="744"/>
                  </a:lnTo>
                  <a:lnTo>
                    <a:pt x="1056" y="710"/>
                  </a:lnTo>
                  <a:lnTo>
                    <a:pt x="1060" y="676"/>
                  </a:lnTo>
                  <a:lnTo>
                    <a:pt x="1062" y="642"/>
                  </a:lnTo>
                  <a:lnTo>
                    <a:pt x="1062" y="642"/>
                  </a:lnTo>
                  <a:lnTo>
                    <a:pt x="1064" y="610"/>
                  </a:lnTo>
                  <a:lnTo>
                    <a:pt x="1068" y="596"/>
                  </a:lnTo>
                  <a:lnTo>
                    <a:pt x="1072" y="584"/>
                  </a:lnTo>
                  <a:lnTo>
                    <a:pt x="1080" y="572"/>
                  </a:lnTo>
                  <a:lnTo>
                    <a:pt x="1088" y="562"/>
                  </a:lnTo>
                  <a:lnTo>
                    <a:pt x="1102" y="554"/>
                  </a:lnTo>
                  <a:lnTo>
                    <a:pt x="1118" y="548"/>
                  </a:lnTo>
                  <a:lnTo>
                    <a:pt x="1118" y="548"/>
                  </a:lnTo>
                  <a:lnTo>
                    <a:pt x="1130" y="546"/>
                  </a:lnTo>
                  <a:lnTo>
                    <a:pt x="1140" y="548"/>
                  </a:lnTo>
                  <a:lnTo>
                    <a:pt x="1150" y="550"/>
                  </a:lnTo>
                  <a:lnTo>
                    <a:pt x="1160" y="552"/>
                  </a:lnTo>
                  <a:lnTo>
                    <a:pt x="1166" y="558"/>
                  </a:lnTo>
                  <a:lnTo>
                    <a:pt x="1174" y="564"/>
                  </a:lnTo>
                  <a:lnTo>
                    <a:pt x="1184" y="580"/>
                  </a:lnTo>
                  <a:lnTo>
                    <a:pt x="1190" y="596"/>
                  </a:lnTo>
                  <a:lnTo>
                    <a:pt x="1194" y="612"/>
                  </a:lnTo>
                  <a:lnTo>
                    <a:pt x="1200" y="636"/>
                  </a:lnTo>
                  <a:lnTo>
                    <a:pt x="1314" y="1126"/>
                  </a:lnTo>
                  <a:lnTo>
                    <a:pt x="1314" y="1126"/>
                  </a:lnTo>
                  <a:lnTo>
                    <a:pt x="1320" y="1150"/>
                  </a:lnTo>
                  <a:lnTo>
                    <a:pt x="1324" y="1166"/>
                  </a:lnTo>
                  <a:lnTo>
                    <a:pt x="1324" y="1184"/>
                  </a:lnTo>
                  <a:lnTo>
                    <a:pt x="1322" y="1202"/>
                  </a:lnTo>
                  <a:lnTo>
                    <a:pt x="1320" y="1210"/>
                  </a:lnTo>
                  <a:lnTo>
                    <a:pt x="1316" y="1218"/>
                  </a:lnTo>
                  <a:lnTo>
                    <a:pt x="1308" y="1226"/>
                  </a:lnTo>
                  <a:lnTo>
                    <a:pt x="1302" y="1232"/>
                  </a:lnTo>
                  <a:lnTo>
                    <a:pt x="1292" y="1236"/>
                  </a:lnTo>
                  <a:lnTo>
                    <a:pt x="1280" y="1240"/>
                  </a:lnTo>
                  <a:lnTo>
                    <a:pt x="1280" y="1240"/>
                  </a:lnTo>
                  <a:lnTo>
                    <a:pt x="1262" y="1242"/>
                  </a:lnTo>
                  <a:lnTo>
                    <a:pt x="1248" y="1242"/>
                  </a:lnTo>
                  <a:lnTo>
                    <a:pt x="1234" y="1236"/>
                  </a:lnTo>
                  <a:lnTo>
                    <a:pt x="1224" y="1230"/>
                  </a:lnTo>
                  <a:lnTo>
                    <a:pt x="1214" y="1220"/>
                  </a:lnTo>
                  <a:lnTo>
                    <a:pt x="1204" y="1208"/>
                  </a:lnTo>
                  <a:lnTo>
                    <a:pt x="1188" y="1182"/>
                  </a:lnTo>
                  <a:lnTo>
                    <a:pt x="1188" y="1182"/>
                  </a:lnTo>
                  <a:lnTo>
                    <a:pt x="1172" y="1152"/>
                  </a:lnTo>
                  <a:lnTo>
                    <a:pt x="1154" y="1124"/>
                  </a:lnTo>
                  <a:lnTo>
                    <a:pt x="1132" y="1096"/>
                  </a:lnTo>
                  <a:lnTo>
                    <a:pt x="1108" y="1072"/>
                  </a:lnTo>
                  <a:lnTo>
                    <a:pt x="1096" y="1060"/>
                  </a:lnTo>
                  <a:lnTo>
                    <a:pt x="1082" y="1050"/>
                  </a:lnTo>
                  <a:lnTo>
                    <a:pt x="1068" y="1042"/>
                  </a:lnTo>
                  <a:lnTo>
                    <a:pt x="1052" y="1034"/>
                  </a:lnTo>
                  <a:lnTo>
                    <a:pt x="1036" y="1028"/>
                  </a:lnTo>
                  <a:lnTo>
                    <a:pt x="1018" y="1024"/>
                  </a:lnTo>
                  <a:lnTo>
                    <a:pt x="1002" y="1020"/>
                  </a:lnTo>
                  <a:lnTo>
                    <a:pt x="982" y="1020"/>
                  </a:lnTo>
                  <a:lnTo>
                    <a:pt x="950" y="87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71"/>
            <p:cNvSpPr/>
            <p:nvPr/>
          </p:nvSpPr>
          <p:spPr>
            <a:xfrm>
              <a:off x="3171600" y="18094320"/>
              <a:ext cx="2522520" cy="3079800"/>
            </a:xfrm>
            <a:custGeom>
              <a:avLst/>
              <a:gdLst>
                <a:gd name="textAreaLeft" fmla="*/ 0 w 2522520"/>
                <a:gd name="textAreaRight" fmla="*/ 2522880 w 2522520"/>
                <a:gd name="textAreaTop" fmla="*/ 0 h 3079800"/>
                <a:gd name="textAreaBottom" fmla="*/ 3080160 h 3079800"/>
              </a:gdLst>
              <a:ahLst/>
              <a:rect l="textAreaLeft" t="textAreaTop" r="textAreaRight" b="textAreaBottom"/>
              <a:pathLst>
                <a:path w="1589" h="1940">
                  <a:moveTo>
                    <a:pt x="334" y="698"/>
                  </a:moveTo>
                  <a:lnTo>
                    <a:pt x="302" y="1526"/>
                  </a:lnTo>
                  <a:lnTo>
                    <a:pt x="302" y="1526"/>
                  </a:lnTo>
                  <a:lnTo>
                    <a:pt x="304" y="1576"/>
                  </a:lnTo>
                  <a:lnTo>
                    <a:pt x="306" y="1596"/>
                  </a:lnTo>
                  <a:lnTo>
                    <a:pt x="308" y="1616"/>
                  </a:lnTo>
                  <a:lnTo>
                    <a:pt x="312" y="1632"/>
                  </a:lnTo>
                  <a:lnTo>
                    <a:pt x="318" y="1648"/>
                  </a:lnTo>
                  <a:lnTo>
                    <a:pt x="324" y="1660"/>
                  </a:lnTo>
                  <a:lnTo>
                    <a:pt x="330" y="1672"/>
                  </a:lnTo>
                  <a:lnTo>
                    <a:pt x="338" y="1682"/>
                  </a:lnTo>
                  <a:lnTo>
                    <a:pt x="348" y="1690"/>
                  </a:lnTo>
                  <a:lnTo>
                    <a:pt x="358" y="1698"/>
                  </a:lnTo>
                  <a:lnTo>
                    <a:pt x="370" y="1704"/>
                  </a:lnTo>
                  <a:lnTo>
                    <a:pt x="396" y="1714"/>
                  </a:lnTo>
                  <a:lnTo>
                    <a:pt x="426" y="1720"/>
                  </a:lnTo>
                  <a:lnTo>
                    <a:pt x="426" y="1720"/>
                  </a:lnTo>
                  <a:lnTo>
                    <a:pt x="454" y="1726"/>
                  </a:lnTo>
                  <a:lnTo>
                    <a:pt x="468" y="1730"/>
                  </a:lnTo>
                  <a:lnTo>
                    <a:pt x="480" y="1736"/>
                  </a:lnTo>
                  <a:lnTo>
                    <a:pt x="490" y="1742"/>
                  </a:lnTo>
                  <a:lnTo>
                    <a:pt x="498" y="1752"/>
                  </a:lnTo>
                  <a:lnTo>
                    <a:pt x="506" y="1764"/>
                  </a:lnTo>
                  <a:lnTo>
                    <a:pt x="512" y="1780"/>
                  </a:lnTo>
                  <a:lnTo>
                    <a:pt x="512" y="1780"/>
                  </a:lnTo>
                  <a:lnTo>
                    <a:pt x="512" y="1790"/>
                  </a:lnTo>
                  <a:lnTo>
                    <a:pt x="512" y="1802"/>
                  </a:lnTo>
                  <a:lnTo>
                    <a:pt x="510" y="1810"/>
                  </a:lnTo>
                  <a:lnTo>
                    <a:pt x="508" y="1818"/>
                  </a:lnTo>
                  <a:lnTo>
                    <a:pt x="502" y="1826"/>
                  </a:lnTo>
                  <a:lnTo>
                    <a:pt x="496" y="1832"/>
                  </a:lnTo>
                  <a:lnTo>
                    <a:pt x="482" y="1844"/>
                  </a:lnTo>
                  <a:lnTo>
                    <a:pt x="464" y="1852"/>
                  </a:lnTo>
                  <a:lnTo>
                    <a:pt x="444" y="1860"/>
                  </a:lnTo>
                  <a:lnTo>
                    <a:pt x="408" y="1868"/>
                  </a:lnTo>
                  <a:lnTo>
                    <a:pt x="146" y="1930"/>
                  </a:lnTo>
                  <a:lnTo>
                    <a:pt x="146" y="1930"/>
                  </a:lnTo>
                  <a:lnTo>
                    <a:pt x="106" y="1938"/>
                  </a:lnTo>
                  <a:lnTo>
                    <a:pt x="84" y="1940"/>
                  </a:lnTo>
                  <a:lnTo>
                    <a:pt x="62" y="1940"/>
                  </a:lnTo>
                  <a:lnTo>
                    <a:pt x="42" y="1936"/>
                  </a:lnTo>
                  <a:lnTo>
                    <a:pt x="32" y="1932"/>
                  </a:lnTo>
                  <a:lnTo>
                    <a:pt x="24" y="1926"/>
                  </a:lnTo>
                  <a:lnTo>
                    <a:pt x="18" y="1920"/>
                  </a:lnTo>
                  <a:lnTo>
                    <a:pt x="10" y="1912"/>
                  </a:lnTo>
                  <a:lnTo>
                    <a:pt x="6" y="1902"/>
                  </a:lnTo>
                  <a:lnTo>
                    <a:pt x="2" y="1892"/>
                  </a:lnTo>
                  <a:lnTo>
                    <a:pt x="2" y="1892"/>
                  </a:lnTo>
                  <a:lnTo>
                    <a:pt x="0" y="1872"/>
                  </a:lnTo>
                  <a:lnTo>
                    <a:pt x="2" y="1858"/>
                  </a:lnTo>
                  <a:lnTo>
                    <a:pt x="8" y="1846"/>
                  </a:lnTo>
                  <a:lnTo>
                    <a:pt x="16" y="1836"/>
                  </a:lnTo>
                  <a:lnTo>
                    <a:pt x="28" y="1826"/>
                  </a:lnTo>
                  <a:lnTo>
                    <a:pt x="42" y="1816"/>
                  </a:lnTo>
                  <a:lnTo>
                    <a:pt x="56" y="1806"/>
                  </a:lnTo>
                  <a:lnTo>
                    <a:pt x="72" y="1794"/>
                  </a:lnTo>
                  <a:lnTo>
                    <a:pt x="72" y="1794"/>
                  </a:lnTo>
                  <a:lnTo>
                    <a:pt x="88" y="1778"/>
                  </a:lnTo>
                  <a:lnTo>
                    <a:pt x="104" y="1760"/>
                  </a:lnTo>
                  <a:lnTo>
                    <a:pt x="120" y="1736"/>
                  </a:lnTo>
                  <a:lnTo>
                    <a:pt x="134" y="1706"/>
                  </a:lnTo>
                  <a:lnTo>
                    <a:pt x="148" y="1672"/>
                  </a:lnTo>
                  <a:lnTo>
                    <a:pt x="158" y="1628"/>
                  </a:lnTo>
                  <a:lnTo>
                    <a:pt x="166" y="1578"/>
                  </a:lnTo>
                  <a:lnTo>
                    <a:pt x="170" y="1518"/>
                  </a:lnTo>
                  <a:lnTo>
                    <a:pt x="208" y="456"/>
                  </a:lnTo>
                  <a:lnTo>
                    <a:pt x="216" y="454"/>
                  </a:lnTo>
                  <a:lnTo>
                    <a:pt x="334" y="698"/>
                  </a:lnTo>
                  <a:close/>
                  <a:moveTo>
                    <a:pt x="738" y="1326"/>
                  </a:moveTo>
                  <a:lnTo>
                    <a:pt x="406" y="1404"/>
                  </a:lnTo>
                  <a:lnTo>
                    <a:pt x="408" y="1264"/>
                  </a:lnTo>
                  <a:lnTo>
                    <a:pt x="684" y="1198"/>
                  </a:lnTo>
                  <a:lnTo>
                    <a:pt x="220" y="246"/>
                  </a:lnTo>
                  <a:lnTo>
                    <a:pt x="220" y="116"/>
                  </a:lnTo>
                  <a:lnTo>
                    <a:pt x="724" y="0"/>
                  </a:lnTo>
                  <a:lnTo>
                    <a:pt x="1403" y="1358"/>
                  </a:lnTo>
                  <a:lnTo>
                    <a:pt x="1403" y="1358"/>
                  </a:lnTo>
                  <a:lnTo>
                    <a:pt x="1421" y="1400"/>
                  </a:lnTo>
                  <a:lnTo>
                    <a:pt x="1431" y="1418"/>
                  </a:lnTo>
                  <a:lnTo>
                    <a:pt x="1443" y="1434"/>
                  </a:lnTo>
                  <a:lnTo>
                    <a:pt x="1455" y="1446"/>
                  </a:lnTo>
                  <a:lnTo>
                    <a:pt x="1471" y="1458"/>
                  </a:lnTo>
                  <a:lnTo>
                    <a:pt x="1489" y="1468"/>
                  </a:lnTo>
                  <a:lnTo>
                    <a:pt x="1513" y="1474"/>
                  </a:lnTo>
                  <a:lnTo>
                    <a:pt x="1513" y="1474"/>
                  </a:lnTo>
                  <a:lnTo>
                    <a:pt x="1539" y="1478"/>
                  </a:lnTo>
                  <a:lnTo>
                    <a:pt x="1549" y="1484"/>
                  </a:lnTo>
                  <a:lnTo>
                    <a:pt x="1559" y="1488"/>
                  </a:lnTo>
                  <a:lnTo>
                    <a:pt x="1569" y="1496"/>
                  </a:lnTo>
                  <a:lnTo>
                    <a:pt x="1575" y="1504"/>
                  </a:lnTo>
                  <a:lnTo>
                    <a:pt x="1583" y="1516"/>
                  </a:lnTo>
                  <a:lnTo>
                    <a:pt x="1587" y="1530"/>
                  </a:lnTo>
                  <a:lnTo>
                    <a:pt x="1587" y="1530"/>
                  </a:lnTo>
                  <a:lnTo>
                    <a:pt x="1589" y="1542"/>
                  </a:lnTo>
                  <a:lnTo>
                    <a:pt x="1587" y="1552"/>
                  </a:lnTo>
                  <a:lnTo>
                    <a:pt x="1585" y="1560"/>
                  </a:lnTo>
                  <a:lnTo>
                    <a:pt x="1581" y="1568"/>
                  </a:lnTo>
                  <a:lnTo>
                    <a:pt x="1575" y="1576"/>
                  </a:lnTo>
                  <a:lnTo>
                    <a:pt x="1569" y="1582"/>
                  </a:lnTo>
                  <a:lnTo>
                    <a:pt x="1553" y="1594"/>
                  </a:lnTo>
                  <a:lnTo>
                    <a:pt x="1533" y="1602"/>
                  </a:lnTo>
                  <a:lnTo>
                    <a:pt x="1513" y="1610"/>
                  </a:lnTo>
                  <a:lnTo>
                    <a:pt x="1475" y="1618"/>
                  </a:lnTo>
                  <a:lnTo>
                    <a:pt x="908" y="1752"/>
                  </a:lnTo>
                  <a:lnTo>
                    <a:pt x="908" y="1752"/>
                  </a:lnTo>
                  <a:lnTo>
                    <a:pt x="890" y="1756"/>
                  </a:lnTo>
                  <a:lnTo>
                    <a:pt x="870" y="1758"/>
                  </a:lnTo>
                  <a:lnTo>
                    <a:pt x="852" y="1760"/>
                  </a:lnTo>
                  <a:lnTo>
                    <a:pt x="832" y="1758"/>
                  </a:lnTo>
                  <a:lnTo>
                    <a:pt x="816" y="1754"/>
                  </a:lnTo>
                  <a:lnTo>
                    <a:pt x="808" y="1750"/>
                  </a:lnTo>
                  <a:lnTo>
                    <a:pt x="800" y="1746"/>
                  </a:lnTo>
                  <a:lnTo>
                    <a:pt x="794" y="1740"/>
                  </a:lnTo>
                  <a:lnTo>
                    <a:pt x="788" y="1732"/>
                  </a:lnTo>
                  <a:lnTo>
                    <a:pt x="784" y="1724"/>
                  </a:lnTo>
                  <a:lnTo>
                    <a:pt x="782" y="1714"/>
                  </a:lnTo>
                  <a:lnTo>
                    <a:pt x="782" y="1714"/>
                  </a:lnTo>
                  <a:lnTo>
                    <a:pt x="778" y="1702"/>
                  </a:lnTo>
                  <a:lnTo>
                    <a:pt x="778" y="1690"/>
                  </a:lnTo>
                  <a:lnTo>
                    <a:pt x="780" y="1680"/>
                  </a:lnTo>
                  <a:lnTo>
                    <a:pt x="782" y="1672"/>
                  </a:lnTo>
                  <a:lnTo>
                    <a:pt x="788" y="1664"/>
                  </a:lnTo>
                  <a:lnTo>
                    <a:pt x="794" y="1656"/>
                  </a:lnTo>
                  <a:lnTo>
                    <a:pt x="810" y="1640"/>
                  </a:lnTo>
                  <a:lnTo>
                    <a:pt x="810" y="1640"/>
                  </a:lnTo>
                  <a:lnTo>
                    <a:pt x="826" y="1624"/>
                  </a:lnTo>
                  <a:lnTo>
                    <a:pt x="840" y="1608"/>
                  </a:lnTo>
                  <a:lnTo>
                    <a:pt x="848" y="1594"/>
                  </a:lnTo>
                  <a:lnTo>
                    <a:pt x="852" y="1578"/>
                  </a:lnTo>
                  <a:lnTo>
                    <a:pt x="852" y="1562"/>
                  </a:lnTo>
                  <a:lnTo>
                    <a:pt x="848" y="1542"/>
                  </a:lnTo>
                  <a:lnTo>
                    <a:pt x="838" y="1518"/>
                  </a:lnTo>
                  <a:lnTo>
                    <a:pt x="824" y="1490"/>
                  </a:lnTo>
                  <a:lnTo>
                    <a:pt x="738" y="132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72"/>
            <p:cNvSpPr/>
            <p:nvPr/>
          </p:nvSpPr>
          <p:spPr>
            <a:xfrm>
              <a:off x="5440320" y="17564040"/>
              <a:ext cx="1873080" cy="2946600"/>
            </a:xfrm>
            <a:custGeom>
              <a:avLst/>
              <a:gdLst>
                <a:gd name="textAreaLeft" fmla="*/ 0 w 1873080"/>
                <a:gd name="textAreaRight" fmla="*/ 1873440 w 1873080"/>
                <a:gd name="textAreaTop" fmla="*/ 0 h 2946600"/>
                <a:gd name="textAreaBottom" fmla="*/ 2946960 h 2946600"/>
              </a:gdLst>
              <a:ahLst/>
              <a:rect l="textAreaLeft" t="textAreaTop" r="textAreaRight" b="textAreaBottom"/>
              <a:pathLst>
                <a:path w="1180" h="1856">
                  <a:moveTo>
                    <a:pt x="1008" y="1458"/>
                  </a:moveTo>
                  <a:lnTo>
                    <a:pt x="1008" y="1458"/>
                  </a:lnTo>
                  <a:lnTo>
                    <a:pt x="1014" y="1488"/>
                  </a:lnTo>
                  <a:lnTo>
                    <a:pt x="1022" y="1510"/>
                  </a:lnTo>
                  <a:lnTo>
                    <a:pt x="1028" y="1528"/>
                  </a:lnTo>
                  <a:lnTo>
                    <a:pt x="1036" y="1540"/>
                  </a:lnTo>
                  <a:lnTo>
                    <a:pt x="1042" y="1546"/>
                  </a:lnTo>
                  <a:lnTo>
                    <a:pt x="1048" y="1550"/>
                  </a:lnTo>
                  <a:lnTo>
                    <a:pt x="1064" y="1556"/>
                  </a:lnTo>
                  <a:lnTo>
                    <a:pt x="1086" y="1560"/>
                  </a:lnTo>
                  <a:lnTo>
                    <a:pt x="1114" y="1564"/>
                  </a:lnTo>
                  <a:lnTo>
                    <a:pt x="1114" y="1564"/>
                  </a:lnTo>
                  <a:lnTo>
                    <a:pt x="1126" y="1566"/>
                  </a:lnTo>
                  <a:lnTo>
                    <a:pt x="1136" y="1568"/>
                  </a:lnTo>
                  <a:lnTo>
                    <a:pt x="1146" y="1572"/>
                  </a:lnTo>
                  <a:lnTo>
                    <a:pt x="1156" y="1578"/>
                  </a:lnTo>
                  <a:lnTo>
                    <a:pt x="1164" y="1584"/>
                  </a:lnTo>
                  <a:lnTo>
                    <a:pt x="1170" y="1592"/>
                  </a:lnTo>
                  <a:lnTo>
                    <a:pt x="1176" y="1602"/>
                  </a:lnTo>
                  <a:lnTo>
                    <a:pt x="1178" y="1614"/>
                  </a:lnTo>
                  <a:lnTo>
                    <a:pt x="1178" y="1614"/>
                  </a:lnTo>
                  <a:lnTo>
                    <a:pt x="1180" y="1626"/>
                  </a:lnTo>
                  <a:lnTo>
                    <a:pt x="1180" y="1636"/>
                  </a:lnTo>
                  <a:lnTo>
                    <a:pt x="1180" y="1646"/>
                  </a:lnTo>
                  <a:lnTo>
                    <a:pt x="1176" y="1654"/>
                  </a:lnTo>
                  <a:lnTo>
                    <a:pt x="1172" y="1664"/>
                  </a:lnTo>
                  <a:lnTo>
                    <a:pt x="1166" y="1670"/>
                  </a:lnTo>
                  <a:lnTo>
                    <a:pt x="1154" y="1682"/>
                  </a:lnTo>
                  <a:lnTo>
                    <a:pt x="1140" y="1692"/>
                  </a:lnTo>
                  <a:lnTo>
                    <a:pt x="1128" y="1698"/>
                  </a:lnTo>
                  <a:lnTo>
                    <a:pt x="1112" y="1704"/>
                  </a:lnTo>
                  <a:lnTo>
                    <a:pt x="468" y="1854"/>
                  </a:lnTo>
                  <a:lnTo>
                    <a:pt x="468" y="1854"/>
                  </a:lnTo>
                  <a:lnTo>
                    <a:pt x="450" y="1856"/>
                  </a:lnTo>
                  <a:lnTo>
                    <a:pt x="436" y="1856"/>
                  </a:lnTo>
                  <a:lnTo>
                    <a:pt x="420" y="1854"/>
                  </a:lnTo>
                  <a:lnTo>
                    <a:pt x="402" y="1850"/>
                  </a:lnTo>
                  <a:lnTo>
                    <a:pt x="394" y="1844"/>
                  </a:lnTo>
                  <a:lnTo>
                    <a:pt x="388" y="1840"/>
                  </a:lnTo>
                  <a:lnTo>
                    <a:pt x="380" y="1832"/>
                  </a:lnTo>
                  <a:lnTo>
                    <a:pt x="374" y="1824"/>
                  </a:lnTo>
                  <a:lnTo>
                    <a:pt x="370" y="1814"/>
                  </a:lnTo>
                  <a:lnTo>
                    <a:pt x="366" y="1804"/>
                  </a:lnTo>
                  <a:lnTo>
                    <a:pt x="366" y="1804"/>
                  </a:lnTo>
                  <a:lnTo>
                    <a:pt x="364" y="1792"/>
                  </a:lnTo>
                  <a:lnTo>
                    <a:pt x="366" y="1780"/>
                  </a:lnTo>
                  <a:lnTo>
                    <a:pt x="368" y="1770"/>
                  </a:lnTo>
                  <a:lnTo>
                    <a:pt x="372" y="1760"/>
                  </a:lnTo>
                  <a:lnTo>
                    <a:pt x="376" y="1752"/>
                  </a:lnTo>
                  <a:lnTo>
                    <a:pt x="384" y="1744"/>
                  </a:lnTo>
                  <a:lnTo>
                    <a:pt x="392" y="1736"/>
                  </a:lnTo>
                  <a:lnTo>
                    <a:pt x="402" y="1730"/>
                  </a:lnTo>
                  <a:lnTo>
                    <a:pt x="402" y="1730"/>
                  </a:lnTo>
                  <a:lnTo>
                    <a:pt x="426" y="1716"/>
                  </a:lnTo>
                  <a:lnTo>
                    <a:pt x="444" y="1702"/>
                  </a:lnTo>
                  <a:lnTo>
                    <a:pt x="456" y="1688"/>
                  </a:lnTo>
                  <a:lnTo>
                    <a:pt x="458" y="1682"/>
                  </a:lnTo>
                  <a:lnTo>
                    <a:pt x="462" y="1674"/>
                  </a:lnTo>
                  <a:lnTo>
                    <a:pt x="464" y="1660"/>
                  </a:lnTo>
                  <a:lnTo>
                    <a:pt x="462" y="1640"/>
                  </a:lnTo>
                  <a:lnTo>
                    <a:pt x="458" y="1618"/>
                  </a:lnTo>
                  <a:lnTo>
                    <a:pt x="450" y="1590"/>
                  </a:lnTo>
                  <a:lnTo>
                    <a:pt x="172" y="396"/>
                  </a:lnTo>
                  <a:lnTo>
                    <a:pt x="172" y="396"/>
                  </a:lnTo>
                  <a:lnTo>
                    <a:pt x="166" y="368"/>
                  </a:lnTo>
                  <a:lnTo>
                    <a:pt x="158" y="346"/>
                  </a:lnTo>
                  <a:lnTo>
                    <a:pt x="152" y="328"/>
                  </a:lnTo>
                  <a:lnTo>
                    <a:pt x="144" y="316"/>
                  </a:lnTo>
                  <a:lnTo>
                    <a:pt x="138" y="310"/>
                  </a:lnTo>
                  <a:lnTo>
                    <a:pt x="132" y="306"/>
                  </a:lnTo>
                  <a:lnTo>
                    <a:pt x="116" y="300"/>
                  </a:lnTo>
                  <a:lnTo>
                    <a:pt x="94" y="296"/>
                  </a:lnTo>
                  <a:lnTo>
                    <a:pt x="66" y="292"/>
                  </a:lnTo>
                  <a:lnTo>
                    <a:pt x="66" y="292"/>
                  </a:lnTo>
                  <a:lnTo>
                    <a:pt x="54" y="290"/>
                  </a:lnTo>
                  <a:lnTo>
                    <a:pt x="44" y="288"/>
                  </a:lnTo>
                  <a:lnTo>
                    <a:pt x="34" y="284"/>
                  </a:lnTo>
                  <a:lnTo>
                    <a:pt x="24" y="278"/>
                  </a:lnTo>
                  <a:lnTo>
                    <a:pt x="16" y="272"/>
                  </a:lnTo>
                  <a:lnTo>
                    <a:pt x="10" y="264"/>
                  </a:lnTo>
                  <a:lnTo>
                    <a:pt x="4" y="254"/>
                  </a:lnTo>
                  <a:lnTo>
                    <a:pt x="2" y="242"/>
                  </a:lnTo>
                  <a:lnTo>
                    <a:pt x="2" y="242"/>
                  </a:lnTo>
                  <a:lnTo>
                    <a:pt x="0" y="230"/>
                  </a:lnTo>
                  <a:lnTo>
                    <a:pt x="0" y="220"/>
                  </a:lnTo>
                  <a:lnTo>
                    <a:pt x="0" y="210"/>
                  </a:lnTo>
                  <a:lnTo>
                    <a:pt x="4" y="200"/>
                  </a:lnTo>
                  <a:lnTo>
                    <a:pt x="8" y="192"/>
                  </a:lnTo>
                  <a:lnTo>
                    <a:pt x="14" y="186"/>
                  </a:lnTo>
                  <a:lnTo>
                    <a:pt x="26" y="174"/>
                  </a:lnTo>
                  <a:lnTo>
                    <a:pt x="40" y="164"/>
                  </a:lnTo>
                  <a:lnTo>
                    <a:pt x="52" y="158"/>
                  </a:lnTo>
                  <a:lnTo>
                    <a:pt x="68" y="152"/>
                  </a:lnTo>
                  <a:lnTo>
                    <a:pt x="712" y="2"/>
                  </a:lnTo>
                  <a:lnTo>
                    <a:pt x="712" y="2"/>
                  </a:lnTo>
                  <a:lnTo>
                    <a:pt x="730" y="0"/>
                  </a:lnTo>
                  <a:lnTo>
                    <a:pt x="744" y="0"/>
                  </a:lnTo>
                  <a:lnTo>
                    <a:pt x="760" y="2"/>
                  </a:lnTo>
                  <a:lnTo>
                    <a:pt x="778" y="6"/>
                  </a:lnTo>
                  <a:lnTo>
                    <a:pt x="786" y="10"/>
                  </a:lnTo>
                  <a:lnTo>
                    <a:pt x="792" y="16"/>
                  </a:lnTo>
                  <a:lnTo>
                    <a:pt x="800" y="22"/>
                  </a:lnTo>
                  <a:lnTo>
                    <a:pt x="806" y="32"/>
                  </a:lnTo>
                  <a:lnTo>
                    <a:pt x="810" y="40"/>
                  </a:lnTo>
                  <a:lnTo>
                    <a:pt x="814" y="52"/>
                  </a:lnTo>
                  <a:lnTo>
                    <a:pt x="814" y="52"/>
                  </a:lnTo>
                  <a:lnTo>
                    <a:pt x="816" y="64"/>
                  </a:lnTo>
                  <a:lnTo>
                    <a:pt x="814" y="74"/>
                  </a:lnTo>
                  <a:lnTo>
                    <a:pt x="812" y="86"/>
                  </a:lnTo>
                  <a:lnTo>
                    <a:pt x="808" y="94"/>
                  </a:lnTo>
                  <a:lnTo>
                    <a:pt x="804" y="104"/>
                  </a:lnTo>
                  <a:lnTo>
                    <a:pt x="796" y="112"/>
                  </a:lnTo>
                  <a:lnTo>
                    <a:pt x="788" y="120"/>
                  </a:lnTo>
                  <a:lnTo>
                    <a:pt x="778" y="126"/>
                  </a:lnTo>
                  <a:lnTo>
                    <a:pt x="778" y="126"/>
                  </a:lnTo>
                  <a:lnTo>
                    <a:pt x="754" y="140"/>
                  </a:lnTo>
                  <a:lnTo>
                    <a:pt x="736" y="154"/>
                  </a:lnTo>
                  <a:lnTo>
                    <a:pt x="724" y="168"/>
                  </a:lnTo>
                  <a:lnTo>
                    <a:pt x="722" y="174"/>
                  </a:lnTo>
                  <a:lnTo>
                    <a:pt x="718" y="180"/>
                  </a:lnTo>
                  <a:lnTo>
                    <a:pt x="716" y="196"/>
                  </a:lnTo>
                  <a:lnTo>
                    <a:pt x="718" y="216"/>
                  </a:lnTo>
                  <a:lnTo>
                    <a:pt x="722" y="238"/>
                  </a:lnTo>
                  <a:lnTo>
                    <a:pt x="730" y="266"/>
                  </a:lnTo>
                  <a:lnTo>
                    <a:pt x="1008" y="145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73"/>
            <p:cNvSpPr/>
            <p:nvPr/>
          </p:nvSpPr>
          <p:spPr>
            <a:xfrm>
              <a:off x="7215120" y="17037000"/>
              <a:ext cx="3156120" cy="3057840"/>
            </a:xfrm>
            <a:custGeom>
              <a:avLst/>
              <a:gdLst>
                <a:gd name="textAreaLeft" fmla="*/ 0 w 3156120"/>
                <a:gd name="textAreaRight" fmla="*/ 3156480 w 3156120"/>
                <a:gd name="textAreaTop" fmla="*/ 0 h 3057840"/>
                <a:gd name="textAreaBottom" fmla="*/ 3058200 h 3057840"/>
              </a:gdLst>
              <a:ahLst/>
              <a:rect l="textAreaLeft" t="textAreaTop" r="textAreaRight" b="textAreaBottom"/>
              <a:pathLst>
                <a:path w="1988" h="1926">
                  <a:moveTo>
                    <a:pt x="174" y="466"/>
                  </a:moveTo>
                  <a:lnTo>
                    <a:pt x="174" y="466"/>
                  </a:lnTo>
                  <a:lnTo>
                    <a:pt x="166" y="438"/>
                  </a:lnTo>
                  <a:lnTo>
                    <a:pt x="160" y="416"/>
                  </a:lnTo>
                  <a:lnTo>
                    <a:pt x="154" y="398"/>
                  </a:lnTo>
                  <a:lnTo>
                    <a:pt x="144" y="386"/>
                  </a:lnTo>
                  <a:lnTo>
                    <a:pt x="140" y="380"/>
                  </a:lnTo>
                  <a:lnTo>
                    <a:pt x="134" y="376"/>
                  </a:lnTo>
                  <a:lnTo>
                    <a:pt x="116" y="370"/>
                  </a:lnTo>
                  <a:lnTo>
                    <a:pt x="96" y="366"/>
                  </a:lnTo>
                  <a:lnTo>
                    <a:pt x="68" y="362"/>
                  </a:lnTo>
                  <a:lnTo>
                    <a:pt x="68" y="362"/>
                  </a:lnTo>
                  <a:lnTo>
                    <a:pt x="56" y="360"/>
                  </a:lnTo>
                  <a:lnTo>
                    <a:pt x="44" y="358"/>
                  </a:lnTo>
                  <a:lnTo>
                    <a:pt x="34" y="354"/>
                  </a:lnTo>
                  <a:lnTo>
                    <a:pt x="26" y="348"/>
                  </a:lnTo>
                  <a:lnTo>
                    <a:pt x="18" y="342"/>
                  </a:lnTo>
                  <a:lnTo>
                    <a:pt x="12" y="334"/>
                  </a:lnTo>
                  <a:lnTo>
                    <a:pt x="6" y="324"/>
                  </a:lnTo>
                  <a:lnTo>
                    <a:pt x="2" y="312"/>
                  </a:lnTo>
                  <a:lnTo>
                    <a:pt x="2" y="312"/>
                  </a:lnTo>
                  <a:lnTo>
                    <a:pt x="0" y="300"/>
                  </a:lnTo>
                  <a:lnTo>
                    <a:pt x="0" y="290"/>
                  </a:lnTo>
                  <a:lnTo>
                    <a:pt x="2" y="280"/>
                  </a:lnTo>
                  <a:lnTo>
                    <a:pt x="6" y="270"/>
                  </a:lnTo>
                  <a:lnTo>
                    <a:pt x="10" y="262"/>
                  </a:lnTo>
                  <a:lnTo>
                    <a:pt x="14" y="256"/>
                  </a:lnTo>
                  <a:lnTo>
                    <a:pt x="28" y="244"/>
                  </a:lnTo>
                  <a:lnTo>
                    <a:pt x="40" y="234"/>
                  </a:lnTo>
                  <a:lnTo>
                    <a:pt x="54" y="228"/>
                  </a:lnTo>
                  <a:lnTo>
                    <a:pt x="70" y="222"/>
                  </a:lnTo>
                  <a:lnTo>
                    <a:pt x="672" y="82"/>
                  </a:lnTo>
                  <a:lnTo>
                    <a:pt x="1010" y="1528"/>
                  </a:lnTo>
                  <a:lnTo>
                    <a:pt x="1010" y="1528"/>
                  </a:lnTo>
                  <a:lnTo>
                    <a:pt x="1016" y="1558"/>
                  </a:lnTo>
                  <a:lnTo>
                    <a:pt x="1022" y="1580"/>
                  </a:lnTo>
                  <a:lnTo>
                    <a:pt x="1030" y="1598"/>
                  </a:lnTo>
                  <a:lnTo>
                    <a:pt x="1038" y="1610"/>
                  </a:lnTo>
                  <a:lnTo>
                    <a:pt x="1044" y="1616"/>
                  </a:lnTo>
                  <a:lnTo>
                    <a:pt x="1050" y="1620"/>
                  </a:lnTo>
                  <a:lnTo>
                    <a:pt x="1066" y="1626"/>
                  </a:lnTo>
                  <a:lnTo>
                    <a:pt x="1088" y="1630"/>
                  </a:lnTo>
                  <a:lnTo>
                    <a:pt x="1116" y="1634"/>
                  </a:lnTo>
                  <a:lnTo>
                    <a:pt x="1116" y="1634"/>
                  </a:lnTo>
                  <a:lnTo>
                    <a:pt x="1128" y="1636"/>
                  </a:lnTo>
                  <a:lnTo>
                    <a:pt x="1138" y="1638"/>
                  </a:lnTo>
                  <a:lnTo>
                    <a:pt x="1148" y="1642"/>
                  </a:lnTo>
                  <a:lnTo>
                    <a:pt x="1158" y="1648"/>
                  </a:lnTo>
                  <a:lnTo>
                    <a:pt x="1164" y="1654"/>
                  </a:lnTo>
                  <a:lnTo>
                    <a:pt x="1172" y="1662"/>
                  </a:lnTo>
                  <a:lnTo>
                    <a:pt x="1176" y="1672"/>
                  </a:lnTo>
                  <a:lnTo>
                    <a:pt x="1180" y="1684"/>
                  </a:lnTo>
                  <a:lnTo>
                    <a:pt x="1180" y="1684"/>
                  </a:lnTo>
                  <a:lnTo>
                    <a:pt x="1182" y="1696"/>
                  </a:lnTo>
                  <a:lnTo>
                    <a:pt x="1182" y="1706"/>
                  </a:lnTo>
                  <a:lnTo>
                    <a:pt x="1180" y="1716"/>
                  </a:lnTo>
                  <a:lnTo>
                    <a:pt x="1178" y="1724"/>
                  </a:lnTo>
                  <a:lnTo>
                    <a:pt x="1174" y="1734"/>
                  </a:lnTo>
                  <a:lnTo>
                    <a:pt x="1168" y="1740"/>
                  </a:lnTo>
                  <a:lnTo>
                    <a:pt x="1156" y="1752"/>
                  </a:lnTo>
                  <a:lnTo>
                    <a:pt x="1142" y="1762"/>
                  </a:lnTo>
                  <a:lnTo>
                    <a:pt x="1130" y="1768"/>
                  </a:lnTo>
                  <a:lnTo>
                    <a:pt x="1112" y="1774"/>
                  </a:lnTo>
                  <a:lnTo>
                    <a:pt x="468" y="1924"/>
                  </a:lnTo>
                  <a:lnTo>
                    <a:pt x="468" y="1924"/>
                  </a:lnTo>
                  <a:lnTo>
                    <a:pt x="452" y="1926"/>
                  </a:lnTo>
                  <a:lnTo>
                    <a:pt x="436" y="1926"/>
                  </a:lnTo>
                  <a:lnTo>
                    <a:pt x="420" y="1924"/>
                  </a:lnTo>
                  <a:lnTo>
                    <a:pt x="404" y="1920"/>
                  </a:lnTo>
                  <a:lnTo>
                    <a:pt x="396" y="1914"/>
                  </a:lnTo>
                  <a:lnTo>
                    <a:pt x="388" y="1910"/>
                  </a:lnTo>
                  <a:lnTo>
                    <a:pt x="382" y="1902"/>
                  </a:lnTo>
                  <a:lnTo>
                    <a:pt x="376" y="1894"/>
                  </a:lnTo>
                  <a:lnTo>
                    <a:pt x="372" y="1884"/>
                  </a:lnTo>
                  <a:lnTo>
                    <a:pt x="368" y="1874"/>
                  </a:lnTo>
                  <a:lnTo>
                    <a:pt x="368" y="1874"/>
                  </a:lnTo>
                  <a:lnTo>
                    <a:pt x="366" y="1862"/>
                  </a:lnTo>
                  <a:lnTo>
                    <a:pt x="366" y="1850"/>
                  </a:lnTo>
                  <a:lnTo>
                    <a:pt x="368" y="1840"/>
                  </a:lnTo>
                  <a:lnTo>
                    <a:pt x="372" y="1830"/>
                  </a:lnTo>
                  <a:lnTo>
                    <a:pt x="378" y="1822"/>
                  </a:lnTo>
                  <a:lnTo>
                    <a:pt x="386" y="1814"/>
                  </a:lnTo>
                  <a:lnTo>
                    <a:pt x="394" y="1806"/>
                  </a:lnTo>
                  <a:lnTo>
                    <a:pt x="404" y="1800"/>
                  </a:lnTo>
                  <a:lnTo>
                    <a:pt x="404" y="1800"/>
                  </a:lnTo>
                  <a:lnTo>
                    <a:pt x="428" y="1786"/>
                  </a:lnTo>
                  <a:lnTo>
                    <a:pt x="446" y="1772"/>
                  </a:lnTo>
                  <a:lnTo>
                    <a:pt x="456" y="1758"/>
                  </a:lnTo>
                  <a:lnTo>
                    <a:pt x="460" y="1752"/>
                  </a:lnTo>
                  <a:lnTo>
                    <a:pt x="464" y="1744"/>
                  </a:lnTo>
                  <a:lnTo>
                    <a:pt x="464" y="1730"/>
                  </a:lnTo>
                  <a:lnTo>
                    <a:pt x="464" y="1710"/>
                  </a:lnTo>
                  <a:lnTo>
                    <a:pt x="458" y="1688"/>
                  </a:lnTo>
                  <a:lnTo>
                    <a:pt x="452" y="1660"/>
                  </a:lnTo>
                  <a:lnTo>
                    <a:pt x="174" y="466"/>
                  </a:lnTo>
                  <a:close/>
                  <a:moveTo>
                    <a:pt x="774" y="58"/>
                  </a:moveTo>
                  <a:lnTo>
                    <a:pt x="784" y="56"/>
                  </a:lnTo>
                  <a:lnTo>
                    <a:pt x="784" y="56"/>
                  </a:lnTo>
                  <a:lnTo>
                    <a:pt x="896" y="30"/>
                  </a:lnTo>
                  <a:lnTo>
                    <a:pt x="954" y="18"/>
                  </a:lnTo>
                  <a:lnTo>
                    <a:pt x="1010" y="8"/>
                  </a:lnTo>
                  <a:lnTo>
                    <a:pt x="1068" y="2"/>
                  </a:lnTo>
                  <a:lnTo>
                    <a:pt x="1124" y="0"/>
                  </a:lnTo>
                  <a:lnTo>
                    <a:pt x="1152" y="2"/>
                  </a:lnTo>
                  <a:lnTo>
                    <a:pt x="1182" y="4"/>
                  </a:lnTo>
                  <a:lnTo>
                    <a:pt x="1210" y="8"/>
                  </a:lnTo>
                  <a:lnTo>
                    <a:pt x="1238" y="14"/>
                  </a:lnTo>
                  <a:lnTo>
                    <a:pt x="1238" y="14"/>
                  </a:lnTo>
                  <a:lnTo>
                    <a:pt x="1270" y="22"/>
                  </a:lnTo>
                  <a:lnTo>
                    <a:pt x="1300" y="32"/>
                  </a:lnTo>
                  <a:lnTo>
                    <a:pt x="1328" y="42"/>
                  </a:lnTo>
                  <a:lnTo>
                    <a:pt x="1354" y="56"/>
                  </a:lnTo>
                  <a:lnTo>
                    <a:pt x="1380" y="70"/>
                  </a:lnTo>
                  <a:lnTo>
                    <a:pt x="1402" y="86"/>
                  </a:lnTo>
                  <a:lnTo>
                    <a:pt x="1426" y="104"/>
                  </a:lnTo>
                  <a:lnTo>
                    <a:pt x="1446" y="124"/>
                  </a:lnTo>
                  <a:lnTo>
                    <a:pt x="1464" y="144"/>
                  </a:lnTo>
                  <a:lnTo>
                    <a:pt x="1482" y="166"/>
                  </a:lnTo>
                  <a:lnTo>
                    <a:pt x="1498" y="190"/>
                  </a:lnTo>
                  <a:lnTo>
                    <a:pt x="1514" y="216"/>
                  </a:lnTo>
                  <a:lnTo>
                    <a:pt x="1526" y="242"/>
                  </a:lnTo>
                  <a:lnTo>
                    <a:pt x="1538" y="270"/>
                  </a:lnTo>
                  <a:lnTo>
                    <a:pt x="1548" y="300"/>
                  </a:lnTo>
                  <a:lnTo>
                    <a:pt x="1558" y="332"/>
                  </a:lnTo>
                  <a:lnTo>
                    <a:pt x="1558" y="332"/>
                  </a:lnTo>
                  <a:lnTo>
                    <a:pt x="1568" y="380"/>
                  </a:lnTo>
                  <a:lnTo>
                    <a:pt x="1572" y="426"/>
                  </a:lnTo>
                  <a:lnTo>
                    <a:pt x="1574" y="468"/>
                  </a:lnTo>
                  <a:lnTo>
                    <a:pt x="1570" y="508"/>
                  </a:lnTo>
                  <a:lnTo>
                    <a:pt x="1562" y="548"/>
                  </a:lnTo>
                  <a:lnTo>
                    <a:pt x="1550" y="584"/>
                  </a:lnTo>
                  <a:lnTo>
                    <a:pt x="1534" y="618"/>
                  </a:lnTo>
                  <a:lnTo>
                    <a:pt x="1514" y="652"/>
                  </a:lnTo>
                  <a:lnTo>
                    <a:pt x="1492" y="682"/>
                  </a:lnTo>
                  <a:lnTo>
                    <a:pt x="1466" y="712"/>
                  </a:lnTo>
                  <a:lnTo>
                    <a:pt x="1438" y="740"/>
                  </a:lnTo>
                  <a:lnTo>
                    <a:pt x="1406" y="766"/>
                  </a:lnTo>
                  <a:lnTo>
                    <a:pt x="1372" y="790"/>
                  </a:lnTo>
                  <a:lnTo>
                    <a:pt x="1336" y="814"/>
                  </a:lnTo>
                  <a:lnTo>
                    <a:pt x="1298" y="836"/>
                  </a:lnTo>
                  <a:lnTo>
                    <a:pt x="1258" y="856"/>
                  </a:lnTo>
                  <a:lnTo>
                    <a:pt x="1260" y="860"/>
                  </a:lnTo>
                  <a:lnTo>
                    <a:pt x="1260" y="860"/>
                  </a:lnTo>
                  <a:lnTo>
                    <a:pt x="1338" y="856"/>
                  </a:lnTo>
                  <a:lnTo>
                    <a:pt x="1376" y="856"/>
                  </a:lnTo>
                  <a:lnTo>
                    <a:pt x="1414" y="856"/>
                  </a:lnTo>
                  <a:lnTo>
                    <a:pt x="1450" y="860"/>
                  </a:lnTo>
                  <a:lnTo>
                    <a:pt x="1486" y="864"/>
                  </a:lnTo>
                  <a:lnTo>
                    <a:pt x="1520" y="872"/>
                  </a:lnTo>
                  <a:lnTo>
                    <a:pt x="1554" y="882"/>
                  </a:lnTo>
                  <a:lnTo>
                    <a:pt x="1584" y="896"/>
                  </a:lnTo>
                  <a:lnTo>
                    <a:pt x="1614" y="912"/>
                  </a:lnTo>
                  <a:lnTo>
                    <a:pt x="1642" y="932"/>
                  </a:lnTo>
                  <a:lnTo>
                    <a:pt x="1666" y="956"/>
                  </a:lnTo>
                  <a:lnTo>
                    <a:pt x="1678" y="970"/>
                  </a:lnTo>
                  <a:lnTo>
                    <a:pt x="1688" y="984"/>
                  </a:lnTo>
                  <a:lnTo>
                    <a:pt x="1698" y="1000"/>
                  </a:lnTo>
                  <a:lnTo>
                    <a:pt x="1708" y="1018"/>
                  </a:lnTo>
                  <a:lnTo>
                    <a:pt x="1716" y="1036"/>
                  </a:lnTo>
                  <a:lnTo>
                    <a:pt x="1724" y="1054"/>
                  </a:lnTo>
                  <a:lnTo>
                    <a:pt x="1736" y="1098"/>
                  </a:lnTo>
                  <a:lnTo>
                    <a:pt x="1784" y="1298"/>
                  </a:lnTo>
                  <a:lnTo>
                    <a:pt x="1784" y="1298"/>
                  </a:lnTo>
                  <a:lnTo>
                    <a:pt x="1788" y="1316"/>
                  </a:lnTo>
                  <a:lnTo>
                    <a:pt x="1794" y="1338"/>
                  </a:lnTo>
                  <a:lnTo>
                    <a:pt x="1798" y="1348"/>
                  </a:lnTo>
                  <a:lnTo>
                    <a:pt x="1804" y="1354"/>
                  </a:lnTo>
                  <a:lnTo>
                    <a:pt x="1812" y="1358"/>
                  </a:lnTo>
                  <a:lnTo>
                    <a:pt x="1822" y="1358"/>
                  </a:lnTo>
                  <a:lnTo>
                    <a:pt x="1822" y="1358"/>
                  </a:lnTo>
                  <a:lnTo>
                    <a:pt x="1828" y="1356"/>
                  </a:lnTo>
                  <a:lnTo>
                    <a:pt x="1834" y="1352"/>
                  </a:lnTo>
                  <a:lnTo>
                    <a:pt x="1842" y="1342"/>
                  </a:lnTo>
                  <a:lnTo>
                    <a:pt x="1850" y="1330"/>
                  </a:lnTo>
                  <a:lnTo>
                    <a:pt x="1856" y="1316"/>
                  </a:lnTo>
                  <a:lnTo>
                    <a:pt x="1864" y="1300"/>
                  </a:lnTo>
                  <a:lnTo>
                    <a:pt x="1874" y="1288"/>
                  </a:lnTo>
                  <a:lnTo>
                    <a:pt x="1880" y="1282"/>
                  </a:lnTo>
                  <a:lnTo>
                    <a:pt x="1886" y="1276"/>
                  </a:lnTo>
                  <a:lnTo>
                    <a:pt x="1894" y="1272"/>
                  </a:lnTo>
                  <a:lnTo>
                    <a:pt x="1904" y="1270"/>
                  </a:lnTo>
                  <a:lnTo>
                    <a:pt x="1904" y="1270"/>
                  </a:lnTo>
                  <a:lnTo>
                    <a:pt x="1916" y="1268"/>
                  </a:lnTo>
                  <a:lnTo>
                    <a:pt x="1928" y="1270"/>
                  </a:lnTo>
                  <a:lnTo>
                    <a:pt x="1940" y="1274"/>
                  </a:lnTo>
                  <a:lnTo>
                    <a:pt x="1954" y="1280"/>
                  </a:lnTo>
                  <a:lnTo>
                    <a:pt x="1964" y="1288"/>
                  </a:lnTo>
                  <a:lnTo>
                    <a:pt x="1974" y="1298"/>
                  </a:lnTo>
                  <a:lnTo>
                    <a:pt x="1982" y="1308"/>
                  </a:lnTo>
                  <a:lnTo>
                    <a:pt x="1986" y="1320"/>
                  </a:lnTo>
                  <a:lnTo>
                    <a:pt x="1986" y="1320"/>
                  </a:lnTo>
                  <a:lnTo>
                    <a:pt x="1988" y="1332"/>
                  </a:lnTo>
                  <a:lnTo>
                    <a:pt x="1988" y="1346"/>
                  </a:lnTo>
                  <a:lnTo>
                    <a:pt x="1988" y="1360"/>
                  </a:lnTo>
                  <a:lnTo>
                    <a:pt x="1986" y="1374"/>
                  </a:lnTo>
                  <a:lnTo>
                    <a:pt x="1978" y="1404"/>
                  </a:lnTo>
                  <a:lnTo>
                    <a:pt x="1966" y="1434"/>
                  </a:lnTo>
                  <a:lnTo>
                    <a:pt x="1952" y="1464"/>
                  </a:lnTo>
                  <a:lnTo>
                    <a:pt x="1936" y="1492"/>
                  </a:lnTo>
                  <a:lnTo>
                    <a:pt x="1920" y="1516"/>
                  </a:lnTo>
                  <a:lnTo>
                    <a:pt x="1904" y="1538"/>
                  </a:lnTo>
                  <a:lnTo>
                    <a:pt x="1904" y="1538"/>
                  </a:lnTo>
                  <a:lnTo>
                    <a:pt x="1880" y="1566"/>
                  </a:lnTo>
                  <a:lnTo>
                    <a:pt x="1854" y="1592"/>
                  </a:lnTo>
                  <a:lnTo>
                    <a:pt x="1828" y="1612"/>
                  </a:lnTo>
                  <a:lnTo>
                    <a:pt x="1798" y="1630"/>
                  </a:lnTo>
                  <a:lnTo>
                    <a:pt x="1768" y="1646"/>
                  </a:lnTo>
                  <a:lnTo>
                    <a:pt x="1736" y="1660"/>
                  </a:lnTo>
                  <a:lnTo>
                    <a:pt x="1702" y="1670"/>
                  </a:lnTo>
                  <a:lnTo>
                    <a:pt x="1666" y="1680"/>
                  </a:lnTo>
                  <a:lnTo>
                    <a:pt x="1666" y="1680"/>
                  </a:lnTo>
                  <a:lnTo>
                    <a:pt x="1630" y="1688"/>
                  </a:lnTo>
                  <a:lnTo>
                    <a:pt x="1594" y="1692"/>
                  </a:lnTo>
                  <a:lnTo>
                    <a:pt x="1558" y="1692"/>
                  </a:lnTo>
                  <a:lnTo>
                    <a:pt x="1522" y="1690"/>
                  </a:lnTo>
                  <a:lnTo>
                    <a:pt x="1488" y="1686"/>
                  </a:lnTo>
                  <a:lnTo>
                    <a:pt x="1454" y="1676"/>
                  </a:lnTo>
                  <a:lnTo>
                    <a:pt x="1420" y="1662"/>
                  </a:lnTo>
                  <a:lnTo>
                    <a:pt x="1388" y="1644"/>
                  </a:lnTo>
                  <a:lnTo>
                    <a:pt x="1388" y="1644"/>
                  </a:lnTo>
                  <a:lnTo>
                    <a:pt x="1370" y="1632"/>
                  </a:lnTo>
                  <a:lnTo>
                    <a:pt x="1354" y="1620"/>
                  </a:lnTo>
                  <a:lnTo>
                    <a:pt x="1338" y="1606"/>
                  </a:lnTo>
                  <a:lnTo>
                    <a:pt x="1324" y="1590"/>
                  </a:lnTo>
                  <a:lnTo>
                    <a:pt x="1312" y="1576"/>
                  </a:lnTo>
                  <a:lnTo>
                    <a:pt x="1300" y="1560"/>
                  </a:lnTo>
                  <a:lnTo>
                    <a:pt x="1280" y="1526"/>
                  </a:lnTo>
                  <a:lnTo>
                    <a:pt x="1264" y="1492"/>
                  </a:lnTo>
                  <a:lnTo>
                    <a:pt x="1250" y="1454"/>
                  </a:lnTo>
                  <a:lnTo>
                    <a:pt x="1238" y="1416"/>
                  </a:lnTo>
                  <a:lnTo>
                    <a:pt x="1228" y="1376"/>
                  </a:lnTo>
                  <a:lnTo>
                    <a:pt x="1192" y="1222"/>
                  </a:lnTo>
                  <a:lnTo>
                    <a:pt x="1192" y="1222"/>
                  </a:lnTo>
                  <a:lnTo>
                    <a:pt x="1182" y="1182"/>
                  </a:lnTo>
                  <a:lnTo>
                    <a:pt x="1170" y="1142"/>
                  </a:lnTo>
                  <a:lnTo>
                    <a:pt x="1156" y="1104"/>
                  </a:lnTo>
                  <a:lnTo>
                    <a:pt x="1148" y="1086"/>
                  </a:lnTo>
                  <a:lnTo>
                    <a:pt x="1138" y="1070"/>
                  </a:lnTo>
                  <a:lnTo>
                    <a:pt x="1126" y="1054"/>
                  </a:lnTo>
                  <a:lnTo>
                    <a:pt x="1114" y="1040"/>
                  </a:lnTo>
                  <a:lnTo>
                    <a:pt x="1098" y="1030"/>
                  </a:lnTo>
                  <a:lnTo>
                    <a:pt x="1082" y="1020"/>
                  </a:lnTo>
                  <a:lnTo>
                    <a:pt x="1064" y="1012"/>
                  </a:lnTo>
                  <a:lnTo>
                    <a:pt x="1044" y="1008"/>
                  </a:lnTo>
                  <a:lnTo>
                    <a:pt x="1020" y="1008"/>
                  </a:lnTo>
                  <a:lnTo>
                    <a:pt x="996" y="1008"/>
                  </a:lnTo>
                  <a:lnTo>
                    <a:pt x="964" y="874"/>
                  </a:lnTo>
                  <a:lnTo>
                    <a:pt x="964" y="874"/>
                  </a:lnTo>
                  <a:lnTo>
                    <a:pt x="986" y="866"/>
                  </a:lnTo>
                  <a:lnTo>
                    <a:pt x="1004" y="858"/>
                  </a:lnTo>
                  <a:lnTo>
                    <a:pt x="1020" y="848"/>
                  </a:lnTo>
                  <a:lnTo>
                    <a:pt x="1034" y="838"/>
                  </a:lnTo>
                  <a:lnTo>
                    <a:pt x="1044" y="826"/>
                  </a:lnTo>
                  <a:lnTo>
                    <a:pt x="1054" y="814"/>
                  </a:lnTo>
                  <a:lnTo>
                    <a:pt x="1060" y="800"/>
                  </a:lnTo>
                  <a:lnTo>
                    <a:pt x="1066" y="786"/>
                  </a:lnTo>
                  <a:lnTo>
                    <a:pt x="1070" y="772"/>
                  </a:lnTo>
                  <a:lnTo>
                    <a:pt x="1070" y="756"/>
                  </a:lnTo>
                  <a:lnTo>
                    <a:pt x="1072" y="738"/>
                  </a:lnTo>
                  <a:lnTo>
                    <a:pt x="1070" y="722"/>
                  </a:lnTo>
                  <a:lnTo>
                    <a:pt x="1066" y="684"/>
                  </a:lnTo>
                  <a:lnTo>
                    <a:pt x="1058" y="644"/>
                  </a:lnTo>
                  <a:lnTo>
                    <a:pt x="992" y="368"/>
                  </a:lnTo>
                  <a:lnTo>
                    <a:pt x="992" y="368"/>
                  </a:lnTo>
                  <a:lnTo>
                    <a:pt x="982" y="330"/>
                  </a:lnTo>
                  <a:lnTo>
                    <a:pt x="970" y="296"/>
                  </a:lnTo>
                  <a:lnTo>
                    <a:pt x="962" y="280"/>
                  </a:lnTo>
                  <a:lnTo>
                    <a:pt x="954" y="266"/>
                  </a:lnTo>
                  <a:lnTo>
                    <a:pt x="946" y="254"/>
                  </a:lnTo>
                  <a:lnTo>
                    <a:pt x="936" y="244"/>
                  </a:lnTo>
                  <a:lnTo>
                    <a:pt x="924" y="234"/>
                  </a:lnTo>
                  <a:lnTo>
                    <a:pt x="912" y="224"/>
                  </a:lnTo>
                  <a:lnTo>
                    <a:pt x="898" y="216"/>
                  </a:lnTo>
                  <a:lnTo>
                    <a:pt x="882" y="210"/>
                  </a:lnTo>
                  <a:lnTo>
                    <a:pt x="866" y="204"/>
                  </a:lnTo>
                  <a:lnTo>
                    <a:pt x="848" y="198"/>
                  </a:lnTo>
                  <a:lnTo>
                    <a:pt x="804" y="192"/>
                  </a:lnTo>
                  <a:lnTo>
                    <a:pt x="774" y="5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74"/>
            <p:cNvSpPr/>
            <p:nvPr/>
          </p:nvSpPr>
          <p:spPr>
            <a:xfrm>
              <a:off x="345960" y="18548280"/>
              <a:ext cx="2203560" cy="315612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56120"/>
                <a:gd name="textAreaBottom" fmla="*/ 3156480 h 3156120"/>
              </a:gdLst>
              <a:ahLst/>
              <a:rect l="textAreaLeft" t="textAreaTop" r="textAreaRight" b="textAreaBottom"/>
              <a:pathLst>
                <a:path w="1388" h="1988">
                  <a:moveTo>
                    <a:pt x="172" y="528"/>
                  </a:moveTo>
                  <a:lnTo>
                    <a:pt x="172" y="528"/>
                  </a:lnTo>
                  <a:lnTo>
                    <a:pt x="164" y="500"/>
                  </a:lnTo>
                  <a:lnTo>
                    <a:pt x="158" y="476"/>
                  </a:lnTo>
                  <a:lnTo>
                    <a:pt x="152" y="460"/>
                  </a:lnTo>
                  <a:lnTo>
                    <a:pt x="144" y="446"/>
                  </a:lnTo>
                  <a:lnTo>
                    <a:pt x="138" y="442"/>
                  </a:lnTo>
                  <a:lnTo>
                    <a:pt x="132" y="436"/>
                  </a:lnTo>
                  <a:lnTo>
                    <a:pt x="116" y="430"/>
                  </a:lnTo>
                  <a:lnTo>
                    <a:pt x="94" y="426"/>
                  </a:lnTo>
                  <a:lnTo>
                    <a:pt x="66" y="424"/>
                  </a:lnTo>
                  <a:lnTo>
                    <a:pt x="66" y="424"/>
                  </a:lnTo>
                  <a:lnTo>
                    <a:pt x="54" y="422"/>
                  </a:lnTo>
                  <a:lnTo>
                    <a:pt x="42" y="418"/>
                  </a:lnTo>
                  <a:lnTo>
                    <a:pt x="32" y="414"/>
                  </a:lnTo>
                  <a:lnTo>
                    <a:pt x="24" y="410"/>
                  </a:lnTo>
                  <a:lnTo>
                    <a:pt x="16" y="402"/>
                  </a:lnTo>
                  <a:lnTo>
                    <a:pt x="10" y="394"/>
                  </a:lnTo>
                  <a:lnTo>
                    <a:pt x="4" y="384"/>
                  </a:lnTo>
                  <a:lnTo>
                    <a:pt x="0" y="374"/>
                  </a:lnTo>
                  <a:lnTo>
                    <a:pt x="0" y="374"/>
                  </a:lnTo>
                  <a:lnTo>
                    <a:pt x="0" y="362"/>
                  </a:lnTo>
                  <a:lnTo>
                    <a:pt x="0" y="350"/>
                  </a:lnTo>
                  <a:lnTo>
                    <a:pt x="0" y="340"/>
                  </a:lnTo>
                  <a:lnTo>
                    <a:pt x="4" y="332"/>
                  </a:lnTo>
                  <a:lnTo>
                    <a:pt x="8" y="324"/>
                  </a:lnTo>
                  <a:lnTo>
                    <a:pt x="14" y="316"/>
                  </a:lnTo>
                  <a:lnTo>
                    <a:pt x="26" y="304"/>
                  </a:lnTo>
                  <a:lnTo>
                    <a:pt x="40" y="296"/>
                  </a:lnTo>
                  <a:lnTo>
                    <a:pt x="52" y="288"/>
                  </a:lnTo>
                  <a:lnTo>
                    <a:pt x="68" y="284"/>
                  </a:lnTo>
                  <a:lnTo>
                    <a:pt x="670" y="142"/>
                  </a:lnTo>
                  <a:lnTo>
                    <a:pt x="1008" y="1590"/>
                  </a:lnTo>
                  <a:lnTo>
                    <a:pt x="1008" y="1590"/>
                  </a:lnTo>
                  <a:lnTo>
                    <a:pt x="1014" y="1618"/>
                  </a:lnTo>
                  <a:lnTo>
                    <a:pt x="1020" y="1640"/>
                  </a:lnTo>
                  <a:lnTo>
                    <a:pt x="1028" y="1658"/>
                  </a:lnTo>
                  <a:lnTo>
                    <a:pt x="1036" y="1672"/>
                  </a:lnTo>
                  <a:lnTo>
                    <a:pt x="1042" y="1676"/>
                  </a:lnTo>
                  <a:lnTo>
                    <a:pt x="1048" y="1680"/>
                  </a:lnTo>
                  <a:lnTo>
                    <a:pt x="1064" y="1688"/>
                  </a:lnTo>
                  <a:lnTo>
                    <a:pt x="1086" y="1692"/>
                  </a:lnTo>
                  <a:lnTo>
                    <a:pt x="1114" y="1694"/>
                  </a:lnTo>
                  <a:lnTo>
                    <a:pt x="1114" y="1694"/>
                  </a:lnTo>
                  <a:lnTo>
                    <a:pt x="1126" y="1696"/>
                  </a:lnTo>
                  <a:lnTo>
                    <a:pt x="1136" y="1698"/>
                  </a:lnTo>
                  <a:lnTo>
                    <a:pt x="1146" y="1702"/>
                  </a:lnTo>
                  <a:lnTo>
                    <a:pt x="1156" y="1708"/>
                  </a:lnTo>
                  <a:lnTo>
                    <a:pt x="1164" y="1714"/>
                  </a:lnTo>
                  <a:lnTo>
                    <a:pt x="1170" y="1724"/>
                  </a:lnTo>
                  <a:lnTo>
                    <a:pt x="1174" y="1732"/>
                  </a:lnTo>
                  <a:lnTo>
                    <a:pt x="1178" y="1744"/>
                  </a:lnTo>
                  <a:lnTo>
                    <a:pt x="1178" y="1744"/>
                  </a:lnTo>
                  <a:lnTo>
                    <a:pt x="1180" y="1756"/>
                  </a:lnTo>
                  <a:lnTo>
                    <a:pt x="1180" y="1766"/>
                  </a:lnTo>
                  <a:lnTo>
                    <a:pt x="1178" y="1776"/>
                  </a:lnTo>
                  <a:lnTo>
                    <a:pt x="1176" y="1786"/>
                  </a:lnTo>
                  <a:lnTo>
                    <a:pt x="1172" y="1794"/>
                  </a:lnTo>
                  <a:lnTo>
                    <a:pt x="1166" y="1802"/>
                  </a:lnTo>
                  <a:lnTo>
                    <a:pt x="1154" y="1814"/>
                  </a:lnTo>
                  <a:lnTo>
                    <a:pt x="1140" y="1822"/>
                  </a:lnTo>
                  <a:lnTo>
                    <a:pt x="1128" y="1828"/>
                  </a:lnTo>
                  <a:lnTo>
                    <a:pt x="1110" y="1834"/>
                  </a:lnTo>
                  <a:lnTo>
                    <a:pt x="466" y="1986"/>
                  </a:lnTo>
                  <a:lnTo>
                    <a:pt x="466" y="1986"/>
                  </a:lnTo>
                  <a:lnTo>
                    <a:pt x="450" y="1988"/>
                  </a:lnTo>
                  <a:lnTo>
                    <a:pt x="436" y="1988"/>
                  </a:lnTo>
                  <a:lnTo>
                    <a:pt x="418" y="1986"/>
                  </a:lnTo>
                  <a:lnTo>
                    <a:pt x="402" y="1980"/>
                  </a:lnTo>
                  <a:lnTo>
                    <a:pt x="394" y="1976"/>
                  </a:lnTo>
                  <a:lnTo>
                    <a:pt x="388" y="1970"/>
                  </a:lnTo>
                  <a:lnTo>
                    <a:pt x="380" y="1964"/>
                  </a:lnTo>
                  <a:lnTo>
                    <a:pt x="374" y="1956"/>
                  </a:lnTo>
                  <a:lnTo>
                    <a:pt x="370" y="1946"/>
                  </a:lnTo>
                  <a:lnTo>
                    <a:pt x="366" y="1934"/>
                  </a:lnTo>
                  <a:lnTo>
                    <a:pt x="366" y="1934"/>
                  </a:lnTo>
                  <a:lnTo>
                    <a:pt x="364" y="1922"/>
                  </a:lnTo>
                  <a:lnTo>
                    <a:pt x="364" y="1912"/>
                  </a:lnTo>
                  <a:lnTo>
                    <a:pt x="366" y="1902"/>
                  </a:lnTo>
                  <a:lnTo>
                    <a:pt x="370" y="1892"/>
                  </a:lnTo>
                  <a:lnTo>
                    <a:pt x="376" y="1882"/>
                  </a:lnTo>
                  <a:lnTo>
                    <a:pt x="384" y="1874"/>
                  </a:lnTo>
                  <a:lnTo>
                    <a:pt x="392" y="1868"/>
                  </a:lnTo>
                  <a:lnTo>
                    <a:pt x="402" y="1862"/>
                  </a:lnTo>
                  <a:lnTo>
                    <a:pt x="402" y="1862"/>
                  </a:lnTo>
                  <a:lnTo>
                    <a:pt x="426" y="1846"/>
                  </a:lnTo>
                  <a:lnTo>
                    <a:pt x="444" y="1832"/>
                  </a:lnTo>
                  <a:lnTo>
                    <a:pt x="454" y="1820"/>
                  </a:lnTo>
                  <a:lnTo>
                    <a:pt x="458" y="1812"/>
                  </a:lnTo>
                  <a:lnTo>
                    <a:pt x="462" y="1806"/>
                  </a:lnTo>
                  <a:lnTo>
                    <a:pt x="464" y="1790"/>
                  </a:lnTo>
                  <a:lnTo>
                    <a:pt x="462" y="1772"/>
                  </a:lnTo>
                  <a:lnTo>
                    <a:pt x="458" y="1748"/>
                  </a:lnTo>
                  <a:lnTo>
                    <a:pt x="450" y="1720"/>
                  </a:lnTo>
                  <a:lnTo>
                    <a:pt x="172" y="528"/>
                  </a:lnTo>
                  <a:close/>
                  <a:moveTo>
                    <a:pt x="772" y="118"/>
                  </a:moveTo>
                  <a:lnTo>
                    <a:pt x="1280" y="0"/>
                  </a:lnTo>
                  <a:lnTo>
                    <a:pt x="1388" y="462"/>
                  </a:lnTo>
                  <a:lnTo>
                    <a:pt x="1388" y="462"/>
                  </a:lnTo>
                  <a:lnTo>
                    <a:pt x="1388" y="476"/>
                  </a:lnTo>
                  <a:lnTo>
                    <a:pt x="1388" y="484"/>
                  </a:lnTo>
                  <a:lnTo>
                    <a:pt x="1384" y="496"/>
                  </a:lnTo>
                  <a:lnTo>
                    <a:pt x="1378" y="506"/>
                  </a:lnTo>
                  <a:lnTo>
                    <a:pt x="1368" y="516"/>
                  </a:lnTo>
                  <a:lnTo>
                    <a:pt x="1352" y="526"/>
                  </a:lnTo>
                  <a:lnTo>
                    <a:pt x="1330" y="532"/>
                  </a:lnTo>
                  <a:lnTo>
                    <a:pt x="1330" y="532"/>
                  </a:lnTo>
                  <a:lnTo>
                    <a:pt x="1316" y="534"/>
                  </a:lnTo>
                  <a:lnTo>
                    <a:pt x="1304" y="534"/>
                  </a:lnTo>
                  <a:lnTo>
                    <a:pt x="1294" y="532"/>
                  </a:lnTo>
                  <a:lnTo>
                    <a:pt x="1284" y="526"/>
                  </a:lnTo>
                  <a:lnTo>
                    <a:pt x="1276" y="520"/>
                  </a:lnTo>
                  <a:lnTo>
                    <a:pt x="1270" y="512"/>
                  </a:lnTo>
                  <a:lnTo>
                    <a:pt x="1254" y="490"/>
                  </a:lnTo>
                  <a:lnTo>
                    <a:pt x="1254" y="490"/>
                  </a:lnTo>
                  <a:lnTo>
                    <a:pt x="1236" y="460"/>
                  </a:lnTo>
                  <a:lnTo>
                    <a:pt x="1214" y="430"/>
                  </a:lnTo>
                  <a:lnTo>
                    <a:pt x="1192" y="404"/>
                  </a:lnTo>
                  <a:lnTo>
                    <a:pt x="1170" y="378"/>
                  </a:lnTo>
                  <a:lnTo>
                    <a:pt x="1146" y="356"/>
                  </a:lnTo>
                  <a:lnTo>
                    <a:pt x="1122" y="336"/>
                  </a:lnTo>
                  <a:lnTo>
                    <a:pt x="1096" y="318"/>
                  </a:lnTo>
                  <a:lnTo>
                    <a:pt x="1068" y="300"/>
                  </a:lnTo>
                  <a:lnTo>
                    <a:pt x="1040" y="286"/>
                  </a:lnTo>
                  <a:lnTo>
                    <a:pt x="1010" y="274"/>
                  </a:lnTo>
                  <a:lnTo>
                    <a:pt x="978" y="266"/>
                  </a:lnTo>
                  <a:lnTo>
                    <a:pt x="946" y="258"/>
                  </a:lnTo>
                  <a:lnTo>
                    <a:pt x="912" y="252"/>
                  </a:lnTo>
                  <a:lnTo>
                    <a:pt x="878" y="250"/>
                  </a:lnTo>
                  <a:lnTo>
                    <a:pt x="840" y="248"/>
                  </a:lnTo>
                  <a:lnTo>
                    <a:pt x="802" y="250"/>
                  </a:lnTo>
                  <a:lnTo>
                    <a:pt x="772" y="118"/>
                  </a:lnTo>
                  <a:close/>
                  <a:moveTo>
                    <a:pt x="950" y="878"/>
                  </a:moveTo>
                  <a:lnTo>
                    <a:pt x="950" y="878"/>
                  </a:lnTo>
                  <a:lnTo>
                    <a:pt x="966" y="870"/>
                  </a:lnTo>
                  <a:lnTo>
                    <a:pt x="980" y="858"/>
                  </a:lnTo>
                  <a:lnTo>
                    <a:pt x="994" y="846"/>
                  </a:lnTo>
                  <a:lnTo>
                    <a:pt x="1004" y="834"/>
                  </a:lnTo>
                  <a:lnTo>
                    <a:pt x="1016" y="820"/>
                  </a:lnTo>
                  <a:lnTo>
                    <a:pt x="1024" y="806"/>
                  </a:lnTo>
                  <a:lnTo>
                    <a:pt x="1032" y="792"/>
                  </a:lnTo>
                  <a:lnTo>
                    <a:pt x="1040" y="776"/>
                  </a:lnTo>
                  <a:lnTo>
                    <a:pt x="1050" y="744"/>
                  </a:lnTo>
                  <a:lnTo>
                    <a:pt x="1056" y="710"/>
                  </a:lnTo>
                  <a:lnTo>
                    <a:pt x="1060" y="676"/>
                  </a:lnTo>
                  <a:lnTo>
                    <a:pt x="1062" y="642"/>
                  </a:lnTo>
                  <a:lnTo>
                    <a:pt x="1062" y="642"/>
                  </a:lnTo>
                  <a:lnTo>
                    <a:pt x="1064" y="610"/>
                  </a:lnTo>
                  <a:lnTo>
                    <a:pt x="1068" y="596"/>
                  </a:lnTo>
                  <a:lnTo>
                    <a:pt x="1072" y="584"/>
                  </a:lnTo>
                  <a:lnTo>
                    <a:pt x="1080" y="572"/>
                  </a:lnTo>
                  <a:lnTo>
                    <a:pt x="1088" y="562"/>
                  </a:lnTo>
                  <a:lnTo>
                    <a:pt x="1102" y="554"/>
                  </a:lnTo>
                  <a:lnTo>
                    <a:pt x="1118" y="548"/>
                  </a:lnTo>
                  <a:lnTo>
                    <a:pt x="1118" y="548"/>
                  </a:lnTo>
                  <a:lnTo>
                    <a:pt x="1130" y="546"/>
                  </a:lnTo>
                  <a:lnTo>
                    <a:pt x="1140" y="548"/>
                  </a:lnTo>
                  <a:lnTo>
                    <a:pt x="1150" y="550"/>
                  </a:lnTo>
                  <a:lnTo>
                    <a:pt x="1160" y="552"/>
                  </a:lnTo>
                  <a:lnTo>
                    <a:pt x="1166" y="558"/>
                  </a:lnTo>
                  <a:lnTo>
                    <a:pt x="1174" y="564"/>
                  </a:lnTo>
                  <a:lnTo>
                    <a:pt x="1184" y="580"/>
                  </a:lnTo>
                  <a:lnTo>
                    <a:pt x="1190" y="596"/>
                  </a:lnTo>
                  <a:lnTo>
                    <a:pt x="1194" y="612"/>
                  </a:lnTo>
                  <a:lnTo>
                    <a:pt x="1200" y="636"/>
                  </a:lnTo>
                  <a:lnTo>
                    <a:pt x="1314" y="1126"/>
                  </a:lnTo>
                  <a:lnTo>
                    <a:pt x="1314" y="1126"/>
                  </a:lnTo>
                  <a:lnTo>
                    <a:pt x="1320" y="1150"/>
                  </a:lnTo>
                  <a:lnTo>
                    <a:pt x="1324" y="1166"/>
                  </a:lnTo>
                  <a:lnTo>
                    <a:pt x="1324" y="1184"/>
                  </a:lnTo>
                  <a:lnTo>
                    <a:pt x="1322" y="1202"/>
                  </a:lnTo>
                  <a:lnTo>
                    <a:pt x="1320" y="1210"/>
                  </a:lnTo>
                  <a:lnTo>
                    <a:pt x="1316" y="1218"/>
                  </a:lnTo>
                  <a:lnTo>
                    <a:pt x="1308" y="1226"/>
                  </a:lnTo>
                  <a:lnTo>
                    <a:pt x="1302" y="1232"/>
                  </a:lnTo>
                  <a:lnTo>
                    <a:pt x="1292" y="1236"/>
                  </a:lnTo>
                  <a:lnTo>
                    <a:pt x="1280" y="1240"/>
                  </a:lnTo>
                  <a:lnTo>
                    <a:pt x="1280" y="1240"/>
                  </a:lnTo>
                  <a:lnTo>
                    <a:pt x="1262" y="1242"/>
                  </a:lnTo>
                  <a:lnTo>
                    <a:pt x="1248" y="1242"/>
                  </a:lnTo>
                  <a:lnTo>
                    <a:pt x="1234" y="1236"/>
                  </a:lnTo>
                  <a:lnTo>
                    <a:pt x="1224" y="1230"/>
                  </a:lnTo>
                  <a:lnTo>
                    <a:pt x="1214" y="1220"/>
                  </a:lnTo>
                  <a:lnTo>
                    <a:pt x="1204" y="1208"/>
                  </a:lnTo>
                  <a:lnTo>
                    <a:pt x="1188" y="1182"/>
                  </a:lnTo>
                  <a:lnTo>
                    <a:pt x="1188" y="1182"/>
                  </a:lnTo>
                  <a:lnTo>
                    <a:pt x="1172" y="1152"/>
                  </a:lnTo>
                  <a:lnTo>
                    <a:pt x="1154" y="1124"/>
                  </a:lnTo>
                  <a:lnTo>
                    <a:pt x="1132" y="1096"/>
                  </a:lnTo>
                  <a:lnTo>
                    <a:pt x="1108" y="1072"/>
                  </a:lnTo>
                  <a:lnTo>
                    <a:pt x="1096" y="1060"/>
                  </a:lnTo>
                  <a:lnTo>
                    <a:pt x="1082" y="1050"/>
                  </a:lnTo>
                  <a:lnTo>
                    <a:pt x="1068" y="1042"/>
                  </a:lnTo>
                  <a:lnTo>
                    <a:pt x="1052" y="1034"/>
                  </a:lnTo>
                  <a:lnTo>
                    <a:pt x="1036" y="1028"/>
                  </a:lnTo>
                  <a:lnTo>
                    <a:pt x="1018" y="1024"/>
                  </a:lnTo>
                  <a:lnTo>
                    <a:pt x="1002" y="1020"/>
                  </a:lnTo>
                  <a:lnTo>
                    <a:pt x="982" y="1020"/>
                  </a:lnTo>
                  <a:lnTo>
                    <a:pt x="950" y="878"/>
                  </a:lnTo>
                  <a:close/>
                </a:path>
              </a:pathLst>
            </a:custGeom>
            <a:noFill/>
            <a:ln w="6858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75"/>
            <p:cNvSpPr/>
            <p:nvPr/>
          </p:nvSpPr>
          <p:spPr>
            <a:xfrm>
              <a:off x="3171600" y="18094320"/>
              <a:ext cx="2522520" cy="3079800"/>
            </a:xfrm>
            <a:custGeom>
              <a:avLst/>
              <a:gdLst>
                <a:gd name="textAreaLeft" fmla="*/ 0 w 2522520"/>
                <a:gd name="textAreaRight" fmla="*/ 2522880 w 2522520"/>
                <a:gd name="textAreaTop" fmla="*/ 0 h 3079800"/>
                <a:gd name="textAreaBottom" fmla="*/ 3080160 h 3079800"/>
              </a:gdLst>
              <a:ahLst/>
              <a:rect l="textAreaLeft" t="textAreaTop" r="textAreaRight" b="textAreaBottom"/>
              <a:pathLst>
                <a:path w="1589" h="1940">
                  <a:moveTo>
                    <a:pt x="334" y="698"/>
                  </a:moveTo>
                  <a:lnTo>
                    <a:pt x="302" y="1526"/>
                  </a:lnTo>
                  <a:lnTo>
                    <a:pt x="302" y="1526"/>
                  </a:lnTo>
                  <a:lnTo>
                    <a:pt x="304" y="1576"/>
                  </a:lnTo>
                  <a:lnTo>
                    <a:pt x="306" y="1596"/>
                  </a:lnTo>
                  <a:lnTo>
                    <a:pt x="308" y="1616"/>
                  </a:lnTo>
                  <a:lnTo>
                    <a:pt x="312" y="1632"/>
                  </a:lnTo>
                  <a:lnTo>
                    <a:pt x="318" y="1648"/>
                  </a:lnTo>
                  <a:lnTo>
                    <a:pt x="324" y="1660"/>
                  </a:lnTo>
                  <a:lnTo>
                    <a:pt x="330" y="1672"/>
                  </a:lnTo>
                  <a:lnTo>
                    <a:pt x="338" y="1682"/>
                  </a:lnTo>
                  <a:lnTo>
                    <a:pt x="348" y="1690"/>
                  </a:lnTo>
                  <a:lnTo>
                    <a:pt x="358" y="1698"/>
                  </a:lnTo>
                  <a:lnTo>
                    <a:pt x="370" y="1704"/>
                  </a:lnTo>
                  <a:lnTo>
                    <a:pt x="396" y="1714"/>
                  </a:lnTo>
                  <a:lnTo>
                    <a:pt x="426" y="1720"/>
                  </a:lnTo>
                  <a:lnTo>
                    <a:pt x="426" y="1720"/>
                  </a:lnTo>
                  <a:lnTo>
                    <a:pt x="454" y="1726"/>
                  </a:lnTo>
                  <a:lnTo>
                    <a:pt x="468" y="1730"/>
                  </a:lnTo>
                  <a:lnTo>
                    <a:pt x="480" y="1736"/>
                  </a:lnTo>
                  <a:lnTo>
                    <a:pt x="490" y="1742"/>
                  </a:lnTo>
                  <a:lnTo>
                    <a:pt x="498" y="1752"/>
                  </a:lnTo>
                  <a:lnTo>
                    <a:pt x="506" y="1764"/>
                  </a:lnTo>
                  <a:lnTo>
                    <a:pt x="512" y="1780"/>
                  </a:lnTo>
                  <a:lnTo>
                    <a:pt x="512" y="1780"/>
                  </a:lnTo>
                  <a:lnTo>
                    <a:pt x="512" y="1790"/>
                  </a:lnTo>
                  <a:lnTo>
                    <a:pt x="512" y="1802"/>
                  </a:lnTo>
                  <a:lnTo>
                    <a:pt x="510" y="1810"/>
                  </a:lnTo>
                  <a:lnTo>
                    <a:pt x="508" y="1818"/>
                  </a:lnTo>
                  <a:lnTo>
                    <a:pt x="502" y="1826"/>
                  </a:lnTo>
                  <a:lnTo>
                    <a:pt x="496" y="1832"/>
                  </a:lnTo>
                  <a:lnTo>
                    <a:pt x="482" y="1844"/>
                  </a:lnTo>
                  <a:lnTo>
                    <a:pt x="464" y="1852"/>
                  </a:lnTo>
                  <a:lnTo>
                    <a:pt x="444" y="1860"/>
                  </a:lnTo>
                  <a:lnTo>
                    <a:pt x="408" y="1868"/>
                  </a:lnTo>
                  <a:lnTo>
                    <a:pt x="146" y="1930"/>
                  </a:lnTo>
                  <a:lnTo>
                    <a:pt x="146" y="1930"/>
                  </a:lnTo>
                  <a:lnTo>
                    <a:pt x="106" y="1938"/>
                  </a:lnTo>
                  <a:lnTo>
                    <a:pt x="84" y="1940"/>
                  </a:lnTo>
                  <a:lnTo>
                    <a:pt x="62" y="1940"/>
                  </a:lnTo>
                  <a:lnTo>
                    <a:pt x="42" y="1936"/>
                  </a:lnTo>
                  <a:lnTo>
                    <a:pt x="32" y="1932"/>
                  </a:lnTo>
                  <a:lnTo>
                    <a:pt x="24" y="1926"/>
                  </a:lnTo>
                  <a:lnTo>
                    <a:pt x="18" y="1920"/>
                  </a:lnTo>
                  <a:lnTo>
                    <a:pt x="10" y="1912"/>
                  </a:lnTo>
                  <a:lnTo>
                    <a:pt x="6" y="1902"/>
                  </a:lnTo>
                  <a:lnTo>
                    <a:pt x="2" y="1892"/>
                  </a:lnTo>
                  <a:lnTo>
                    <a:pt x="2" y="1892"/>
                  </a:lnTo>
                  <a:lnTo>
                    <a:pt x="0" y="1872"/>
                  </a:lnTo>
                  <a:lnTo>
                    <a:pt x="2" y="1858"/>
                  </a:lnTo>
                  <a:lnTo>
                    <a:pt x="8" y="1846"/>
                  </a:lnTo>
                  <a:lnTo>
                    <a:pt x="16" y="1836"/>
                  </a:lnTo>
                  <a:lnTo>
                    <a:pt x="28" y="1826"/>
                  </a:lnTo>
                  <a:lnTo>
                    <a:pt x="42" y="1816"/>
                  </a:lnTo>
                  <a:lnTo>
                    <a:pt x="56" y="1806"/>
                  </a:lnTo>
                  <a:lnTo>
                    <a:pt x="72" y="1794"/>
                  </a:lnTo>
                  <a:lnTo>
                    <a:pt x="72" y="1794"/>
                  </a:lnTo>
                  <a:lnTo>
                    <a:pt x="88" y="1778"/>
                  </a:lnTo>
                  <a:lnTo>
                    <a:pt x="104" y="1760"/>
                  </a:lnTo>
                  <a:lnTo>
                    <a:pt x="120" y="1736"/>
                  </a:lnTo>
                  <a:lnTo>
                    <a:pt x="134" y="1706"/>
                  </a:lnTo>
                  <a:lnTo>
                    <a:pt x="148" y="1672"/>
                  </a:lnTo>
                  <a:lnTo>
                    <a:pt x="158" y="1628"/>
                  </a:lnTo>
                  <a:lnTo>
                    <a:pt x="166" y="1578"/>
                  </a:lnTo>
                  <a:lnTo>
                    <a:pt x="170" y="1518"/>
                  </a:lnTo>
                  <a:lnTo>
                    <a:pt x="208" y="456"/>
                  </a:lnTo>
                  <a:lnTo>
                    <a:pt x="216" y="454"/>
                  </a:lnTo>
                  <a:lnTo>
                    <a:pt x="334" y="698"/>
                  </a:lnTo>
                  <a:close/>
                  <a:moveTo>
                    <a:pt x="738" y="1326"/>
                  </a:moveTo>
                  <a:lnTo>
                    <a:pt x="406" y="1404"/>
                  </a:lnTo>
                  <a:lnTo>
                    <a:pt x="408" y="1264"/>
                  </a:lnTo>
                  <a:lnTo>
                    <a:pt x="684" y="1198"/>
                  </a:lnTo>
                  <a:lnTo>
                    <a:pt x="220" y="246"/>
                  </a:lnTo>
                  <a:lnTo>
                    <a:pt x="220" y="116"/>
                  </a:lnTo>
                  <a:lnTo>
                    <a:pt x="724" y="0"/>
                  </a:lnTo>
                  <a:lnTo>
                    <a:pt x="1403" y="1358"/>
                  </a:lnTo>
                  <a:lnTo>
                    <a:pt x="1403" y="1358"/>
                  </a:lnTo>
                  <a:lnTo>
                    <a:pt x="1421" y="1400"/>
                  </a:lnTo>
                  <a:lnTo>
                    <a:pt x="1431" y="1418"/>
                  </a:lnTo>
                  <a:lnTo>
                    <a:pt x="1443" y="1434"/>
                  </a:lnTo>
                  <a:lnTo>
                    <a:pt x="1455" y="1446"/>
                  </a:lnTo>
                  <a:lnTo>
                    <a:pt x="1471" y="1458"/>
                  </a:lnTo>
                  <a:lnTo>
                    <a:pt x="1489" y="1468"/>
                  </a:lnTo>
                  <a:lnTo>
                    <a:pt x="1513" y="1474"/>
                  </a:lnTo>
                  <a:lnTo>
                    <a:pt x="1513" y="1474"/>
                  </a:lnTo>
                  <a:lnTo>
                    <a:pt x="1539" y="1478"/>
                  </a:lnTo>
                  <a:lnTo>
                    <a:pt x="1549" y="1484"/>
                  </a:lnTo>
                  <a:lnTo>
                    <a:pt x="1559" y="1488"/>
                  </a:lnTo>
                  <a:lnTo>
                    <a:pt x="1569" y="1496"/>
                  </a:lnTo>
                  <a:lnTo>
                    <a:pt x="1575" y="1504"/>
                  </a:lnTo>
                  <a:lnTo>
                    <a:pt x="1583" y="1516"/>
                  </a:lnTo>
                  <a:lnTo>
                    <a:pt x="1587" y="1530"/>
                  </a:lnTo>
                  <a:lnTo>
                    <a:pt x="1587" y="1530"/>
                  </a:lnTo>
                  <a:lnTo>
                    <a:pt x="1589" y="1542"/>
                  </a:lnTo>
                  <a:lnTo>
                    <a:pt x="1587" y="1552"/>
                  </a:lnTo>
                  <a:lnTo>
                    <a:pt x="1585" y="1560"/>
                  </a:lnTo>
                  <a:lnTo>
                    <a:pt x="1581" y="1568"/>
                  </a:lnTo>
                  <a:lnTo>
                    <a:pt x="1575" y="1576"/>
                  </a:lnTo>
                  <a:lnTo>
                    <a:pt x="1569" y="1582"/>
                  </a:lnTo>
                  <a:lnTo>
                    <a:pt x="1553" y="1594"/>
                  </a:lnTo>
                  <a:lnTo>
                    <a:pt x="1533" y="1602"/>
                  </a:lnTo>
                  <a:lnTo>
                    <a:pt x="1513" y="1610"/>
                  </a:lnTo>
                  <a:lnTo>
                    <a:pt x="1475" y="1618"/>
                  </a:lnTo>
                  <a:lnTo>
                    <a:pt x="908" y="1752"/>
                  </a:lnTo>
                  <a:lnTo>
                    <a:pt x="908" y="1752"/>
                  </a:lnTo>
                  <a:lnTo>
                    <a:pt x="890" y="1756"/>
                  </a:lnTo>
                  <a:lnTo>
                    <a:pt x="870" y="1758"/>
                  </a:lnTo>
                  <a:lnTo>
                    <a:pt x="852" y="1760"/>
                  </a:lnTo>
                  <a:lnTo>
                    <a:pt x="832" y="1758"/>
                  </a:lnTo>
                  <a:lnTo>
                    <a:pt x="816" y="1754"/>
                  </a:lnTo>
                  <a:lnTo>
                    <a:pt x="808" y="1750"/>
                  </a:lnTo>
                  <a:lnTo>
                    <a:pt x="800" y="1746"/>
                  </a:lnTo>
                  <a:lnTo>
                    <a:pt x="794" y="1740"/>
                  </a:lnTo>
                  <a:lnTo>
                    <a:pt x="788" y="1732"/>
                  </a:lnTo>
                  <a:lnTo>
                    <a:pt x="784" y="1724"/>
                  </a:lnTo>
                  <a:lnTo>
                    <a:pt x="782" y="1714"/>
                  </a:lnTo>
                  <a:lnTo>
                    <a:pt x="782" y="1714"/>
                  </a:lnTo>
                  <a:lnTo>
                    <a:pt x="778" y="1702"/>
                  </a:lnTo>
                  <a:lnTo>
                    <a:pt x="778" y="1690"/>
                  </a:lnTo>
                  <a:lnTo>
                    <a:pt x="780" y="1680"/>
                  </a:lnTo>
                  <a:lnTo>
                    <a:pt x="782" y="1672"/>
                  </a:lnTo>
                  <a:lnTo>
                    <a:pt x="788" y="1664"/>
                  </a:lnTo>
                  <a:lnTo>
                    <a:pt x="794" y="1656"/>
                  </a:lnTo>
                  <a:lnTo>
                    <a:pt x="810" y="1640"/>
                  </a:lnTo>
                  <a:lnTo>
                    <a:pt x="810" y="1640"/>
                  </a:lnTo>
                  <a:lnTo>
                    <a:pt x="826" y="1624"/>
                  </a:lnTo>
                  <a:lnTo>
                    <a:pt x="840" y="1608"/>
                  </a:lnTo>
                  <a:lnTo>
                    <a:pt x="848" y="1594"/>
                  </a:lnTo>
                  <a:lnTo>
                    <a:pt x="852" y="1578"/>
                  </a:lnTo>
                  <a:lnTo>
                    <a:pt x="852" y="1562"/>
                  </a:lnTo>
                  <a:lnTo>
                    <a:pt x="848" y="1542"/>
                  </a:lnTo>
                  <a:lnTo>
                    <a:pt x="838" y="1518"/>
                  </a:lnTo>
                  <a:lnTo>
                    <a:pt x="824" y="1490"/>
                  </a:lnTo>
                  <a:lnTo>
                    <a:pt x="738" y="1326"/>
                  </a:lnTo>
                  <a:close/>
                </a:path>
              </a:pathLst>
            </a:custGeom>
            <a:noFill/>
            <a:ln w="6858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176"/>
            <p:cNvSpPr/>
            <p:nvPr/>
          </p:nvSpPr>
          <p:spPr>
            <a:xfrm>
              <a:off x="5440320" y="17564040"/>
              <a:ext cx="1873080" cy="2946600"/>
            </a:xfrm>
            <a:custGeom>
              <a:avLst/>
              <a:gdLst>
                <a:gd name="textAreaLeft" fmla="*/ 0 w 1873080"/>
                <a:gd name="textAreaRight" fmla="*/ 1873440 w 1873080"/>
                <a:gd name="textAreaTop" fmla="*/ 0 h 2946600"/>
                <a:gd name="textAreaBottom" fmla="*/ 2946960 h 2946600"/>
              </a:gdLst>
              <a:ahLst/>
              <a:rect l="textAreaLeft" t="textAreaTop" r="textAreaRight" b="textAreaBottom"/>
              <a:pathLst>
                <a:path w="1180" h="1856">
                  <a:moveTo>
                    <a:pt x="1008" y="1458"/>
                  </a:moveTo>
                  <a:lnTo>
                    <a:pt x="1008" y="1458"/>
                  </a:lnTo>
                  <a:lnTo>
                    <a:pt x="1014" y="1488"/>
                  </a:lnTo>
                  <a:lnTo>
                    <a:pt x="1022" y="1510"/>
                  </a:lnTo>
                  <a:lnTo>
                    <a:pt x="1028" y="1528"/>
                  </a:lnTo>
                  <a:lnTo>
                    <a:pt x="1036" y="1540"/>
                  </a:lnTo>
                  <a:lnTo>
                    <a:pt x="1042" y="1546"/>
                  </a:lnTo>
                  <a:lnTo>
                    <a:pt x="1048" y="1550"/>
                  </a:lnTo>
                  <a:lnTo>
                    <a:pt x="1064" y="1556"/>
                  </a:lnTo>
                  <a:lnTo>
                    <a:pt x="1086" y="1560"/>
                  </a:lnTo>
                  <a:lnTo>
                    <a:pt x="1114" y="1564"/>
                  </a:lnTo>
                  <a:lnTo>
                    <a:pt x="1114" y="1564"/>
                  </a:lnTo>
                  <a:lnTo>
                    <a:pt x="1126" y="1566"/>
                  </a:lnTo>
                  <a:lnTo>
                    <a:pt x="1136" y="1568"/>
                  </a:lnTo>
                  <a:lnTo>
                    <a:pt x="1146" y="1572"/>
                  </a:lnTo>
                  <a:lnTo>
                    <a:pt x="1156" y="1578"/>
                  </a:lnTo>
                  <a:lnTo>
                    <a:pt x="1164" y="1584"/>
                  </a:lnTo>
                  <a:lnTo>
                    <a:pt x="1170" y="1592"/>
                  </a:lnTo>
                  <a:lnTo>
                    <a:pt x="1176" y="1602"/>
                  </a:lnTo>
                  <a:lnTo>
                    <a:pt x="1178" y="1614"/>
                  </a:lnTo>
                  <a:lnTo>
                    <a:pt x="1178" y="1614"/>
                  </a:lnTo>
                  <a:lnTo>
                    <a:pt x="1180" y="1626"/>
                  </a:lnTo>
                  <a:lnTo>
                    <a:pt x="1180" y="1636"/>
                  </a:lnTo>
                  <a:lnTo>
                    <a:pt x="1180" y="1646"/>
                  </a:lnTo>
                  <a:lnTo>
                    <a:pt x="1176" y="1654"/>
                  </a:lnTo>
                  <a:lnTo>
                    <a:pt x="1172" y="1664"/>
                  </a:lnTo>
                  <a:lnTo>
                    <a:pt x="1166" y="1670"/>
                  </a:lnTo>
                  <a:lnTo>
                    <a:pt x="1154" y="1682"/>
                  </a:lnTo>
                  <a:lnTo>
                    <a:pt x="1140" y="1692"/>
                  </a:lnTo>
                  <a:lnTo>
                    <a:pt x="1128" y="1698"/>
                  </a:lnTo>
                  <a:lnTo>
                    <a:pt x="1112" y="1704"/>
                  </a:lnTo>
                  <a:lnTo>
                    <a:pt x="468" y="1854"/>
                  </a:lnTo>
                  <a:lnTo>
                    <a:pt x="468" y="1854"/>
                  </a:lnTo>
                  <a:lnTo>
                    <a:pt x="450" y="1856"/>
                  </a:lnTo>
                  <a:lnTo>
                    <a:pt x="436" y="1856"/>
                  </a:lnTo>
                  <a:lnTo>
                    <a:pt x="420" y="1854"/>
                  </a:lnTo>
                  <a:lnTo>
                    <a:pt x="402" y="1850"/>
                  </a:lnTo>
                  <a:lnTo>
                    <a:pt x="394" y="1844"/>
                  </a:lnTo>
                  <a:lnTo>
                    <a:pt x="388" y="1840"/>
                  </a:lnTo>
                  <a:lnTo>
                    <a:pt x="380" y="1832"/>
                  </a:lnTo>
                  <a:lnTo>
                    <a:pt x="374" y="1824"/>
                  </a:lnTo>
                  <a:lnTo>
                    <a:pt x="370" y="1814"/>
                  </a:lnTo>
                  <a:lnTo>
                    <a:pt x="366" y="1804"/>
                  </a:lnTo>
                  <a:lnTo>
                    <a:pt x="366" y="1804"/>
                  </a:lnTo>
                  <a:lnTo>
                    <a:pt x="364" y="1792"/>
                  </a:lnTo>
                  <a:lnTo>
                    <a:pt x="366" y="1780"/>
                  </a:lnTo>
                  <a:lnTo>
                    <a:pt x="368" y="1770"/>
                  </a:lnTo>
                  <a:lnTo>
                    <a:pt x="372" y="1760"/>
                  </a:lnTo>
                  <a:lnTo>
                    <a:pt x="376" y="1752"/>
                  </a:lnTo>
                  <a:lnTo>
                    <a:pt x="384" y="1744"/>
                  </a:lnTo>
                  <a:lnTo>
                    <a:pt x="392" y="1736"/>
                  </a:lnTo>
                  <a:lnTo>
                    <a:pt x="402" y="1730"/>
                  </a:lnTo>
                  <a:lnTo>
                    <a:pt x="402" y="1730"/>
                  </a:lnTo>
                  <a:lnTo>
                    <a:pt x="426" y="1716"/>
                  </a:lnTo>
                  <a:lnTo>
                    <a:pt x="444" y="1702"/>
                  </a:lnTo>
                  <a:lnTo>
                    <a:pt x="456" y="1688"/>
                  </a:lnTo>
                  <a:lnTo>
                    <a:pt x="458" y="1682"/>
                  </a:lnTo>
                  <a:lnTo>
                    <a:pt x="462" y="1674"/>
                  </a:lnTo>
                  <a:lnTo>
                    <a:pt x="464" y="1660"/>
                  </a:lnTo>
                  <a:lnTo>
                    <a:pt x="462" y="1640"/>
                  </a:lnTo>
                  <a:lnTo>
                    <a:pt x="458" y="1618"/>
                  </a:lnTo>
                  <a:lnTo>
                    <a:pt x="450" y="1590"/>
                  </a:lnTo>
                  <a:lnTo>
                    <a:pt x="172" y="396"/>
                  </a:lnTo>
                  <a:lnTo>
                    <a:pt x="172" y="396"/>
                  </a:lnTo>
                  <a:lnTo>
                    <a:pt x="166" y="368"/>
                  </a:lnTo>
                  <a:lnTo>
                    <a:pt x="158" y="346"/>
                  </a:lnTo>
                  <a:lnTo>
                    <a:pt x="152" y="328"/>
                  </a:lnTo>
                  <a:lnTo>
                    <a:pt x="144" y="316"/>
                  </a:lnTo>
                  <a:lnTo>
                    <a:pt x="138" y="310"/>
                  </a:lnTo>
                  <a:lnTo>
                    <a:pt x="132" y="306"/>
                  </a:lnTo>
                  <a:lnTo>
                    <a:pt x="116" y="300"/>
                  </a:lnTo>
                  <a:lnTo>
                    <a:pt x="94" y="296"/>
                  </a:lnTo>
                  <a:lnTo>
                    <a:pt x="66" y="292"/>
                  </a:lnTo>
                  <a:lnTo>
                    <a:pt x="66" y="292"/>
                  </a:lnTo>
                  <a:lnTo>
                    <a:pt x="54" y="290"/>
                  </a:lnTo>
                  <a:lnTo>
                    <a:pt x="44" y="288"/>
                  </a:lnTo>
                  <a:lnTo>
                    <a:pt x="34" y="284"/>
                  </a:lnTo>
                  <a:lnTo>
                    <a:pt x="24" y="278"/>
                  </a:lnTo>
                  <a:lnTo>
                    <a:pt x="16" y="272"/>
                  </a:lnTo>
                  <a:lnTo>
                    <a:pt x="10" y="264"/>
                  </a:lnTo>
                  <a:lnTo>
                    <a:pt x="4" y="254"/>
                  </a:lnTo>
                  <a:lnTo>
                    <a:pt x="2" y="242"/>
                  </a:lnTo>
                  <a:lnTo>
                    <a:pt x="2" y="242"/>
                  </a:lnTo>
                  <a:lnTo>
                    <a:pt x="0" y="230"/>
                  </a:lnTo>
                  <a:lnTo>
                    <a:pt x="0" y="220"/>
                  </a:lnTo>
                  <a:lnTo>
                    <a:pt x="0" y="210"/>
                  </a:lnTo>
                  <a:lnTo>
                    <a:pt x="4" y="200"/>
                  </a:lnTo>
                  <a:lnTo>
                    <a:pt x="8" y="192"/>
                  </a:lnTo>
                  <a:lnTo>
                    <a:pt x="14" y="186"/>
                  </a:lnTo>
                  <a:lnTo>
                    <a:pt x="26" y="174"/>
                  </a:lnTo>
                  <a:lnTo>
                    <a:pt x="40" y="164"/>
                  </a:lnTo>
                  <a:lnTo>
                    <a:pt x="52" y="158"/>
                  </a:lnTo>
                  <a:lnTo>
                    <a:pt x="68" y="152"/>
                  </a:lnTo>
                  <a:lnTo>
                    <a:pt x="712" y="2"/>
                  </a:lnTo>
                  <a:lnTo>
                    <a:pt x="712" y="2"/>
                  </a:lnTo>
                  <a:lnTo>
                    <a:pt x="730" y="0"/>
                  </a:lnTo>
                  <a:lnTo>
                    <a:pt x="744" y="0"/>
                  </a:lnTo>
                  <a:lnTo>
                    <a:pt x="760" y="2"/>
                  </a:lnTo>
                  <a:lnTo>
                    <a:pt x="778" y="6"/>
                  </a:lnTo>
                  <a:lnTo>
                    <a:pt x="786" y="10"/>
                  </a:lnTo>
                  <a:lnTo>
                    <a:pt x="792" y="16"/>
                  </a:lnTo>
                  <a:lnTo>
                    <a:pt x="800" y="22"/>
                  </a:lnTo>
                  <a:lnTo>
                    <a:pt x="806" y="32"/>
                  </a:lnTo>
                  <a:lnTo>
                    <a:pt x="810" y="40"/>
                  </a:lnTo>
                  <a:lnTo>
                    <a:pt x="814" y="52"/>
                  </a:lnTo>
                  <a:lnTo>
                    <a:pt x="814" y="52"/>
                  </a:lnTo>
                  <a:lnTo>
                    <a:pt x="816" y="64"/>
                  </a:lnTo>
                  <a:lnTo>
                    <a:pt x="814" y="74"/>
                  </a:lnTo>
                  <a:lnTo>
                    <a:pt x="812" y="86"/>
                  </a:lnTo>
                  <a:lnTo>
                    <a:pt x="808" y="94"/>
                  </a:lnTo>
                  <a:lnTo>
                    <a:pt x="804" y="104"/>
                  </a:lnTo>
                  <a:lnTo>
                    <a:pt x="796" y="112"/>
                  </a:lnTo>
                  <a:lnTo>
                    <a:pt x="788" y="120"/>
                  </a:lnTo>
                  <a:lnTo>
                    <a:pt x="778" y="126"/>
                  </a:lnTo>
                  <a:lnTo>
                    <a:pt x="778" y="126"/>
                  </a:lnTo>
                  <a:lnTo>
                    <a:pt x="754" y="140"/>
                  </a:lnTo>
                  <a:lnTo>
                    <a:pt x="736" y="154"/>
                  </a:lnTo>
                  <a:lnTo>
                    <a:pt x="724" y="168"/>
                  </a:lnTo>
                  <a:lnTo>
                    <a:pt x="722" y="174"/>
                  </a:lnTo>
                  <a:lnTo>
                    <a:pt x="718" y="180"/>
                  </a:lnTo>
                  <a:lnTo>
                    <a:pt x="716" y="196"/>
                  </a:lnTo>
                  <a:lnTo>
                    <a:pt x="718" y="216"/>
                  </a:lnTo>
                  <a:lnTo>
                    <a:pt x="722" y="238"/>
                  </a:lnTo>
                  <a:lnTo>
                    <a:pt x="730" y="266"/>
                  </a:lnTo>
                  <a:lnTo>
                    <a:pt x="1008" y="1458"/>
                  </a:lnTo>
                  <a:close/>
                </a:path>
              </a:pathLst>
            </a:custGeom>
            <a:noFill/>
            <a:ln w="6858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177"/>
            <p:cNvSpPr/>
            <p:nvPr/>
          </p:nvSpPr>
          <p:spPr>
            <a:xfrm>
              <a:off x="7215120" y="17037000"/>
              <a:ext cx="3156120" cy="3057840"/>
            </a:xfrm>
            <a:custGeom>
              <a:avLst/>
              <a:gdLst>
                <a:gd name="textAreaLeft" fmla="*/ 0 w 3156120"/>
                <a:gd name="textAreaRight" fmla="*/ 3156480 w 3156120"/>
                <a:gd name="textAreaTop" fmla="*/ 0 h 3057840"/>
                <a:gd name="textAreaBottom" fmla="*/ 3058200 h 3057840"/>
              </a:gdLst>
              <a:ahLst/>
              <a:rect l="textAreaLeft" t="textAreaTop" r="textAreaRight" b="textAreaBottom"/>
              <a:pathLst>
                <a:path w="1988" h="1926">
                  <a:moveTo>
                    <a:pt x="174" y="466"/>
                  </a:moveTo>
                  <a:lnTo>
                    <a:pt x="174" y="466"/>
                  </a:lnTo>
                  <a:lnTo>
                    <a:pt x="166" y="438"/>
                  </a:lnTo>
                  <a:lnTo>
                    <a:pt x="160" y="416"/>
                  </a:lnTo>
                  <a:lnTo>
                    <a:pt x="154" y="398"/>
                  </a:lnTo>
                  <a:lnTo>
                    <a:pt x="144" y="386"/>
                  </a:lnTo>
                  <a:lnTo>
                    <a:pt x="140" y="380"/>
                  </a:lnTo>
                  <a:lnTo>
                    <a:pt x="134" y="376"/>
                  </a:lnTo>
                  <a:lnTo>
                    <a:pt x="116" y="370"/>
                  </a:lnTo>
                  <a:lnTo>
                    <a:pt x="96" y="366"/>
                  </a:lnTo>
                  <a:lnTo>
                    <a:pt x="68" y="362"/>
                  </a:lnTo>
                  <a:lnTo>
                    <a:pt x="68" y="362"/>
                  </a:lnTo>
                  <a:lnTo>
                    <a:pt x="56" y="360"/>
                  </a:lnTo>
                  <a:lnTo>
                    <a:pt x="44" y="358"/>
                  </a:lnTo>
                  <a:lnTo>
                    <a:pt x="34" y="354"/>
                  </a:lnTo>
                  <a:lnTo>
                    <a:pt x="26" y="348"/>
                  </a:lnTo>
                  <a:lnTo>
                    <a:pt x="18" y="342"/>
                  </a:lnTo>
                  <a:lnTo>
                    <a:pt x="12" y="334"/>
                  </a:lnTo>
                  <a:lnTo>
                    <a:pt x="6" y="324"/>
                  </a:lnTo>
                  <a:lnTo>
                    <a:pt x="2" y="312"/>
                  </a:lnTo>
                  <a:lnTo>
                    <a:pt x="2" y="312"/>
                  </a:lnTo>
                  <a:lnTo>
                    <a:pt x="0" y="300"/>
                  </a:lnTo>
                  <a:lnTo>
                    <a:pt x="0" y="290"/>
                  </a:lnTo>
                  <a:lnTo>
                    <a:pt x="2" y="280"/>
                  </a:lnTo>
                  <a:lnTo>
                    <a:pt x="6" y="270"/>
                  </a:lnTo>
                  <a:lnTo>
                    <a:pt x="10" y="262"/>
                  </a:lnTo>
                  <a:lnTo>
                    <a:pt x="14" y="256"/>
                  </a:lnTo>
                  <a:lnTo>
                    <a:pt x="28" y="244"/>
                  </a:lnTo>
                  <a:lnTo>
                    <a:pt x="40" y="234"/>
                  </a:lnTo>
                  <a:lnTo>
                    <a:pt x="54" y="228"/>
                  </a:lnTo>
                  <a:lnTo>
                    <a:pt x="70" y="222"/>
                  </a:lnTo>
                  <a:lnTo>
                    <a:pt x="672" y="82"/>
                  </a:lnTo>
                  <a:lnTo>
                    <a:pt x="1010" y="1528"/>
                  </a:lnTo>
                  <a:lnTo>
                    <a:pt x="1010" y="1528"/>
                  </a:lnTo>
                  <a:lnTo>
                    <a:pt x="1016" y="1558"/>
                  </a:lnTo>
                  <a:lnTo>
                    <a:pt x="1022" y="1580"/>
                  </a:lnTo>
                  <a:lnTo>
                    <a:pt x="1030" y="1598"/>
                  </a:lnTo>
                  <a:lnTo>
                    <a:pt x="1038" y="1610"/>
                  </a:lnTo>
                  <a:lnTo>
                    <a:pt x="1044" y="1616"/>
                  </a:lnTo>
                  <a:lnTo>
                    <a:pt x="1050" y="1620"/>
                  </a:lnTo>
                  <a:lnTo>
                    <a:pt x="1066" y="1626"/>
                  </a:lnTo>
                  <a:lnTo>
                    <a:pt x="1088" y="1630"/>
                  </a:lnTo>
                  <a:lnTo>
                    <a:pt x="1116" y="1634"/>
                  </a:lnTo>
                  <a:lnTo>
                    <a:pt x="1116" y="1634"/>
                  </a:lnTo>
                  <a:lnTo>
                    <a:pt x="1128" y="1636"/>
                  </a:lnTo>
                  <a:lnTo>
                    <a:pt x="1138" y="1638"/>
                  </a:lnTo>
                  <a:lnTo>
                    <a:pt x="1148" y="1642"/>
                  </a:lnTo>
                  <a:lnTo>
                    <a:pt x="1158" y="1648"/>
                  </a:lnTo>
                  <a:lnTo>
                    <a:pt x="1164" y="1654"/>
                  </a:lnTo>
                  <a:lnTo>
                    <a:pt x="1172" y="1662"/>
                  </a:lnTo>
                  <a:lnTo>
                    <a:pt x="1176" y="1672"/>
                  </a:lnTo>
                  <a:lnTo>
                    <a:pt x="1180" y="1684"/>
                  </a:lnTo>
                  <a:lnTo>
                    <a:pt x="1180" y="1684"/>
                  </a:lnTo>
                  <a:lnTo>
                    <a:pt x="1182" y="1696"/>
                  </a:lnTo>
                  <a:lnTo>
                    <a:pt x="1182" y="1706"/>
                  </a:lnTo>
                  <a:lnTo>
                    <a:pt x="1180" y="1716"/>
                  </a:lnTo>
                  <a:lnTo>
                    <a:pt x="1178" y="1724"/>
                  </a:lnTo>
                  <a:lnTo>
                    <a:pt x="1174" y="1734"/>
                  </a:lnTo>
                  <a:lnTo>
                    <a:pt x="1168" y="1740"/>
                  </a:lnTo>
                  <a:lnTo>
                    <a:pt x="1156" y="1752"/>
                  </a:lnTo>
                  <a:lnTo>
                    <a:pt x="1142" y="1762"/>
                  </a:lnTo>
                  <a:lnTo>
                    <a:pt x="1130" y="1768"/>
                  </a:lnTo>
                  <a:lnTo>
                    <a:pt x="1112" y="1774"/>
                  </a:lnTo>
                  <a:lnTo>
                    <a:pt x="468" y="1924"/>
                  </a:lnTo>
                  <a:lnTo>
                    <a:pt x="468" y="1924"/>
                  </a:lnTo>
                  <a:lnTo>
                    <a:pt x="452" y="1926"/>
                  </a:lnTo>
                  <a:lnTo>
                    <a:pt x="436" y="1926"/>
                  </a:lnTo>
                  <a:lnTo>
                    <a:pt x="420" y="1924"/>
                  </a:lnTo>
                  <a:lnTo>
                    <a:pt x="404" y="1920"/>
                  </a:lnTo>
                  <a:lnTo>
                    <a:pt x="396" y="1914"/>
                  </a:lnTo>
                  <a:lnTo>
                    <a:pt x="388" y="1910"/>
                  </a:lnTo>
                  <a:lnTo>
                    <a:pt x="382" y="1902"/>
                  </a:lnTo>
                  <a:lnTo>
                    <a:pt x="376" y="1894"/>
                  </a:lnTo>
                  <a:lnTo>
                    <a:pt x="372" y="1884"/>
                  </a:lnTo>
                  <a:lnTo>
                    <a:pt x="368" y="1874"/>
                  </a:lnTo>
                  <a:lnTo>
                    <a:pt x="368" y="1874"/>
                  </a:lnTo>
                  <a:lnTo>
                    <a:pt x="366" y="1862"/>
                  </a:lnTo>
                  <a:lnTo>
                    <a:pt x="366" y="1850"/>
                  </a:lnTo>
                  <a:lnTo>
                    <a:pt x="368" y="1840"/>
                  </a:lnTo>
                  <a:lnTo>
                    <a:pt x="372" y="1830"/>
                  </a:lnTo>
                  <a:lnTo>
                    <a:pt x="378" y="1822"/>
                  </a:lnTo>
                  <a:lnTo>
                    <a:pt x="386" y="1814"/>
                  </a:lnTo>
                  <a:lnTo>
                    <a:pt x="394" y="1806"/>
                  </a:lnTo>
                  <a:lnTo>
                    <a:pt x="404" y="1800"/>
                  </a:lnTo>
                  <a:lnTo>
                    <a:pt x="404" y="1800"/>
                  </a:lnTo>
                  <a:lnTo>
                    <a:pt x="428" y="1786"/>
                  </a:lnTo>
                  <a:lnTo>
                    <a:pt x="446" y="1772"/>
                  </a:lnTo>
                  <a:lnTo>
                    <a:pt x="456" y="1758"/>
                  </a:lnTo>
                  <a:lnTo>
                    <a:pt x="460" y="1752"/>
                  </a:lnTo>
                  <a:lnTo>
                    <a:pt x="464" y="1744"/>
                  </a:lnTo>
                  <a:lnTo>
                    <a:pt x="464" y="1730"/>
                  </a:lnTo>
                  <a:lnTo>
                    <a:pt x="464" y="1710"/>
                  </a:lnTo>
                  <a:lnTo>
                    <a:pt x="458" y="1688"/>
                  </a:lnTo>
                  <a:lnTo>
                    <a:pt x="452" y="1660"/>
                  </a:lnTo>
                  <a:lnTo>
                    <a:pt x="174" y="466"/>
                  </a:lnTo>
                  <a:close/>
                  <a:moveTo>
                    <a:pt x="774" y="58"/>
                  </a:moveTo>
                  <a:lnTo>
                    <a:pt x="784" y="56"/>
                  </a:lnTo>
                  <a:lnTo>
                    <a:pt x="784" y="56"/>
                  </a:lnTo>
                  <a:lnTo>
                    <a:pt x="896" y="30"/>
                  </a:lnTo>
                  <a:lnTo>
                    <a:pt x="954" y="18"/>
                  </a:lnTo>
                  <a:lnTo>
                    <a:pt x="1010" y="8"/>
                  </a:lnTo>
                  <a:lnTo>
                    <a:pt x="1068" y="2"/>
                  </a:lnTo>
                  <a:lnTo>
                    <a:pt x="1124" y="0"/>
                  </a:lnTo>
                  <a:lnTo>
                    <a:pt x="1152" y="2"/>
                  </a:lnTo>
                  <a:lnTo>
                    <a:pt x="1182" y="4"/>
                  </a:lnTo>
                  <a:lnTo>
                    <a:pt x="1210" y="8"/>
                  </a:lnTo>
                  <a:lnTo>
                    <a:pt x="1238" y="14"/>
                  </a:lnTo>
                  <a:lnTo>
                    <a:pt x="1238" y="14"/>
                  </a:lnTo>
                  <a:lnTo>
                    <a:pt x="1270" y="22"/>
                  </a:lnTo>
                  <a:lnTo>
                    <a:pt x="1300" y="32"/>
                  </a:lnTo>
                  <a:lnTo>
                    <a:pt x="1328" y="42"/>
                  </a:lnTo>
                  <a:lnTo>
                    <a:pt x="1354" y="56"/>
                  </a:lnTo>
                  <a:lnTo>
                    <a:pt x="1380" y="70"/>
                  </a:lnTo>
                  <a:lnTo>
                    <a:pt x="1402" y="86"/>
                  </a:lnTo>
                  <a:lnTo>
                    <a:pt x="1426" y="104"/>
                  </a:lnTo>
                  <a:lnTo>
                    <a:pt x="1446" y="124"/>
                  </a:lnTo>
                  <a:lnTo>
                    <a:pt x="1464" y="144"/>
                  </a:lnTo>
                  <a:lnTo>
                    <a:pt x="1482" y="166"/>
                  </a:lnTo>
                  <a:lnTo>
                    <a:pt x="1498" y="190"/>
                  </a:lnTo>
                  <a:lnTo>
                    <a:pt x="1514" y="216"/>
                  </a:lnTo>
                  <a:lnTo>
                    <a:pt x="1526" y="242"/>
                  </a:lnTo>
                  <a:lnTo>
                    <a:pt x="1538" y="270"/>
                  </a:lnTo>
                  <a:lnTo>
                    <a:pt x="1548" y="300"/>
                  </a:lnTo>
                  <a:lnTo>
                    <a:pt x="1558" y="332"/>
                  </a:lnTo>
                  <a:lnTo>
                    <a:pt x="1558" y="332"/>
                  </a:lnTo>
                  <a:lnTo>
                    <a:pt x="1568" y="380"/>
                  </a:lnTo>
                  <a:lnTo>
                    <a:pt x="1572" y="426"/>
                  </a:lnTo>
                  <a:lnTo>
                    <a:pt x="1574" y="468"/>
                  </a:lnTo>
                  <a:lnTo>
                    <a:pt x="1570" y="508"/>
                  </a:lnTo>
                  <a:lnTo>
                    <a:pt x="1562" y="548"/>
                  </a:lnTo>
                  <a:lnTo>
                    <a:pt x="1550" y="584"/>
                  </a:lnTo>
                  <a:lnTo>
                    <a:pt x="1534" y="618"/>
                  </a:lnTo>
                  <a:lnTo>
                    <a:pt x="1514" y="652"/>
                  </a:lnTo>
                  <a:lnTo>
                    <a:pt x="1492" y="682"/>
                  </a:lnTo>
                  <a:lnTo>
                    <a:pt x="1466" y="712"/>
                  </a:lnTo>
                  <a:lnTo>
                    <a:pt x="1438" y="740"/>
                  </a:lnTo>
                  <a:lnTo>
                    <a:pt x="1406" y="766"/>
                  </a:lnTo>
                  <a:lnTo>
                    <a:pt x="1372" y="790"/>
                  </a:lnTo>
                  <a:lnTo>
                    <a:pt x="1336" y="814"/>
                  </a:lnTo>
                  <a:lnTo>
                    <a:pt x="1298" y="836"/>
                  </a:lnTo>
                  <a:lnTo>
                    <a:pt x="1258" y="856"/>
                  </a:lnTo>
                  <a:lnTo>
                    <a:pt x="1260" y="860"/>
                  </a:lnTo>
                  <a:lnTo>
                    <a:pt x="1260" y="860"/>
                  </a:lnTo>
                  <a:lnTo>
                    <a:pt x="1338" y="856"/>
                  </a:lnTo>
                  <a:lnTo>
                    <a:pt x="1376" y="856"/>
                  </a:lnTo>
                  <a:lnTo>
                    <a:pt x="1414" y="856"/>
                  </a:lnTo>
                  <a:lnTo>
                    <a:pt x="1450" y="860"/>
                  </a:lnTo>
                  <a:lnTo>
                    <a:pt x="1486" y="864"/>
                  </a:lnTo>
                  <a:lnTo>
                    <a:pt x="1520" y="872"/>
                  </a:lnTo>
                  <a:lnTo>
                    <a:pt x="1554" y="882"/>
                  </a:lnTo>
                  <a:lnTo>
                    <a:pt x="1584" y="896"/>
                  </a:lnTo>
                  <a:lnTo>
                    <a:pt x="1614" y="912"/>
                  </a:lnTo>
                  <a:lnTo>
                    <a:pt x="1642" y="932"/>
                  </a:lnTo>
                  <a:lnTo>
                    <a:pt x="1666" y="956"/>
                  </a:lnTo>
                  <a:lnTo>
                    <a:pt x="1678" y="970"/>
                  </a:lnTo>
                  <a:lnTo>
                    <a:pt x="1688" y="984"/>
                  </a:lnTo>
                  <a:lnTo>
                    <a:pt x="1698" y="1000"/>
                  </a:lnTo>
                  <a:lnTo>
                    <a:pt x="1708" y="1018"/>
                  </a:lnTo>
                  <a:lnTo>
                    <a:pt x="1716" y="1036"/>
                  </a:lnTo>
                  <a:lnTo>
                    <a:pt x="1724" y="1054"/>
                  </a:lnTo>
                  <a:lnTo>
                    <a:pt x="1736" y="1098"/>
                  </a:lnTo>
                  <a:lnTo>
                    <a:pt x="1784" y="1298"/>
                  </a:lnTo>
                  <a:lnTo>
                    <a:pt x="1784" y="1298"/>
                  </a:lnTo>
                  <a:lnTo>
                    <a:pt x="1788" y="1316"/>
                  </a:lnTo>
                  <a:lnTo>
                    <a:pt x="1794" y="1338"/>
                  </a:lnTo>
                  <a:lnTo>
                    <a:pt x="1798" y="1348"/>
                  </a:lnTo>
                  <a:lnTo>
                    <a:pt x="1804" y="1354"/>
                  </a:lnTo>
                  <a:lnTo>
                    <a:pt x="1812" y="1358"/>
                  </a:lnTo>
                  <a:lnTo>
                    <a:pt x="1822" y="1358"/>
                  </a:lnTo>
                  <a:lnTo>
                    <a:pt x="1822" y="1358"/>
                  </a:lnTo>
                  <a:lnTo>
                    <a:pt x="1828" y="1356"/>
                  </a:lnTo>
                  <a:lnTo>
                    <a:pt x="1834" y="1352"/>
                  </a:lnTo>
                  <a:lnTo>
                    <a:pt x="1842" y="1342"/>
                  </a:lnTo>
                  <a:lnTo>
                    <a:pt x="1850" y="1330"/>
                  </a:lnTo>
                  <a:lnTo>
                    <a:pt x="1856" y="1316"/>
                  </a:lnTo>
                  <a:lnTo>
                    <a:pt x="1864" y="1300"/>
                  </a:lnTo>
                  <a:lnTo>
                    <a:pt x="1874" y="1288"/>
                  </a:lnTo>
                  <a:lnTo>
                    <a:pt x="1880" y="1282"/>
                  </a:lnTo>
                  <a:lnTo>
                    <a:pt x="1886" y="1276"/>
                  </a:lnTo>
                  <a:lnTo>
                    <a:pt x="1894" y="1272"/>
                  </a:lnTo>
                  <a:lnTo>
                    <a:pt x="1904" y="1270"/>
                  </a:lnTo>
                  <a:lnTo>
                    <a:pt x="1904" y="1270"/>
                  </a:lnTo>
                  <a:lnTo>
                    <a:pt x="1916" y="1268"/>
                  </a:lnTo>
                  <a:lnTo>
                    <a:pt x="1928" y="1270"/>
                  </a:lnTo>
                  <a:lnTo>
                    <a:pt x="1940" y="1274"/>
                  </a:lnTo>
                  <a:lnTo>
                    <a:pt x="1954" y="1280"/>
                  </a:lnTo>
                  <a:lnTo>
                    <a:pt x="1964" y="1288"/>
                  </a:lnTo>
                  <a:lnTo>
                    <a:pt x="1974" y="1298"/>
                  </a:lnTo>
                  <a:lnTo>
                    <a:pt x="1982" y="1308"/>
                  </a:lnTo>
                  <a:lnTo>
                    <a:pt x="1986" y="1320"/>
                  </a:lnTo>
                  <a:lnTo>
                    <a:pt x="1986" y="1320"/>
                  </a:lnTo>
                  <a:lnTo>
                    <a:pt x="1988" y="1332"/>
                  </a:lnTo>
                  <a:lnTo>
                    <a:pt x="1988" y="1346"/>
                  </a:lnTo>
                  <a:lnTo>
                    <a:pt x="1988" y="1360"/>
                  </a:lnTo>
                  <a:lnTo>
                    <a:pt x="1986" y="1374"/>
                  </a:lnTo>
                  <a:lnTo>
                    <a:pt x="1978" y="1404"/>
                  </a:lnTo>
                  <a:lnTo>
                    <a:pt x="1966" y="1434"/>
                  </a:lnTo>
                  <a:lnTo>
                    <a:pt x="1952" y="1464"/>
                  </a:lnTo>
                  <a:lnTo>
                    <a:pt x="1936" y="1492"/>
                  </a:lnTo>
                  <a:lnTo>
                    <a:pt x="1920" y="1516"/>
                  </a:lnTo>
                  <a:lnTo>
                    <a:pt x="1904" y="1538"/>
                  </a:lnTo>
                  <a:lnTo>
                    <a:pt x="1904" y="1538"/>
                  </a:lnTo>
                  <a:lnTo>
                    <a:pt x="1880" y="1566"/>
                  </a:lnTo>
                  <a:lnTo>
                    <a:pt x="1854" y="1592"/>
                  </a:lnTo>
                  <a:lnTo>
                    <a:pt x="1828" y="1612"/>
                  </a:lnTo>
                  <a:lnTo>
                    <a:pt x="1798" y="1630"/>
                  </a:lnTo>
                  <a:lnTo>
                    <a:pt x="1768" y="1646"/>
                  </a:lnTo>
                  <a:lnTo>
                    <a:pt x="1736" y="1660"/>
                  </a:lnTo>
                  <a:lnTo>
                    <a:pt x="1702" y="1670"/>
                  </a:lnTo>
                  <a:lnTo>
                    <a:pt x="1666" y="1680"/>
                  </a:lnTo>
                  <a:lnTo>
                    <a:pt x="1666" y="1680"/>
                  </a:lnTo>
                  <a:lnTo>
                    <a:pt x="1630" y="1688"/>
                  </a:lnTo>
                  <a:lnTo>
                    <a:pt x="1594" y="1692"/>
                  </a:lnTo>
                  <a:lnTo>
                    <a:pt x="1558" y="1692"/>
                  </a:lnTo>
                  <a:lnTo>
                    <a:pt x="1522" y="1690"/>
                  </a:lnTo>
                  <a:lnTo>
                    <a:pt x="1488" y="1686"/>
                  </a:lnTo>
                  <a:lnTo>
                    <a:pt x="1454" y="1676"/>
                  </a:lnTo>
                  <a:lnTo>
                    <a:pt x="1420" y="1662"/>
                  </a:lnTo>
                  <a:lnTo>
                    <a:pt x="1388" y="1644"/>
                  </a:lnTo>
                  <a:lnTo>
                    <a:pt x="1388" y="1644"/>
                  </a:lnTo>
                  <a:lnTo>
                    <a:pt x="1370" y="1632"/>
                  </a:lnTo>
                  <a:lnTo>
                    <a:pt x="1354" y="1620"/>
                  </a:lnTo>
                  <a:lnTo>
                    <a:pt x="1338" y="1606"/>
                  </a:lnTo>
                  <a:lnTo>
                    <a:pt x="1324" y="1590"/>
                  </a:lnTo>
                  <a:lnTo>
                    <a:pt x="1312" y="1576"/>
                  </a:lnTo>
                  <a:lnTo>
                    <a:pt x="1300" y="1560"/>
                  </a:lnTo>
                  <a:lnTo>
                    <a:pt x="1280" y="1526"/>
                  </a:lnTo>
                  <a:lnTo>
                    <a:pt x="1264" y="1492"/>
                  </a:lnTo>
                  <a:lnTo>
                    <a:pt x="1250" y="1454"/>
                  </a:lnTo>
                  <a:lnTo>
                    <a:pt x="1238" y="1416"/>
                  </a:lnTo>
                  <a:lnTo>
                    <a:pt x="1228" y="1376"/>
                  </a:lnTo>
                  <a:lnTo>
                    <a:pt x="1192" y="1222"/>
                  </a:lnTo>
                  <a:lnTo>
                    <a:pt x="1192" y="1222"/>
                  </a:lnTo>
                  <a:lnTo>
                    <a:pt x="1182" y="1182"/>
                  </a:lnTo>
                  <a:lnTo>
                    <a:pt x="1170" y="1142"/>
                  </a:lnTo>
                  <a:lnTo>
                    <a:pt x="1156" y="1104"/>
                  </a:lnTo>
                  <a:lnTo>
                    <a:pt x="1148" y="1086"/>
                  </a:lnTo>
                  <a:lnTo>
                    <a:pt x="1138" y="1070"/>
                  </a:lnTo>
                  <a:lnTo>
                    <a:pt x="1126" y="1054"/>
                  </a:lnTo>
                  <a:lnTo>
                    <a:pt x="1114" y="1040"/>
                  </a:lnTo>
                  <a:lnTo>
                    <a:pt x="1098" y="1030"/>
                  </a:lnTo>
                  <a:lnTo>
                    <a:pt x="1082" y="1020"/>
                  </a:lnTo>
                  <a:lnTo>
                    <a:pt x="1064" y="1012"/>
                  </a:lnTo>
                  <a:lnTo>
                    <a:pt x="1044" y="1008"/>
                  </a:lnTo>
                  <a:lnTo>
                    <a:pt x="1020" y="1008"/>
                  </a:lnTo>
                  <a:lnTo>
                    <a:pt x="996" y="1008"/>
                  </a:lnTo>
                  <a:lnTo>
                    <a:pt x="964" y="874"/>
                  </a:lnTo>
                  <a:lnTo>
                    <a:pt x="964" y="874"/>
                  </a:lnTo>
                  <a:lnTo>
                    <a:pt x="986" y="866"/>
                  </a:lnTo>
                  <a:lnTo>
                    <a:pt x="1004" y="858"/>
                  </a:lnTo>
                  <a:lnTo>
                    <a:pt x="1020" y="848"/>
                  </a:lnTo>
                  <a:lnTo>
                    <a:pt x="1034" y="838"/>
                  </a:lnTo>
                  <a:lnTo>
                    <a:pt x="1044" y="826"/>
                  </a:lnTo>
                  <a:lnTo>
                    <a:pt x="1054" y="814"/>
                  </a:lnTo>
                  <a:lnTo>
                    <a:pt x="1060" y="800"/>
                  </a:lnTo>
                  <a:lnTo>
                    <a:pt x="1066" y="786"/>
                  </a:lnTo>
                  <a:lnTo>
                    <a:pt x="1070" y="772"/>
                  </a:lnTo>
                  <a:lnTo>
                    <a:pt x="1070" y="756"/>
                  </a:lnTo>
                  <a:lnTo>
                    <a:pt x="1072" y="738"/>
                  </a:lnTo>
                  <a:lnTo>
                    <a:pt x="1070" y="722"/>
                  </a:lnTo>
                  <a:lnTo>
                    <a:pt x="1066" y="684"/>
                  </a:lnTo>
                  <a:lnTo>
                    <a:pt x="1058" y="644"/>
                  </a:lnTo>
                  <a:lnTo>
                    <a:pt x="992" y="368"/>
                  </a:lnTo>
                  <a:lnTo>
                    <a:pt x="992" y="368"/>
                  </a:lnTo>
                  <a:lnTo>
                    <a:pt x="982" y="330"/>
                  </a:lnTo>
                  <a:lnTo>
                    <a:pt x="970" y="296"/>
                  </a:lnTo>
                  <a:lnTo>
                    <a:pt x="962" y="280"/>
                  </a:lnTo>
                  <a:lnTo>
                    <a:pt x="954" y="266"/>
                  </a:lnTo>
                  <a:lnTo>
                    <a:pt x="946" y="254"/>
                  </a:lnTo>
                  <a:lnTo>
                    <a:pt x="936" y="244"/>
                  </a:lnTo>
                  <a:lnTo>
                    <a:pt x="924" y="234"/>
                  </a:lnTo>
                  <a:lnTo>
                    <a:pt x="912" y="224"/>
                  </a:lnTo>
                  <a:lnTo>
                    <a:pt x="898" y="216"/>
                  </a:lnTo>
                  <a:lnTo>
                    <a:pt x="882" y="210"/>
                  </a:lnTo>
                  <a:lnTo>
                    <a:pt x="866" y="204"/>
                  </a:lnTo>
                  <a:lnTo>
                    <a:pt x="848" y="198"/>
                  </a:lnTo>
                  <a:lnTo>
                    <a:pt x="804" y="192"/>
                  </a:lnTo>
                  <a:lnTo>
                    <a:pt x="774" y="58"/>
                  </a:lnTo>
                  <a:close/>
                </a:path>
              </a:pathLst>
            </a:custGeom>
            <a:noFill/>
            <a:ln w="6858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178"/>
            <p:cNvSpPr/>
            <p:nvPr/>
          </p:nvSpPr>
          <p:spPr>
            <a:xfrm>
              <a:off x="345960" y="18548280"/>
              <a:ext cx="2203560" cy="315612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56120"/>
                <a:gd name="textAreaBottom" fmla="*/ 3156480 h 3156120"/>
              </a:gdLst>
              <a:ahLst/>
              <a:rect l="textAreaLeft" t="textAreaTop" r="textAreaRight" b="textAreaBottom"/>
              <a:pathLst>
                <a:path w="1388" h="1988">
                  <a:moveTo>
                    <a:pt x="172" y="528"/>
                  </a:moveTo>
                  <a:lnTo>
                    <a:pt x="172" y="528"/>
                  </a:lnTo>
                  <a:lnTo>
                    <a:pt x="164" y="500"/>
                  </a:lnTo>
                  <a:lnTo>
                    <a:pt x="158" y="476"/>
                  </a:lnTo>
                  <a:lnTo>
                    <a:pt x="152" y="460"/>
                  </a:lnTo>
                  <a:lnTo>
                    <a:pt x="144" y="446"/>
                  </a:lnTo>
                  <a:lnTo>
                    <a:pt x="138" y="442"/>
                  </a:lnTo>
                  <a:lnTo>
                    <a:pt x="132" y="436"/>
                  </a:lnTo>
                  <a:lnTo>
                    <a:pt x="116" y="430"/>
                  </a:lnTo>
                  <a:lnTo>
                    <a:pt x="94" y="426"/>
                  </a:lnTo>
                  <a:lnTo>
                    <a:pt x="66" y="424"/>
                  </a:lnTo>
                  <a:lnTo>
                    <a:pt x="66" y="424"/>
                  </a:lnTo>
                  <a:lnTo>
                    <a:pt x="54" y="422"/>
                  </a:lnTo>
                  <a:lnTo>
                    <a:pt x="42" y="418"/>
                  </a:lnTo>
                  <a:lnTo>
                    <a:pt x="32" y="414"/>
                  </a:lnTo>
                  <a:lnTo>
                    <a:pt x="24" y="410"/>
                  </a:lnTo>
                  <a:lnTo>
                    <a:pt x="16" y="402"/>
                  </a:lnTo>
                  <a:lnTo>
                    <a:pt x="10" y="394"/>
                  </a:lnTo>
                  <a:lnTo>
                    <a:pt x="4" y="384"/>
                  </a:lnTo>
                  <a:lnTo>
                    <a:pt x="0" y="374"/>
                  </a:lnTo>
                  <a:lnTo>
                    <a:pt x="0" y="374"/>
                  </a:lnTo>
                  <a:lnTo>
                    <a:pt x="0" y="362"/>
                  </a:lnTo>
                  <a:lnTo>
                    <a:pt x="0" y="350"/>
                  </a:lnTo>
                  <a:lnTo>
                    <a:pt x="0" y="340"/>
                  </a:lnTo>
                  <a:lnTo>
                    <a:pt x="4" y="332"/>
                  </a:lnTo>
                  <a:lnTo>
                    <a:pt x="8" y="324"/>
                  </a:lnTo>
                  <a:lnTo>
                    <a:pt x="14" y="316"/>
                  </a:lnTo>
                  <a:lnTo>
                    <a:pt x="26" y="304"/>
                  </a:lnTo>
                  <a:lnTo>
                    <a:pt x="40" y="296"/>
                  </a:lnTo>
                  <a:lnTo>
                    <a:pt x="52" y="288"/>
                  </a:lnTo>
                  <a:lnTo>
                    <a:pt x="68" y="284"/>
                  </a:lnTo>
                  <a:lnTo>
                    <a:pt x="670" y="142"/>
                  </a:lnTo>
                  <a:lnTo>
                    <a:pt x="1008" y="1590"/>
                  </a:lnTo>
                  <a:lnTo>
                    <a:pt x="1008" y="1590"/>
                  </a:lnTo>
                  <a:lnTo>
                    <a:pt x="1014" y="1618"/>
                  </a:lnTo>
                  <a:lnTo>
                    <a:pt x="1020" y="1640"/>
                  </a:lnTo>
                  <a:lnTo>
                    <a:pt x="1028" y="1658"/>
                  </a:lnTo>
                  <a:lnTo>
                    <a:pt x="1036" y="1672"/>
                  </a:lnTo>
                  <a:lnTo>
                    <a:pt x="1042" y="1676"/>
                  </a:lnTo>
                  <a:lnTo>
                    <a:pt x="1048" y="1680"/>
                  </a:lnTo>
                  <a:lnTo>
                    <a:pt x="1064" y="1688"/>
                  </a:lnTo>
                  <a:lnTo>
                    <a:pt x="1086" y="1692"/>
                  </a:lnTo>
                  <a:lnTo>
                    <a:pt x="1114" y="1694"/>
                  </a:lnTo>
                  <a:lnTo>
                    <a:pt x="1114" y="1694"/>
                  </a:lnTo>
                  <a:lnTo>
                    <a:pt x="1126" y="1696"/>
                  </a:lnTo>
                  <a:lnTo>
                    <a:pt x="1136" y="1698"/>
                  </a:lnTo>
                  <a:lnTo>
                    <a:pt x="1146" y="1702"/>
                  </a:lnTo>
                  <a:lnTo>
                    <a:pt x="1156" y="1708"/>
                  </a:lnTo>
                  <a:lnTo>
                    <a:pt x="1164" y="1714"/>
                  </a:lnTo>
                  <a:lnTo>
                    <a:pt x="1170" y="1724"/>
                  </a:lnTo>
                  <a:lnTo>
                    <a:pt x="1174" y="1732"/>
                  </a:lnTo>
                  <a:lnTo>
                    <a:pt x="1178" y="1744"/>
                  </a:lnTo>
                  <a:lnTo>
                    <a:pt x="1178" y="1744"/>
                  </a:lnTo>
                  <a:lnTo>
                    <a:pt x="1180" y="1756"/>
                  </a:lnTo>
                  <a:lnTo>
                    <a:pt x="1180" y="1766"/>
                  </a:lnTo>
                  <a:lnTo>
                    <a:pt x="1178" y="1776"/>
                  </a:lnTo>
                  <a:lnTo>
                    <a:pt x="1176" y="1786"/>
                  </a:lnTo>
                  <a:lnTo>
                    <a:pt x="1172" y="1794"/>
                  </a:lnTo>
                  <a:lnTo>
                    <a:pt x="1166" y="1802"/>
                  </a:lnTo>
                  <a:lnTo>
                    <a:pt x="1154" y="1814"/>
                  </a:lnTo>
                  <a:lnTo>
                    <a:pt x="1140" y="1822"/>
                  </a:lnTo>
                  <a:lnTo>
                    <a:pt x="1128" y="1828"/>
                  </a:lnTo>
                  <a:lnTo>
                    <a:pt x="1110" y="1834"/>
                  </a:lnTo>
                  <a:lnTo>
                    <a:pt x="466" y="1986"/>
                  </a:lnTo>
                  <a:lnTo>
                    <a:pt x="466" y="1986"/>
                  </a:lnTo>
                  <a:lnTo>
                    <a:pt x="450" y="1988"/>
                  </a:lnTo>
                  <a:lnTo>
                    <a:pt x="436" y="1988"/>
                  </a:lnTo>
                  <a:lnTo>
                    <a:pt x="418" y="1986"/>
                  </a:lnTo>
                  <a:lnTo>
                    <a:pt x="402" y="1980"/>
                  </a:lnTo>
                  <a:lnTo>
                    <a:pt x="394" y="1976"/>
                  </a:lnTo>
                  <a:lnTo>
                    <a:pt x="388" y="1970"/>
                  </a:lnTo>
                  <a:lnTo>
                    <a:pt x="380" y="1964"/>
                  </a:lnTo>
                  <a:lnTo>
                    <a:pt x="374" y="1956"/>
                  </a:lnTo>
                  <a:lnTo>
                    <a:pt x="370" y="1946"/>
                  </a:lnTo>
                  <a:lnTo>
                    <a:pt x="366" y="1934"/>
                  </a:lnTo>
                  <a:lnTo>
                    <a:pt x="366" y="1934"/>
                  </a:lnTo>
                  <a:lnTo>
                    <a:pt x="364" y="1922"/>
                  </a:lnTo>
                  <a:lnTo>
                    <a:pt x="364" y="1912"/>
                  </a:lnTo>
                  <a:lnTo>
                    <a:pt x="366" y="1902"/>
                  </a:lnTo>
                  <a:lnTo>
                    <a:pt x="370" y="1892"/>
                  </a:lnTo>
                  <a:lnTo>
                    <a:pt x="376" y="1882"/>
                  </a:lnTo>
                  <a:lnTo>
                    <a:pt x="384" y="1874"/>
                  </a:lnTo>
                  <a:lnTo>
                    <a:pt x="392" y="1868"/>
                  </a:lnTo>
                  <a:lnTo>
                    <a:pt x="402" y="1862"/>
                  </a:lnTo>
                  <a:lnTo>
                    <a:pt x="402" y="1862"/>
                  </a:lnTo>
                  <a:lnTo>
                    <a:pt x="426" y="1846"/>
                  </a:lnTo>
                  <a:lnTo>
                    <a:pt x="444" y="1832"/>
                  </a:lnTo>
                  <a:lnTo>
                    <a:pt x="454" y="1820"/>
                  </a:lnTo>
                  <a:lnTo>
                    <a:pt x="458" y="1812"/>
                  </a:lnTo>
                  <a:lnTo>
                    <a:pt x="462" y="1806"/>
                  </a:lnTo>
                  <a:lnTo>
                    <a:pt x="464" y="1790"/>
                  </a:lnTo>
                  <a:lnTo>
                    <a:pt x="462" y="1772"/>
                  </a:lnTo>
                  <a:lnTo>
                    <a:pt x="458" y="1748"/>
                  </a:lnTo>
                  <a:lnTo>
                    <a:pt x="450" y="1720"/>
                  </a:lnTo>
                  <a:lnTo>
                    <a:pt x="172" y="528"/>
                  </a:lnTo>
                  <a:close/>
                  <a:moveTo>
                    <a:pt x="772" y="118"/>
                  </a:moveTo>
                  <a:lnTo>
                    <a:pt x="1280" y="0"/>
                  </a:lnTo>
                  <a:lnTo>
                    <a:pt x="1388" y="462"/>
                  </a:lnTo>
                  <a:lnTo>
                    <a:pt x="1388" y="462"/>
                  </a:lnTo>
                  <a:lnTo>
                    <a:pt x="1388" y="476"/>
                  </a:lnTo>
                  <a:lnTo>
                    <a:pt x="1388" y="484"/>
                  </a:lnTo>
                  <a:lnTo>
                    <a:pt x="1384" y="496"/>
                  </a:lnTo>
                  <a:lnTo>
                    <a:pt x="1378" y="506"/>
                  </a:lnTo>
                  <a:lnTo>
                    <a:pt x="1368" y="516"/>
                  </a:lnTo>
                  <a:lnTo>
                    <a:pt x="1352" y="526"/>
                  </a:lnTo>
                  <a:lnTo>
                    <a:pt x="1330" y="532"/>
                  </a:lnTo>
                  <a:lnTo>
                    <a:pt x="1330" y="532"/>
                  </a:lnTo>
                  <a:lnTo>
                    <a:pt x="1316" y="534"/>
                  </a:lnTo>
                  <a:lnTo>
                    <a:pt x="1304" y="534"/>
                  </a:lnTo>
                  <a:lnTo>
                    <a:pt x="1294" y="532"/>
                  </a:lnTo>
                  <a:lnTo>
                    <a:pt x="1284" y="526"/>
                  </a:lnTo>
                  <a:lnTo>
                    <a:pt x="1276" y="520"/>
                  </a:lnTo>
                  <a:lnTo>
                    <a:pt x="1270" y="512"/>
                  </a:lnTo>
                  <a:lnTo>
                    <a:pt x="1254" y="490"/>
                  </a:lnTo>
                  <a:lnTo>
                    <a:pt x="1254" y="490"/>
                  </a:lnTo>
                  <a:lnTo>
                    <a:pt x="1236" y="460"/>
                  </a:lnTo>
                  <a:lnTo>
                    <a:pt x="1214" y="430"/>
                  </a:lnTo>
                  <a:lnTo>
                    <a:pt x="1192" y="404"/>
                  </a:lnTo>
                  <a:lnTo>
                    <a:pt x="1170" y="378"/>
                  </a:lnTo>
                  <a:lnTo>
                    <a:pt x="1146" y="356"/>
                  </a:lnTo>
                  <a:lnTo>
                    <a:pt x="1122" y="336"/>
                  </a:lnTo>
                  <a:lnTo>
                    <a:pt x="1096" y="318"/>
                  </a:lnTo>
                  <a:lnTo>
                    <a:pt x="1068" y="300"/>
                  </a:lnTo>
                  <a:lnTo>
                    <a:pt x="1040" y="286"/>
                  </a:lnTo>
                  <a:lnTo>
                    <a:pt x="1010" y="274"/>
                  </a:lnTo>
                  <a:lnTo>
                    <a:pt x="978" y="266"/>
                  </a:lnTo>
                  <a:lnTo>
                    <a:pt x="946" y="258"/>
                  </a:lnTo>
                  <a:lnTo>
                    <a:pt x="912" y="252"/>
                  </a:lnTo>
                  <a:lnTo>
                    <a:pt x="878" y="250"/>
                  </a:lnTo>
                  <a:lnTo>
                    <a:pt x="840" y="248"/>
                  </a:lnTo>
                  <a:lnTo>
                    <a:pt x="802" y="250"/>
                  </a:lnTo>
                  <a:lnTo>
                    <a:pt x="772" y="118"/>
                  </a:lnTo>
                  <a:close/>
                  <a:moveTo>
                    <a:pt x="950" y="878"/>
                  </a:moveTo>
                  <a:lnTo>
                    <a:pt x="950" y="878"/>
                  </a:lnTo>
                  <a:lnTo>
                    <a:pt x="966" y="870"/>
                  </a:lnTo>
                  <a:lnTo>
                    <a:pt x="980" y="858"/>
                  </a:lnTo>
                  <a:lnTo>
                    <a:pt x="994" y="846"/>
                  </a:lnTo>
                  <a:lnTo>
                    <a:pt x="1004" y="834"/>
                  </a:lnTo>
                  <a:lnTo>
                    <a:pt x="1016" y="820"/>
                  </a:lnTo>
                  <a:lnTo>
                    <a:pt x="1024" y="806"/>
                  </a:lnTo>
                  <a:lnTo>
                    <a:pt x="1032" y="792"/>
                  </a:lnTo>
                  <a:lnTo>
                    <a:pt x="1040" y="776"/>
                  </a:lnTo>
                  <a:lnTo>
                    <a:pt x="1050" y="744"/>
                  </a:lnTo>
                  <a:lnTo>
                    <a:pt x="1056" y="710"/>
                  </a:lnTo>
                  <a:lnTo>
                    <a:pt x="1060" y="676"/>
                  </a:lnTo>
                  <a:lnTo>
                    <a:pt x="1062" y="642"/>
                  </a:lnTo>
                  <a:lnTo>
                    <a:pt x="1062" y="642"/>
                  </a:lnTo>
                  <a:lnTo>
                    <a:pt x="1064" y="610"/>
                  </a:lnTo>
                  <a:lnTo>
                    <a:pt x="1068" y="596"/>
                  </a:lnTo>
                  <a:lnTo>
                    <a:pt x="1072" y="584"/>
                  </a:lnTo>
                  <a:lnTo>
                    <a:pt x="1080" y="572"/>
                  </a:lnTo>
                  <a:lnTo>
                    <a:pt x="1088" y="562"/>
                  </a:lnTo>
                  <a:lnTo>
                    <a:pt x="1102" y="554"/>
                  </a:lnTo>
                  <a:lnTo>
                    <a:pt x="1118" y="548"/>
                  </a:lnTo>
                  <a:lnTo>
                    <a:pt x="1118" y="548"/>
                  </a:lnTo>
                  <a:lnTo>
                    <a:pt x="1130" y="546"/>
                  </a:lnTo>
                  <a:lnTo>
                    <a:pt x="1140" y="548"/>
                  </a:lnTo>
                  <a:lnTo>
                    <a:pt x="1150" y="550"/>
                  </a:lnTo>
                  <a:lnTo>
                    <a:pt x="1160" y="552"/>
                  </a:lnTo>
                  <a:lnTo>
                    <a:pt x="1166" y="558"/>
                  </a:lnTo>
                  <a:lnTo>
                    <a:pt x="1174" y="564"/>
                  </a:lnTo>
                  <a:lnTo>
                    <a:pt x="1184" y="580"/>
                  </a:lnTo>
                  <a:lnTo>
                    <a:pt x="1190" y="596"/>
                  </a:lnTo>
                  <a:lnTo>
                    <a:pt x="1194" y="612"/>
                  </a:lnTo>
                  <a:lnTo>
                    <a:pt x="1200" y="636"/>
                  </a:lnTo>
                  <a:lnTo>
                    <a:pt x="1314" y="1126"/>
                  </a:lnTo>
                  <a:lnTo>
                    <a:pt x="1314" y="1126"/>
                  </a:lnTo>
                  <a:lnTo>
                    <a:pt x="1320" y="1150"/>
                  </a:lnTo>
                  <a:lnTo>
                    <a:pt x="1324" y="1166"/>
                  </a:lnTo>
                  <a:lnTo>
                    <a:pt x="1324" y="1184"/>
                  </a:lnTo>
                  <a:lnTo>
                    <a:pt x="1322" y="1202"/>
                  </a:lnTo>
                  <a:lnTo>
                    <a:pt x="1320" y="1210"/>
                  </a:lnTo>
                  <a:lnTo>
                    <a:pt x="1316" y="1218"/>
                  </a:lnTo>
                  <a:lnTo>
                    <a:pt x="1308" y="1226"/>
                  </a:lnTo>
                  <a:lnTo>
                    <a:pt x="1302" y="1232"/>
                  </a:lnTo>
                  <a:lnTo>
                    <a:pt x="1292" y="1236"/>
                  </a:lnTo>
                  <a:lnTo>
                    <a:pt x="1280" y="1240"/>
                  </a:lnTo>
                  <a:lnTo>
                    <a:pt x="1280" y="1240"/>
                  </a:lnTo>
                  <a:lnTo>
                    <a:pt x="1262" y="1242"/>
                  </a:lnTo>
                  <a:lnTo>
                    <a:pt x="1248" y="1242"/>
                  </a:lnTo>
                  <a:lnTo>
                    <a:pt x="1234" y="1236"/>
                  </a:lnTo>
                  <a:lnTo>
                    <a:pt x="1224" y="1230"/>
                  </a:lnTo>
                  <a:lnTo>
                    <a:pt x="1214" y="1220"/>
                  </a:lnTo>
                  <a:lnTo>
                    <a:pt x="1204" y="1208"/>
                  </a:lnTo>
                  <a:lnTo>
                    <a:pt x="1188" y="1182"/>
                  </a:lnTo>
                  <a:lnTo>
                    <a:pt x="1188" y="1182"/>
                  </a:lnTo>
                  <a:lnTo>
                    <a:pt x="1172" y="1152"/>
                  </a:lnTo>
                  <a:lnTo>
                    <a:pt x="1154" y="1124"/>
                  </a:lnTo>
                  <a:lnTo>
                    <a:pt x="1132" y="1096"/>
                  </a:lnTo>
                  <a:lnTo>
                    <a:pt x="1108" y="1072"/>
                  </a:lnTo>
                  <a:lnTo>
                    <a:pt x="1096" y="1060"/>
                  </a:lnTo>
                  <a:lnTo>
                    <a:pt x="1082" y="1050"/>
                  </a:lnTo>
                  <a:lnTo>
                    <a:pt x="1068" y="1042"/>
                  </a:lnTo>
                  <a:lnTo>
                    <a:pt x="1052" y="1034"/>
                  </a:lnTo>
                  <a:lnTo>
                    <a:pt x="1036" y="1028"/>
                  </a:lnTo>
                  <a:lnTo>
                    <a:pt x="1018" y="1024"/>
                  </a:lnTo>
                  <a:lnTo>
                    <a:pt x="1002" y="1020"/>
                  </a:lnTo>
                  <a:lnTo>
                    <a:pt x="982" y="1020"/>
                  </a:lnTo>
                  <a:lnTo>
                    <a:pt x="950" y="878"/>
                  </a:lnTo>
                  <a:close/>
                </a:path>
              </a:pathLst>
            </a:custGeom>
            <a:noFill/>
            <a:ln w="63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179"/>
            <p:cNvSpPr/>
            <p:nvPr/>
          </p:nvSpPr>
          <p:spPr>
            <a:xfrm>
              <a:off x="3171600" y="18094320"/>
              <a:ext cx="2522520" cy="3079800"/>
            </a:xfrm>
            <a:custGeom>
              <a:avLst/>
              <a:gdLst>
                <a:gd name="textAreaLeft" fmla="*/ 0 w 2522520"/>
                <a:gd name="textAreaRight" fmla="*/ 2522880 w 2522520"/>
                <a:gd name="textAreaTop" fmla="*/ 0 h 3079800"/>
                <a:gd name="textAreaBottom" fmla="*/ 3080160 h 3079800"/>
              </a:gdLst>
              <a:ahLst/>
              <a:rect l="textAreaLeft" t="textAreaTop" r="textAreaRight" b="textAreaBottom"/>
              <a:pathLst>
                <a:path w="1589" h="1940">
                  <a:moveTo>
                    <a:pt x="334" y="698"/>
                  </a:moveTo>
                  <a:lnTo>
                    <a:pt x="302" y="1526"/>
                  </a:lnTo>
                  <a:lnTo>
                    <a:pt x="302" y="1526"/>
                  </a:lnTo>
                  <a:lnTo>
                    <a:pt x="304" y="1576"/>
                  </a:lnTo>
                  <a:lnTo>
                    <a:pt x="306" y="1596"/>
                  </a:lnTo>
                  <a:lnTo>
                    <a:pt x="308" y="1616"/>
                  </a:lnTo>
                  <a:lnTo>
                    <a:pt x="312" y="1632"/>
                  </a:lnTo>
                  <a:lnTo>
                    <a:pt x="318" y="1648"/>
                  </a:lnTo>
                  <a:lnTo>
                    <a:pt x="324" y="1660"/>
                  </a:lnTo>
                  <a:lnTo>
                    <a:pt x="330" y="1672"/>
                  </a:lnTo>
                  <a:lnTo>
                    <a:pt x="338" y="1682"/>
                  </a:lnTo>
                  <a:lnTo>
                    <a:pt x="348" y="1690"/>
                  </a:lnTo>
                  <a:lnTo>
                    <a:pt x="358" y="1698"/>
                  </a:lnTo>
                  <a:lnTo>
                    <a:pt x="370" y="1704"/>
                  </a:lnTo>
                  <a:lnTo>
                    <a:pt x="396" y="1714"/>
                  </a:lnTo>
                  <a:lnTo>
                    <a:pt x="426" y="1720"/>
                  </a:lnTo>
                  <a:lnTo>
                    <a:pt x="426" y="1720"/>
                  </a:lnTo>
                  <a:lnTo>
                    <a:pt x="454" y="1726"/>
                  </a:lnTo>
                  <a:lnTo>
                    <a:pt x="468" y="1730"/>
                  </a:lnTo>
                  <a:lnTo>
                    <a:pt x="480" y="1736"/>
                  </a:lnTo>
                  <a:lnTo>
                    <a:pt x="490" y="1742"/>
                  </a:lnTo>
                  <a:lnTo>
                    <a:pt x="498" y="1752"/>
                  </a:lnTo>
                  <a:lnTo>
                    <a:pt x="506" y="1764"/>
                  </a:lnTo>
                  <a:lnTo>
                    <a:pt x="512" y="1780"/>
                  </a:lnTo>
                  <a:lnTo>
                    <a:pt x="512" y="1780"/>
                  </a:lnTo>
                  <a:lnTo>
                    <a:pt x="512" y="1790"/>
                  </a:lnTo>
                  <a:lnTo>
                    <a:pt x="512" y="1802"/>
                  </a:lnTo>
                  <a:lnTo>
                    <a:pt x="510" y="1810"/>
                  </a:lnTo>
                  <a:lnTo>
                    <a:pt x="508" y="1818"/>
                  </a:lnTo>
                  <a:lnTo>
                    <a:pt x="502" y="1826"/>
                  </a:lnTo>
                  <a:lnTo>
                    <a:pt x="496" y="1832"/>
                  </a:lnTo>
                  <a:lnTo>
                    <a:pt x="482" y="1844"/>
                  </a:lnTo>
                  <a:lnTo>
                    <a:pt x="464" y="1852"/>
                  </a:lnTo>
                  <a:lnTo>
                    <a:pt x="444" y="1860"/>
                  </a:lnTo>
                  <a:lnTo>
                    <a:pt x="408" y="1868"/>
                  </a:lnTo>
                  <a:lnTo>
                    <a:pt x="146" y="1930"/>
                  </a:lnTo>
                  <a:lnTo>
                    <a:pt x="146" y="1930"/>
                  </a:lnTo>
                  <a:lnTo>
                    <a:pt x="106" y="1938"/>
                  </a:lnTo>
                  <a:lnTo>
                    <a:pt x="84" y="1940"/>
                  </a:lnTo>
                  <a:lnTo>
                    <a:pt x="62" y="1940"/>
                  </a:lnTo>
                  <a:lnTo>
                    <a:pt x="42" y="1936"/>
                  </a:lnTo>
                  <a:lnTo>
                    <a:pt x="32" y="1932"/>
                  </a:lnTo>
                  <a:lnTo>
                    <a:pt x="24" y="1926"/>
                  </a:lnTo>
                  <a:lnTo>
                    <a:pt x="18" y="1920"/>
                  </a:lnTo>
                  <a:lnTo>
                    <a:pt x="10" y="1912"/>
                  </a:lnTo>
                  <a:lnTo>
                    <a:pt x="6" y="1902"/>
                  </a:lnTo>
                  <a:lnTo>
                    <a:pt x="2" y="1892"/>
                  </a:lnTo>
                  <a:lnTo>
                    <a:pt x="2" y="1892"/>
                  </a:lnTo>
                  <a:lnTo>
                    <a:pt x="0" y="1872"/>
                  </a:lnTo>
                  <a:lnTo>
                    <a:pt x="2" y="1858"/>
                  </a:lnTo>
                  <a:lnTo>
                    <a:pt x="8" y="1846"/>
                  </a:lnTo>
                  <a:lnTo>
                    <a:pt x="16" y="1836"/>
                  </a:lnTo>
                  <a:lnTo>
                    <a:pt x="28" y="1826"/>
                  </a:lnTo>
                  <a:lnTo>
                    <a:pt x="42" y="1816"/>
                  </a:lnTo>
                  <a:lnTo>
                    <a:pt x="56" y="1806"/>
                  </a:lnTo>
                  <a:lnTo>
                    <a:pt x="72" y="1794"/>
                  </a:lnTo>
                  <a:lnTo>
                    <a:pt x="72" y="1794"/>
                  </a:lnTo>
                  <a:lnTo>
                    <a:pt x="88" y="1778"/>
                  </a:lnTo>
                  <a:lnTo>
                    <a:pt x="104" y="1760"/>
                  </a:lnTo>
                  <a:lnTo>
                    <a:pt x="120" y="1736"/>
                  </a:lnTo>
                  <a:lnTo>
                    <a:pt x="134" y="1706"/>
                  </a:lnTo>
                  <a:lnTo>
                    <a:pt x="148" y="1672"/>
                  </a:lnTo>
                  <a:lnTo>
                    <a:pt x="158" y="1628"/>
                  </a:lnTo>
                  <a:lnTo>
                    <a:pt x="166" y="1578"/>
                  </a:lnTo>
                  <a:lnTo>
                    <a:pt x="170" y="1518"/>
                  </a:lnTo>
                  <a:lnTo>
                    <a:pt x="208" y="456"/>
                  </a:lnTo>
                  <a:lnTo>
                    <a:pt x="216" y="454"/>
                  </a:lnTo>
                  <a:lnTo>
                    <a:pt x="334" y="698"/>
                  </a:lnTo>
                  <a:close/>
                  <a:moveTo>
                    <a:pt x="738" y="1326"/>
                  </a:moveTo>
                  <a:lnTo>
                    <a:pt x="406" y="1404"/>
                  </a:lnTo>
                  <a:lnTo>
                    <a:pt x="408" y="1264"/>
                  </a:lnTo>
                  <a:lnTo>
                    <a:pt x="684" y="1198"/>
                  </a:lnTo>
                  <a:lnTo>
                    <a:pt x="220" y="246"/>
                  </a:lnTo>
                  <a:lnTo>
                    <a:pt x="220" y="116"/>
                  </a:lnTo>
                  <a:lnTo>
                    <a:pt x="724" y="0"/>
                  </a:lnTo>
                  <a:lnTo>
                    <a:pt x="1403" y="1358"/>
                  </a:lnTo>
                  <a:lnTo>
                    <a:pt x="1403" y="1358"/>
                  </a:lnTo>
                  <a:lnTo>
                    <a:pt x="1421" y="1400"/>
                  </a:lnTo>
                  <a:lnTo>
                    <a:pt x="1431" y="1418"/>
                  </a:lnTo>
                  <a:lnTo>
                    <a:pt x="1443" y="1434"/>
                  </a:lnTo>
                  <a:lnTo>
                    <a:pt x="1455" y="1446"/>
                  </a:lnTo>
                  <a:lnTo>
                    <a:pt x="1471" y="1458"/>
                  </a:lnTo>
                  <a:lnTo>
                    <a:pt x="1489" y="1468"/>
                  </a:lnTo>
                  <a:lnTo>
                    <a:pt x="1513" y="1474"/>
                  </a:lnTo>
                  <a:lnTo>
                    <a:pt x="1513" y="1474"/>
                  </a:lnTo>
                  <a:lnTo>
                    <a:pt x="1539" y="1478"/>
                  </a:lnTo>
                  <a:lnTo>
                    <a:pt x="1549" y="1484"/>
                  </a:lnTo>
                  <a:lnTo>
                    <a:pt x="1559" y="1488"/>
                  </a:lnTo>
                  <a:lnTo>
                    <a:pt x="1569" y="1496"/>
                  </a:lnTo>
                  <a:lnTo>
                    <a:pt x="1575" y="1504"/>
                  </a:lnTo>
                  <a:lnTo>
                    <a:pt x="1583" y="1516"/>
                  </a:lnTo>
                  <a:lnTo>
                    <a:pt x="1587" y="1530"/>
                  </a:lnTo>
                  <a:lnTo>
                    <a:pt x="1587" y="1530"/>
                  </a:lnTo>
                  <a:lnTo>
                    <a:pt x="1589" y="1542"/>
                  </a:lnTo>
                  <a:lnTo>
                    <a:pt x="1587" y="1552"/>
                  </a:lnTo>
                  <a:lnTo>
                    <a:pt x="1585" y="1560"/>
                  </a:lnTo>
                  <a:lnTo>
                    <a:pt x="1581" y="1568"/>
                  </a:lnTo>
                  <a:lnTo>
                    <a:pt x="1575" y="1576"/>
                  </a:lnTo>
                  <a:lnTo>
                    <a:pt x="1569" y="1582"/>
                  </a:lnTo>
                  <a:lnTo>
                    <a:pt x="1553" y="1594"/>
                  </a:lnTo>
                  <a:lnTo>
                    <a:pt x="1533" y="1602"/>
                  </a:lnTo>
                  <a:lnTo>
                    <a:pt x="1513" y="1610"/>
                  </a:lnTo>
                  <a:lnTo>
                    <a:pt x="1475" y="1618"/>
                  </a:lnTo>
                  <a:lnTo>
                    <a:pt x="908" y="1752"/>
                  </a:lnTo>
                  <a:lnTo>
                    <a:pt x="908" y="1752"/>
                  </a:lnTo>
                  <a:lnTo>
                    <a:pt x="890" y="1756"/>
                  </a:lnTo>
                  <a:lnTo>
                    <a:pt x="870" y="1758"/>
                  </a:lnTo>
                  <a:lnTo>
                    <a:pt x="852" y="1760"/>
                  </a:lnTo>
                  <a:lnTo>
                    <a:pt x="832" y="1758"/>
                  </a:lnTo>
                  <a:lnTo>
                    <a:pt x="816" y="1754"/>
                  </a:lnTo>
                  <a:lnTo>
                    <a:pt x="808" y="1750"/>
                  </a:lnTo>
                  <a:lnTo>
                    <a:pt x="800" y="1746"/>
                  </a:lnTo>
                  <a:lnTo>
                    <a:pt x="794" y="1740"/>
                  </a:lnTo>
                  <a:lnTo>
                    <a:pt x="788" y="1732"/>
                  </a:lnTo>
                  <a:lnTo>
                    <a:pt x="784" y="1724"/>
                  </a:lnTo>
                  <a:lnTo>
                    <a:pt x="782" y="1714"/>
                  </a:lnTo>
                  <a:lnTo>
                    <a:pt x="782" y="1714"/>
                  </a:lnTo>
                  <a:lnTo>
                    <a:pt x="778" y="1702"/>
                  </a:lnTo>
                  <a:lnTo>
                    <a:pt x="778" y="1690"/>
                  </a:lnTo>
                  <a:lnTo>
                    <a:pt x="780" y="1680"/>
                  </a:lnTo>
                  <a:lnTo>
                    <a:pt x="782" y="1672"/>
                  </a:lnTo>
                  <a:lnTo>
                    <a:pt x="788" y="1664"/>
                  </a:lnTo>
                  <a:lnTo>
                    <a:pt x="794" y="1656"/>
                  </a:lnTo>
                  <a:lnTo>
                    <a:pt x="810" y="1640"/>
                  </a:lnTo>
                  <a:lnTo>
                    <a:pt x="810" y="1640"/>
                  </a:lnTo>
                  <a:lnTo>
                    <a:pt x="826" y="1624"/>
                  </a:lnTo>
                  <a:lnTo>
                    <a:pt x="840" y="1608"/>
                  </a:lnTo>
                  <a:lnTo>
                    <a:pt x="848" y="1594"/>
                  </a:lnTo>
                  <a:lnTo>
                    <a:pt x="852" y="1578"/>
                  </a:lnTo>
                  <a:lnTo>
                    <a:pt x="852" y="1562"/>
                  </a:lnTo>
                  <a:lnTo>
                    <a:pt x="848" y="1542"/>
                  </a:lnTo>
                  <a:lnTo>
                    <a:pt x="838" y="1518"/>
                  </a:lnTo>
                  <a:lnTo>
                    <a:pt x="824" y="1490"/>
                  </a:lnTo>
                  <a:lnTo>
                    <a:pt x="738" y="1326"/>
                  </a:lnTo>
                  <a:close/>
                </a:path>
              </a:pathLst>
            </a:custGeom>
            <a:noFill/>
            <a:ln w="63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180"/>
            <p:cNvSpPr/>
            <p:nvPr/>
          </p:nvSpPr>
          <p:spPr>
            <a:xfrm>
              <a:off x="5440320" y="17564040"/>
              <a:ext cx="1873080" cy="2946600"/>
            </a:xfrm>
            <a:custGeom>
              <a:avLst/>
              <a:gdLst>
                <a:gd name="textAreaLeft" fmla="*/ 0 w 1873080"/>
                <a:gd name="textAreaRight" fmla="*/ 1873440 w 1873080"/>
                <a:gd name="textAreaTop" fmla="*/ 0 h 2946600"/>
                <a:gd name="textAreaBottom" fmla="*/ 2946960 h 2946600"/>
              </a:gdLst>
              <a:ahLst/>
              <a:rect l="textAreaLeft" t="textAreaTop" r="textAreaRight" b="textAreaBottom"/>
              <a:pathLst>
                <a:path w="1180" h="1856">
                  <a:moveTo>
                    <a:pt x="1008" y="1458"/>
                  </a:moveTo>
                  <a:lnTo>
                    <a:pt x="1008" y="1458"/>
                  </a:lnTo>
                  <a:lnTo>
                    <a:pt x="1014" y="1488"/>
                  </a:lnTo>
                  <a:lnTo>
                    <a:pt x="1022" y="1510"/>
                  </a:lnTo>
                  <a:lnTo>
                    <a:pt x="1028" y="1528"/>
                  </a:lnTo>
                  <a:lnTo>
                    <a:pt x="1036" y="1540"/>
                  </a:lnTo>
                  <a:lnTo>
                    <a:pt x="1042" y="1546"/>
                  </a:lnTo>
                  <a:lnTo>
                    <a:pt x="1048" y="1550"/>
                  </a:lnTo>
                  <a:lnTo>
                    <a:pt x="1064" y="1556"/>
                  </a:lnTo>
                  <a:lnTo>
                    <a:pt x="1086" y="1560"/>
                  </a:lnTo>
                  <a:lnTo>
                    <a:pt x="1114" y="1564"/>
                  </a:lnTo>
                  <a:lnTo>
                    <a:pt x="1114" y="1564"/>
                  </a:lnTo>
                  <a:lnTo>
                    <a:pt x="1126" y="1566"/>
                  </a:lnTo>
                  <a:lnTo>
                    <a:pt x="1136" y="1568"/>
                  </a:lnTo>
                  <a:lnTo>
                    <a:pt x="1146" y="1572"/>
                  </a:lnTo>
                  <a:lnTo>
                    <a:pt x="1156" y="1578"/>
                  </a:lnTo>
                  <a:lnTo>
                    <a:pt x="1164" y="1584"/>
                  </a:lnTo>
                  <a:lnTo>
                    <a:pt x="1170" y="1592"/>
                  </a:lnTo>
                  <a:lnTo>
                    <a:pt x="1176" y="1602"/>
                  </a:lnTo>
                  <a:lnTo>
                    <a:pt x="1178" y="1614"/>
                  </a:lnTo>
                  <a:lnTo>
                    <a:pt x="1178" y="1614"/>
                  </a:lnTo>
                  <a:lnTo>
                    <a:pt x="1180" y="1626"/>
                  </a:lnTo>
                  <a:lnTo>
                    <a:pt x="1180" y="1636"/>
                  </a:lnTo>
                  <a:lnTo>
                    <a:pt x="1180" y="1646"/>
                  </a:lnTo>
                  <a:lnTo>
                    <a:pt x="1176" y="1654"/>
                  </a:lnTo>
                  <a:lnTo>
                    <a:pt x="1172" y="1664"/>
                  </a:lnTo>
                  <a:lnTo>
                    <a:pt x="1166" y="1670"/>
                  </a:lnTo>
                  <a:lnTo>
                    <a:pt x="1154" y="1682"/>
                  </a:lnTo>
                  <a:lnTo>
                    <a:pt x="1140" y="1692"/>
                  </a:lnTo>
                  <a:lnTo>
                    <a:pt x="1128" y="1698"/>
                  </a:lnTo>
                  <a:lnTo>
                    <a:pt x="1112" y="1704"/>
                  </a:lnTo>
                  <a:lnTo>
                    <a:pt x="468" y="1854"/>
                  </a:lnTo>
                  <a:lnTo>
                    <a:pt x="468" y="1854"/>
                  </a:lnTo>
                  <a:lnTo>
                    <a:pt x="450" y="1856"/>
                  </a:lnTo>
                  <a:lnTo>
                    <a:pt x="436" y="1856"/>
                  </a:lnTo>
                  <a:lnTo>
                    <a:pt x="420" y="1854"/>
                  </a:lnTo>
                  <a:lnTo>
                    <a:pt x="402" y="1850"/>
                  </a:lnTo>
                  <a:lnTo>
                    <a:pt x="394" y="1844"/>
                  </a:lnTo>
                  <a:lnTo>
                    <a:pt x="388" y="1840"/>
                  </a:lnTo>
                  <a:lnTo>
                    <a:pt x="380" y="1832"/>
                  </a:lnTo>
                  <a:lnTo>
                    <a:pt x="374" y="1824"/>
                  </a:lnTo>
                  <a:lnTo>
                    <a:pt x="370" y="1814"/>
                  </a:lnTo>
                  <a:lnTo>
                    <a:pt x="366" y="1804"/>
                  </a:lnTo>
                  <a:lnTo>
                    <a:pt x="366" y="1804"/>
                  </a:lnTo>
                  <a:lnTo>
                    <a:pt x="364" y="1792"/>
                  </a:lnTo>
                  <a:lnTo>
                    <a:pt x="366" y="1780"/>
                  </a:lnTo>
                  <a:lnTo>
                    <a:pt x="368" y="1770"/>
                  </a:lnTo>
                  <a:lnTo>
                    <a:pt x="372" y="1760"/>
                  </a:lnTo>
                  <a:lnTo>
                    <a:pt x="376" y="1752"/>
                  </a:lnTo>
                  <a:lnTo>
                    <a:pt x="384" y="1744"/>
                  </a:lnTo>
                  <a:lnTo>
                    <a:pt x="392" y="1736"/>
                  </a:lnTo>
                  <a:lnTo>
                    <a:pt x="402" y="1730"/>
                  </a:lnTo>
                  <a:lnTo>
                    <a:pt x="402" y="1730"/>
                  </a:lnTo>
                  <a:lnTo>
                    <a:pt x="426" y="1716"/>
                  </a:lnTo>
                  <a:lnTo>
                    <a:pt x="444" y="1702"/>
                  </a:lnTo>
                  <a:lnTo>
                    <a:pt x="456" y="1688"/>
                  </a:lnTo>
                  <a:lnTo>
                    <a:pt x="458" y="1682"/>
                  </a:lnTo>
                  <a:lnTo>
                    <a:pt x="462" y="1674"/>
                  </a:lnTo>
                  <a:lnTo>
                    <a:pt x="464" y="1660"/>
                  </a:lnTo>
                  <a:lnTo>
                    <a:pt x="462" y="1640"/>
                  </a:lnTo>
                  <a:lnTo>
                    <a:pt x="458" y="1618"/>
                  </a:lnTo>
                  <a:lnTo>
                    <a:pt x="450" y="1590"/>
                  </a:lnTo>
                  <a:lnTo>
                    <a:pt x="172" y="396"/>
                  </a:lnTo>
                  <a:lnTo>
                    <a:pt x="172" y="396"/>
                  </a:lnTo>
                  <a:lnTo>
                    <a:pt x="166" y="368"/>
                  </a:lnTo>
                  <a:lnTo>
                    <a:pt x="158" y="346"/>
                  </a:lnTo>
                  <a:lnTo>
                    <a:pt x="152" y="328"/>
                  </a:lnTo>
                  <a:lnTo>
                    <a:pt x="144" y="316"/>
                  </a:lnTo>
                  <a:lnTo>
                    <a:pt x="138" y="310"/>
                  </a:lnTo>
                  <a:lnTo>
                    <a:pt x="132" y="306"/>
                  </a:lnTo>
                  <a:lnTo>
                    <a:pt x="116" y="300"/>
                  </a:lnTo>
                  <a:lnTo>
                    <a:pt x="94" y="296"/>
                  </a:lnTo>
                  <a:lnTo>
                    <a:pt x="66" y="292"/>
                  </a:lnTo>
                  <a:lnTo>
                    <a:pt x="66" y="292"/>
                  </a:lnTo>
                  <a:lnTo>
                    <a:pt x="54" y="290"/>
                  </a:lnTo>
                  <a:lnTo>
                    <a:pt x="44" y="288"/>
                  </a:lnTo>
                  <a:lnTo>
                    <a:pt x="34" y="284"/>
                  </a:lnTo>
                  <a:lnTo>
                    <a:pt x="24" y="278"/>
                  </a:lnTo>
                  <a:lnTo>
                    <a:pt x="16" y="272"/>
                  </a:lnTo>
                  <a:lnTo>
                    <a:pt x="10" y="264"/>
                  </a:lnTo>
                  <a:lnTo>
                    <a:pt x="4" y="254"/>
                  </a:lnTo>
                  <a:lnTo>
                    <a:pt x="2" y="242"/>
                  </a:lnTo>
                  <a:lnTo>
                    <a:pt x="2" y="242"/>
                  </a:lnTo>
                  <a:lnTo>
                    <a:pt x="0" y="230"/>
                  </a:lnTo>
                  <a:lnTo>
                    <a:pt x="0" y="220"/>
                  </a:lnTo>
                  <a:lnTo>
                    <a:pt x="0" y="210"/>
                  </a:lnTo>
                  <a:lnTo>
                    <a:pt x="4" y="200"/>
                  </a:lnTo>
                  <a:lnTo>
                    <a:pt x="8" y="192"/>
                  </a:lnTo>
                  <a:lnTo>
                    <a:pt x="14" y="186"/>
                  </a:lnTo>
                  <a:lnTo>
                    <a:pt x="26" y="174"/>
                  </a:lnTo>
                  <a:lnTo>
                    <a:pt x="40" y="164"/>
                  </a:lnTo>
                  <a:lnTo>
                    <a:pt x="52" y="158"/>
                  </a:lnTo>
                  <a:lnTo>
                    <a:pt x="68" y="152"/>
                  </a:lnTo>
                  <a:lnTo>
                    <a:pt x="712" y="2"/>
                  </a:lnTo>
                  <a:lnTo>
                    <a:pt x="712" y="2"/>
                  </a:lnTo>
                  <a:lnTo>
                    <a:pt x="730" y="0"/>
                  </a:lnTo>
                  <a:lnTo>
                    <a:pt x="744" y="0"/>
                  </a:lnTo>
                  <a:lnTo>
                    <a:pt x="760" y="2"/>
                  </a:lnTo>
                  <a:lnTo>
                    <a:pt x="778" y="6"/>
                  </a:lnTo>
                  <a:lnTo>
                    <a:pt x="786" y="10"/>
                  </a:lnTo>
                  <a:lnTo>
                    <a:pt x="792" y="16"/>
                  </a:lnTo>
                  <a:lnTo>
                    <a:pt x="800" y="22"/>
                  </a:lnTo>
                  <a:lnTo>
                    <a:pt x="806" y="32"/>
                  </a:lnTo>
                  <a:lnTo>
                    <a:pt x="810" y="40"/>
                  </a:lnTo>
                  <a:lnTo>
                    <a:pt x="814" y="52"/>
                  </a:lnTo>
                  <a:lnTo>
                    <a:pt x="814" y="52"/>
                  </a:lnTo>
                  <a:lnTo>
                    <a:pt x="816" y="64"/>
                  </a:lnTo>
                  <a:lnTo>
                    <a:pt x="814" y="74"/>
                  </a:lnTo>
                  <a:lnTo>
                    <a:pt x="812" y="86"/>
                  </a:lnTo>
                  <a:lnTo>
                    <a:pt x="808" y="94"/>
                  </a:lnTo>
                  <a:lnTo>
                    <a:pt x="804" y="104"/>
                  </a:lnTo>
                  <a:lnTo>
                    <a:pt x="796" y="112"/>
                  </a:lnTo>
                  <a:lnTo>
                    <a:pt x="788" y="120"/>
                  </a:lnTo>
                  <a:lnTo>
                    <a:pt x="778" y="126"/>
                  </a:lnTo>
                  <a:lnTo>
                    <a:pt x="778" y="126"/>
                  </a:lnTo>
                  <a:lnTo>
                    <a:pt x="754" y="140"/>
                  </a:lnTo>
                  <a:lnTo>
                    <a:pt x="736" y="154"/>
                  </a:lnTo>
                  <a:lnTo>
                    <a:pt x="724" y="168"/>
                  </a:lnTo>
                  <a:lnTo>
                    <a:pt x="722" y="174"/>
                  </a:lnTo>
                  <a:lnTo>
                    <a:pt x="718" y="180"/>
                  </a:lnTo>
                  <a:lnTo>
                    <a:pt x="716" y="196"/>
                  </a:lnTo>
                  <a:lnTo>
                    <a:pt x="718" y="216"/>
                  </a:lnTo>
                  <a:lnTo>
                    <a:pt x="722" y="238"/>
                  </a:lnTo>
                  <a:lnTo>
                    <a:pt x="730" y="266"/>
                  </a:lnTo>
                  <a:lnTo>
                    <a:pt x="1008" y="1458"/>
                  </a:lnTo>
                  <a:close/>
                </a:path>
              </a:pathLst>
            </a:custGeom>
            <a:noFill/>
            <a:ln w="63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181"/>
            <p:cNvSpPr/>
            <p:nvPr/>
          </p:nvSpPr>
          <p:spPr>
            <a:xfrm>
              <a:off x="7215120" y="17037000"/>
              <a:ext cx="3156120" cy="3057840"/>
            </a:xfrm>
            <a:custGeom>
              <a:avLst/>
              <a:gdLst>
                <a:gd name="textAreaLeft" fmla="*/ 0 w 3156120"/>
                <a:gd name="textAreaRight" fmla="*/ 3156480 w 3156120"/>
                <a:gd name="textAreaTop" fmla="*/ 0 h 3057840"/>
                <a:gd name="textAreaBottom" fmla="*/ 3058200 h 3057840"/>
              </a:gdLst>
              <a:ahLst/>
              <a:rect l="textAreaLeft" t="textAreaTop" r="textAreaRight" b="textAreaBottom"/>
              <a:pathLst>
                <a:path w="1988" h="1926">
                  <a:moveTo>
                    <a:pt x="174" y="466"/>
                  </a:moveTo>
                  <a:lnTo>
                    <a:pt x="174" y="466"/>
                  </a:lnTo>
                  <a:lnTo>
                    <a:pt x="166" y="438"/>
                  </a:lnTo>
                  <a:lnTo>
                    <a:pt x="160" y="416"/>
                  </a:lnTo>
                  <a:lnTo>
                    <a:pt x="154" y="398"/>
                  </a:lnTo>
                  <a:lnTo>
                    <a:pt x="144" y="386"/>
                  </a:lnTo>
                  <a:lnTo>
                    <a:pt x="140" y="380"/>
                  </a:lnTo>
                  <a:lnTo>
                    <a:pt x="134" y="376"/>
                  </a:lnTo>
                  <a:lnTo>
                    <a:pt x="116" y="370"/>
                  </a:lnTo>
                  <a:lnTo>
                    <a:pt x="96" y="366"/>
                  </a:lnTo>
                  <a:lnTo>
                    <a:pt x="68" y="362"/>
                  </a:lnTo>
                  <a:lnTo>
                    <a:pt x="68" y="362"/>
                  </a:lnTo>
                  <a:lnTo>
                    <a:pt x="56" y="360"/>
                  </a:lnTo>
                  <a:lnTo>
                    <a:pt x="44" y="358"/>
                  </a:lnTo>
                  <a:lnTo>
                    <a:pt x="34" y="354"/>
                  </a:lnTo>
                  <a:lnTo>
                    <a:pt x="26" y="348"/>
                  </a:lnTo>
                  <a:lnTo>
                    <a:pt x="18" y="342"/>
                  </a:lnTo>
                  <a:lnTo>
                    <a:pt x="12" y="334"/>
                  </a:lnTo>
                  <a:lnTo>
                    <a:pt x="6" y="324"/>
                  </a:lnTo>
                  <a:lnTo>
                    <a:pt x="2" y="312"/>
                  </a:lnTo>
                  <a:lnTo>
                    <a:pt x="2" y="312"/>
                  </a:lnTo>
                  <a:lnTo>
                    <a:pt x="0" y="300"/>
                  </a:lnTo>
                  <a:lnTo>
                    <a:pt x="0" y="290"/>
                  </a:lnTo>
                  <a:lnTo>
                    <a:pt x="2" y="280"/>
                  </a:lnTo>
                  <a:lnTo>
                    <a:pt x="6" y="270"/>
                  </a:lnTo>
                  <a:lnTo>
                    <a:pt x="10" y="262"/>
                  </a:lnTo>
                  <a:lnTo>
                    <a:pt x="14" y="256"/>
                  </a:lnTo>
                  <a:lnTo>
                    <a:pt x="28" y="244"/>
                  </a:lnTo>
                  <a:lnTo>
                    <a:pt x="40" y="234"/>
                  </a:lnTo>
                  <a:lnTo>
                    <a:pt x="54" y="228"/>
                  </a:lnTo>
                  <a:lnTo>
                    <a:pt x="70" y="222"/>
                  </a:lnTo>
                  <a:lnTo>
                    <a:pt x="672" y="82"/>
                  </a:lnTo>
                  <a:lnTo>
                    <a:pt x="1010" y="1528"/>
                  </a:lnTo>
                  <a:lnTo>
                    <a:pt x="1010" y="1528"/>
                  </a:lnTo>
                  <a:lnTo>
                    <a:pt x="1016" y="1558"/>
                  </a:lnTo>
                  <a:lnTo>
                    <a:pt x="1022" y="1580"/>
                  </a:lnTo>
                  <a:lnTo>
                    <a:pt x="1030" y="1598"/>
                  </a:lnTo>
                  <a:lnTo>
                    <a:pt x="1038" y="1610"/>
                  </a:lnTo>
                  <a:lnTo>
                    <a:pt x="1044" y="1616"/>
                  </a:lnTo>
                  <a:lnTo>
                    <a:pt x="1050" y="1620"/>
                  </a:lnTo>
                  <a:lnTo>
                    <a:pt x="1066" y="1626"/>
                  </a:lnTo>
                  <a:lnTo>
                    <a:pt x="1088" y="1630"/>
                  </a:lnTo>
                  <a:lnTo>
                    <a:pt x="1116" y="1634"/>
                  </a:lnTo>
                  <a:lnTo>
                    <a:pt x="1116" y="1634"/>
                  </a:lnTo>
                  <a:lnTo>
                    <a:pt x="1128" y="1636"/>
                  </a:lnTo>
                  <a:lnTo>
                    <a:pt x="1138" y="1638"/>
                  </a:lnTo>
                  <a:lnTo>
                    <a:pt x="1148" y="1642"/>
                  </a:lnTo>
                  <a:lnTo>
                    <a:pt x="1158" y="1648"/>
                  </a:lnTo>
                  <a:lnTo>
                    <a:pt x="1164" y="1654"/>
                  </a:lnTo>
                  <a:lnTo>
                    <a:pt x="1172" y="1662"/>
                  </a:lnTo>
                  <a:lnTo>
                    <a:pt x="1176" y="1672"/>
                  </a:lnTo>
                  <a:lnTo>
                    <a:pt x="1180" y="1684"/>
                  </a:lnTo>
                  <a:lnTo>
                    <a:pt x="1180" y="1684"/>
                  </a:lnTo>
                  <a:lnTo>
                    <a:pt x="1182" y="1696"/>
                  </a:lnTo>
                  <a:lnTo>
                    <a:pt x="1182" y="1706"/>
                  </a:lnTo>
                  <a:lnTo>
                    <a:pt x="1180" y="1716"/>
                  </a:lnTo>
                  <a:lnTo>
                    <a:pt x="1178" y="1724"/>
                  </a:lnTo>
                  <a:lnTo>
                    <a:pt x="1174" y="1734"/>
                  </a:lnTo>
                  <a:lnTo>
                    <a:pt x="1168" y="1740"/>
                  </a:lnTo>
                  <a:lnTo>
                    <a:pt x="1156" y="1752"/>
                  </a:lnTo>
                  <a:lnTo>
                    <a:pt x="1142" y="1762"/>
                  </a:lnTo>
                  <a:lnTo>
                    <a:pt x="1130" y="1768"/>
                  </a:lnTo>
                  <a:lnTo>
                    <a:pt x="1112" y="1774"/>
                  </a:lnTo>
                  <a:lnTo>
                    <a:pt x="468" y="1924"/>
                  </a:lnTo>
                  <a:lnTo>
                    <a:pt x="468" y="1924"/>
                  </a:lnTo>
                  <a:lnTo>
                    <a:pt x="452" y="1926"/>
                  </a:lnTo>
                  <a:lnTo>
                    <a:pt x="436" y="1926"/>
                  </a:lnTo>
                  <a:lnTo>
                    <a:pt x="420" y="1924"/>
                  </a:lnTo>
                  <a:lnTo>
                    <a:pt x="404" y="1920"/>
                  </a:lnTo>
                  <a:lnTo>
                    <a:pt x="396" y="1914"/>
                  </a:lnTo>
                  <a:lnTo>
                    <a:pt x="388" y="1910"/>
                  </a:lnTo>
                  <a:lnTo>
                    <a:pt x="382" y="1902"/>
                  </a:lnTo>
                  <a:lnTo>
                    <a:pt x="376" y="1894"/>
                  </a:lnTo>
                  <a:lnTo>
                    <a:pt x="372" y="1884"/>
                  </a:lnTo>
                  <a:lnTo>
                    <a:pt x="368" y="1874"/>
                  </a:lnTo>
                  <a:lnTo>
                    <a:pt x="368" y="1874"/>
                  </a:lnTo>
                  <a:lnTo>
                    <a:pt x="366" y="1862"/>
                  </a:lnTo>
                  <a:lnTo>
                    <a:pt x="366" y="1850"/>
                  </a:lnTo>
                  <a:lnTo>
                    <a:pt x="368" y="1840"/>
                  </a:lnTo>
                  <a:lnTo>
                    <a:pt x="372" y="1830"/>
                  </a:lnTo>
                  <a:lnTo>
                    <a:pt x="378" y="1822"/>
                  </a:lnTo>
                  <a:lnTo>
                    <a:pt x="386" y="1814"/>
                  </a:lnTo>
                  <a:lnTo>
                    <a:pt x="394" y="1806"/>
                  </a:lnTo>
                  <a:lnTo>
                    <a:pt x="404" y="1800"/>
                  </a:lnTo>
                  <a:lnTo>
                    <a:pt x="404" y="1800"/>
                  </a:lnTo>
                  <a:lnTo>
                    <a:pt x="428" y="1786"/>
                  </a:lnTo>
                  <a:lnTo>
                    <a:pt x="446" y="1772"/>
                  </a:lnTo>
                  <a:lnTo>
                    <a:pt x="456" y="1758"/>
                  </a:lnTo>
                  <a:lnTo>
                    <a:pt x="460" y="1752"/>
                  </a:lnTo>
                  <a:lnTo>
                    <a:pt x="464" y="1744"/>
                  </a:lnTo>
                  <a:lnTo>
                    <a:pt x="464" y="1730"/>
                  </a:lnTo>
                  <a:lnTo>
                    <a:pt x="464" y="1710"/>
                  </a:lnTo>
                  <a:lnTo>
                    <a:pt x="458" y="1688"/>
                  </a:lnTo>
                  <a:lnTo>
                    <a:pt x="452" y="1660"/>
                  </a:lnTo>
                  <a:lnTo>
                    <a:pt x="174" y="466"/>
                  </a:lnTo>
                  <a:close/>
                  <a:moveTo>
                    <a:pt x="774" y="58"/>
                  </a:moveTo>
                  <a:lnTo>
                    <a:pt x="784" y="56"/>
                  </a:lnTo>
                  <a:lnTo>
                    <a:pt x="784" y="56"/>
                  </a:lnTo>
                  <a:lnTo>
                    <a:pt x="896" y="30"/>
                  </a:lnTo>
                  <a:lnTo>
                    <a:pt x="954" y="18"/>
                  </a:lnTo>
                  <a:lnTo>
                    <a:pt x="1010" y="8"/>
                  </a:lnTo>
                  <a:lnTo>
                    <a:pt x="1068" y="2"/>
                  </a:lnTo>
                  <a:lnTo>
                    <a:pt x="1124" y="0"/>
                  </a:lnTo>
                  <a:lnTo>
                    <a:pt x="1152" y="2"/>
                  </a:lnTo>
                  <a:lnTo>
                    <a:pt x="1182" y="4"/>
                  </a:lnTo>
                  <a:lnTo>
                    <a:pt x="1210" y="8"/>
                  </a:lnTo>
                  <a:lnTo>
                    <a:pt x="1238" y="14"/>
                  </a:lnTo>
                  <a:lnTo>
                    <a:pt x="1238" y="14"/>
                  </a:lnTo>
                  <a:lnTo>
                    <a:pt x="1270" y="22"/>
                  </a:lnTo>
                  <a:lnTo>
                    <a:pt x="1300" y="32"/>
                  </a:lnTo>
                  <a:lnTo>
                    <a:pt x="1328" y="42"/>
                  </a:lnTo>
                  <a:lnTo>
                    <a:pt x="1354" y="56"/>
                  </a:lnTo>
                  <a:lnTo>
                    <a:pt x="1380" y="70"/>
                  </a:lnTo>
                  <a:lnTo>
                    <a:pt x="1402" y="86"/>
                  </a:lnTo>
                  <a:lnTo>
                    <a:pt x="1426" y="104"/>
                  </a:lnTo>
                  <a:lnTo>
                    <a:pt x="1446" y="124"/>
                  </a:lnTo>
                  <a:lnTo>
                    <a:pt x="1464" y="144"/>
                  </a:lnTo>
                  <a:lnTo>
                    <a:pt x="1482" y="166"/>
                  </a:lnTo>
                  <a:lnTo>
                    <a:pt x="1498" y="190"/>
                  </a:lnTo>
                  <a:lnTo>
                    <a:pt x="1514" y="216"/>
                  </a:lnTo>
                  <a:lnTo>
                    <a:pt x="1526" y="242"/>
                  </a:lnTo>
                  <a:lnTo>
                    <a:pt x="1538" y="270"/>
                  </a:lnTo>
                  <a:lnTo>
                    <a:pt x="1548" y="300"/>
                  </a:lnTo>
                  <a:lnTo>
                    <a:pt x="1558" y="332"/>
                  </a:lnTo>
                  <a:lnTo>
                    <a:pt x="1558" y="332"/>
                  </a:lnTo>
                  <a:lnTo>
                    <a:pt x="1568" y="380"/>
                  </a:lnTo>
                  <a:lnTo>
                    <a:pt x="1572" y="426"/>
                  </a:lnTo>
                  <a:lnTo>
                    <a:pt x="1574" y="468"/>
                  </a:lnTo>
                  <a:lnTo>
                    <a:pt x="1570" y="508"/>
                  </a:lnTo>
                  <a:lnTo>
                    <a:pt x="1562" y="548"/>
                  </a:lnTo>
                  <a:lnTo>
                    <a:pt x="1550" y="584"/>
                  </a:lnTo>
                  <a:lnTo>
                    <a:pt x="1534" y="618"/>
                  </a:lnTo>
                  <a:lnTo>
                    <a:pt x="1514" y="652"/>
                  </a:lnTo>
                  <a:lnTo>
                    <a:pt x="1492" y="682"/>
                  </a:lnTo>
                  <a:lnTo>
                    <a:pt x="1466" y="712"/>
                  </a:lnTo>
                  <a:lnTo>
                    <a:pt x="1438" y="740"/>
                  </a:lnTo>
                  <a:lnTo>
                    <a:pt x="1406" y="766"/>
                  </a:lnTo>
                  <a:lnTo>
                    <a:pt x="1372" y="790"/>
                  </a:lnTo>
                  <a:lnTo>
                    <a:pt x="1336" y="814"/>
                  </a:lnTo>
                  <a:lnTo>
                    <a:pt x="1298" y="836"/>
                  </a:lnTo>
                  <a:lnTo>
                    <a:pt x="1258" y="856"/>
                  </a:lnTo>
                  <a:lnTo>
                    <a:pt x="1260" y="860"/>
                  </a:lnTo>
                  <a:lnTo>
                    <a:pt x="1260" y="860"/>
                  </a:lnTo>
                  <a:lnTo>
                    <a:pt x="1338" y="856"/>
                  </a:lnTo>
                  <a:lnTo>
                    <a:pt x="1376" y="856"/>
                  </a:lnTo>
                  <a:lnTo>
                    <a:pt x="1414" y="856"/>
                  </a:lnTo>
                  <a:lnTo>
                    <a:pt x="1450" y="860"/>
                  </a:lnTo>
                  <a:lnTo>
                    <a:pt x="1486" y="864"/>
                  </a:lnTo>
                  <a:lnTo>
                    <a:pt x="1520" y="872"/>
                  </a:lnTo>
                  <a:lnTo>
                    <a:pt x="1554" y="882"/>
                  </a:lnTo>
                  <a:lnTo>
                    <a:pt x="1584" y="896"/>
                  </a:lnTo>
                  <a:lnTo>
                    <a:pt x="1614" y="912"/>
                  </a:lnTo>
                  <a:lnTo>
                    <a:pt x="1642" y="932"/>
                  </a:lnTo>
                  <a:lnTo>
                    <a:pt x="1666" y="956"/>
                  </a:lnTo>
                  <a:lnTo>
                    <a:pt x="1678" y="970"/>
                  </a:lnTo>
                  <a:lnTo>
                    <a:pt x="1688" y="984"/>
                  </a:lnTo>
                  <a:lnTo>
                    <a:pt x="1698" y="1000"/>
                  </a:lnTo>
                  <a:lnTo>
                    <a:pt x="1708" y="1018"/>
                  </a:lnTo>
                  <a:lnTo>
                    <a:pt x="1716" y="1036"/>
                  </a:lnTo>
                  <a:lnTo>
                    <a:pt x="1724" y="1054"/>
                  </a:lnTo>
                  <a:lnTo>
                    <a:pt x="1736" y="1098"/>
                  </a:lnTo>
                  <a:lnTo>
                    <a:pt x="1784" y="1298"/>
                  </a:lnTo>
                  <a:lnTo>
                    <a:pt x="1784" y="1298"/>
                  </a:lnTo>
                  <a:lnTo>
                    <a:pt x="1788" y="1316"/>
                  </a:lnTo>
                  <a:lnTo>
                    <a:pt x="1794" y="1338"/>
                  </a:lnTo>
                  <a:lnTo>
                    <a:pt x="1798" y="1348"/>
                  </a:lnTo>
                  <a:lnTo>
                    <a:pt x="1804" y="1354"/>
                  </a:lnTo>
                  <a:lnTo>
                    <a:pt x="1812" y="1358"/>
                  </a:lnTo>
                  <a:lnTo>
                    <a:pt x="1822" y="1358"/>
                  </a:lnTo>
                  <a:lnTo>
                    <a:pt x="1822" y="1358"/>
                  </a:lnTo>
                  <a:lnTo>
                    <a:pt x="1828" y="1356"/>
                  </a:lnTo>
                  <a:lnTo>
                    <a:pt x="1834" y="1352"/>
                  </a:lnTo>
                  <a:lnTo>
                    <a:pt x="1842" y="1342"/>
                  </a:lnTo>
                  <a:lnTo>
                    <a:pt x="1850" y="1330"/>
                  </a:lnTo>
                  <a:lnTo>
                    <a:pt x="1856" y="1316"/>
                  </a:lnTo>
                  <a:lnTo>
                    <a:pt x="1864" y="1300"/>
                  </a:lnTo>
                  <a:lnTo>
                    <a:pt x="1874" y="1288"/>
                  </a:lnTo>
                  <a:lnTo>
                    <a:pt x="1880" y="1282"/>
                  </a:lnTo>
                  <a:lnTo>
                    <a:pt x="1886" y="1276"/>
                  </a:lnTo>
                  <a:lnTo>
                    <a:pt x="1894" y="1272"/>
                  </a:lnTo>
                  <a:lnTo>
                    <a:pt x="1904" y="1270"/>
                  </a:lnTo>
                  <a:lnTo>
                    <a:pt x="1904" y="1270"/>
                  </a:lnTo>
                  <a:lnTo>
                    <a:pt x="1916" y="1268"/>
                  </a:lnTo>
                  <a:lnTo>
                    <a:pt x="1928" y="1270"/>
                  </a:lnTo>
                  <a:lnTo>
                    <a:pt x="1940" y="1274"/>
                  </a:lnTo>
                  <a:lnTo>
                    <a:pt x="1954" y="1280"/>
                  </a:lnTo>
                  <a:lnTo>
                    <a:pt x="1964" y="1288"/>
                  </a:lnTo>
                  <a:lnTo>
                    <a:pt x="1974" y="1298"/>
                  </a:lnTo>
                  <a:lnTo>
                    <a:pt x="1982" y="1308"/>
                  </a:lnTo>
                  <a:lnTo>
                    <a:pt x="1986" y="1320"/>
                  </a:lnTo>
                  <a:lnTo>
                    <a:pt x="1986" y="1320"/>
                  </a:lnTo>
                  <a:lnTo>
                    <a:pt x="1988" y="1332"/>
                  </a:lnTo>
                  <a:lnTo>
                    <a:pt x="1988" y="1346"/>
                  </a:lnTo>
                  <a:lnTo>
                    <a:pt x="1988" y="1360"/>
                  </a:lnTo>
                  <a:lnTo>
                    <a:pt x="1986" y="1374"/>
                  </a:lnTo>
                  <a:lnTo>
                    <a:pt x="1978" y="1404"/>
                  </a:lnTo>
                  <a:lnTo>
                    <a:pt x="1966" y="1434"/>
                  </a:lnTo>
                  <a:lnTo>
                    <a:pt x="1952" y="1464"/>
                  </a:lnTo>
                  <a:lnTo>
                    <a:pt x="1936" y="1492"/>
                  </a:lnTo>
                  <a:lnTo>
                    <a:pt x="1920" y="1516"/>
                  </a:lnTo>
                  <a:lnTo>
                    <a:pt x="1904" y="1538"/>
                  </a:lnTo>
                  <a:lnTo>
                    <a:pt x="1904" y="1538"/>
                  </a:lnTo>
                  <a:lnTo>
                    <a:pt x="1880" y="1566"/>
                  </a:lnTo>
                  <a:lnTo>
                    <a:pt x="1854" y="1592"/>
                  </a:lnTo>
                  <a:lnTo>
                    <a:pt x="1828" y="1612"/>
                  </a:lnTo>
                  <a:lnTo>
                    <a:pt x="1798" y="1630"/>
                  </a:lnTo>
                  <a:lnTo>
                    <a:pt x="1768" y="1646"/>
                  </a:lnTo>
                  <a:lnTo>
                    <a:pt x="1736" y="1660"/>
                  </a:lnTo>
                  <a:lnTo>
                    <a:pt x="1702" y="1670"/>
                  </a:lnTo>
                  <a:lnTo>
                    <a:pt x="1666" y="1680"/>
                  </a:lnTo>
                  <a:lnTo>
                    <a:pt x="1666" y="1680"/>
                  </a:lnTo>
                  <a:lnTo>
                    <a:pt x="1630" y="1688"/>
                  </a:lnTo>
                  <a:lnTo>
                    <a:pt x="1594" y="1692"/>
                  </a:lnTo>
                  <a:lnTo>
                    <a:pt x="1558" y="1692"/>
                  </a:lnTo>
                  <a:lnTo>
                    <a:pt x="1522" y="1690"/>
                  </a:lnTo>
                  <a:lnTo>
                    <a:pt x="1488" y="1686"/>
                  </a:lnTo>
                  <a:lnTo>
                    <a:pt x="1454" y="1676"/>
                  </a:lnTo>
                  <a:lnTo>
                    <a:pt x="1420" y="1662"/>
                  </a:lnTo>
                  <a:lnTo>
                    <a:pt x="1388" y="1644"/>
                  </a:lnTo>
                  <a:lnTo>
                    <a:pt x="1388" y="1644"/>
                  </a:lnTo>
                  <a:lnTo>
                    <a:pt x="1370" y="1632"/>
                  </a:lnTo>
                  <a:lnTo>
                    <a:pt x="1354" y="1620"/>
                  </a:lnTo>
                  <a:lnTo>
                    <a:pt x="1338" y="1606"/>
                  </a:lnTo>
                  <a:lnTo>
                    <a:pt x="1324" y="1590"/>
                  </a:lnTo>
                  <a:lnTo>
                    <a:pt x="1312" y="1576"/>
                  </a:lnTo>
                  <a:lnTo>
                    <a:pt x="1300" y="1560"/>
                  </a:lnTo>
                  <a:lnTo>
                    <a:pt x="1280" y="1526"/>
                  </a:lnTo>
                  <a:lnTo>
                    <a:pt x="1264" y="1492"/>
                  </a:lnTo>
                  <a:lnTo>
                    <a:pt x="1250" y="1454"/>
                  </a:lnTo>
                  <a:lnTo>
                    <a:pt x="1238" y="1416"/>
                  </a:lnTo>
                  <a:lnTo>
                    <a:pt x="1228" y="1376"/>
                  </a:lnTo>
                  <a:lnTo>
                    <a:pt x="1192" y="1222"/>
                  </a:lnTo>
                  <a:lnTo>
                    <a:pt x="1192" y="1222"/>
                  </a:lnTo>
                  <a:lnTo>
                    <a:pt x="1182" y="1182"/>
                  </a:lnTo>
                  <a:lnTo>
                    <a:pt x="1170" y="1142"/>
                  </a:lnTo>
                  <a:lnTo>
                    <a:pt x="1156" y="1104"/>
                  </a:lnTo>
                  <a:lnTo>
                    <a:pt x="1148" y="1086"/>
                  </a:lnTo>
                  <a:lnTo>
                    <a:pt x="1138" y="1070"/>
                  </a:lnTo>
                  <a:lnTo>
                    <a:pt x="1126" y="1054"/>
                  </a:lnTo>
                  <a:lnTo>
                    <a:pt x="1114" y="1040"/>
                  </a:lnTo>
                  <a:lnTo>
                    <a:pt x="1098" y="1030"/>
                  </a:lnTo>
                  <a:lnTo>
                    <a:pt x="1082" y="1020"/>
                  </a:lnTo>
                  <a:lnTo>
                    <a:pt x="1064" y="1012"/>
                  </a:lnTo>
                  <a:lnTo>
                    <a:pt x="1044" y="1008"/>
                  </a:lnTo>
                  <a:lnTo>
                    <a:pt x="1020" y="1008"/>
                  </a:lnTo>
                  <a:lnTo>
                    <a:pt x="996" y="1008"/>
                  </a:lnTo>
                  <a:lnTo>
                    <a:pt x="964" y="874"/>
                  </a:lnTo>
                  <a:lnTo>
                    <a:pt x="964" y="874"/>
                  </a:lnTo>
                  <a:lnTo>
                    <a:pt x="986" y="866"/>
                  </a:lnTo>
                  <a:lnTo>
                    <a:pt x="1004" y="858"/>
                  </a:lnTo>
                  <a:lnTo>
                    <a:pt x="1020" y="848"/>
                  </a:lnTo>
                  <a:lnTo>
                    <a:pt x="1034" y="838"/>
                  </a:lnTo>
                  <a:lnTo>
                    <a:pt x="1044" y="826"/>
                  </a:lnTo>
                  <a:lnTo>
                    <a:pt x="1054" y="814"/>
                  </a:lnTo>
                  <a:lnTo>
                    <a:pt x="1060" y="800"/>
                  </a:lnTo>
                  <a:lnTo>
                    <a:pt x="1066" y="786"/>
                  </a:lnTo>
                  <a:lnTo>
                    <a:pt x="1070" y="772"/>
                  </a:lnTo>
                  <a:lnTo>
                    <a:pt x="1070" y="756"/>
                  </a:lnTo>
                  <a:lnTo>
                    <a:pt x="1072" y="738"/>
                  </a:lnTo>
                  <a:lnTo>
                    <a:pt x="1070" y="722"/>
                  </a:lnTo>
                  <a:lnTo>
                    <a:pt x="1066" y="684"/>
                  </a:lnTo>
                  <a:lnTo>
                    <a:pt x="1058" y="644"/>
                  </a:lnTo>
                  <a:lnTo>
                    <a:pt x="992" y="368"/>
                  </a:lnTo>
                  <a:lnTo>
                    <a:pt x="992" y="368"/>
                  </a:lnTo>
                  <a:lnTo>
                    <a:pt x="982" y="330"/>
                  </a:lnTo>
                  <a:lnTo>
                    <a:pt x="970" y="296"/>
                  </a:lnTo>
                  <a:lnTo>
                    <a:pt x="962" y="280"/>
                  </a:lnTo>
                  <a:lnTo>
                    <a:pt x="954" y="266"/>
                  </a:lnTo>
                  <a:lnTo>
                    <a:pt x="946" y="254"/>
                  </a:lnTo>
                  <a:lnTo>
                    <a:pt x="936" y="244"/>
                  </a:lnTo>
                  <a:lnTo>
                    <a:pt x="924" y="234"/>
                  </a:lnTo>
                  <a:lnTo>
                    <a:pt x="912" y="224"/>
                  </a:lnTo>
                  <a:lnTo>
                    <a:pt x="898" y="216"/>
                  </a:lnTo>
                  <a:lnTo>
                    <a:pt x="882" y="210"/>
                  </a:lnTo>
                  <a:lnTo>
                    <a:pt x="866" y="204"/>
                  </a:lnTo>
                  <a:lnTo>
                    <a:pt x="848" y="198"/>
                  </a:lnTo>
                  <a:lnTo>
                    <a:pt x="804" y="192"/>
                  </a:lnTo>
                  <a:lnTo>
                    <a:pt x="774" y="58"/>
                  </a:lnTo>
                  <a:close/>
                </a:path>
              </a:pathLst>
            </a:custGeom>
            <a:noFill/>
            <a:ln w="63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182"/>
            <p:cNvSpPr/>
            <p:nvPr/>
          </p:nvSpPr>
          <p:spPr>
            <a:xfrm>
              <a:off x="345960" y="18548280"/>
              <a:ext cx="2203560" cy="315612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56120"/>
                <a:gd name="textAreaBottom" fmla="*/ 3156480 h 3156120"/>
              </a:gdLst>
              <a:ahLst/>
              <a:rect l="textAreaLeft" t="textAreaTop" r="textAreaRight" b="textAreaBottom"/>
              <a:pathLst>
                <a:path w="1388" h="1988">
                  <a:moveTo>
                    <a:pt x="172" y="528"/>
                  </a:moveTo>
                  <a:lnTo>
                    <a:pt x="172" y="528"/>
                  </a:lnTo>
                  <a:lnTo>
                    <a:pt x="164" y="500"/>
                  </a:lnTo>
                  <a:lnTo>
                    <a:pt x="158" y="476"/>
                  </a:lnTo>
                  <a:lnTo>
                    <a:pt x="152" y="460"/>
                  </a:lnTo>
                  <a:lnTo>
                    <a:pt x="144" y="446"/>
                  </a:lnTo>
                  <a:lnTo>
                    <a:pt x="138" y="442"/>
                  </a:lnTo>
                  <a:lnTo>
                    <a:pt x="132" y="436"/>
                  </a:lnTo>
                  <a:lnTo>
                    <a:pt x="116" y="430"/>
                  </a:lnTo>
                  <a:lnTo>
                    <a:pt x="94" y="426"/>
                  </a:lnTo>
                  <a:lnTo>
                    <a:pt x="66" y="424"/>
                  </a:lnTo>
                  <a:lnTo>
                    <a:pt x="66" y="424"/>
                  </a:lnTo>
                  <a:lnTo>
                    <a:pt x="54" y="422"/>
                  </a:lnTo>
                  <a:lnTo>
                    <a:pt x="42" y="418"/>
                  </a:lnTo>
                  <a:lnTo>
                    <a:pt x="32" y="414"/>
                  </a:lnTo>
                  <a:lnTo>
                    <a:pt x="24" y="410"/>
                  </a:lnTo>
                  <a:lnTo>
                    <a:pt x="16" y="402"/>
                  </a:lnTo>
                  <a:lnTo>
                    <a:pt x="10" y="394"/>
                  </a:lnTo>
                  <a:lnTo>
                    <a:pt x="4" y="384"/>
                  </a:lnTo>
                  <a:lnTo>
                    <a:pt x="0" y="374"/>
                  </a:lnTo>
                  <a:lnTo>
                    <a:pt x="0" y="374"/>
                  </a:lnTo>
                  <a:lnTo>
                    <a:pt x="0" y="362"/>
                  </a:lnTo>
                  <a:lnTo>
                    <a:pt x="0" y="350"/>
                  </a:lnTo>
                  <a:lnTo>
                    <a:pt x="0" y="340"/>
                  </a:lnTo>
                  <a:lnTo>
                    <a:pt x="4" y="332"/>
                  </a:lnTo>
                  <a:lnTo>
                    <a:pt x="8" y="324"/>
                  </a:lnTo>
                  <a:lnTo>
                    <a:pt x="14" y="316"/>
                  </a:lnTo>
                  <a:lnTo>
                    <a:pt x="26" y="304"/>
                  </a:lnTo>
                  <a:lnTo>
                    <a:pt x="40" y="296"/>
                  </a:lnTo>
                  <a:lnTo>
                    <a:pt x="52" y="288"/>
                  </a:lnTo>
                  <a:lnTo>
                    <a:pt x="68" y="284"/>
                  </a:lnTo>
                  <a:lnTo>
                    <a:pt x="670" y="142"/>
                  </a:lnTo>
                  <a:lnTo>
                    <a:pt x="1008" y="1590"/>
                  </a:lnTo>
                  <a:lnTo>
                    <a:pt x="1008" y="1590"/>
                  </a:lnTo>
                  <a:lnTo>
                    <a:pt x="1014" y="1618"/>
                  </a:lnTo>
                  <a:lnTo>
                    <a:pt x="1020" y="1640"/>
                  </a:lnTo>
                  <a:lnTo>
                    <a:pt x="1028" y="1658"/>
                  </a:lnTo>
                  <a:lnTo>
                    <a:pt x="1036" y="1672"/>
                  </a:lnTo>
                  <a:lnTo>
                    <a:pt x="1042" y="1676"/>
                  </a:lnTo>
                  <a:lnTo>
                    <a:pt x="1048" y="1680"/>
                  </a:lnTo>
                  <a:lnTo>
                    <a:pt x="1064" y="1688"/>
                  </a:lnTo>
                  <a:lnTo>
                    <a:pt x="1086" y="1692"/>
                  </a:lnTo>
                  <a:lnTo>
                    <a:pt x="1114" y="1694"/>
                  </a:lnTo>
                  <a:lnTo>
                    <a:pt x="1114" y="1694"/>
                  </a:lnTo>
                  <a:lnTo>
                    <a:pt x="1126" y="1696"/>
                  </a:lnTo>
                  <a:lnTo>
                    <a:pt x="1136" y="1698"/>
                  </a:lnTo>
                  <a:lnTo>
                    <a:pt x="1146" y="1702"/>
                  </a:lnTo>
                  <a:lnTo>
                    <a:pt x="1156" y="1708"/>
                  </a:lnTo>
                  <a:lnTo>
                    <a:pt x="1164" y="1714"/>
                  </a:lnTo>
                  <a:lnTo>
                    <a:pt x="1170" y="1724"/>
                  </a:lnTo>
                  <a:lnTo>
                    <a:pt x="1174" y="1732"/>
                  </a:lnTo>
                  <a:lnTo>
                    <a:pt x="1178" y="1744"/>
                  </a:lnTo>
                  <a:lnTo>
                    <a:pt x="1178" y="1744"/>
                  </a:lnTo>
                  <a:lnTo>
                    <a:pt x="1180" y="1756"/>
                  </a:lnTo>
                  <a:lnTo>
                    <a:pt x="1180" y="1766"/>
                  </a:lnTo>
                  <a:lnTo>
                    <a:pt x="1178" y="1776"/>
                  </a:lnTo>
                  <a:lnTo>
                    <a:pt x="1176" y="1786"/>
                  </a:lnTo>
                  <a:lnTo>
                    <a:pt x="1172" y="1794"/>
                  </a:lnTo>
                  <a:lnTo>
                    <a:pt x="1166" y="1802"/>
                  </a:lnTo>
                  <a:lnTo>
                    <a:pt x="1154" y="1814"/>
                  </a:lnTo>
                  <a:lnTo>
                    <a:pt x="1140" y="1822"/>
                  </a:lnTo>
                  <a:lnTo>
                    <a:pt x="1128" y="1828"/>
                  </a:lnTo>
                  <a:lnTo>
                    <a:pt x="1110" y="1834"/>
                  </a:lnTo>
                  <a:lnTo>
                    <a:pt x="466" y="1986"/>
                  </a:lnTo>
                  <a:lnTo>
                    <a:pt x="466" y="1986"/>
                  </a:lnTo>
                  <a:lnTo>
                    <a:pt x="450" y="1988"/>
                  </a:lnTo>
                  <a:lnTo>
                    <a:pt x="436" y="1988"/>
                  </a:lnTo>
                  <a:lnTo>
                    <a:pt x="418" y="1986"/>
                  </a:lnTo>
                  <a:lnTo>
                    <a:pt x="402" y="1980"/>
                  </a:lnTo>
                  <a:lnTo>
                    <a:pt x="394" y="1976"/>
                  </a:lnTo>
                  <a:lnTo>
                    <a:pt x="388" y="1970"/>
                  </a:lnTo>
                  <a:lnTo>
                    <a:pt x="380" y="1964"/>
                  </a:lnTo>
                  <a:lnTo>
                    <a:pt x="374" y="1956"/>
                  </a:lnTo>
                  <a:lnTo>
                    <a:pt x="370" y="1946"/>
                  </a:lnTo>
                  <a:lnTo>
                    <a:pt x="366" y="1934"/>
                  </a:lnTo>
                  <a:lnTo>
                    <a:pt x="366" y="1934"/>
                  </a:lnTo>
                  <a:lnTo>
                    <a:pt x="364" y="1922"/>
                  </a:lnTo>
                  <a:lnTo>
                    <a:pt x="364" y="1912"/>
                  </a:lnTo>
                  <a:lnTo>
                    <a:pt x="366" y="1902"/>
                  </a:lnTo>
                  <a:lnTo>
                    <a:pt x="370" y="1892"/>
                  </a:lnTo>
                  <a:lnTo>
                    <a:pt x="376" y="1882"/>
                  </a:lnTo>
                  <a:lnTo>
                    <a:pt x="384" y="1874"/>
                  </a:lnTo>
                  <a:lnTo>
                    <a:pt x="392" y="1868"/>
                  </a:lnTo>
                  <a:lnTo>
                    <a:pt x="402" y="1862"/>
                  </a:lnTo>
                  <a:lnTo>
                    <a:pt x="402" y="1862"/>
                  </a:lnTo>
                  <a:lnTo>
                    <a:pt x="426" y="1846"/>
                  </a:lnTo>
                  <a:lnTo>
                    <a:pt x="444" y="1832"/>
                  </a:lnTo>
                  <a:lnTo>
                    <a:pt x="454" y="1820"/>
                  </a:lnTo>
                  <a:lnTo>
                    <a:pt x="458" y="1812"/>
                  </a:lnTo>
                  <a:lnTo>
                    <a:pt x="462" y="1806"/>
                  </a:lnTo>
                  <a:lnTo>
                    <a:pt x="464" y="1790"/>
                  </a:lnTo>
                  <a:lnTo>
                    <a:pt x="462" y="1772"/>
                  </a:lnTo>
                  <a:lnTo>
                    <a:pt x="458" y="1748"/>
                  </a:lnTo>
                  <a:lnTo>
                    <a:pt x="450" y="1720"/>
                  </a:lnTo>
                  <a:lnTo>
                    <a:pt x="172" y="528"/>
                  </a:lnTo>
                  <a:close/>
                  <a:moveTo>
                    <a:pt x="772" y="118"/>
                  </a:moveTo>
                  <a:lnTo>
                    <a:pt x="1280" y="0"/>
                  </a:lnTo>
                  <a:lnTo>
                    <a:pt x="1388" y="462"/>
                  </a:lnTo>
                  <a:lnTo>
                    <a:pt x="1388" y="462"/>
                  </a:lnTo>
                  <a:lnTo>
                    <a:pt x="1388" y="476"/>
                  </a:lnTo>
                  <a:lnTo>
                    <a:pt x="1388" y="484"/>
                  </a:lnTo>
                  <a:lnTo>
                    <a:pt x="1384" y="496"/>
                  </a:lnTo>
                  <a:lnTo>
                    <a:pt x="1378" y="506"/>
                  </a:lnTo>
                  <a:lnTo>
                    <a:pt x="1368" y="516"/>
                  </a:lnTo>
                  <a:lnTo>
                    <a:pt x="1352" y="526"/>
                  </a:lnTo>
                  <a:lnTo>
                    <a:pt x="1330" y="532"/>
                  </a:lnTo>
                  <a:lnTo>
                    <a:pt x="1330" y="532"/>
                  </a:lnTo>
                  <a:lnTo>
                    <a:pt x="1316" y="534"/>
                  </a:lnTo>
                  <a:lnTo>
                    <a:pt x="1304" y="534"/>
                  </a:lnTo>
                  <a:lnTo>
                    <a:pt x="1294" y="532"/>
                  </a:lnTo>
                  <a:lnTo>
                    <a:pt x="1284" y="526"/>
                  </a:lnTo>
                  <a:lnTo>
                    <a:pt x="1276" y="520"/>
                  </a:lnTo>
                  <a:lnTo>
                    <a:pt x="1270" y="512"/>
                  </a:lnTo>
                  <a:lnTo>
                    <a:pt x="1254" y="490"/>
                  </a:lnTo>
                  <a:lnTo>
                    <a:pt x="1254" y="490"/>
                  </a:lnTo>
                  <a:lnTo>
                    <a:pt x="1236" y="460"/>
                  </a:lnTo>
                  <a:lnTo>
                    <a:pt x="1214" y="430"/>
                  </a:lnTo>
                  <a:lnTo>
                    <a:pt x="1192" y="404"/>
                  </a:lnTo>
                  <a:lnTo>
                    <a:pt x="1170" y="378"/>
                  </a:lnTo>
                  <a:lnTo>
                    <a:pt x="1146" y="356"/>
                  </a:lnTo>
                  <a:lnTo>
                    <a:pt x="1122" y="336"/>
                  </a:lnTo>
                  <a:lnTo>
                    <a:pt x="1096" y="318"/>
                  </a:lnTo>
                  <a:lnTo>
                    <a:pt x="1068" y="300"/>
                  </a:lnTo>
                  <a:lnTo>
                    <a:pt x="1040" y="286"/>
                  </a:lnTo>
                  <a:lnTo>
                    <a:pt x="1010" y="274"/>
                  </a:lnTo>
                  <a:lnTo>
                    <a:pt x="978" y="266"/>
                  </a:lnTo>
                  <a:lnTo>
                    <a:pt x="946" y="258"/>
                  </a:lnTo>
                  <a:lnTo>
                    <a:pt x="912" y="252"/>
                  </a:lnTo>
                  <a:lnTo>
                    <a:pt x="878" y="250"/>
                  </a:lnTo>
                  <a:lnTo>
                    <a:pt x="840" y="248"/>
                  </a:lnTo>
                  <a:lnTo>
                    <a:pt x="802" y="250"/>
                  </a:lnTo>
                  <a:lnTo>
                    <a:pt x="772" y="118"/>
                  </a:lnTo>
                  <a:close/>
                  <a:moveTo>
                    <a:pt x="950" y="878"/>
                  </a:moveTo>
                  <a:lnTo>
                    <a:pt x="950" y="878"/>
                  </a:lnTo>
                  <a:lnTo>
                    <a:pt x="966" y="870"/>
                  </a:lnTo>
                  <a:lnTo>
                    <a:pt x="980" y="858"/>
                  </a:lnTo>
                  <a:lnTo>
                    <a:pt x="994" y="846"/>
                  </a:lnTo>
                  <a:lnTo>
                    <a:pt x="1004" y="834"/>
                  </a:lnTo>
                  <a:lnTo>
                    <a:pt x="1016" y="820"/>
                  </a:lnTo>
                  <a:lnTo>
                    <a:pt x="1024" y="806"/>
                  </a:lnTo>
                  <a:lnTo>
                    <a:pt x="1032" y="792"/>
                  </a:lnTo>
                  <a:lnTo>
                    <a:pt x="1040" y="776"/>
                  </a:lnTo>
                  <a:lnTo>
                    <a:pt x="1050" y="744"/>
                  </a:lnTo>
                  <a:lnTo>
                    <a:pt x="1056" y="710"/>
                  </a:lnTo>
                  <a:lnTo>
                    <a:pt x="1060" y="676"/>
                  </a:lnTo>
                  <a:lnTo>
                    <a:pt x="1062" y="642"/>
                  </a:lnTo>
                  <a:lnTo>
                    <a:pt x="1062" y="642"/>
                  </a:lnTo>
                  <a:lnTo>
                    <a:pt x="1064" y="610"/>
                  </a:lnTo>
                  <a:lnTo>
                    <a:pt x="1068" y="596"/>
                  </a:lnTo>
                  <a:lnTo>
                    <a:pt x="1072" y="584"/>
                  </a:lnTo>
                  <a:lnTo>
                    <a:pt x="1080" y="572"/>
                  </a:lnTo>
                  <a:lnTo>
                    <a:pt x="1088" y="562"/>
                  </a:lnTo>
                  <a:lnTo>
                    <a:pt x="1102" y="554"/>
                  </a:lnTo>
                  <a:lnTo>
                    <a:pt x="1118" y="548"/>
                  </a:lnTo>
                  <a:lnTo>
                    <a:pt x="1118" y="548"/>
                  </a:lnTo>
                  <a:lnTo>
                    <a:pt x="1130" y="546"/>
                  </a:lnTo>
                  <a:lnTo>
                    <a:pt x="1140" y="548"/>
                  </a:lnTo>
                  <a:lnTo>
                    <a:pt x="1150" y="550"/>
                  </a:lnTo>
                  <a:lnTo>
                    <a:pt x="1160" y="552"/>
                  </a:lnTo>
                  <a:lnTo>
                    <a:pt x="1166" y="558"/>
                  </a:lnTo>
                  <a:lnTo>
                    <a:pt x="1174" y="564"/>
                  </a:lnTo>
                  <a:lnTo>
                    <a:pt x="1184" y="580"/>
                  </a:lnTo>
                  <a:lnTo>
                    <a:pt x="1190" y="596"/>
                  </a:lnTo>
                  <a:lnTo>
                    <a:pt x="1194" y="612"/>
                  </a:lnTo>
                  <a:lnTo>
                    <a:pt x="1200" y="636"/>
                  </a:lnTo>
                  <a:lnTo>
                    <a:pt x="1314" y="1126"/>
                  </a:lnTo>
                  <a:lnTo>
                    <a:pt x="1314" y="1126"/>
                  </a:lnTo>
                  <a:lnTo>
                    <a:pt x="1320" y="1150"/>
                  </a:lnTo>
                  <a:lnTo>
                    <a:pt x="1324" y="1166"/>
                  </a:lnTo>
                  <a:lnTo>
                    <a:pt x="1324" y="1184"/>
                  </a:lnTo>
                  <a:lnTo>
                    <a:pt x="1322" y="1202"/>
                  </a:lnTo>
                  <a:lnTo>
                    <a:pt x="1320" y="1210"/>
                  </a:lnTo>
                  <a:lnTo>
                    <a:pt x="1316" y="1218"/>
                  </a:lnTo>
                  <a:lnTo>
                    <a:pt x="1308" y="1226"/>
                  </a:lnTo>
                  <a:lnTo>
                    <a:pt x="1302" y="1232"/>
                  </a:lnTo>
                  <a:lnTo>
                    <a:pt x="1292" y="1236"/>
                  </a:lnTo>
                  <a:lnTo>
                    <a:pt x="1280" y="1240"/>
                  </a:lnTo>
                  <a:lnTo>
                    <a:pt x="1280" y="1240"/>
                  </a:lnTo>
                  <a:lnTo>
                    <a:pt x="1262" y="1242"/>
                  </a:lnTo>
                  <a:lnTo>
                    <a:pt x="1248" y="1242"/>
                  </a:lnTo>
                  <a:lnTo>
                    <a:pt x="1234" y="1236"/>
                  </a:lnTo>
                  <a:lnTo>
                    <a:pt x="1224" y="1230"/>
                  </a:lnTo>
                  <a:lnTo>
                    <a:pt x="1214" y="1220"/>
                  </a:lnTo>
                  <a:lnTo>
                    <a:pt x="1204" y="1208"/>
                  </a:lnTo>
                  <a:lnTo>
                    <a:pt x="1188" y="1182"/>
                  </a:lnTo>
                  <a:lnTo>
                    <a:pt x="1188" y="1182"/>
                  </a:lnTo>
                  <a:lnTo>
                    <a:pt x="1172" y="1152"/>
                  </a:lnTo>
                  <a:lnTo>
                    <a:pt x="1154" y="1124"/>
                  </a:lnTo>
                  <a:lnTo>
                    <a:pt x="1132" y="1096"/>
                  </a:lnTo>
                  <a:lnTo>
                    <a:pt x="1108" y="1072"/>
                  </a:lnTo>
                  <a:lnTo>
                    <a:pt x="1096" y="1060"/>
                  </a:lnTo>
                  <a:lnTo>
                    <a:pt x="1082" y="1050"/>
                  </a:lnTo>
                  <a:lnTo>
                    <a:pt x="1068" y="1042"/>
                  </a:lnTo>
                  <a:lnTo>
                    <a:pt x="1052" y="1034"/>
                  </a:lnTo>
                  <a:lnTo>
                    <a:pt x="1036" y="1028"/>
                  </a:lnTo>
                  <a:lnTo>
                    <a:pt x="1018" y="1024"/>
                  </a:lnTo>
                  <a:lnTo>
                    <a:pt x="1002" y="1020"/>
                  </a:lnTo>
                  <a:lnTo>
                    <a:pt x="982" y="1020"/>
                  </a:lnTo>
                  <a:lnTo>
                    <a:pt x="950" y="878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183"/>
            <p:cNvSpPr/>
            <p:nvPr/>
          </p:nvSpPr>
          <p:spPr>
            <a:xfrm>
              <a:off x="3171600" y="18094320"/>
              <a:ext cx="2522520" cy="3079800"/>
            </a:xfrm>
            <a:custGeom>
              <a:avLst/>
              <a:gdLst>
                <a:gd name="textAreaLeft" fmla="*/ 0 w 2522520"/>
                <a:gd name="textAreaRight" fmla="*/ 2522880 w 2522520"/>
                <a:gd name="textAreaTop" fmla="*/ 0 h 3079800"/>
                <a:gd name="textAreaBottom" fmla="*/ 3080160 h 3079800"/>
              </a:gdLst>
              <a:ahLst/>
              <a:rect l="textAreaLeft" t="textAreaTop" r="textAreaRight" b="textAreaBottom"/>
              <a:pathLst>
                <a:path w="1589" h="1940">
                  <a:moveTo>
                    <a:pt x="334" y="698"/>
                  </a:moveTo>
                  <a:lnTo>
                    <a:pt x="302" y="1526"/>
                  </a:lnTo>
                  <a:lnTo>
                    <a:pt x="302" y="1526"/>
                  </a:lnTo>
                  <a:lnTo>
                    <a:pt x="304" y="1576"/>
                  </a:lnTo>
                  <a:lnTo>
                    <a:pt x="306" y="1596"/>
                  </a:lnTo>
                  <a:lnTo>
                    <a:pt x="308" y="1616"/>
                  </a:lnTo>
                  <a:lnTo>
                    <a:pt x="312" y="1632"/>
                  </a:lnTo>
                  <a:lnTo>
                    <a:pt x="318" y="1648"/>
                  </a:lnTo>
                  <a:lnTo>
                    <a:pt x="324" y="1660"/>
                  </a:lnTo>
                  <a:lnTo>
                    <a:pt x="330" y="1672"/>
                  </a:lnTo>
                  <a:lnTo>
                    <a:pt x="338" y="1682"/>
                  </a:lnTo>
                  <a:lnTo>
                    <a:pt x="348" y="1690"/>
                  </a:lnTo>
                  <a:lnTo>
                    <a:pt x="358" y="1698"/>
                  </a:lnTo>
                  <a:lnTo>
                    <a:pt x="370" y="1704"/>
                  </a:lnTo>
                  <a:lnTo>
                    <a:pt x="396" y="1714"/>
                  </a:lnTo>
                  <a:lnTo>
                    <a:pt x="426" y="1720"/>
                  </a:lnTo>
                  <a:lnTo>
                    <a:pt x="426" y="1720"/>
                  </a:lnTo>
                  <a:lnTo>
                    <a:pt x="454" y="1726"/>
                  </a:lnTo>
                  <a:lnTo>
                    <a:pt x="468" y="1730"/>
                  </a:lnTo>
                  <a:lnTo>
                    <a:pt x="480" y="1736"/>
                  </a:lnTo>
                  <a:lnTo>
                    <a:pt x="490" y="1742"/>
                  </a:lnTo>
                  <a:lnTo>
                    <a:pt x="498" y="1752"/>
                  </a:lnTo>
                  <a:lnTo>
                    <a:pt x="506" y="1764"/>
                  </a:lnTo>
                  <a:lnTo>
                    <a:pt x="512" y="1780"/>
                  </a:lnTo>
                  <a:lnTo>
                    <a:pt x="512" y="1780"/>
                  </a:lnTo>
                  <a:lnTo>
                    <a:pt x="512" y="1790"/>
                  </a:lnTo>
                  <a:lnTo>
                    <a:pt x="512" y="1802"/>
                  </a:lnTo>
                  <a:lnTo>
                    <a:pt x="510" y="1810"/>
                  </a:lnTo>
                  <a:lnTo>
                    <a:pt x="508" y="1818"/>
                  </a:lnTo>
                  <a:lnTo>
                    <a:pt x="502" y="1826"/>
                  </a:lnTo>
                  <a:lnTo>
                    <a:pt x="496" y="1832"/>
                  </a:lnTo>
                  <a:lnTo>
                    <a:pt x="482" y="1844"/>
                  </a:lnTo>
                  <a:lnTo>
                    <a:pt x="464" y="1852"/>
                  </a:lnTo>
                  <a:lnTo>
                    <a:pt x="444" y="1860"/>
                  </a:lnTo>
                  <a:lnTo>
                    <a:pt x="408" y="1868"/>
                  </a:lnTo>
                  <a:lnTo>
                    <a:pt x="146" y="1930"/>
                  </a:lnTo>
                  <a:lnTo>
                    <a:pt x="146" y="1930"/>
                  </a:lnTo>
                  <a:lnTo>
                    <a:pt x="106" y="1938"/>
                  </a:lnTo>
                  <a:lnTo>
                    <a:pt x="84" y="1940"/>
                  </a:lnTo>
                  <a:lnTo>
                    <a:pt x="62" y="1940"/>
                  </a:lnTo>
                  <a:lnTo>
                    <a:pt x="42" y="1936"/>
                  </a:lnTo>
                  <a:lnTo>
                    <a:pt x="32" y="1932"/>
                  </a:lnTo>
                  <a:lnTo>
                    <a:pt x="24" y="1926"/>
                  </a:lnTo>
                  <a:lnTo>
                    <a:pt x="18" y="1920"/>
                  </a:lnTo>
                  <a:lnTo>
                    <a:pt x="10" y="1912"/>
                  </a:lnTo>
                  <a:lnTo>
                    <a:pt x="6" y="1902"/>
                  </a:lnTo>
                  <a:lnTo>
                    <a:pt x="2" y="1892"/>
                  </a:lnTo>
                  <a:lnTo>
                    <a:pt x="2" y="1892"/>
                  </a:lnTo>
                  <a:lnTo>
                    <a:pt x="0" y="1872"/>
                  </a:lnTo>
                  <a:lnTo>
                    <a:pt x="2" y="1858"/>
                  </a:lnTo>
                  <a:lnTo>
                    <a:pt x="8" y="1846"/>
                  </a:lnTo>
                  <a:lnTo>
                    <a:pt x="16" y="1836"/>
                  </a:lnTo>
                  <a:lnTo>
                    <a:pt x="28" y="1826"/>
                  </a:lnTo>
                  <a:lnTo>
                    <a:pt x="42" y="1816"/>
                  </a:lnTo>
                  <a:lnTo>
                    <a:pt x="56" y="1806"/>
                  </a:lnTo>
                  <a:lnTo>
                    <a:pt x="72" y="1794"/>
                  </a:lnTo>
                  <a:lnTo>
                    <a:pt x="72" y="1794"/>
                  </a:lnTo>
                  <a:lnTo>
                    <a:pt x="88" y="1778"/>
                  </a:lnTo>
                  <a:lnTo>
                    <a:pt x="104" y="1760"/>
                  </a:lnTo>
                  <a:lnTo>
                    <a:pt x="120" y="1736"/>
                  </a:lnTo>
                  <a:lnTo>
                    <a:pt x="134" y="1706"/>
                  </a:lnTo>
                  <a:lnTo>
                    <a:pt x="148" y="1672"/>
                  </a:lnTo>
                  <a:lnTo>
                    <a:pt x="158" y="1628"/>
                  </a:lnTo>
                  <a:lnTo>
                    <a:pt x="166" y="1578"/>
                  </a:lnTo>
                  <a:lnTo>
                    <a:pt x="170" y="1518"/>
                  </a:lnTo>
                  <a:lnTo>
                    <a:pt x="208" y="456"/>
                  </a:lnTo>
                  <a:lnTo>
                    <a:pt x="216" y="454"/>
                  </a:lnTo>
                  <a:lnTo>
                    <a:pt x="334" y="698"/>
                  </a:lnTo>
                  <a:close/>
                  <a:moveTo>
                    <a:pt x="738" y="1326"/>
                  </a:moveTo>
                  <a:lnTo>
                    <a:pt x="406" y="1404"/>
                  </a:lnTo>
                  <a:lnTo>
                    <a:pt x="408" y="1264"/>
                  </a:lnTo>
                  <a:lnTo>
                    <a:pt x="684" y="1198"/>
                  </a:lnTo>
                  <a:lnTo>
                    <a:pt x="220" y="246"/>
                  </a:lnTo>
                  <a:lnTo>
                    <a:pt x="220" y="116"/>
                  </a:lnTo>
                  <a:lnTo>
                    <a:pt x="724" y="0"/>
                  </a:lnTo>
                  <a:lnTo>
                    <a:pt x="1403" y="1358"/>
                  </a:lnTo>
                  <a:lnTo>
                    <a:pt x="1403" y="1358"/>
                  </a:lnTo>
                  <a:lnTo>
                    <a:pt x="1421" y="1400"/>
                  </a:lnTo>
                  <a:lnTo>
                    <a:pt x="1431" y="1418"/>
                  </a:lnTo>
                  <a:lnTo>
                    <a:pt x="1443" y="1434"/>
                  </a:lnTo>
                  <a:lnTo>
                    <a:pt x="1455" y="1446"/>
                  </a:lnTo>
                  <a:lnTo>
                    <a:pt x="1471" y="1458"/>
                  </a:lnTo>
                  <a:lnTo>
                    <a:pt x="1489" y="1468"/>
                  </a:lnTo>
                  <a:lnTo>
                    <a:pt x="1513" y="1474"/>
                  </a:lnTo>
                  <a:lnTo>
                    <a:pt x="1513" y="1474"/>
                  </a:lnTo>
                  <a:lnTo>
                    <a:pt x="1539" y="1478"/>
                  </a:lnTo>
                  <a:lnTo>
                    <a:pt x="1549" y="1484"/>
                  </a:lnTo>
                  <a:lnTo>
                    <a:pt x="1559" y="1488"/>
                  </a:lnTo>
                  <a:lnTo>
                    <a:pt x="1569" y="1496"/>
                  </a:lnTo>
                  <a:lnTo>
                    <a:pt x="1575" y="1504"/>
                  </a:lnTo>
                  <a:lnTo>
                    <a:pt x="1583" y="1516"/>
                  </a:lnTo>
                  <a:lnTo>
                    <a:pt x="1587" y="1530"/>
                  </a:lnTo>
                  <a:lnTo>
                    <a:pt x="1587" y="1530"/>
                  </a:lnTo>
                  <a:lnTo>
                    <a:pt x="1589" y="1542"/>
                  </a:lnTo>
                  <a:lnTo>
                    <a:pt x="1587" y="1552"/>
                  </a:lnTo>
                  <a:lnTo>
                    <a:pt x="1585" y="1560"/>
                  </a:lnTo>
                  <a:lnTo>
                    <a:pt x="1581" y="1568"/>
                  </a:lnTo>
                  <a:lnTo>
                    <a:pt x="1575" y="1576"/>
                  </a:lnTo>
                  <a:lnTo>
                    <a:pt x="1569" y="1582"/>
                  </a:lnTo>
                  <a:lnTo>
                    <a:pt x="1553" y="1594"/>
                  </a:lnTo>
                  <a:lnTo>
                    <a:pt x="1533" y="1602"/>
                  </a:lnTo>
                  <a:lnTo>
                    <a:pt x="1513" y="1610"/>
                  </a:lnTo>
                  <a:lnTo>
                    <a:pt x="1475" y="1618"/>
                  </a:lnTo>
                  <a:lnTo>
                    <a:pt x="908" y="1752"/>
                  </a:lnTo>
                  <a:lnTo>
                    <a:pt x="908" y="1752"/>
                  </a:lnTo>
                  <a:lnTo>
                    <a:pt x="890" y="1756"/>
                  </a:lnTo>
                  <a:lnTo>
                    <a:pt x="870" y="1758"/>
                  </a:lnTo>
                  <a:lnTo>
                    <a:pt x="852" y="1760"/>
                  </a:lnTo>
                  <a:lnTo>
                    <a:pt x="832" y="1758"/>
                  </a:lnTo>
                  <a:lnTo>
                    <a:pt x="816" y="1754"/>
                  </a:lnTo>
                  <a:lnTo>
                    <a:pt x="808" y="1750"/>
                  </a:lnTo>
                  <a:lnTo>
                    <a:pt x="800" y="1746"/>
                  </a:lnTo>
                  <a:lnTo>
                    <a:pt x="794" y="1740"/>
                  </a:lnTo>
                  <a:lnTo>
                    <a:pt x="788" y="1732"/>
                  </a:lnTo>
                  <a:lnTo>
                    <a:pt x="784" y="1724"/>
                  </a:lnTo>
                  <a:lnTo>
                    <a:pt x="782" y="1714"/>
                  </a:lnTo>
                  <a:lnTo>
                    <a:pt x="782" y="1714"/>
                  </a:lnTo>
                  <a:lnTo>
                    <a:pt x="778" y="1702"/>
                  </a:lnTo>
                  <a:lnTo>
                    <a:pt x="778" y="1690"/>
                  </a:lnTo>
                  <a:lnTo>
                    <a:pt x="780" y="1680"/>
                  </a:lnTo>
                  <a:lnTo>
                    <a:pt x="782" y="1672"/>
                  </a:lnTo>
                  <a:lnTo>
                    <a:pt x="788" y="1664"/>
                  </a:lnTo>
                  <a:lnTo>
                    <a:pt x="794" y="1656"/>
                  </a:lnTo>
                  <a:lnTo>
                    <a:pt x="810" y="1640"/>
                  </a:lnTo>
                  <a:lnTo>
                    <a:pt x="810" y="1640"/>
                  </a:lnTo>
                  <a:lnTo>
                    <a:pt x="826" y="1624"/>
                  </a:lnTo>
                  <a:lnTo>
                    <a:pt x="840" y="1608"/>
                  </a:lnTo>
                  <a:lnTo>
                    <a:pt x="848" y="1594"/>
                  </a:lnTo>
                  <a:lnTo>
                    <a:pt x="852" y="1578"/>
                  </a:lnTo>
                  <a:lnTo>
                    <a:pt x="852" y="1562"/>
                  </a:lnTo>
                  <a:lnTo>
                    <a:pt x="848" y="1542"/>
                  </a:lnTo>
                  <a:lnTo>
                    <a:pt x="838" y="1518"/>
                  </a:lnTo>
                  <a:lnTo>
                    <a:pt x="824" y="1490"/>
                  </a:lnTo>
                  <a:lnTo>
                    <a:pt x="738" y="1326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184"/>
            <p:cNvSpPr/>
            <p:nvPr/>
          </p:nvSpPr>
          <p:spPr>
            <a:xfrm>
              <a:off x="5440320" y="17564040"/>
              <a:ext cx="1873080" cy="2946600"/>
            </a:xfrm>
            <a:custGeom>
              <a:avLst/>
              <a:gdLst>
                <a:gd name="textAreaLeft" fmla="*/ 0 w 1873080"/>
                <a:gd name="textAreaRight" fmla="*/ 1873440 w 1873080"/>
                <a:gd name="textAreaTop" fmla="*/ 0 h 2946600"/>
                <a:gd name="textAreaBottom" fmla="*/ 2946960 h 2946600"/>
              </a:gdLst>
              <a:ahLst/>
              <a:rect l="textAreaLeft" t="textAreaTop" r="textAreaRight" b="textAreaBottom"/>
              <a:pathLst>
                <a:path w="1180" h="1856">
                  <a:moveTo>
                    <a:pt x="1008" y="1458"/>
                  </a:moveTo>
                  <a:lnTo>
                    <a:pt x="1008" y="1458"/>
                  </a:lnTo>
                  <a:lnTo>
                    <a:pt x="1014" y="1488"/>
                  </a:lnTo>
                  <a:lnTo>
                    <a:pt x="1022" y="1510"/>
                  </a:lnTo>
                  <a:lnTo>
                    <a:pt x="1028" y="1528"/>
                  </a:lnTo>
                  <a:lnTo>
                    <a:pt x="1036" y="1540"/>
                  </a:lnTo>
                  <a:lnTo>
                    <a:pt x="1042" y="1546"/>
                  </a:lnTo>
                  <a:lnTo>
                    <a:pt x="1048" y="1550"/>
                  </a:lnTo>
                  <a:lnTo>
                    <a:pt x="1064" y="1556"/>
                  </a:lnTo>
                  <a:lnTo>
                    <a:pt x="1086" y="1560"/>
                  </a:lnTo>
                  <a:lnTo>
                    <a:pt x="1114" y="1564"/>
                  </a:lnTo>
                  <a:lnTo>
                    <a:pt x="1114" y="1564"/>
                  </a:lnTo>
                  <a:lnTo>
                    <a:pt x="1126" y="1566"/>
                  </a:lnTo>
                  <a:lnTo>
                    <a:pt x="1136" y="1568"/>
                  </a:lnTo>
                  <a:lnTo>
                    <a:pt x="1146" y="1572"/>
                  </a:lnTo>
                  <a:lnTo>
                    <a:pt x="1156" y="1578"/>
                  </a:lnTo>
                  <a:lnTo>
                    <a:pt x="1164" y="1584"/>
                  </a:lnTo>
                  <a:lnTo>
                    <a:pt x="1170" y="1592"/>
                  </a:lnTo>
                  <a:lnTo>
                    <a:pt x="1176" y="1602"/>
                  </a:lnTo>
                  <a:lnTo>
                    <a:pt x="1178" y="1614"/>
                  </a:lnTo>
                  <a:lnTo>
                    <a:pt x="1178" y="1614"/>
                  </a:lnTo>
                  <a:lnTo>
                    <a:pt x="1180" y="1626"/>
                  </a:lnTo>
                  <a:lnTo>
                    <a:pt x="1180" y="1636"/>
                  </a:lnTo>
                  <a:lnTo>
                    <a:pt x="1180" y="1646"/>
                  </a:lnTo>
                  <a:lnTo>
                    <a:pt x="1176" y="1654"/>
                  </a:lnTo>
                  <a:lnTo>
                    <a:pt x="1172" y="1664"/>
                  </a:lnTo>
                  <a:lnTo>
                    <a:pt x="1166" y="1670"/>
                  </a:lnTo>
                  <a:lnTo>
                    <a:pt x="1154" y="1682"/>
                  </a:lnTo>
                  <a:lnTo>
                    <a:pt x="1140" y="1692"/>
                  </a:lnTo>
                  <a:lnTo>
                    <a:pt x="1128" y="1698"/>
                  </a:lnTo>
                  <a:lnTo>
                    <a:pt x="1112" y="1704"/>
                  </a:lnTo>
                  <a:lnTo>
                    <a:pt x="468" y="1854"/>
                  </a:lnTo>
                  <a:lnTo>
                    <a:pt x="468" y="1854"/>
                  </a:lnTo>
                  <a:lnTo>
                    <a:pt x="450" y="1856"/>
                  </a:lnTo>
                  <a:lnTo>
                    <a:pt x="436" y="1856"/>
                  </a:lnTo>
                  <a:lnTo>
                    <a:pt x="420" y="1854"/>
                  </a:lnTo>
                  <a:lnTo>
                    <a:pt x="402" y="1850"/>
                  </a:lnTo>
                  <a:lnTo>
                    <a:pt x="394" y="1844"/>
                  </a:lnTo>
                  <a:lnTo>
                    <a:pt x="388" y="1840"/>
                  </a:lnTo>
                  <a:lnTo>
                    <a:pt x="380" y="1832"/>
                  </a:lnTo>
                  <a:lnTo>
                    <a:pt x="374" y="1824"/>
                  </a:lnTo>
                  <a:lnTo>
                    <a:pt x="370" y="1814"/>
                  </a:lnTo>
                  <a:lnTo>
                    <a:pt x="366" y="1804"/>
                  </a:lnTo>
                  <a:lnTo>
                    <a:pt x="366" y="1804"/>
                  </a:lnTo>
                  <a:lnTo>
                    <a:pt x="364" y="1792"/>
                  </a:lnTo>
                  <a:lnTo>
                    <a:pt x="366" y="1780"/>
                  </a:lnTo>
                  <a:lnTo>
                    <a:pt x="368" y="1770"/>
                  </a:lnTo>
                  <a:lnTo>
                    <a:pt x="372" y="1760"/>
                  </a:lnTo>
                  <a:lnTo>
                    <a:pt x="376" y="1752"/>
                  </a:lnTo>
                  <a:lnTo>
                    <a:pt x="384" y="1744"/>
                  </a:lnTo>
                  <a:lnTo>
                    <a:pt x="392" y="1736"/>
                  </a:lnTo>
                  <a:lnTo>
                    <a:pt x="402" y="1730"/>
                  </a:lnTo>
                  <a:lnTo>
                    <a:pt x="402" y="1730"/>
                  </a:lnTo>
                  <a:lnTo>
                    <a:pt x="426" y="1716"/>
                  </a:lnTo>
                  <a:lnTo>
                    <a:pt x="444" y="1702"/>
                  </a:lnTo>
                  <a:lnTo>
                    <a:pt x="456" y="1688"/>
                  </a:lnTo>
                  <a:lnTo>
                    <a:pt x="458" y="1682"/>
                  </a:lnTo>
                  <a:lnTo>
                    <a:pt x="462" y="1674"/>
                  </a:lnTo>
                  <a:lnTo>
                    <a:pt x="464" y="1660"/>
                  </a:lnTo>
                  <a:lnTo>
                    <a:pt x="462" y="1640"/>
                  </a:lnTo>
                  <a:lnTo>
                    <a:pt x="458" y="1618"/>
                  </a:lnTo>
                  <a:lnTo>
                    <a:pt x="450" y="1590"/>
                  </a:lnTo>
                  <a:lnTo>
                    <a:pt x="172" y="396"/>
                  </a:lnTo>
                  <a:lnTo>
                    <a:pt x="172" y="396"/>
                  </a:lnTo>
                  <a:lnTo>
                    <a:pt x="166" y="368"/>
                  </a:lnTo>
                  <a:lnTo>
                    <a:pt x="158" y="346"/>
                  </a:lnTo>
                  <a:lnTo>
                    <a:pt x="152" y="328"/>
                  </a:lnTo>
                  <a:lnTo>
                    <a:pt x="144" y="316"/>
                  </a:lnTo>
                  <a:lnTo>
                    <a:pt x="138" y="310"/>
                  </a:lnTo>
                  <a:lnTo>
                    <a:pt x="132" y="306"/>
                  </a:lnTo>
                  <a:lnTo>
                    <a:pt x="116" y="300"/>
                  </a:lnTo>
                  <a:lnTo>
                    <a:pt x="94" y="296"/>
                  </a:lnTo>
                  <a:lnTo>
                    <a:pt x="66" y="292"/>
                  </a:lnTo>
                  <a:lnTo>
                    <a:pt x="66" y="292"/>
                  </a:lnTo>
                  <a:lnTo>
                    <a:pt x="54" y="290"/>
                  </a:lnTo>
                  <a:lnTo>
                    <a:pt x="44" y="288"/>
                  </a:lnTo>
                  <a:lnTo>
                    <a:pt x="34" y="284"/>
                  </a:lnTo>
                  <a:lnTo>
                    <a:pt x="24" y="278"/>
                  </a:lnTo>
                  <a:lnTo>
                    <a:pt x="16" y="272"/>
                  </a:lnTo>
                  <a:lnTo>
                    <a:pt x="10" y="264"/>
                  </a:lnTo>
                  <a:lnTo>
                    <a:pt x="4" y="254"/>
                  </a:lnTo>
                  <a:lnTo>
                    <a:pt x="2" y="242"/>
                  </a:lnTo>
                  <a:lnTo>
                    <a:pt x="2" y="242"/>
                  </a:lnTo>
                  <a:lnTo>
                    <a:pt x="0" y="230"/>
                  </a:lnTo>
                  <a:lnTo>
                    <a:pt x="0" y="220"/>
                  </a:lnTo>
                  <a:lnTo>
                    <a:pt x="0" y="210"/>
                  </a:lnTo>
                  <a:lnTo>
                    <a:pt x="4" y="200"/>
                  </a:lnTo>
                  <a:lnTo>
                    <a:pt x="8" y="192"/>
                  </a:lnTo>
                  <a:lnTo>
                    <a:pt x="14" y="186"/>
                  </a:lnTo>
                  <a:lnTo>
                    <a:pt x="26" y="174"/>
                  </a:lnTo>
                  <a:lnTo>
                    <a:pt x="40" y="164"/>
                  </a:lnTo>
                  <a:lnTo>
                    <a:pt x="52" y="158"/>
                  </a:lnTo>
                  <a:lnTo>
                    <a:pt x="68" y="152"/>
                  </a:lnTo>
                  <a:lnTo>
                    <a:pt x="712" y="2"/>
                  </a:lnTo>
                  <a:lnTo>
                    <a:pt x="712" y="2"/>
                  </a:lnTo>
                  <a:lnTo>
                    <a:pt x="730" y="0"/>
                  </a:lnTo>
                  <a:lnTo>
                    <a:pt x="744" y="0"/>
                  </a:lnTo>
                  <a:lnTo>
                    <a:pt x="760" y="2"/>
                  </a:lnTo>
                  <a:lnTo>
                    <a:pt x="778" y="6"/>
                  </a:lnTo>
                  <a:lnTo>
                    <a:pt x="786" y="10"/>
                  </a:lnTo>
                  <a:lnTo>
                    <a:pt x="792" y="16"/>
                  </a:lnTo>
                  <a:lnTo>
                    <a:pt x="800" y="22"/>
                  </a:lnTo>
                  <a:lnTo>
                    <a:pt x="806" y="32"/>
                  </a:lnTo>
                  <a:lnTo>
                    <a:pt x="810" y="40"/>
                  </a:lnTo>
                  <a:lnTo>
                    <a:pt x="814" y="52"/>
                  </a:lnTo>
                  <a:lnTo>
                    <a:pt x="814" y="52"/>
                  </a:lnTo>
                  <a:lnTo>
                    <a:pt x="816" y="64"/>
                  </a:lnTo>
                  <a:lnTo>
                    <a:pt x="814" y="74"/>
                  </a:lnTo>
                  <a:lnTo>
                    <a:pt x="812" y="86"/>
                  </a:lnTo>
                  <a:lnTo>
                    <a:pt x="808" y="94"/>
                  </a:lnTo>
                  <a:lnTo>
                    <a:pt x="804" y="104"/>
                  </a:lnTo>
                  <a:lnTo>
                    <a:pt x="796" y="112"/>
                  </a:lnTo>
                  <a:lnTo>
                    <a:pt x="788" y="120"/>
                  </a:lnTo>
                  <a:lnTo>
                    <a:pt x="778" y="126"/>
                  </a:lnTo>
                  <a:lnTo>
                    <a:pt x="778" y="126"/>
                  </a:lnTo>
                  <a:lnTo>
                    <a:pt x="754" y="140"/>
                  </a:lnTo>
                  <a:lnTo>
                    <a:pt x="736" y="154"/>
                  </a:lnTo>
                  <a:lnTo>
                    <a:pt x="724" y="168"/>
                  </a:lnTo>
                  <a:lnTo>
                    <a:pt x="722" y="174"/>
                  </a:lnTo>
                  <a:lnTo>
                    <a:pt x="718" y="180"/>
                  </a:lnTo>
                  <a:lnTo>
                    <a:pt x="716" y="196"/>
                  </a:lnTo>
                  <a:lnTo>
                    <a:pt x="718" y="216"/>
                  </a:lnTo>
                  <a:lnTo>
                    <a:pt x="722" y="238"/>
                  </a:lnTo>
                  <a:lnTo>
                    <a:pt x="730" y="266"/>
                  </a:lnTo>
                  <a:lnTo>
                    <a:pt x="1008" y="1458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185"/>
            <p:cNvSpPr/>
            <p:nvPr/>
          </p:nvSpPr>
          <p:spPr>
            <a:xfrm>
              <a:off x="7215120" y="17037000"/>
              <a:ext cx="3156120" cy="3057840"/>
            </a:xfrm>
            <a:custGeom>
              <a:avLst/>
              <a:gdLst>
                <a:gd name="textAreaLeft" fmla="*/ 0 w 3156120"/>
                <a:gd name="textAreaRight" fmla="*/ 3156480 w 3156120"/>
                <a:gd name="textAreaTop" fmla="*/ 0 h 3057840"/>
                <a:gd name="textAreaBottom" fmla="*/ 3058200 h 3057840"/>
              </a:gdLst>
              <a:ahLst/>
              <a:rect l="textAreaLeft" t="textAreaTop" r="textAreaRight" b="textAreaBottom"/>
              <a:pathLst>
                <a:path w="1988" h="1926">
                  <a:moveTo>
                    <a:pt x="174" y="466"/>
                  </a:moveTo>
                  <a:lnTo>
                    <a:pt x="174" y="466"/>
                  </a:lnTo>
                  <a:lnTo>
                    <a:pt x="166" y="438"/>
                  </a:lnTo>
                  <a:lnTo>
                    <a:pt x="160" y="416"/>
                  </a:lnTo>
                  <a:lnTo>
                    <a:pt x="154" y="398"/>
                  </a:lnTo>
                  <a:lnTo>
                    <a:pt x="144" y="386"/>
                  </a:lnTo>
                  <a:lnTo>
                    <a:pt x="140" y="380"/>
                  </a:lnTo>
                  <a:lnTo>
                    <a:pt x="134" y="376"/>
                  </a:lnTo>
                  <a:lnTo>
                    <a:pt x="116" y="370"/>
                  </a:lnTo>
                  <a:lnTo>
                    <a:pt x="96" y="366"/>
                  </a:lnTo>
                  <a:lnTo>
                    <a:pt x="68" y="362"/>
                  </a:lnTo>
                  <a:lnTo>
                    <a:pt x="68" y="362"/>
                  </a:lnTo>
                  <a:lnTo>
                    <a:pt x="56" y="360"/>
                  </a:lnTo>
                  <a:lnTo>
                    <a:pt x="44" y="358"/>
                  </a:lnTo>
                  <a:lnTo>
                    <a:pt x="34" y="354"/>
                  </a:lnTo>
                  <a:lnTo>
                    <a:pt x="26" y="348"/>
                  </a:lnTo>
                  <a:lnTo>
                    <a:pt x="18" y="342"/>
                  </a:lnTo>
                  <a:lnTo>
                    <a:pt x="12" y="334"/>
                  </a:lnTo>
                  <a:lnTo>
                    <a:pt x="6" y="324"/>
                  </a:lnTo>
                  <a:lnTo>
                    <a:pt x="2" y="312"/>
                  </a:lnTo>
                  <a:lnTo>
                    <a:pt x="2" y="312"/>
                  </a:lnTo>
                  <a:lnTo>
                    <a:pt x="0" y="300"/>
                  </a:lnTo>
                  <a:lnTo>
                    <a:pt x="0" y="290"/>
                  </a:lnTo>
                  <a:lnTo>
                    <a:pt x="2" y="280"/>
                  </a:lnTo>
                  <a:lnTo>
                    <a:pt x="6" y="270"/>
                  </a:lnTo>
                  <a:lnTo>
                    <a:pt x="10" y="262"/>
                  </a:lnTo>
                  <a:lnTo>
                    <a:pt x="14" y="256"/>
                  </a:lnTo>
                  <a:lnTo>
                    <a:pt x="28" y="244"/>
                  </a:lnTo>
                  <a:lnTo>
                    <a:pt x="40" y="234"/>
                  </a:lnTo>
                  <a:lnTo>
                    <a:pt x="54" y="228"/>
                  </a:lnTo>
                  <a:lnTo>
                    <a:pt x="70" y="222"/>
                  </a:lnTo>
                  <a:lnTo>
                    <a:pt x="672" y="82"/>
                  </a:lnTo>
                  <a:lnTo>
                    <a:pt x="1010" y="1528"/>
                  </a:lnTo>
                  <a:lnTo>
                    <a:pt x="1010" y="1528"/>
                  </a:lnTo>
                  <a:lnTo>
                    <a:pt x="1016" y="1558"/>
                  </a:lnTo>
                  <a:lnTo>
                    <a:pt x="1022" y="1580"/>
                  </a:lnTo>
                  <a:lnTo>
                    <a:pt x="1030" y="1598"/>
                  </a:lnTo>
                  <a:lnTo>
                    <a:pt x="1038" y="1610"/>
                  </a:lnTo>
                  <a:lnTo>
                    <a:pt x="1044" y="1616"/>
                  </a:lnTo>
                  <a:lnTo>
                    <a:pt x="1050" y="1620"/>
                  </a:lnTo>
                  <a:lnTo>
                    <a:pt x="1066" y="1626"/>
                  </a:lnTo>
                  <a:lnTo>
                    <a:pt x="1088" y="1630"/>
                  </a:lnTo>
                  <a:lnTo>
                    <a:pt x="1116" y="1634"/>
                  </a:lnTo>
                  <a:lnTo>
                    <a:pt x="1116" y="1634"/>
                  </a:lnTo>
                  <a:lnTo>
                    <a:pt x="1128" y="1636"/>
                  </a:lnTo>
                  <a:lnTo>
                    <a:pt x="1138" y="1638"/>
                  </a:lnTo>
                  <a:lnTo>
                    <a:pt x="1148" y="1642"/>
                  </a:lnTo>
                  <a:lnTo>
                    <a:pt x="1158" y="1648"/>
                  </a:lnTo>
                  <a:lnTo>
                    <a:pt x="1164" y="1654"/>
                  </a:lnTo>
                  <a:lnTo>
                    <a:pt x="1172" y="1662"/>
                  </a:lnTo>
                  <a:lnTo>
                    <a:pt x="1176" y="1672"/>
                  </a:lnTo>
                  <a:lnTo>
                    <a:pt x="1180" y="1684"/>
                  </a:lnTo>
                  <a:lnTo>
                    <a:pt x="1180" y="1684"/>
                  </a:lnTo>
                  <a:lnTo>
                    <a:pt x="1182" y="1696"/>
                  </a:lnTo>
                  <a:lnTo>
                    <a:pt x="1182" y="1706"/>
                  </a:lnTo>
                  <a:lnTo>
                    <a:pt x="1180" y="1716"/>
                  </a:lnTo>
                  <a:lnTo>
                    <a:pt x="1178" y="1724"/>
                  </a:lnTo>
                  <a:lnTo>
                    <a:pt x="1174" y="1734"/>
                  </a:lnTo>
                  <a:lnTo>
                    <a:pt x="1168" y="1740"/>
                  </a:lnTo>
                  <a:lnTo>
                    <a:pt x="1156" y="1752"/>
                  </a:lnTo>
                  <a:lnTo>
                    <a:pt x="1142" y="1762"/>
                  </a:lnTo>
                  <a:lnTo>
                    <a:pt x="1130" y="1768"/>
                  </a:lnTo>
                  <a:lnTo>
                    <a:pt x="1112" y="1774"/>
                  </a:lnTo>
                  <a:lnTo>
                    <a:pt x="468" y="1924"/>
                  </a:lnTo>
                  <a:lnTo>
                    <a:pt x="468" y="1924"/>
                  </a:lnTo>
                  <a:lnTo>
                    <a:pt x="452" y="1926"/>
                  </a:lnTo>
                  <a:lnTo>
                    <a:pt x="436" y="1926"/>
                  </a:lnTo>
                  <a:lnTo>
                    <a:pt x="420" y="1924"/>
                  </a:lnTo>
                  <a:lnTo>
                    <a:pt x="404" y="1920"/>
                  </a:lnTo>
                  <a:lnTo>
                    <a:pt x="396" y="1914"/>
                  </a:lnTo>
                  <a:lnTo>
                    <a:pt x="388" y="1910"/>
                  </a:lnTo>
                  <a:lnTo>
                    <a:pt x="382" y="1902"/>
                  </a:lnTo>
                  <a:lnTo>
                    <a:pt x="376" y="1894"/>
                  </a:lnTo>
                  <a:lnTo>
                    <a:pt x="372" y="1884"/>
                  </a:lnTo>
                  <a:lnTo>
                    <a:pt x="368" y="1874"/>
                  </a:lnTo>
                  <a:lnTo>
                    <a:pt x="368" y="1874"/>
                  </a:lnTo>
                  <a:lnTo>
                    <a:pt x="366" y="1862"/>
                  </a:lnTo>
                  <a:lnTo>
                    <a:pt x="366" y="1850"/>
                  </a:lnTo>
                  <a:lnTo>
                    <a:pt x="368" y="1840"/>
                  </a:lnTo>
                  <a:lnTo>
                    <a:pt x="372" y="1830"/>
                  </a:lnTo>
                  <a:lnTo>
                    <a:pt x="378" y="1822"/>
                  </a:lnTo>
                  <a:lnTo>
                    <a:pt x="386" y="1814"/>
                  </a:lnTo>
                  <a:lnTo>
                    <a:pt x="394" y="1806"/>
                  </a:lnTo>
                  <a:lnTo>
                    <a:pt x="404" y="1800"/>
                  </a:lnTo>
                  <a:lnTo>
                    <a:pt x="404" y="1800"/>
                  </a:lnTo>
                  <a:lnTo>
                    <a:pt x="428" y="1786"/>
                  </a:lnTo>
                  <a:lnTo>
                    <a:pt x="446" y="1772"/>
                  </a:lnTo>
                  <a:lnTo>
                    <a:pt x="456" y="1758"/>
                  </a:lnTo>
                  <a:lnTo>
                    <a:pt x="460" y="1752"/>
                  </a:lnTo>
                  <a:lnTo>
                    <a:pt x="464" y="1744"/>
                  </a:lnTo>
                  <a:lnTo>
                    <a:pt x="464" y="1730"/>
                  </a:lnTo>
                  <a:lnTo>
                    <a:pt x="464" y="1710"/>
                  </a:lnTo>
                  <a:lnTo>
                    <a:pt x="458" y="1688"/>
                  </a:lnTo>
                  <a:lnTo>
                    <a:pt x="452" y="1660"/>
                  </a:lnTo>
                  <a:lnTo>
                    <a:pt x="174" y="466"/>
                  </a:lnTo>
                  <a:close/>
                  <a:moveTo>
                    <a:pt x="774" y="58"/>
                  </a:moveTo>
                  <a:lnTo>
                    <a:pt x="784" y="56"/>
                  </a:lnTo>
                  <a:lnTo>
                    <a:pt x="784" y="56"/>
                  </a:lnTo>
                  <a:lnTo>
                    <a:pt x="896" y="30"/>
                  </a:lnTo>
                  <a:lnTo>
                    <a:pt x="954" y="18"/>
                  </a:lnTo>
                  <a:lnTo>
                    <a:pt x="1010" y="8"/>
                  </a:lnTo>
                  <a:lnTo>
                    <a:pt x="1068" y="2"/>
                  </a:lnTo>
                  <a:lnTo>
                    <a:pt x="1124" y="0"/>
                  </a:lnTo>
                  <a:lnTo>
                    <a:pt x="1152" y="2"/>
                  </a:lnTo>
                  <a:lnTo>
                    <a:pt x="1182" y="4"/>
                  </a:lnTo>
                  <a:lnTo>
                    <a:pt x="1210" y="8"/>
                  </a:lnTo>
                  <a:lnTo>
                    <a:pt x="1238" y="14"/>
                  </a:lnTo>
                  <a:lnTo>
                    <a:pt x="1238" y="14"/>
                  </a:lnTo>
                  <a:lnTo>
                    <a:pt x="1270" y="22"/>
                  </a:lnTo>
                  <a:lnTo>
                    <a:pt x="1300" y="32"/>
                  </a:lnTo>
                  <a:lnTo>
                    <a:pt x="1328" y="42"/>
                  </a:lnTo>
                  <a:lnTo>
                    <a:pt x="1354" y="56"/>
                  </a:lnTo>
                  <a:lnTo>
                    <a:pt x="1380" y="70"/>
                  </a:lnTo>
                  <a:lnTo>
                    <a:pt x="1402" y="86"/>
                  </a:lnTo>
                  <a:lnTo>
                    <a:pt x="1426" y="104"/>
                  </a:lnTo>
                  <a:lnTo>
                    <a:pt x="1446" y="124"/>
                  </a:lnTo>
                  <a:lnTo>
                    <a:pt x="1464" y="144"/>
                  </a:lnTo>
                  <a:lnTo>
                    <a:pt x="1482" y="166"/>
                  </a:lnTo>
                  <a:lnTo>
                    <a:pt x="1498" y="190"/>
                  </a:lnTo>
                  <a:lnTo>
                    <a:pt x="1514" y="216"/>
                  </a:lnTo>
                  <a:lnTo>
                    <a:pt x="1526" y="242"/>
                  </a:lnTo>
                  <a:lnTo>
                    <a:pt x="1538" y="270"/>
                  </a:lnTo>
                  <a:lnTo>
                    <a:pt x="1548" y="300"/>
                  </a:lnTo>
                  <a:lnTo>
                    <a:pt x="1558" y="332"/>
                  </a:lnTo>
                  <a:lnTo>
                    <a:pt x="1558" y="332"/>
                  </a:lnTo>
                  <a:lnTo>
                    <a:pt x="1568" y="380"/>
                  </a:lnTo>
                  <a:lnTo>
                    <a:pt x="1572" y="426"/>
                  </a:lnTo>
                  <a:lnTo>
                    <a:pt x="1574" y="468"/>
                  </a:lnTo>
                  <a:lnTo>
                    <a:pt x="1570" y="508"/>
                  </a:lnTo>
                  <a:lnTo>
                    <a:pt x="1562" y="548"/>
                  </a:lnTo>
                  <a:lnTo>
                    <a:pt x="1550" y="584"/>
                  </a:lnTo>
                  <a:lnTo>
                    <a:pt x="1534" y="618"/>
                  </a:lnTo>
                  <a:lnTo>
                    <a:pt x="1514" y="652"/>
                  </a:lnTo>
                  <a:lnTo>
                    <a:pt x="1492" y="682"/>
                  </a:lnTo>
                  <a:lnTo>
                    <a:pt x="1466" y="712"/>
                  </a:lnTo>
                  <a:lnTo>
                    <a:pt x="1438" y="740"/>
                  </a:lnTo>
                  <a:lnTo>
                    <a:pt x="1406" y="766"/>
                  </a:lnTo>
                  <a:lnTo>
                    <a:pt x="1372" y="790"/>
                  </a:lnTo>
                  <a:lnTo>
                    <a:pt x="1336" y="814"/>
                  </a:lnTo>
                  <a:lnTo>
                    <a:pt x="1298" y="836"/>
                  </a:lnTo>
                  <a:lnTo>
                    <a:pt x="1258" y="856"/>
                  </a:lnTo>
                  <a:lnTo>
                    <a:pt x="1260" y="860"/>
                  </a:lnTo>
                  <a:lnTo>
                    <a:pt x="1260" y="860"/>
                  </a:lnTo>
                  <a:lnTo>
                    <a:pt x="1338" y="856"/>
                  </a:lnTo>
                  <a:lnTo>
                    <a:pt x="1376" y="856"/>
                  </a:lnTo>
                  <a:lnTo>
                    <a:pt x="1414" y="856"/>
                  </a:lnTo>
                  <a:lnTo>
                    <a:pt x="1450" y="860"/>
                  </a:lnTo>
                  <a:lnTo>
                    <a:pt x="1486" y="864"/>
                  </a:lnTo>
                  <a:lnTo>
                    <a:pt x="1520" y="872"/>
                  </a:lnTo>
                  <a:lnTo>
                    <a:pt x="1554" y="882"/>
                  </a:lnTo>
                  <a:lnTo>
                    <a:pt x="1584" y="896"/>
                  </a:lnTo>
                  <a:lnTo>
                    <a:pt x="1614" y="912"/>
                  </a:lnTo>
                  <a:lnTo>
                    <a:pt x="1642" y="932"/>
                  </a:lnTo>
                  <a:lnTo>
                    <a:pt x="1666" y="956"/>
                  </a:lnTo>
                  <a:lnTo>
                    <a:pt x="1678" y="970"/>
                  </a:lnTo>
                  <a:lnTo>
                    <a:pt x="1688" y="984"/>
                  </a:lnTo>
                  <a:lnTo>
                    <a:pt x="1698" y="1000"/>
                  </a:lnTo>
                  <a:lnTo>
                    <a:pt x="1708" y="1018"/>
                  </a:lnTo>
                  <a:lnTo>
                    <a:pt x="1716" y="1036"/>
                  </a:lnTo>
                  <a:lnTo>
                    <a:pt x="1724" y="1054"/>
                  </a:lnTo>
                  <a:lnTo>
                    <a:pt x="1736" y="1098"/>
                  </a:lnTo>
                  <a:lnTo>
                    <a:pt x="1784" y="1298"/>
                  </a:lnTo>
                  <a:lnTo>
                    <a:pt x="1784" y="1298"/>
                  </a:lnTo>
                  <a:lnTo>
                    <a:pt x="1788" y="1316"/>
                  </a:lnTo>
                  <a:lnTo>
                    <a:pt x="1794" y="1338"/>
                  </a:lnTo>
                  <a:lnTo>
                    <a:pt x="1798" y="1348"/>
                  </a:lnTo>
                  <a:lnTo>
                    <a:pt x="1804" y="1354"/>
                  </a:lnTo>
                  <a:lnTo>
                    <a:pt x="1812" y="1358"/>
                  </a:lnTo>
                  <a:lnTo>
                    <a:pt x="1822" y="1358"/>
                  </a:lnTo>
                  <a:lnTo>
                    <a:pt x="1822" y="1358"/>
                  </a:lnTo>
                  <a:lnTo>
                    <a:pt x="1828" y="1356"/>
                  </a:lnTo>
                  <a:lnTo>
                    <a:pt x="1834" y="1352"/>
                  </a:lnTo>
                  <a:lnTo>
                    <a:pt x="1842" y="1342"/>
                  </a:lnTo>
                  <a:lnTo>
                    <a:pt x="1850" y="1330"/>
                  </a:lnTo>
                  <a:lnTo>
                    <a:pt x="1856" y="1316"/>
                  </a:lnTo>
                  <a:lnTo>
                    <a:pt x="1864" y="1300"/>
                  </a:lnTo>
                  <a:lnTo>
                    <a:pt x="1874" y="1288"/>
                  </a:lnTo>
                  <a:lnTo>
                    <a:pt x="1880" y="1282"/>
                  </a:lnTo>
                  <a:lnTo>
                    <a:pt x="1886" y="1276"/>
                  </a:lnTo>
                  <a:lnTo>
                    <a:pt x="1894" y="1272"/>
                  </a:lnTo>
                  <a:lnTo>
                    <a:pt x="1904" y="1270"/>
                  </a:lnTo>
                  <a:lnTo>
                    <a:pt x="1904" y="1270"/>
                  </a:lnTo>
                  <a:lnTo>
                    <a:pt x="1916" y="1268"/>
                  </a:lnTo>
                  <a:lnTo>
                    <a:pt x="1928" y="1270"/>
                  </a:lnTo>
                  <a:lnTo>
                    <a:pt x="1940" y="1274"/>
                  </a:lnTo>
                  <a:lnTo>
                    <a:pt x="1954" y="1280"/>
                  </a:lnTo>
                  <a:lnTo>
                    <a:pt x="1964" y="1288"/>
                  </a:lnTo>
                  <a:lnTo>
                    <a:pt x="1974" y="1298"/>
                  </a:lnTo>
                  <a:lnTo>
                    <a:pt x="1982" y="1308"/>
                  </a:lnTo>
                  <a:lnTo>
                    <a:pt x="1986" y="1320"/>
                  </a:lnTo>
                  <a:lnTo>
                    <a:pt x="1986" y="1320"/>
                  </a:lnTo>
                  <a:lnTo>
                    <a:pt x="1988" y="1332"/>
                  </a:lnTo>
                  <a:lnTo>
                    <a:pt x="1988" y="1346"/>
                  </a:lnTo>
                  <a:lnTo>
                    <a:pt x="1988" y="1360"/>
                  </a:lnTo>
                  <a:lnTo>
                    <a:pt x="1986" y="1374"/>
                  </a:lnTo>
                  <a:lnTo>
                    <a:pt x="1978" y="1404"/>
                  </a:lnTo>
                  <a:lnTo>
                    <a:pt x="1966" y="1434"/>
                  </a:lnTo>
                  <a:lnTo>
                    <a:pt x="1952" y="1464"/>
                  </a:lnTo>
                  <a:lnTo>
                    <a:pt x="1936" y="1492"/>
                  </a:lnTo>
                  <a:lnTo>
                    <a:pt x="1920" y="1516"/>
                  </a:lnTo>
                  <a:lnTo>
                    <a:pt x="1904" y="1538"/>
                  </a:lnTo>
                  <a:lnTo>
                    <a:pt x="1904" y="1538"/>
                  </a:lnTo>
                  <a:lnTo>
                    <a:pt x="1880" y="1566"/>
                  </a:lnTo>
                  <a:lnTo>
                    <a:pt x="1854" y="1592"/>
                  </a:lnTo>
                  <a:lnTo>
                    <a:pt x="1828" y="1612"/>
                  </a:lnTo>
                  <a:lnTo>
                    <a:pt x="1798" y="1630"/>
                  </a:lnTo>
                  <a:lnTo>
                    <a:pt x="1768" y="1646"/>
                  </a:lnTo>
                  <a:lnTo>
                    <a:pt x="1736" y="1660"/>
                  </a:lnTo>
                  <a:lnTo>
                    <a:pt x="1702" y="1670"/>
                  </a:lnTo>
                  <a:lnTo>
                    <a:pt x="1666" y="1680"/>
                  </a:lnTo>
                  <a:lnTo>
                    <a:pt x="1666" y="1680"/>
                  </a:lnTo>
                  <a:lnTo>
                    <a:pt x="1630" y="1688"/>
                  </a:lnTo>
                  <a:lnTo>
                    <a:pt x="1594" y="1692"/>
                  </a:lnTo>
                  <a:lnTo>
                    <a:pt x="1558" y="1692"/>
                  </a:lnTo>
                  <a:lnTo>
                    <a:pt x="1522" y="1690"/>
                  </a:lnTo>
                  <a:lnTo>
                    <a:pt x="1488" y="1686"/>
                  </a:lnTo>
                  <a:lnTo>
                    <a:pt x="1454" y="1676"/>
                  </a:lnTo>
                  <a:lnTo>
                    <a:pt x="1420" y="1662"/>
                  </a:lnTo>
                  <a:lnTo>
                    <a:pt x="1388" y="1644"/>
                  </a:lnTo>
                  <a:lnTo>
                    <a:pt x="1388" y="1644"/>
                  </a:lnTo>
                  <a:lnTo>
                    <a:pt x="1370" y="1632"/>
                  </a:lnTo>
                  <a:lnTo>
                    <a:pt x="1354" y="1620"/>
                  </a:lnTo>
                  <a:lnTo>
                    <a:pt x="1338" y="1606"/>
                  </a:lnTo>
                  <a:lnTo>
                    <a:pt x="1324" y="1590"/>
                  </a:lnTo>
                  <a:lnTo>
                    <a:pt x="1312" y="1576"/>
                  </a:lnTo>
                  <a:lnTo>
                    <a:pt x="1300" y="1560"/>
                  </a:lnTo>
                  <a:lnTo>
                    <a:pt x="1280" y="1526"/>
                  </a:lnTo>
                  <a:lnTo>
                    <a:pt x="1264" y="1492"/>
                  </a:lnTo>
                  <a:lnTo>
                    <a:pt x="1250" y="1454"/>
                  </a:lnTo>
                  <a:lnTo>
                    <a:pt x="1238" y="1416"/>
                  </a:lnTo>
                  <a:lnTo>
                    <a:pt x="1228" y="1376"/>
                  </a:lnTo>
                  <a:lnTo>
                    <a:pt x="1192" y="1222"/>
                  </a:lnTo>
                  <a:lnTo>
                    <a:pt x="1192" y="1222"/>
                  </a:lnTo>
                  <a:lnTo>
                    <a:pt x="1182" y="1182"/>
                  </a:lnTo>
                  <a:lnTo>
                    <a:pt x="1170" y="1142"/>
                  </a:lnTo>
                  <a:lnTo>
                    <a:pt x="1156" y="1104"/>
                  </a:lnTo>
                  <a:lnTo>
                    <a:pt x="1148" y="1086"/>
                  </a:lnTo>
                  <a:lnTo>
                    <a:pt x="1138" y="1070"/>
                  </a:lnTo>
                  <a:lnTo>
                    <a:pt x="1126" y="1054"/>
                  </a:lnTo>
                  <a:lnTo>
                    <a:pt x="1114" y="1040"/>
                  </a:lnTo>
                  <a:lnTo>
                    <a:pt x="1098" y="1030"/>
                  </a:lnTo>
                  <a:lnTo>
                    <a:pt x="1082" y="1020"/>
                  </a:lnTo>
                  <a:lnTo>
                    <a:pt x="1064" y="1012"/>
                  </a:lnTo>
                  <a:lnTo>
                    <a:pt x="1044" y="1008"/>
                  </a:lnTo>
                  <a:lnTo>
                    <a:pt x="1020" y="1008"/>
                  </a:lnTo>
                  <a:lnTo>
                    <a:pt x="996" y="1008"/>
                  </a:lnTo>
                  <a:lnTo>
                    <a:pt x="964" y="874"/>
                  </a:lnTo>
                  <a:lnTo>
                    <a:pt x="964" y="874"/>
                  </a:lnTo>
                  <a:lnTo>
                    <a:pt x="986" y="866"/>
                  </a:lnTo>
                  <a:lnTo>
                    <a:pt x="1004" y="858"/>
                  </a:lnTo>
                  <a:lnTo>
                    <a:pt x="1020" y="848"/>
                  </a:lnTo>
                  <a:lnTo>
                    <a:pt x="1034" y="838"/>
                  </a:lnTo>
                  <a:lnTo>
                    <a:pt x="1044" y="826"/>
                  </a:lnTo>
                  <a:lnTo>
                    <a:pt x="1054" y="814"/>
                  </a:lnTo>
                  <a:lnTo>
                    <a:pt x="1060" y="800"/>
                  </a:lnTo>
                  <a:lnTo>
                    <a:pt x="1066" y="786"/>
                  </a:lnTo>
                  <a:lnTo>
                    <a:pt x="1070" y="772"/>
                  </a:lnTo>
                  <a:lnTo>
                    <a:pt x="1070" y="756"/>
                  </a:lnTo>
                  <a:lnTo>
                    <a:pt x="1072" y="738"/>
                  </a:lnTo>
                  <a:lnTo>
                    <a:pt x="1070" y="722"/>
                  </a:lnTo>
                  <a:lnTo>
                    <a:pt x="1066" y="684"/>
                  </a:lnTo>
                  <a:lnTo>
                    <a:pt x="1058" y="644"/>
                  </a:lnTo>
                  <a:lnTo>
                    <a:pt x="992" y="368"/>
                  </a:lnTo>
                  <a:lnTo>
                    <a:pt x="992" y="368"/>
                  </a:lnTo>
                  <a:lnTo>
                    <a:pt x="982" y="330"/>
                  </a:lnTo>
                  <a:lnTo>
                    <a:pt x="970" y="296"/>
                  </a:lnTo>
                  <a:lnTo>
                    <a:pt x="962" y="280"/>
                  </a:lnTo>
                  <a:lnTo>
                    <a:pt x="954" y="266"/>
                  </a:lnTo>
                  <a:lnTo>
                    <a:pt x="946" y="254"/>
                  </a:lnTo>
                  <a:lnTo>
                    <a:pt x="936" y="244"/>
                  </a:lnTo>
                  <a:lnTo>
                    <a:pt x="924" y="234"/>
                  </a:lnTo>
                  <a:lnTo>
                    <a:pt x="912" y="224"/>
                  </a:lnTo>
                  <a:lnTo>
                    <a:pt x="898" y="216"/>
                  </a:lnTo>
                  <a:lnTo>
                    <a:pt x="882" y="210"/>
                  </a:lnTo>
                  <a:lnTo>
                    <a:pt x="866" y="204"/>
                  </a:lnTo>
                  <a:lnTo>
                    <a:pt x="848" y="198"/>
                  </a:lnTo>
                  <a:lnTo>
                    <a:pt x="804" y="192"/>
                  </a:lnTo>
                  <a:lnTo>
                    <a:pt x="774" y="58"/>
                  </a:lnTo>
                  <a:close/>
                </a:path>
              </a:pathLst>
            </a:custGeom>
            <a:solidFill>
              <a:srgbClr val="e84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"/>
          <p:cNvSpPr/>
          <p:nvPr/>
        </p:nvSpPr>
        <p:spPr>
          <a:xfrm rot="20824800">
            <a:off x="2807280" y="3898800"/>
            <a:ext cx="482904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6100" spc="-1" strike="noStrike">
                <a:solidFill>
                  <a:srgbClr val="000000"/>
                </a:solidFill>
                <a:latin typeface="Arial"/>
              </a:rPr>
              <a:t>大好きなあの人、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6100" spc="-1" strike="noStrike">
                <a:solidFill>
                  <a:srgbClr val="000000"/>
                </a:solidFill>
                <a:latin typeface="Arial"/>
              </a:rPr>
              <a:t>親しい友達や、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6100" spc="-1" strike="noStrike">
                <a:solidFill>
                  <a:srgbClr val="000000"/>
                </a:solidFill>
                <a:latin typeface="Arial"/>
              </a:rPr>
              <a:t>お世話になってる方に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07:35:30Z</dcterms:created>
  <dc:creator>seisaku</dc:creator>
  <dc:description/>
  <dc:language>en-US</dc:language>
  <cp:lastModifiedBy>ttec</cp:lastModifiedBy>
  <dcterms:modified xsi:type="dcterms:W3CDTF">2012-05-31T03:26:35Z</dcterms:modified>
  <cp:revision>2</cp:revision>
  <dc:subject/>
  <dc:title>スライド 1</dc:title>
</cp:coreProperties>
</file>